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4DC-7315-4B6E-BB41-D2C8340D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1ED-B7A8-4985-8EBC-600C32B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160-2C0E-4100-B979-A12F3A6A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020-FD30-47C7-ADE3-57E029EE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0A9-1F98-4726-BC1A-0787CFD8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742-6941-450F-98AB-D1E085EA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601-A180-4A82-AEDD-46B66E19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D3F-6FAA-4C05-98C1-2E00F6B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D05-6FA6-42EA-810E-8145D84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E3-D298-40D7-BBD2-AF498C45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E0B-67E3-4C89-84FD-93C3232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F62-52B0-4D1F-BC4A-F4787E88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D48C-AACD-4048-A488-49C1FD50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10666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e the sizes of four supports..They are different in diameter as well as the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6688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xactly how it was about two months ba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209520"/>
            <a:ext cx="84582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998208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90288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89154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nly one support. That too off-ce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15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NOT A DISASTER. -- IT’S A BLUNDER CAUSED BY SEVERAL CONTRACTERS, ENGINEERS, BUILDERS, LABOURERS AND NEVER THE LESS… A CONTRACT AGENCY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VERNMENT OFFICIAL WHO SANCTIONED THEM THE CONTRACT – THE GOVT OFFICIAL WHO EXAMINED THE PROGRESS OF THE FLYOVER REGULAR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HUMANE TO ERR. BUT IT IS INHUMAN TO IGNORE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FRIENDS – ILLEGAL EXCHANGE OF ONE RUPEE CAN COST TOO MANY LIVES – SAVE INDIA – ITS OU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he pillar in perspective. See the next column having two sup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85800"/>
            <a:ext cx="411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f the previous support was for banking, then this pillar should not have two supports of different h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76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rete blocks are not of the same width through the stretch. The single support column under a thinner s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858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lars differ in sizes from one to the next. This perspective is of the bridge running at the same level (supposed to be) but the pillar sizes di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14600" y="20574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514600"/>
            <a:ext cx="7632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1828800"/>
            <a:ext cx="4114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gain Single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eight distribution is question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962520" y="380880"/>
            <a:ext cx="4114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is wrong! Exact oppo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is just to indicate the correct tilt/b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ection that’s next to the one that collapsed. (this pic was taken before it was erected – see iron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44800" y="3919320"/>
            <a:ext cx="3406680" cy="853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994200">
            <a:off x="3429000" y="4114440"/>
            <a:ext cx="609480" cy="30492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0" y="0"/>
                </a:moveTo>
                <a:cubicBezTo>
                  <a:pt x="64" y="80"/>
                  <a:pt x="128" y="160"/>
                  <a:pt x="192" y="192"/>
                </a:cubicBezTo>
                <a:cubicBezTo>
                  <a:pt x="256" y="224"/>
                  <a:pt x="344" y="192"/>
                  <a:pt x="384" y="192"/>
                </a:cubicBezTo>
                <a:cubicBezTo>
                  <a:pt x="424" y="192"/>
                  <a:pt x="416" y="192"/>
                  <a:pt x="432" y="192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034160" y="4397040"/>
            <a:ext cx="1227960" cy="44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886200"/>
            <a:ext cx="3808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0" y="336"/>
                </a:moveTo>
                <a:cubicBezTo>
                  <a:pt x="36" y="316"/>
                  <a:pt x="72" y="296"/>
                  <a:pt x="96" y="240"/>
                </a:cubicBezTo>
                <a:cubicBezTo>
                  <a:pt x="120" y="184"/>
                  <a:pt x="136" y="40"/>
                  <a:pt x="144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7400" y="380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ection .. Just 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6:33:13Z</dcterms:created>
  <dc:creator>Synopsys</dc:creator>
  <dc:description/>
  <dc:language>en-US</dc:language>
  <cp:lastModifiedBy>rajeevb</cp:lastModifiedBy>
  <dcterms:modified xsi:type="dcterms:W3CDTF">2009-07-15T08:54:02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8287576</vt:r8>
  </property>
  <property fmtid="{D5CDD505-2E9C-101B-9397-08002B2CF9AE}" pid="3" name="_AuthorEmail">
    <vt:lpwstr>Madhavachandra.Gunakala@Sierraatlantic.com</vt:lpwstr>
  </property>
  <property fmtid="{D5CDD505-2E9C-101B-9397-08002B2CF9AE}" pid="4" name="_AuthorEmailDisplayName">
    <vt:lpwstr>Madhavachandra Gunakala</vt:lpwstr>
  </property>
  <property fmtid="{D5CDD505-2E9C-101B-9397-08002B2CF9AE}" pid="5" name="_EmailSubject">
    <vt:lpwstr>punjaguta</vt:lpwstr>
  </property>
</Properties>
</file>