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1.jpeg" ContentType="image/jpeg"/>
  <Override PartName="/ppt/media/camera.wav" ContentType="audio/x-wav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4.jpeg" ContentType="image/jpeg"/>
  <Override PartName="/ppt/media/image5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5F3-DA26-4665-8B06-B23A0A00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C0B-B8F7-4598-B9C3-DF0F9DF7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410-033D-41D4-BB2C-68206C2A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487-F028-4528-9123-73B57BE9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FCC-E04E-423C-AF55-0D7A403D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731-C31D-46B4-B2AB-00273B45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5BA-C05A-4BB3-8A75-85A42AB7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CF6-7170-4247-8C01-6962E7F4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018-A7BD-485B-A32A-AE9335DF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56E-B329-4C93-920C-B4D2EFA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406-C98F-4A6B-B62B-332933BF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478-25FD-4938-B20C-C40E9145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5989-895D-4B7F-A6FB-051E37C27A54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51"/>
          <p:cNvSpPr/>
          <p:nvPr/>
        </p:nvSpPr>
        <p:spPr>
          <a:xfrm>
            <a:off x="7772400" y="64008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Monotype Corsiva"/>
              </a:rPr>
              <a:t>09.10.02 by JML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imes New Roman"/>
              </a:rPr>
              <a:t>September 11, 2001</a:t>
            </a: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ffff"/>
                </a:solidFill>
                <a:latin typeface="Times New Roman"/>
              </a:rPr>
              <a:t>Never Forget!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15" descr="Diapositiv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027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Picture 1039" descr="Diapositiv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apositivo17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Diapositivo18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iapositivo19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Diapositivo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Diapositivo23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iapositivo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Diapositivo27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iapositivo28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Diapositiv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iapositivo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iapositivo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iapositivo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iapositivo3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iapositivo5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iapositivo7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iapositivo8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Diapositivo9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iapositivo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iapositivo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Diapositiv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iapositivo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iapositiv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iapositiv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Diapositivo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iapositivo16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iapositivo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Diapositivo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Diapositivo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iapositivo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iapositivo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Diapositiv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iapositivo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Diapositivo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iapositivo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iapositivo7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Diapositivo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iapositivo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iapositivo11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Diapositivo12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iapositivo13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Diapositivo14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iapositiv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Diapositivo1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Diapositivo16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Diapositivo17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Diapositivo18A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Diapositivo1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Diapositivo23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iapositivo24A"/>
          <p:cNvPicPr/>
          <p:nvPr/>
        </p:nvPicPr>
        <p:blipFill>
          <a:blip r:embed="rId1"/>
          <a:stretch/>
        </p:blipFill>
        <p:spPr>
          <a:xfrm>
            <a:off x="1133640" y="0"/>
            <a:ext cx="68767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iapositivo2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Please pass this on so WE</a:t>
            </a: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Never Forget the day that</a:t>
            </a: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changed ALL of our lives!</a:t>
            </a:r>
            <a:br>
              <a:rPr sz="4000"/>
            </a:b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0" name="Picture 27" descr="Diapositivo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iapositivo6"/>
          <p:cNvPicPr/>
          <p:nvPr/>
        </p:nvPicPr>
        <p:blipFill>
          <a:blip r:embed="rId1"/>
          <a:stretch/>
        </p:blipFill>
        <p:spPr>
          <a:xfrm>
            <a:off x="165744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Picture 9" descr="Diapositivo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Picture 6" descr="Diapositivo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DAVDAS</cp:lastModifiedBy>
  <dcterms:modified xsi:type="dcterms:W3CDTF">2009-07-04T18:10:52Z</dcterms:modified>
  <cp:revision>51</cp:revision>
  <dc:subject/>
  <dc:title>Mots d’enfants</dc:title>
</cp:coreProperties>
</file>