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ACD3-0677-49B7-A090-DED0A6DBDE1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F2DD-9918-40A9-8D27-3A2A3CCC57A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05C4-36F2-45C1-AF0B-E16A12BAB68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573E-32AB-4D73-BEE8-60705C57221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A576-181B-4538-8BEC-4F08F959EBF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F4CD-C3DD-47CA-98B7-69F8AE87B67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8FEF-F0C9-4619-A53B-CC1A92EBC31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864B-6096-4288-A1A4-314BB49ABCC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BF27-CF9F-41A3-96AF-444D6893559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C66A-EDEB-4951-BC8D-9F728AC542F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1B8E-9BB1-4E92-81B2-A7BDFA8C70D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9F0E-D1F4-4450-ADA4-58383F7D00E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D31F-CF1F-4507-80E2-32D35730996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3BF0-A2DE-46C0-A56C-37FD587F273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BC2F-EF04-4829-B605-A45C7584CE8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9909-7E7E-4783-A900-3FF1A27CC32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5F7A-B27E-4567-ABBD-4A6CBCEB765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45C0-E0E8-4E87-9E42-77A4FE3465F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E51C-401F-4B1E-9157-D5B5D5C3839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1603-4B2A-4621-827B-A8C4467C4FB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0A19-011B-4D16-A675-94C535C0CEA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1FE6-F7A6-4E86-B187-24EC6D142EB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4479-4B4F-4A5A-8760-9BF1EBF0936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FF91-E983-4E42-B7DE-32AF24437B7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719A-F90A-4AFD-A60B-7DC7DDE30F2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6482-2322-46F7-81BC-6E87FE6BA21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28FD-F683-4084-93E7-64E22FC1B2F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CA6D-09AE-4A3C-AFB1-356717497C3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8B74-42DC-402A-8CCA-1AD04CEC21E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DF80-C4BC-4E5B-83FD-AAA65A4C9B4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1C2B-4C6E-4511-9CC2-FB91F369830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477E-99F6-4647-B959-7668ADEE702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FCE9-E95D-422D-A592-89A97093D79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A421-AB27-480C-9127-1AE1917BAB6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7002-D35C-4227-B13F-9887830383A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40B3-111E-44A7-BB34-7FE7FA3DBCC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E658-75F1-477B-8600-A7676F1C28A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795C-4DFA-4970-ACAC-7C5439C6B74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EFB2-DDC1-48F0-9A39-218CC350114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9BA3-8219-4F93-8810-2220D0C2D46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9B27-FFDD-48DC-B9AA-0AA2CCD6A95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F5F-7DDB-4AFE-80D6-E4FDE5E2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DBC-1D63-45BE-9A52-5C4A1E55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3B3-C52C-4D0B-A2FA-6A32562D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423-0204-48B9-AF7C-B336B3E5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6EA-9A5B-47F4-9A39-F1F66B8F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EF9-CB69-4BCB-B3E8-174657B1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0CD-3811-4268-A960-BDEE68D7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2FB-1896-4E3A-AA67-C3054665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BFC-595D-4129-856B-63E6930C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DF2-E2EF-4B5F-82B5-72ACDD5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6E3-61BB-4B73-9A46-2DDEBFD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C02-416C-431F-B84C-D2C72159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CDA1-570A-480D-8078-D050A8B19E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1785600"/>
            <a:ext cx="82868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And here are the Top images From the Internet For 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3642840"/>
            <a:ext cx="8701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entury Gothic"/>
              </a:rPr>
              <a:t>200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best “On the Spot”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41148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3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hitleresque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56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Human Landscape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8240" y="4419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7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sisrael" descr=""/>
          <p:cNvPicPr/>
          <p:nvPr/>
        </p:nvPicPr>
        <p:blipFill>
          <a:blip r:embed="rId1"/>
          <a:stretch/>
        </p:blipFill>
        <p:spPr>
          <a:xfrm>
            <a:off x="2428920" y="500040"/>
            <a:ext cx="4286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Animal World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4419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9.3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MILKCOW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121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Pets (Dogs)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3.6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riceless_no_panties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Pets (Other)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2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et%20snake_b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best natural exterior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8.6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Urban Painting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8240" y="44953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8.9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attoo_monkey" descr=""/>
          <p:cNvPicPr/>
          <p:nvPr/>
        </p:nvPicPr>
        <p:blipFill>
          <a:blip r:embed="rId1"/>
          <a:stretch/>
        </p:blipFill>
        <p:spPr>
          <a:xfrm>
            <a:off x="838080" y="87624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“Body Paints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-360" y="4419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6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5410080" y="5410080"/>
            <a:ext cx="2644920" cy="33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middle%20east%20in%20deep%20doo" descr=""/>
          <p:cNvPicPr/>
          <p:nvPr/>
        </p:nvPicPr>
        <p:blipFill>
          <a:blip r:embed="rId1"/>
          <a:stretch/>
        </p:blipFill>
        <p:spPr>
          <a:xfrm>
            <a:off x="1047600" y="1285920"/>
            <a:ext cx="7048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Adventure Sport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0.9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occer_girls_team" descr=""/>
          <p:cNvPicPr/>
          <p:nvPr/>
        </p:nvPicPr>
        <p:blipFill>
          <a:blip r:embed="rId1"/>
          <a:stretch/>
        </p:blipFill>
        <p:spPr>
          <a:xfrm>
            <a:off x="507960" y="698400"/>
            <a:ext cx="812808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Transport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360" y="4343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lam%20Boat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15364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Public Display (Masculine)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ree%20giant%20woodpecker" descr=""/>
          <p:cNvPicPr/>
          <p:nvPr/>
        </p:nvPicPr>
        <p:blipFill>
          <a:blip r:embed="rId1"/>
          <a:stretch/>
        </p:blipFill>
        <p:spPr>
          <a:xfrm>
            <a:off x="2428920" y="504720"/>
            <a:ext cx="428616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unset3" descr=""/>
          <p:cNvPicPr/>
          <p:nvPr/>
        </p:nvPicPr>
        <p:blipFill>
          <a:blip r:embed="rId1"/>
          <a:stretch/>
        </p:blipFill>
        <p:spPr>
          <a:xfrm>
            <a:off x="507960" y="692280"/>
            <a:ext cx="812808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Public Display (Feminine)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human_pyramid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Public Display (General)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2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00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Special M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erfectWoman2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293832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And finally 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Prize that leave us with the last word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60" y="4419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92.6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ultimate%20wine%20glass%20holder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079960" cy="643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Cheers!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777240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best natural interior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240" y="3675240"/>
            <a:ext cx="8915400" cy="19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entury Gothic"/>
              </a:rPr>
              <a:t>90.7% vo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33520" y="243828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Century Gothic"/>
              </a:rPr>
              <a:t>Till Next Y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Century Gothic"/>
              </a:rPr>
              <a:t>CaySee signing off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ldbeerinFridge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best urban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7.8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winter_scam" descr=""/>
          <p:cNvPicPr/>
          <p:nvPr/>
        </p:nvPicPr>
        <p:blipFill>
          <a:blip r:embed="rId1"/>
          <a:stretch/>
        </p:blipFill>
        <p:spPr>
          <a:xfrm>
            <a:off x="509760" y="223920"/>
            <a:ext cx="812448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best “Human”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240" y="41911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2% votes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allpaperfor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5:46:46Z</dcterms:created>
  <dc:creator>César Sánchez Ruiz</dc:creator>
  <dc:description/>
  <dc:language>en-US</dc:language>
  <cp:lastModifiedBy>kculligan</cp:lastModifiedBy>
  <dcterms:modified xsi:type="dcterms:W3CDTF">2009-03-05T19:34:36Z</dcterms:modified>
  <cp:revision>45</cp:revision>
  <dc:subject/>
  <dc:title>Las mejores imágenes de internet</dc:title>
</cp:coreProperties>
</file>