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E65-D76F-4207-A89A-1BEED206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1C8-FC4A-4416-B9BE-D4FD3983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CCB-4B6B-4FE7-A3C3-CC881DA2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5DB-AFEE-4250-8653-6DB7ECE3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1F0-BAD6-4CA8-BB95-9B2F7640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B27-A7DE-4734-8EB4-FF6D8064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D36E-EFD9-457F-8640-5E84C2DB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9B6-DEDF-4E73-A171-4969FF49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4DE-A8C3-47E8-B9C3-040C0038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621F-5224-4ED9-AB40-A381C5CC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8802-0392-4465-AEC3-1DD00556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845-CE99-4073-A8F2-07943931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73E1-447F-4A35-A7E7-BD07149F5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98760" y="5751360"/>
            <a:ext cx="39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rious Tibetan Landscape &amp; 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412440" y="189000"/>
            <a:ext cx="50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impse of Mount Kailas during Pradaks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7080" y="22860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dous route of Parik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65040" y="3412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e0e3"/>
                </a:solidFill>
                <a:latin typeface="Arial"/>
              </a:rPr>
              <a:t>First View of Mount Kai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14405"/>
          <a:stretch/>
        </p:blipFill>
        <p:spPr>
          <a:xfrm>
            <a:off x="0" y="-1908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 Parvat seen on the way to Ka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247760"/>
            <a:ext cx="9144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7079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24040" y="41760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e0e3"/>
                </a:solidFill>
                <a:latin typeface="Arial"/>
              </a:rPr>
              <a:t>Mount Kailas Darshan during Parik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7200" y="264960"/>
            <a:ext cx="53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ailas's presence can be felt - whatever th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18760" y="189000"/>
            <a:ext cx="34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rthern face of Mount Kai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17320" y="417600"/>
            <a:ext cx="39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e0e3"/>
                </a:solidFill>
                <a:latin typeface="Arial"/>
              </a:rPr>
              <a:t>Abode of Lord Shiva-Mount Kai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32240" y="1600200"/>
            <a:ext cx="30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umerous rivers are se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320" y="109440"/>
            <a:ext cx="8991360" cy="6639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81080" y="19051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Kai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2286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anas Saro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1000" y="85680"/>
            <a:ext cx="89820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1000" y="85680"/>
            <a:ext cx="89820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1000" y="90360"/>
            <a:ext cx="898200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25480" y="34128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e0e3"/>
                </a:solidFill>
                <a:latin typeface="Arial"/>
              </a:rPr>
              <a:t>Golden Sunrays offer Prayers to Kailasa Parv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http://www.kailashmanasarover.com/images/mt-kailash-map.jpg"/>
          <p:cNvPicPr/>
          <p:nvPr/>
        </p:nvPicPr>
        <p:blipFill>
          <a:blip r:embed="rId1"/>
          <a:stretch/>
        </p:blipFill>
        <p:spPr>
          <a:xfrm>
            <a:off x="685800" y="235080"/>
            <a:ext cx="7696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http://img36.exs.cx/img36/2598/ShivGaneshParvati.jp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62120" y="838080"/>
            <a:ext cx="4025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720" y="304920"/>
            <a:ext cx="58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rious Sun Rise on Manasa Sarovar Lake in Tib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2720" y="19051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sa Sarovar l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6360" y="22860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fferent color of Manasa L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304920"/>
            <a:ext cx="43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e0e3"/>
                </a:solidFill>
                <a:latin typeface="Arial"/>
              </a:rPr>
              <a:t>A dense blanket of fog creates il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30040" y="304920"/>
            <a:ext cx="565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ilgrims on Parikrama while Kailas gives Darsh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327920" y="18900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bbe0e3"/>
                </a:solidFill>
                <a:latin typeface="Arial"/>
              </a:rPr>
              <a:t>Gouri Kund on Kailas Parikrama ro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20" y="0"/>
            <a:ext cx="43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bbe0e3"/>
                </a:solidFill>
                <a:latin typeface="Arial"/>
              </a:rPr>
              <a:t>Gouri Kund on Kailas Parikrama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06:59:24Z</dcterms:created>
  <dc:creator>Administrator</dc:creator>
  <dc:description/>
  <dc:language>en-US</dc:language>
  <cp:lastModifiedBy>Indian</cp:lastModifiedBy>
  <dcterms:modified xsi:type="dcterms:W3CDTF">2009-02-23T11:59:46Z</dcterms:modified>
  <cp:revision>4</cp:revision>
  <dc:subject/>
  <dc:title>Slide 1</dc:title>
</cp:coreProperties>
</file>