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1F6-0FA2-40DE-B073-C49641BB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E91-BB98-4267-B140-9E4B2D9E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CEB-B635-49A5-AFA4-677294F3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1D1-DBBD-4E8B-B617-F9EA82CF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DD9-3867-4A83-A2A7-79BB10F7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94D-EB40-49F5-9B52-587A7C66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8F6-E317-455C-98E7-AC16F574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DED-2737-49D0-8897-B6ADD644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905-42E1-4EC8-A9F8-5A94AB95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456-1CFB-43CE-9BDB-6DE38133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A48-9AA3-4D84-99BD-06435419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4AA-DADE-4944-B12B-F9F5E30E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A3E6-F0EA-4CF3-8751-FF67FF13A04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ere si Legitimi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itimitate si Sprijin pentru Democr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explicatie posibila pentru ascensiunea Partidului Nazist in Germania poate fi data de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ultura polit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populatiei din acea vrem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ltura Politica: un pattern/model de valori, credinte, asteptari si atitudini pe care oamenii le au in raport cu autoritatea, societatea si politica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crierea (Categorizarea) Formelor de Cultura Poli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mond si Verba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he Civic Cultur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1963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criu trei “tipuri” de cultura politica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ti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en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ohial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poteza: cultura politica dominanta explica tipul de regim politi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rijin pentru Democr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glehart analizeaza cross-national sprijinul pentru democratie (Culture Shif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zultatele lui Inglehart: in 77 tari exista puternic sprijin pentru democrati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sia = 62%; Pakistan = 68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ate celelalte 77 au valori de peste 80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rijinul pentru democratie este puternic in statele islam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rijin pentru un Lider Putern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glehart evalueaza si sprijinul pentru forme de guvernare non-democrat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ultatele din cele 77 tari variaz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etnam = 99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zerbaijan, Egypt si Greece &lt; 10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 este cu putin sub 30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 Politica si Democr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ex-ul Democratie/Autocratie (masoara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vorizarea democratiei ca si sistem polit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mocratia este un regim mai bun decat altele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vorizarea “expertilor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vorizeaza unui lider putern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 Politica si Democr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oruri/masuri ale Supravietuirii/Auto-Afirmari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dere social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tisfactia cu modul de vi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leran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lori materialiste/post-materiali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 Politica si Democr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itudinile fata de democratie explica aproximativ 25% din variatia pe care o ved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itudinile fata de auto-afirmare explica aproximativ 70% din variata pe care o ved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gestie: exista o corelatie intre cultura politica si democratie – si o posibila legatura cu dezvoltarea econom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zel &amp; Inglehart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rofundeaza dezbaterea cu privire la atitudinile care stau la baza sprijinului pentru un tip de regim politi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gumenteaza rolul “culturii politice definita prin Indexul Supravietuirii/Auto-Afirmari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cratie este “castigata” si sustinuta atunci cand grupuri largi din populatie considera “supravietuirea” ca fiind ceva garant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zvoltarea economica contribuie la sprijinirea democratiei, dar este nevoie de o “credinta populara” in nevoia dezvoltarii umane in paralel cu cea economic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riatii intre Regimurile Nedemocra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ak-ul sub Saddam Hussein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utocrati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ltanism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kistan sub Musharraf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ctatura milit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gentina (1966-73)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utoritarism birocrat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na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ictatura unui singur partid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fghanistan in perioada Talibanilor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eocrati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 este puterea politic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ilitatea de a obtine ce vrei, atunci cand vre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ul de exercita propria voin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pacitatea de a actiona asupra politicilor prin controlarea sau influentarea institutiilor statulu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itimitatea: dreptul de a condu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imurile ne-democratice pot fi considerate legitim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ate regimurile democratice sunt legitim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ferite dimensiuni ale Puter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ercitie (fizica &amp; intimidar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siune econom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ii patron-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tele socia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rupti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erea poporulu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tiuni colect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me ale celor slabi (James Scott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ris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mente ale Statului Modern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ganizarea Puter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ei caracteristici ale statului moder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verani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tonomi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itimi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pul de regim bazat p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ontract social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dat Constitution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um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cceptarea tacit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legitimita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rse multiple de legitimi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itimitate: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dreptul de a condu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eptarea tacita a sistemului politic confera liderilor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reptul de a condu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refera la perceptia cetatenilor cu privire la regim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ul si autoritatea acestu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ia dintre cetateni si st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tura si gradul de extidere a drepturilor politice si a libertatilor civ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ritate Legala v. Legiti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toritatea legala se refera l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abilitate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conduc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ormitate cu “regulile jocului”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ederi constitutionale / statute / legi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vasi) monopol asupra utilizarii forte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toritatea legitima se refera l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dreptu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 a conduc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ormitate cu asteptarile popula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ceptarea tacita a regimului aflat in functiu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ceptarea tacita a politicilor in functiu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ritate Legala v. Legitim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u Germania Naz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 alegerile din 1932, Partidul Nazist a fost unul dintre partidele “anti-sistem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zultatul alegerilor a fost acela ca partidele anti-democratice au castigat majoritatea voturilo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nd au avut oportunitatea, germanii din acea perioada au ales sa respinga democrat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0"/>
          <a:ext cx="6477120" cy="7122960"/>
        </p:xfrm>
        <a:graphic>
          <a:graphicData uri="http://schemas.openxmlformats.org/drawingml/2006/table">
            <a:tbl>
              <a:tblPr/>
              <a:tblGrid>
                <a:gridCol w="3237120"/>
                <a:gridCol w="2133360"/>
                <a:gridCol w="1106640"/>
              </a:tblGrid>
              <a:tr h="170208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egerile pentru REICHSTAG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6 Noiembrie, 193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artidul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oturi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% locuri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ational Socialis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,737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ocial Democratic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,248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.4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unis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,980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entru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231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ationalis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959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oporului din Bavaria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095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Alte partid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,635,00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ritate Legala v. Legiti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tler a utilizat proceduri constitutionale pentru a ajunge cancel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dul Nazist a distrus/destructurat Republica de la Weimar avand un mandat electoral in acest se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 avut autoritate legal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 avut autoritate legitim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16:01:10Z</dcterms:created>
  <dc:creator>Paul Sum</dc:creator>
  <dc:description/>
  <dc:language>en-US</dc:language>
  <cp:lastModifiedBy>Cosmin Marian</cp:lastModifiedBy>
  <dcterms:modified xsi:type="dcterms:W3CDTF">2013-10-16T06:40:15Z</dcterms:modified>
  <cp:revision>56</cp:revision>
  <dc:subject/>
  <dc:title>Power in Comparative Persepctive</dc:title>
</cp:coreProperties>
</file>