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7775-79C8-4ECD-9A72-E1B5BE7F3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814D-B61C-4F43-80F8-08EE9723D330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lack of laws governing a post-communist country from Romania: Under communism, the authority to recognize a religion was held by the Presidium of the Grand National Assembly (abolished in 1990).  With no newly established institution, no government authority to recognize a new religion (like Mormonism or various Protestant sects) was possible—the Romanian Orthodox Church was relied on to “patch” the system yet they clearly had their own inte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6BD8-AFD9-493B-853C-125FE15A110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a: assassination of Anna Politkovskay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vil society restrictions on accepting foreign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hail Khodorkovsky’s Open Russia charitable found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4D1-6595-4065-A3E8-8E4524FB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0BA-016B-4ED2-BCFF-FAA35CFD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90C-827D-4988-B784-F520E433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AC4-5374-42B7-A14C-EDA111E7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63A-0AE3-4FCD-BFFD-BF064759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EBF-3488-4E76-A908-D3BFB4B9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014-3D5B-4A1A-B939-F3184DDD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D6A-1816-4B0D-B42E-7EE8FA69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EC4-248D-41C9-BE52-10A99B6D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4BB-CCEF-4A5B-AA5F-BCFB9ABE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00E-8202-4567-8ED8-E6191C6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E65-2071-4042-8273-6B195EB1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448E-985B-468F-8C30-2B5C82BDBF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politic din Rusia: Clivaje, Mosteniri si Institut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sedintele Rusie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meste PM cu apromarea Dume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ate demite PM fara aprobarea Dume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mite decrete cu putere de le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meste judecatorii curtilor superioare de justi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uteri de exeption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ntru tot teritoriul sau region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ept de vet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mneaza tratatele internation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olutii recente in Ru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mitry Medvedev a castigat alegerile din 2 Martie  2008 cu 70.3% din voturi din primul tur de scruti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 a devenit membru al partidului majoritar Rusia Unita in Aprilie 200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fost lider ne-oficial al partidului la alegerile din decembrie 200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sia Unita a catigat 315 din cele 450 locuri din Du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dvedev ne-oficial este membru al Rusia Uni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 a fost numit PM in 8 Mai 200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mitarea puterii prezidenti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M/guvernul si Adunarea Federala pot limita puterile presedinte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in controlarea agendeti legisla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mpeach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rificarea constitutionalitatii actelor este posibila dar nu a fost niciodata utiliz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utoritatile locale au avut in trecut putere efectiva, dar in prezent este mult limit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uvernatorii sunt numit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uvernul joaca un rol important in selectarea membrilor Consiliului Feder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pactul sistemului electoral din Rusia inainte de reformele din 2005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xt (50/50) pentru cele 450 locuri din Du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u la alegerile  din 1999 pentru Du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ul Comunist castiga o pluralitate de locuri (11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u fost alte 5 partide (fiecare cu peste 20 locur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8 partide au castigat intre 1 si 19 locur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14 candidati independeti au castigat cate un lo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 ce cetatenii sunt atasati de PC? De ce au votat pentru independenti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egerile din 20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 sistem de partide hegemonic(?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ul de partide s-a solidific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sia Unita: (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23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ocur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ul Comunist (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ocur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beral-Democratii (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5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ocur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sia Corecta (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ocur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ele reformatoare in disolu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usia Unita controleaza presedint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Puti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astiga cu 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6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% (20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dvedev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stiga cu 70.3% (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utin cu 71.1% (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olutii posibi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spectiva pesimis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esterea capacitatii si eficientei statului imposibila in conditiile din prez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zvoltarile nedemocratice pot fi ireversibile fara o miscare potrivinica majo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catorii economici sunt optimisti, dar posibil falsificat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ltura politica este inradacinata in relatii de tip patron-cli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olutii posibi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spectiva optimis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esterea capacitatii stat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ordine constitutionala solid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conomia continua sa creasca in pasi mic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ultural politica continua sa se schimb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imul din Rusi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dom House score: 6,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epturi politic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uvernatori regionali numiti de executiv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sistem electoral putin favorabil partidelor de opozi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stem proportional din2007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mpanii electorale regizate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re de urgenta in Chechny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mne de intrebare cu privire la functionarea statului de drep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imul din Rusi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dom House score: 6,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bertati civile: Multiple afronturi aduse drepturilor individuale si libertatii de exprim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imidarea mass med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strictii aplicate libertatii civi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licarea selectiva a leg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epturi de proprietate discutabi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licarea inegala a libertatii religioa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vaje Sociale in Ru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vaje sociale polariz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e distinctii intre grupurile etn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viziuni religioa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viziuni region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viziuni intre clasele soci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viziuni asupra procesului de democratizare / ritmul reforme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sia Tarista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steniri ale unui regim nedemocrat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regim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bsolutist si patrimoni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za legitimitatii: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rtodoxia &amp; Dreptul divin (traditi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atul de drept absent: legea este doar un instrument al puteri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menii economice extin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2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mod paradoxal, Rusia a fost un stat slab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impul tari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ul Sovietic Mono-Partid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osteniri ale unui regim nedemocrat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volutia Comunista: probabil nu inevitabila sa in mod cert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eterminat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overdetermin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nin a dezvoltat si aplicat propriul concept de  partid de avangarda pentru a conduce revolut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doctrina Marxista modific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ul plasat deasupra leg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ul a dezvoltat institutii paralele statu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derea USS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orbachev a fost un lider reformator care a ajuns la conducere in 1985— a fost u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edincios adevar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rue believ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formele incep de sus in j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erestroik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restructurarea economie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asnos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deschidere in procesul de decizie economica si politica (democratizarea PC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delul Caderii unui Regim Nedemocrat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delul dezvoltat de Linz (1979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ierderea legitimitat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usteritate economica si colap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bilizare sociala si renasterea societatii civi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iune international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ccesul tranzitiei bazat pe antecedente istorice si pe forma falimentului regimului nedemocrat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titutia Rusiei din 199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ntine un stat feder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sistem Prezidential-Parliament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mera inferioara (Duma) 450 locuri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proba PM si Guvernu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re initiativa legislativa (cu unele limite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mera superioara (Consiliul Federal)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 prezent 168 locuri — dar potential 178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rebuie sa aprobe/voteze majoritatea legislatiei – are cateva atributii separate fata de Dum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1:10:19Z</dcterms:created>
  <dc:creator>Paul Sum</dc:creator>
  <dc:description/>
  <dc:language>en-US</dc:language>
  <cp:lastModifiedBy>Cosmin Marian</cp:lastModifiedBy>
  <dcterms:modified xsi:type="dcterms:W3CDTF">2012-12-04T15:44:12Z</dcterms:modified>
  <cp:revision>65</cp:revision>
  <dc:subject/>
  <dc:title>Breakdown of the Soviet Union</dc:title>
</cp:coreProperties>
</file>