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625A-DF7F-44C2-B571-3B462A3A5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B861-C556-4AFC-85AF-EE590D7597CB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lack of laws governing a post-communist country from Romania: Under communism, the authority to recognize a religion was held by the Presidium of the Grand National Assembly (abolished in 1990).  With no newly established institution, no government authority to recognize a new religion (like Mormonism or various Protestant sects) was possible—the Romanian Orthodox Church was relied on to “patch” the system yet they clearly had their own inter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519F-1915-4B17-A5B0-FA1AB633355B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dia: assassination of Anna Politkovskay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vil society restrictions on accepting foreign as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khail Khodorkovsky’s Open Russia charitable found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2587-907E-427B-BBB0-CC59AAF0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2A6-E389-4AFC-AFBB-249123E0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6E25-23F2-42E6-B416-4A92CB9B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D48-29AA-4616-91A1-2E49106E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E88-5DA4-483B-B970-B09CFE43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2214-CC0B-417F-A65A-3EDA8887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0DF-E8AB-4634-985E-EA949BB7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9F9A-1053-4D47-AC2E-C12DFC6C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FD8-FC3B-4140-9875-C3FEF500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C58-9ABD-4D6D-8F50-91322666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461A-1E8F-42AB-A9CC-5DA58E2E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347-535B-496D-B482-AEBCB085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0915-E8D4-4374-B155-ECF3136204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stemul politic din Rusia: Clivaje, Mosteniri si Instituti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sedintele Rusie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meste PM cu apromarea Dume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ate demite PM fara aprobarea Dume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mite decrete cu putere de leg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meste judecatorii curtilor superioare de justiti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uteri de exeptiona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ntru tot teritoriul sau regiona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ept de vet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mneaza tratatele internationa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volutii recente in Rus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mitry Medvedev a castigat alegerile din 2 Martie  2008 cu 70.3% din voturi din primul tur de scruti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tin a devenit membru al partidului majoritar Rusia Unita in Aprilie 2008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fost lider ne-oficial al partidului la alegerile din decembrie 200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usia Unita a catigat 315 din cele 450 locuri din Dum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dvedev ne-oficial este membru al Rusia Unit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tin a fost numit PM in 8 Mai 2008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mitarea puterii prezidenti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M/guvernul si Adunarea Federala pot limita puterile presedintelu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in controlarea agendeti legislativ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mpeachm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erificarea constitutionalitatii actelor este posibila dar nu a fost niciodata utilizat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utoritatile locale au avut in trecut putere efectiva, dar in prezent este mult limitat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uvernatorii sunt numit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uvernul joaca un rol important in selectarea membrilor Consiliului Federa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mpactul sistemului electoral din Rusia inainte de reformele din 2005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ixt (50/50) pentru cele 450 locuri din Dum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emplu la alegerile  din 1999 pentru Dum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idul Comunist castiga o pluralitate de locuri (113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u fost alte 5 partide (fiecare cu peste 20 locuri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8 partide au castigat intre 1 si 19 locur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14 candidati independeti au castigat cate un lo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 ce cetatenii sunt atasati de PC? De ce au votat pentru independenti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egerile din 20</a:t>
            </a:r>
            <a:r>
              <a:rPr b="0" lang="ro-RO" sz="40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 sistem de partide hegemonic(?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stemul de partide s-a solidifica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usia Unita: (</a:t>
            </a:r>
            <a:r>
              <a:rPr b="0" lang="ro-RO" sz="2400" spc="-1" strike="noStrike">
                <a:solidFill>
                  <a:srgbClr val="ffff00"/>
                </a:solidFill>
                <a:latin typeface="Times New Roman"/>
              </a:rPr>
              <a:t>238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ocuri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idul Comunist (</a:t>
            </a:r>
            <a:r>
              <a:rPr b="0" lang="ro-RO" sz="2400" spc="-1" strike="noStrike">
                <a:solidFill>
                  <a:srgbClr val="ffff00"/>
                </a:solidFill>
                <a:latin typeface="Times New Roman"/>
              </a:rPr>
              <a:t>9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ocuri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iberal-Democratii (</a:t>
            </a:r>
            <a:r>
              <a:rPr b="0" lang="ro-RO" sz="2400" spc="-1" strike="noStrike">
                <a:solidFill>
                  <a:srgbClr val="ffff00"/>
                </a:solidFill>
                <a:latin typeface="Times New Roman"/>
              </a:rPr>
              <a:t>56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ocuri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usia Corecta (</a:t>
            </a:r>
            <a:r>
              <a:rPr b="0" lang="ro-RO" sz="2400" spc="-1" strike="noStrike">
                <a:solidFill>
                  <a:srgbClr val="ffff00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ocuri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idele reformatoare in disoluti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usia Unita controleaza presedinti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Times New Roman"/>
              </a:rPr>
              <a:t>Puti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castiga cu </a:t>
            </a:r>
            <a:r>
              <a:rPr b="0" lang="ro-RO" sz="2400" spc="-1" strike="noStrike">
                <a:solidFill>
                  <a:srgbClr val="ffff00"/>
                </a:solidFill>
                <a:latin typeface="Times New Roman"/>
              </a:rPr>
              <a:t>6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ro-RO" sz="2400" spc="-1" strike="noStrike">
                <a:solidFill>
                  <a:srgbClr val="ffff00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% (20</a:t>
            </a:r>
            <a:r>
              <a:rPr b="0" lang="ro-RO" sz="2400" spc="-1" strike="noStrike">
                <a:solidFill>
                  <a:srgbClr val="ffff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dvedev</a:t>
            </a:r>
            <a:r>
              <a:rPr b="0" lang="ro-RO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stiga cu 70.3% (200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utin cu 71.1% (2004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volutii posibi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rspectiva pesimis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resterea capacitatii si eficientei statului imposibila in conditiile din prez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zvoltarile nedemocratice pot fi ireversibile fara o miscare potrivinica major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dicatorii economici sunt optimisti, dar posibil falsificat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ultura politica este inradacinata in relatii de tip patron-cli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volutii posibi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rspectiva optimis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resterea capacitatii statulu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 ordine constitutionala solid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conomia continua sa creasca in pasi mic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ultural politica continua sa se schimb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gimul din Rusia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eedom House score: 6,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repturi politice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uvernatori regionali numiti de executiv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 sistem electoral putin favorabil partidelor de opoziti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stem proportional din2007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mpanii electorale regizate”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re de urgenta in Chechny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mne de intrebare cu privire la functionarea statului de drep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gimul din Rusia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eedom House score: 6,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bertati civile: Multiple afronturi aduse drepturilor individuale si libertatii de exprima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timidarea mass med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strictii aplicate libertatii civi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licarea selectiva a leg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epturi de proprietate discutabi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licarea inegala a libertatii religioas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vaje Sociale in Rus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vaje sociale polariz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e distinctii intre grupurile etn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viziuni religioas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viziuni regiona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viziuni intre clasele socia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viziuni asupra procesului de democratizare / ritmul reforme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usia Tarista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steniri ale unui regim nedemocrat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 regim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bsolutist si patrimoni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za legitimitatii: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rtodoxia &amp; Dreptul divin (traditi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atul de drept absent: legea este doar un instrument al puteri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menii economice extins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spcBef>
                <a:spcPts val="2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mod paradoxal, Rusia a fost un stat slab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impul taril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tul Sovietic Mono-Partid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Mosteniri ale unui regim nedemocrat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volutia Comunista: probabil nu inevitabila sa in mod cert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eterminat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overdetermine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nin a dezvoltat si aplicat propriul concept de  partid de avangarda pentru a conduce revoluti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doctrina Marxista modificat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idul plasat deasupra leg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idul a dezvoltat institutii paralele statulu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derea USS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orbachev a fost un lider reformator care a ajuns la conducere in 1985— a fost u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edincios adevar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rue believ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formele incep de sus in j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erestroik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restructurarea economie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asnos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deschidere in procesul de decizie economica si politica (democratizarea PC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delul Caderii unui Regim Nedemocrat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delul dezvoltat de Linz (1979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ierderea legitimitat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usteritate economica si colap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bilizare sociala si renasterea societatii civi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iune international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ccesul tranzitiei bazat pe antecedente istorice si pe forma falimentului regimului nedemocratic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stitutia Rusiei din 199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entine un stat feder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n sistem Prezidential-Parliamenta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mera inferioara (Duma) 450 locuri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proba PM si Guvernu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re initiativa legislativa (cu unele limite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mera superioara (Consiliul Federal)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 prezent 168 locuri — dar potential 178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rebuie sa aprobe/voteze majoritatea legislatiei – are cateva atributii separate fata de Dum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1:10:19Z</dcterms:created>
  <dc:creator>Paul Sum</dc:creator>
  <dc:description/>
  <dc:language>en-US</dc:language>
  <cp:lastModifiedBy>Cosmin Marian</cp:lastModifiedBy>
  <dcterms:modified xsi:type="dcterms:W3CDTF">2012-12-04T15:44:12Z</dcterms:modified>
  <cp:revision>65</cp:revision>
  <dc:subject/>
  <dc:title>Breakdown of the Soviet Union</dc:title>
</cp:coreProperties>
</file>