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F19-3D7F-40B4-A4BC-27801BCD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C4B-2FD4-45B4-B451-33F4E098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899-7922-4FB4-A9FF-1856F9F2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B01-6A88-41DB-9F60-DCE85F82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96A-CA53-4BD5-B1C1-FF1CCD6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CAB-357A-4A1C-A4A9-DF2B5312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58D-BE63-4085-8A6E-14E6897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16F-A0E1-4BAF-BC8C-DB436EA2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DBD-26CA-4F22-8CD7-274C19B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12D-03CD-4523-AEF3-0808517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861-DD64-4052-A1EB-158E98D1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2F9-416E-4961-9097-586D4FCD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F46-48D5-419A-8680-F5FA94386B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gaturi Cetatean – Parti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regarea si Articularea interese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e centrifugal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zul Chi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ciuda polarizarii Crestin-Democratii au fost capabili sa tina sistemul politic functional (coaliti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62 reformele electorale introduc votul obligatoriu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 schimba strategia Crestin-Democrat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 diminuat  potentialul lor de coalitie atat din perspectiva partidelor de dreapta cat si de stang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de Grupuri de Intere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icularea Interese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etate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etate Civil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toate grupurile organizate, voluntare, independente de stat si care au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tential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 a face mobilizare politica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de intere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 si organizatii profesion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ganizatii care ofera servicii si ajutor soci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religioa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uburi soci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ilar partidelor si sistemului de partide, societatea civila se bazeaza pe mecanisme de piata pentru a reprezenta cetaten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upuri de Intere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subset al societatii civ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i care articuleaz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nteres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si cereri ale unor grupuri particulare, adesea, cu scopul de a influenta politicile publ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lul Grupurilor de Interese intr-un regim Democr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ticuleaza interese/ Advocac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un in evidenta care este miza unor problem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semneaza reprezentant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termina optini cu privire la politicile publice (sau absenta optiunilor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bilizeaza cetatenii sa participe la viata publica / politic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urnizeaza informatii pentru cei care elaboreaza politici publ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eaza “capital social 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nstruiesc canale de reciprocitate si increde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Genereaza resurse pentru cetateni: incredere proprie si abilitat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isteme Pluralis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 multe grupuri competitioneaza in jurul unei proble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mbership-ul este volunt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ructura organizationala destul de superficial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upurile se adreseaza institutiile statului dar numai rar devin parte a acestor instituti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e: U.S., U.K., Jap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rporatism Democrat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tii mari, umbrela, care domina discutia /dezbaterea cu privire la o problema (de obicei doua mari grupuri in jurul unei problem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iune mare pentru ca indivizii sa devina membr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rea este centralizata si ierarh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penetreaza in structura institutiilor stat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Germania, Norvegia, Sued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rporatism Controlat (de Sta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te un singur grup pentru fiecare arie de politici publice  — supravegheat de guver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ship-ul este obligatoriu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arte centralizat si ierarhi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sunt controlate de sta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desea utilizate pentru implementarea unor politi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desea consultate in procesul de elaborare a politicilor publ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China, Cuba, Russ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erite Sisteme de Gruprui de Interese si Democrat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toric sistemele de grupuri de interese au aparut  in interactiune cu structura de clivaje soci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tinerea Ipotezei Inghetarii Clivajelor (Freezing Hypothesis) (Rokkan 1967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oria puterii clasei muncitoare (Stephens 1986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statul este unitar sau nu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grupurile se alinieaza partidelor politice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 Comparativ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ioada de Incetinire a dezvoltarii, 1973-7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 si UK (sisteme pluralist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le si mediul de afaceri au fost fragmentate si slabi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spuns politic: filosofia “laissez-faire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zultul: revenire rapida dar tumultoasa/agita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edia si Germania (corporatism democratic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le si mediul de afaceri au fost bine organiza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litici de compromis care au redus profiturile si salarii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zultatul: revenire inceata / indelungata dar fara agitati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de poli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i care urmaresc sa isi plaseze reprezentati in pozitii publ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n urmarirea interesului propriu, partidele sunt necesare democratiei moder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canisme de piata: interes propriu/put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cesita u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istem de partid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are sa functioneze efecti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ul partidelor politice intr-un regim democrat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al de comunicar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 implica oficiali ai statului si cetate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urea de transmisie pentru democra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i de mobiliz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ruteaza agenti pentru pozitii de conducere/ leadershi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rega intere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izarea Partidelor Poli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etitive v. Non-competi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partidele respecta suprematia leg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cularizate v. Catch-a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tinderea ideologica si marimea scopului urmari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rsiunile extreme nu au componenta ideologic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erarhice v. Dezagreg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arul si profunzimea factiunilor din interi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e ierarhice de obicei au o disciplina de partid ridic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dul Verde in German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e agre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aparut ca urmare a miscarilor ecologiste din anii ‘7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rijinit d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noile miscari soci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alitii de grupuri de interese si cetate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uternic interesate de stabilirea identitatii politice propri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 respins partidele politice tradit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lobby-ul anti-nuclear, miscarile pentru drepturile femeilor, et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dul Verde in German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e agre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mele succese electoral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81, au castigat mandate in alegerile loc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83, au castigat locuri in Bundesta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-a pozitionat pentru a deveni un “partid efectiv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fost fortat sa agrege intere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itatea partidului s-a rup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dul Verde in German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e agre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1998 au fost inclusi in coalitia de guvernare alaturi de SP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dul Verde – aranjamente si efecte petnru sistemul polit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ele ecologice raman principala preocupa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  de stanga ( la staga SP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facut eforturi sa ramana un partid relevant pe masura ce SPD s-a mutat tot mai mult spre centru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Noii Stangi competitioneaza pentru acceeasi nisa de voturi ca si Partidul Verd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tegorizarea Sistemului de Partid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ura interactiunilor dintre part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umarul de partide (absolut si efectiv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zitionarea ideologica a partidel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anta ideolog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menisuni relevante (economie, (des)centralizare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ilul competitiei (centripetal vs. centrifuga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e centrifugal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zul Chi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mele alegeri democratice 193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vaje social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de partide reflecta aceasta situat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eapta: Conservatori, Liberali &amp; Nationalis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ntru: Crestin-Democr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nga: Socialisti &amp; Comunis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3:28:26Z</dcterms:created>
  <dc:creator>Paul Sum</dc:creator>
  <dc:description/>
  <dc:language>en-US</dc:language>
  <cp:lastModifiedBy>Cosmin Marian</cp:lastModifiedBy>
  <dcterms:modified xsi:type="dcterms:W3CDTF">2013-11-13T07:57:07Z</dcterms:modified>
  <cp:revision>58</cp:revision>
  <dc:subject/>
  <dc:title>Citizen-Party Linkages: Aggregating Interests</dc:title>
</cp:coreProperties>
</file>