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5800-65DB-473E-97A3-608902380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5A17-9B8C-4CAB-95C8-AB4F4CE5F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4566-DE9C-4E29-9E21-5E97EBA85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4B8A-DAE5-459B-A7E2-EA5A44EFF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2008-758B-4CE6-AF3B-91A66DCB6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8902-A6C3-4C3F-A6AC-036FB22CD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8DC0-14DB-4B56-BA70-B19A878A7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B9CA-807A-48C8-B4E1-C1CC65955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C649-BD5B-4D26-AFD3-A90658C1A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225C-4BD6-4B7E-BA37-BF0907EE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6036-833A-445D-BE20-2629328F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7926-0CA1-4157-8316-38E04E9B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8FFE0-69CF-4721-8995-57DD6389C47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gaturi Cetatean – Partid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gregarea si Articularea intereselo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petitie centrifugala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zul Chi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 ciuda polarizarii Crestin-Democratii au fost capabili sa tina sistemul politic functional (coalitii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962 reformele electorale introduc votul obligatoriu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 schimba strategia Crestin-Democratilo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-a diminuat  potentialul lor de coalitie atat din perspectiva partidelor de dreapta cat si de stang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isteme de Grupuri de Interes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ticularea Intereselo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cietate Civi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ocietate Civila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: toate grupurile organizate, voluntare, independente de stat si care au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potential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e a face mobilizare politica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xemple 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Grupuri de interes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indicate si organizatii profesional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Organizatii care ofera servicii si ajutor social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Grupuri religioas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luburi social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ilar partidelor si sistemului de partide, societatea civila se bazeaza pe mecanisme de piata pentru a reprezenta cetateni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rupuri de Intere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Un subset al societatii civil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rganizatii care articuleaza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interes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si cereri ale unor grupuri particulare, adesea, cu scopul de a influenta politicile public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olul Grupurilor de Interese intr-un regim Democratic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Articuleaza interese/ Advocacy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Pun in evidenta care este miza unor problem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Desemneaza reprezentanti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Determina optini cu privire la politicile publice (sau absenta optiunilor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Mobilizeaza cetatenii sa participe la viata publica / politica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Furnizeaza informatii pentru cei care elaboreaza politici public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Genereaza “capital social ”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Construiesc canale de reciprocitate si increder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Genereaza resurse pentru cetateni: incredere proprie si abilitati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asificarea Sistemelor de Grupuri de Intere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Sisteme Pluralist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ai multe grupuri competitioneaza in jurul unei problem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embership-ul este voluntar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tructura organizationala destul de superficiala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rupurile se adreseaza institutiile statului dar numai rar devin parte a acestor institutii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xemple: U.S., U.K., Japa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asificarea Sistemelor de Grupuri de Intere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Corporatism Democratic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rganizatii mari, umbrela, care domina discutia /dezbaterea cu privire la o problema (de obicei doua mari grupuri in jurul unei probleme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esiune mare pentru ca indivizii sa devina membri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rganizarea este centralizata si ierarhic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Grupurile penetreaza in structura institutiilor statulu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xemple: Germania, Norvegia, Suedi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asificarea Sistemelor de Grupuri de Intere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Corporatism Controlat (de Stat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6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ate un singur grup pentru fiecare arie de politici publice  — supravegheat de guvern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6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embership-ul este obligatoriu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6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oarte centralizat si ierarhic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6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Grupurile sunt controlate de stat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028520" indent="-20556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Adesea utilizate pentru implementarea unor politici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2" marL="1028520" indent="-20556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Adesea consultate in procesul de elaborare a politicilor public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2" marL="102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xemple: China, Cuba, Russi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iferite Sisteme de Gruprui de Interese si Democrati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storic sistemele de grupuri de interese au aparut  in interactiune cu structura de clivaje social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Extinerea Ipotezei Inghetarii Clivajelor (Freezing Hypothesis) (Rokkan 1967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eoria puterii clasei muncitoare (Stephens 1986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sura in care statul este unitar sau nu are importanta in formarea sistemului de grupuri de interes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sura in care grupurile se alinieaza partidelor politice are importanta in formarea sistemului de grupuri de interes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zultate Comparative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erioada de Incetinire a dezvoltarii, 1973-75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US si UK (sisteme pluraliste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indicatele si mediul de afaceri au fost fragmentate si slabit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aspuns politic: filosofia “laissez-faire”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zultul: revenire rapida dar tumultoasa/agitata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edia si Germania (corporatism democratic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indicatele si mediul de afaceri au fost bine organizat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olitici de compromis care au redus profiturile si salariil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zultatul: revenire inceata / indelungata dar fara agitati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artide politi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rganizatii care urmaresc sa isi plaseze reprezentati in pozitii public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in urmarirea interesului propriu, partidele sunt necesare democratiei modern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ecanisme de piata: interes propriu/puter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ecesita un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sistem de partide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care sa functioneze efectiv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olul partidelor politice intr-un regim democrati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anal de comunicare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-- implica oficiali ai statului si cetaten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--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curea de transmisie pentru democrati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genti de mobilizar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cruteaza agenti pentru pozitii de conducere/ leadership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grega interes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izarea Partidelor Politi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mpetitive v. Non-competitiv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sura in care partidele respecta suprematia legi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articularizate v. Catch-al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xtinderea ideologica si marimea scopului urmarit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Versiunile extreme nu au componenta ideologica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erarhice v. Dezagregat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umarul si profunzimea factiunilor din interio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ele ierarhice de obicei au o disciplina de partid ridicat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artidul Verde in Germania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erese agreg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 aparut ca urmare a miscarilor ecologiste din anii ‘70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prijinit de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noile miscari social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alitii de grupuri de interese si cetaten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uternic interesate de stabilirea identitatii politice proprii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u respins partidele politice traditional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xemple: lobby-ul anti-nuclear, miscarile pentru drepturile femeilor, etc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artidul Verde in Germania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erese agreg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imele succese electorale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981, au castigat mandate in alegerile local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983, au castigat locuri in Bundestag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-a pozitionat pentru a deveni un “partid efectiv”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 fost fortat sa agrege interes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Unitatea partidului s-a rup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artidul Verde in Germania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erese agreg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 1998 au fost inclusi in coalitia de guvernare alaturi de SPD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artidul Verde – aranjamente si efecte petnru sistemul politic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ele ecologice raman principala preocupar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artid  de stanga ( la staga SPD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 facut eforturi sa ramana un partid relevant pe masura ce SPD s-a mutat tot mai mult spre centru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artidul Noii Stangi competitioneaza pentru acceeasi nisa de voturi ca si Partidul Verd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tegorizarea Sistemului de Partid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atura interactiunilor dintre partid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umarul de partide (absolut si efectiv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ozitionarea ideologica a partidelor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stanta ideologic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menisuni relevante (economie, (des)centralizare)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tilul competitiei (centripetal vs. centrifugal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petitie centrifugala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zul Chi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imele alegeri democratice 1937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vaje sociale polarizat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stemul de partide reflecta aceasta situati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reapta: Conservatori, Liberali &amp; Nationalisti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entru: Crestin-Democrati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tanga: Socialisti &amp; Comunisti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03:28:26Z</dcterms:created>
  <dc:creator>Paul Sum</dc:creator>
  <dc:description/>
  <dc:language>en-US</dc:language>
  <cp:lastModifiedBy>Cosmin Marian</cp:lastModifiedBy>
  <dcterms:modified xsi:type="dcterms:W3CDTF">2013-11-13T07:57:07Z</dcterms:modified>
  <cp:revision>58</cp:revision>
  <dc:subject/>
  <dc:title>Citizen-Party Linkages: Aggregating Interests</dc:title>
</cp:coreProperties>
</file>