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BD3-41B3-48BC-B9D5-742BB7A3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DCA-B9DC-4ECB-BD23-84DF05FB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B02-B3AA-4978-A2D8-A1E7D739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686-7D59-444A-BECF-37F5BEEE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107-F9D3-44FD-902B-CE77D55A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97A-76E2-4960-9EC7-882FECB2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E90-BF43-4AE0-84AF-F6F2EA4E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1B6-D77A-4076-9B6E-74208818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A3B-6D69-44D4-BDEB-6EB25DA7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F9A-5284-4898-8BCE-F1FDB97A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959-EAE3-4736-8E17-A69D6F50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48C-975A-4B32-BBF1-E0E62B44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22D2-10C6-4BB5-A450-9B4AED86D0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stitutii si guvernare in Marea Britani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ar … pentru inceput …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ul Parlamentar Britan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ua camer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use of Commons / (Guvern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use of Lor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ful guvernului (Primul Ministru) detine cea mai mare parte a puterii executiv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stemul electotal produce in mod regulat o majoritat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mul ministru formeaza guvernul/cabinetul si stabileste agenda politic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mul ministru este seful armate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use of Common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luenta asupra executivulu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ote de incredere / cenzur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volte ale partidului impotriva sefului de partid (prim-ministru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atcher (1979-1990) si tranzitia la Major (1990-1997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lair (1997-2007) si tranzitia la Brown (2007- 2010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itati formate de un singur partid limiteaza influenta asupra executivulu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 ultima instanta, opinia publica joaca un rol important in stabilirea parametrilor politici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legeri loca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teste/ demonstrati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use of L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ouse of Lords membrii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ers alesi pe via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orzi Spirituali/ Temporal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ers ereditari (au mai ramas 92 dupa reformele din 1999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use of Lords: Puter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uvernul poate inainta propuneri legislative catre aceasta camer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orzii pot cere amendamente la legi (influenteaza opinia publica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ate intarzia adoptarea legislatiei care nu se refera al finante (de la o luna la un an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te ultima curte de apel in Marea Britani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ul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d Laburist si Reforma Constitutiona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voluti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forma House of Lor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ventia Europeana a Drepturilor Omulu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gea Libertatii de Informare (Freedom of Information Act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ul de Partide Politice din Marea Britan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artid politi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 o organizatie care incearca sa isi plaseze reprezentanti in pozitii publi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umarul partidelo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00"/>
                </a:solidFill>
                <a:latin typeface="Times New Roman"/>
              </a:rPr>
              <a:t>14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s-au inscris in cursa electorala</a:t>
            </a:r>
            <a:r>
              <a:rPr b="0" lang="ro-RO" sz="2000" spc="-1" strike="noStrike">
                <a:solidFill>
                  <a:srgbClr val="ffff00"/>
                </a:solidFill>
                <a:latin typeface="Times New Roman"/>
              </a:rPr>
              <a:t> (2010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ro-RO" sz="2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partide au avut cel putin 0.1% din voturi (20</a:t>
            </a:r>
            <a:r>
              <a:rPr b="0" lang="ro-RO" sz="20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ro-RO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partide au castigat locuri in parlament (20</a:t>
            </a:r>
            <a:r>
              <a:rPr b="0" lang="ro-RO" sz="20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umarul efectiv de partid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cest numar are un impact semnificativ asupra politicilor publice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 Marea Britanie sunt in mod traditional 2-3 partide efective (variaza de la o legislatura la alta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ciplina de partid i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ea Britan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Disciplina de parti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tendinta membrilor unui partid din legislativ de a vota in bloc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Marea Britanie, parlamentarii rareori rup randurile, chiar daca acest lucru este impotriva intereselor alegatorilor l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 ce este disciplina de partid mai puternica in Marea Britanie decat in US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ciplina de Partid i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ea Britanie vs 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te un efect al sistemului parlamenta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rganizarea partidelor polit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uctura unitara vs. federal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ntralizarea finantarii si promovarii politici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mpanii electorale scurte vs. lung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fecte ale culturii politice (reprezentarea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veristate mai mare in Marea Britanie dar clivajele sociale sunt mai putin adanci / pronunt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a Publica in UK &amp; U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alor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UK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galizarea avortului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 orice situati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16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 cele mai multe cazur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6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ircumstante special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18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9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iciodat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4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9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x (inafara casatoriei) un pacat:17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omosexualitatea un pacat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18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a Publica in UK &amp; U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lig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UK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ed in Dumnezeu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9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ed in Iad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7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iginea Lumii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voluti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bli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ign intelig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7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lori Politice si Proceduri: Modelul Majorit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ile consolideaza puterea majoritat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cutiv puternic (sistemul prezidential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ine partide polit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ine restrictii impuse societatii civi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puncte de acces pentru participa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atibile cu clivajel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ransversale/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oss-cutting cleav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a Publica in UK &amp; U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si lumea …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UK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ertul liber este bun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lobalizarea este buna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igratia este buna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8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mnestierea ilegalilor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te proble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pinii asupra actiunilor militare in Irak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65% doresc retragerea in urmatoarele 12 lun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fghanistan: US = 45% “pentru” in raport cu Marea Britanie 28% “pentru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pinii asupra schimbarilor climatic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5% atribuie problema oameni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78% se opun cresterii taxelor asupra produselor petrolie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0% se opun cresterii taxelor pentru a sprijini “energia curata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ele parlamentare, in unele cazuri, pot promova valori majorit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steme electorale care favorizeaza competitia intre doua partide (permit formarea, in mod regulat, a unei mojoritati guvernamental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imul Ministru are libertate in numirile pe care le fa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ceduri dificile pentru votul de cenzur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area Britanie indeplinest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1) si (2)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erman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1) si 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lori politice si Proceduri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Modelul Consociation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ile create pentru a permite distributia puterii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cutiv divizat sau fragi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imulente pentru existenta mai multor partid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etate civila reglementa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ine puncte de acces pentru participa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atibil cu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livaje polariz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ele Prezidentiale, in unele cazuri, pot promova valori consociationa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gi electorale care favorizeaza existenta unui sistem multi-parti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vederi speciale pentru partidele minoritare/mic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cutiv diviz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Bosnia-Herzegovin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indeplineste toate cele trei puncte, Elvetia (1) si 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ele Prezidential-Parlament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rmit fluctuatii intre cele 2 seturi de valor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C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parlamentul e format dintr-o majoritate care il sustine pe presedinte, valorile promovate sunt specifice sistemului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majorita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C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parlamentul e format dintr-o majoritate car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nu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l sustine pe presedinte, valorile promovate sunt specifice sistemului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onsociation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C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 exita o majoritate in parlament, procesele politice specifice determina valorile promovat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cratia Britan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desea etichetata ca prima democratie modern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rea Britanie e un caz utilizat pentru a ilustra mai multe teorii cu privire la democrati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delul evolutiei istorice (Dahl 1971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delul dezvoltarii economice timpurii (Lipset 199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riginea nationalismului modern (Greenfeld 1992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a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Nescrisa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Marii Britan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mnia legii and extinderea drepturilor si libertatilor politi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uveranitatea Parlamentulu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guverneaza relatii inter-guvernamenta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ele doua sunt stabilite prin multe documente si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raditi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norme cultural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ea Britanie: Diviziuni Soci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tionalitatea este consolidata regional / prin diviziuni regiona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tatea de clasa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nuntata in intreaga societat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rticulata prin sistemul de partide politi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asa sociala” are releveanta in structurarea votului (dar nu explica in intregime preferintele de vot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tructura de clivaje transversale / cross-cut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evoluat de-a lungul timpulu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1:12:53Z</dcterms:created>
  <dc:creator>Paul Sum</dc:creator>
  <dc:description/>
  <dc:language>en-US</dc:language>
  <cp:lastModifiedBy>toshiba</cp:lastModifiedBy>
  <dcterms:modified xsi:type="dcterms:W3CDTF">2013-10-30T09:22:37Z</dcterms:modified>
  <cp:revision>68</cp:revision>
  <dc:subject/>
  <dc:title>Governing Institutions of the United Kingdom</dc:title>
</cp:coreProperties>
</file>