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DF3-9BFD-44CC-BEEF-7B22C8CB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9E4-B48E-401A-9DDB-494E4723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836-9D33-4C64-8632-D045435A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E43-7A7E-4504-A232-00155491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27A-7AE8-4899-8EB6-A1C82EBC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F1A-B9D4-4B1F-B5B8-8EF352D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985-4066-4DBC-8732-84ABC5F2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ECA-C5B9-4F74-844B-F3D4FEF0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992-C4CD-421E-A0D9-9DB71AA5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D9F-BF07-400D-A369-090F2F0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AC4-097F-4ACD-ACBC-EEF8B95F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C94-4A7C-4697-9596-7D79BD0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46AD-E7E7-40AF-A568-A0F7C58BC288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a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utoritarianism Fragment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oritarianismul Fragmentat in practic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ormele economice au fortat PCC si statul chinez sa fie mai flexib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ercarile de gestiona la nivel micro optiunile economice nu au produs rezul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ul a permis aplicarea la nivel local a reformelor (cu adaptarile necesare fiecarei situatii sau context) dar si-a rezervat dreptul de interveni in orice decizi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ul politic s-a bazat pe relatii traditionale pentru mentine loialitati si control si pentru a stabili politicile publ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oritarianismul Fragmentat in prac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CC si-a dezvoltat  puterea dar nu a reformat relatia dintre autoritati si cetate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imularea coruptiei a crescut exponenti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rescut potentialul pentru a cresteri inega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aparut o noua clasa de bogat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 aparut inegalitati region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ributia bunastarii a fost puternic restriction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gratia municitorilor catre zonele industriale a produs schimbari demografi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ua Econom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trivit estimarilor din 2007: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% din sectorul economic este reprezentat de intreprinderile de stat tradition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0% din sectorul economic este reprezentat de intreprinderile colective “inovatoare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0% din sectorul economic este reprezentat de intreprinderile privat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sterea economica in ultimii 12 ani ~ 8% annu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jutata de o mare productivitate in sectorul privatiz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esteri mari si in sectorul intreprinderilor colecti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actul reformelor asupra Culturii Politice din China Zhong 200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es &amp; discutii (politice) relativ ridic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ele valori democratice sunt preze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rijin pentru idee de “piata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iparea politica este relativ scazu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ista prijin pentru ideea de proprietate publica / colecti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e acceptata ideea unor diferente mari de ven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ocari pentru conducerea politica a Chine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zvoltarea inegala: determinata de dinamica claselor sociale si a dezvoltarii regiona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beralizarea sectorului bancar of the banking sector vs.  Sprijin constant pentru sectorul de st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voia unor institutii legale care sa reglementeze dezvoltarea economic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ruptia crescuta in pofida eforturilor PCC de a o curm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grarea noilor elite in structura de parti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zvoltarea economica produce efecte pentru mediu cu pontial de a afecta dezvoltarea sociala si economic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a: regimul politic: FH = 7,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epturile politice sunt restrictionate (formal, prin legi)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egerile pentru comitetele satesti sunt intr-o oarecare masura competitiv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ista unele formel limitate de participare politic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testele ilegale sunt totusi frecven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74,000 in 2004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85,000 in 2005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3,000 in 2007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bertati civile sunt de asemenea restrictionate (formal, prin legi)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bertatea de exprimare este sanction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cietatea civila este puternic restriction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ul de regim politic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oritarianism Fragment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lecta relatia dintre autoritatea politica si cetate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lecta procesul de descentralizare a PCC si a institutiilor de st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ultima instanta, Beijing-ul si PCC detin puterea supr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mit sau nu luarea si implementarea de decizii la nivel loc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ponibilitate de a se baza pe norme “traditionale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a Statului Chinez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mal, este un sistem parlamenta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esedintele este seful statulu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mul Ministru este seful guvernulu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gresul Popular  a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979 locur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e ales prin intermediul congreselor locale ale partidului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tatenii voteaza pentru reprezentantii in congresele loca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prezentantii nu sunt “legati” de alegatorii lo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CC functioneaza ca autoritate finala a proceselor polit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sedintele est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cretarul Gener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l PCC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 este seful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misiei Militare Centr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ctura Statului Chine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mata este formal sub controlul civil al PC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mod traditional, armata chineaza a avut un anumit grad de independenta in raportul cu autoritatile civile ale statulu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isia Militara Centrala este o institutie autonoma in raport cu Comitetul Central al PCC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rocratia este extinsa si se suprapune in mare masura cu PC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olutia istorica a PC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49-5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un model Leninist adapt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58-76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erioada Maoista clasic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ele salt inainte (1958-59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olutia culturala (1966-69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paritia lui Mao (1976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76-prez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erioada de reform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ma perioada a Reform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upa disparitia lui Mao (1976) urmeaza o perioada de lupte pentru pute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1978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ng Xiaoping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e afirma ca lider al partidulu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fost epurat si exlus din partid in anii ‘6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ine in partid in 197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e epurat din nou in 197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vine dupa moartea lui Ma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ormele Agricole ale lu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g Xia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introdus “contractarea” bunurile de catre stat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ermis producere de surplus de bunuri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ar stimulente materi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ste permisa aparitia pietelor locale pentru tranzactionarea bunurilor aflate in surpl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turile erau stabilite de pi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 masura ce cresterea economica a fost mai pronuntata, statul a permis acordarea de credite agric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ormele sectorului privat initiate de Deng Xia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rmele colective au cerut mai mare autonomie pentru a produce un mai mare surpl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ca e posibil sa cultivi pepeni, de ce nu e posibil sa fabrici pantofi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torul manufacturier de asemenea a cerut “contractare” si credi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earea Zonelor Economice Specia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mit un anumit grad de control asupra cresterii economi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 devenit baza de investitii externe directe in Chin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torul de servicii a crescut odata cu dezvoltarea tehnologiei si a reformelor care au permis aplicarea acesto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4:23:49Z</dcterms:created>
  <dc:creator>Paul Sum</dc:creator>
  <dc:description/>
  <dc:language>en-US</dc:language>
  <cp:lastModifiedBy>Cosmin Marian</cp:lastModifiedBy>
  <dcterms:modified xsi:type="dcterms:W3CDTF">2013-12-11T09:45:42Z</dcterms:modified>
  <cp:revision>64</cp:revision>
  <dc:subject/>
  <dc:title>China: Fragmented Authoritarianism</dc:title>
</cp:coreProperties>
</file>