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D01-E2B5-4575-A77C-F3C9399B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3EF-07E1-4051-A7C2-75660B43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85E3-98D0-43CA-B37A-EB797A27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011C-F185-410E-8C4A-6F74A4E3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FDC-84FC-4791-835B-C656C085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01C5-39BA-4D88-BA71-4B0CF6B1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949-DC38-4ADD-8BA5-B61FBE22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4FC-431B-4B9B-A24C-E9CDEE15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66A-08A6-4034-BAF9-D334830C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79F-69EC-46A5-9A26-208B4D74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6E4-978A-43F8-8B8D-62A4F4BF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9AB-0F70-41A1-A083-09746819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E7D5-D5AE-4447-9565-87043F73E4A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na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utoritarianism Fragment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toritarianismul Fragmentat in practica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ormele economice au fortat PCC si statul chinez sa fie mai flexibi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ercarile de gestiona la nivel micro optiunile economice nu au produs rezult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tul a permis aplicarea la nivel local a reformelor (cu adaptarile necesare fiecarei situatii sau context) dar si-a rezervat dreptul de interveni in orice decizi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ul politic s-a bazat pe relatii traditionale pentru mentine loialitati si control si pentru a stabili politicile publ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toritarianismul Fragmentat in prac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CC si-a dezvoltat  puterea dar nu a reformat relatia dintre autoritati si cetaten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imularea coruptiei a crescut exponenti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rescut potentialul pentru a cresteri inega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aparut o noua clasa de bogat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 aparut inegalitati regiona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tributia bunastarii a fost puternic restrictiona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gratia municitorilor catre zonele industriale a produs schimbari demografi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ua Econom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trivit estimarilor din 2007: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0% din sectorul economic este reprezentat de intreprinderile de stat traditiona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0% din sectorul economic este reprezentat de intreprinderile colective “inovatoare”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0% din sectorul economic este reprezentat de intreprinderile privat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sterea economica in ultimii 12 ani ~ 8% annual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jutata de o mare productivitate in sectorul privatiz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resteri mari si in sectorul intreprinderilor colectiv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actul reformelor asupra Culturii Politice din China Zhong 200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res &amp; discutii (politice) relativ ridic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ele valori democratice sunt prezen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rijin pentru idee de “piata”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iciparea politica este relativ scazu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ista prijin pentru ideea de proprietate publica / colectiv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ste acceptata ideea unor diferente mari de veni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vocari pentru conducerea politica a Chine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zvoltarea inegala: determinata de dinamica claselor sociale si a dezvoltarii regiona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beralizarea sectorului bancar of the banking sector vs.  Sprijin constant pentru sectorul de st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voia unor institutii legale care sa reglementeze dezvoltarea economic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ruptia crescuta in pofida eforturilor PCC de a o curm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grarea noilor elite in structura de parti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zvoltarea economica produce efecte pentru mediu cu pontial de a afecta dezvoltarea sociala si economic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na: regimul politic: FH = 7,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epturile politice sunt restrictionate (formal, prin legi)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egerile pentru comitetele satesti sunt intr-o oarecare masura competitiv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ista unele formel limitate de participare politic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stele ilegale sunt totusi frecvent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74,000 in 2004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85,000 in 2005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3,000 in 2007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ibertati civile sunt de asemenea restrictionate (formal, prin legi)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bertatea de exprimare este sanctionat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cietatea civila este puternic restrictionat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pul de regim politic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toritarianism Fragment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lecta relatia dintre autoritatea politica si cetaten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lecta procesul de descentralizare a PCC si a institutiilor de st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ultima instanta, Beijing-ul si PCC detin puterea supr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rmit sau nu luarea si implementarea de decizii la nivel loca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ponibilitate de a se baza pe norme “traditionale”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ctura Statului Chinez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mal, este un sistem parlamenta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esedintele este seful statului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mul Ministru este seful guvernului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gresul Popular  a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979 locuri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e ales prin intermediul congreselor locale ale partidului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etatenii voteaza pentru reprezentantii in congresele local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prezentantii nu sunt “legati” de alegatorii lo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CC functioneaza ca autoritate finala a proceselor polit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sedintele est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ecretarul Genera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l PCC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 este seful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omisiei Militare Centra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ctura Statului Chine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mata este formal sub controlul civil al PC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mod traditional, armata chineaza a avut un anumit grad de independenta in raportul cu autoritatile civile ale statulu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isia Militara Centrala este o institutie autonoma in raport cu Comitetul Central al PCC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irocratia este extinsa si se suprapune in mare masura cu PC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olutia istorica a PC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949-57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un model Leninist adapt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958-76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perioada Maoista clasic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rele salt inainte (1958-59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volutia culturala (1966-69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paritia lui Mao (1976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976-preze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Perioada de reform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ma perioada a Reform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upa disparitia lui Mao (1976) urmeaza o perioada de lupte pentru pute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1978,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ng Xiaoping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se afirma ca lider al partidulu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fost epurat si exlus din partid in anii ‘6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vine in partid in 197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ste epurat din nou in 197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vine dupa moartea lui Ma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ormele Agricole ale lui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g Xiao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introdus “contractarea” bunurile de catre stat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permis producere de surplus de bunuri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ar stimulente materia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ste permisa aparitia pietelor locale pentru tranzactionarea bunurilor aflate in surplu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turile erau stabilite de pi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 masura ce cresterea economica a fost mai pronuntata, statul a permis acordarea de credite agrico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ormele sectorului privat initiate de Deng Xiao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rmele colective au cerut mai mare autonomie pentru a produce un mai mare surpl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ca e posibil sa cultivi pepeni, de ce nu e posibil sa fabrici pantofi?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ctorul manufacturier de asemenea a cerut “contractare” si credit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rearea Zonelor Economice Specia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ermit un anumit grad de control asupra cresterii economic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 devenit baza de investitii externe directe in Chin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torul de servicii a crescut odata cu dezvoltarea tehnologiei si a reformelor care au permis aplicarea acestor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4:23:49Z</dcterms:created>
  <dc:creator>Paul Sum</dc:creator>
  <dc:description/>
  <dc:language>en-US</dc:language>
  <cp:lastModifiedBy>Cosmin Marian</cp:lastModifiedBy>
  <dcterms:modified xsi:type="dcterms:W3CDTF">2013-12-11T09:45:42Z</dcterms:modified>
  <cp:revision>64</cp:revision>
  <dc:subject/>
  <dc:title>China: Fragmented Authoritarianism</dc:title>
</cp:coreProperties>
</file>