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A41-084F-42C8-8597-E9D4A2D6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C49-40D8-4F54-B0FC-8BDA945B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383-34A4-4207-BB9B-F1DFABD4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CAF-7EB3-441F-A35C-B0768AF4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F3E-7550-4CC7-A1BF-D7A6A9B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3C1-DB36-4594-98E4-0104365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203-6824-4444-A32A-DA330605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A31-3932-438A-AECD-EA8642F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167-9132-4822-AA07-5F47198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7CF-D70B-4B11-931B-39AE703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100-D599-4BBF-845F-AAF1670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F9B-5597-405F-A0A0-719F36AD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D11C-3300-473C-99D8-5B1FB57E9EFC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imbari politice in Mexic si Braz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erea politica in Braz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dinte Luis Inácio da Sil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dul Muncitorilor (Socialis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es in 2002 si 2006 cu majoritati cl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egerile pentru Camera inferioara a parlamentului in 2006 (513 locuri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scarea Democratica Braziliana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9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dul Muncitoril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81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 21 partide au castigat locur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ratie Brazilia - Mex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olutii politice similare, dar cu o structura de partide diferi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tidelor din Brazilia le lipseste institutionalizare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ele din urma apare o competitie centrifugal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ao Goulart presedinte in 196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ormator de stang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ventia armatei in 1964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toritarismul Birocratic ca si tip de regim poli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964-1985 regim milit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serie de lideri militari se bazeaza pe birocratie pentru a elabora si implementa politici publ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pa 1974 este o perioada de deschidere politica limitata, incercarea de a “aranja” alegerile din 1985 se intoarce impotriva militaril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ocari petnru regimul democratic din Brazi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itutiile statului sunt inca slabe ca urmare a federalismului si a sistemului de partide slab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ista mari diferente de ven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 exista o schimbare clara a culturii polit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itutia Mexicana (1917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H: 2,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vaje soci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lasa / r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prezid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electoral mix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 SMD &amp; 300 P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arare separ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 fede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itutia Braziliei (1988)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H: 2,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vaje soci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 cl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nice / ras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prezid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stem electoral proport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 fede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geri in Mex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cente Fox in 2000: primul presedinte care nu este membru al PRI dupa 192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egerile prezidentiale din 200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elipe Calderon (PAN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.89%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z Obrado (PRD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5.31%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oberto Madrazo (PRI)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2.26%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egerile legislative din 200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N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6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D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60 locuri (alianta de 3 partid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1 locuri (alianta de 2 partid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tii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13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 in Mex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olutia Mexicana 191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format in 192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ele initial: Partidul National Revolutiona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-a schimbat numele in 1946 in Partidul Revolutionar Institutional (PRI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format cu scopul de a realiza scopurile revolutiei mexica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 s-a afirmat ca si partid hegemoni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 ce este PRI un partid dominant?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iente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zvoltarea unui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istem de stat corporati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ul controleaza societatea civila/ grupurile intere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ronaj extins (s-a dezvoltat in special cu ajutorul veniturilor obtinute din petro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-a apropiat elita industriala prin cooptarea in intreprinderile de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-a apropiat proprietarii de pamant prin reforme agricole (limitate) si subventii financi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farsitul PR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ul general de democratizare din anii ’80 a cuprins si Mexicul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tul petrolului a cazut in 198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niturile statului mexican au scazut semnificativ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egitimitatea statului a fost pusa in discutie atunci cand fondurile statului nu au fost suficiente pentru a sustine sistemul de patronaj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edintele Ernesto Zedillo (1994) initiaza procesul de refor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ectele Reformel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dele de opoziti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 organizeaza si castiga alegerile loc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ep sa combata mai virulent corupt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stiga legitimitate ca urmare a faptului ca sunt invitate la consultari de catre Zedil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etatea civila castiga incredere si oportunitati de afirm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ciuda unor neajunsuri NAFTA a fost benefica pentru Mexic – in special castiguri de legitim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area schimbaril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 schimbare a culturii politice mexicane(?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cese de moderniza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himbarea atitudinilor este inca greu de sesi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pacitatea statului de a rezolva problemele tarii este relativ diminu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ste puterea partidelor de opozit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ucere personala (Zedillo, si altii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7:51:00Z</dcterms:created>
  <dc:creator>Paul Sum</dc:creator>
  <dc:description/>
  <dc:language>en-US</dc:language>
  <cp:lastModifiedBy>Cosmin Marian</cp:lastModifiedBy>
  <dcterms:modified xsi:type="dcterms:W3CDTF">2013-12-18T07:58:08Z</dcterms:modified>
  <cp:revision>60</cp:revision>
  <dc:subject/>
  <dc:title>Mexican Political Change</dc:title>
</cp:coreProperties>
</file>