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9A10-BC04-4A19-9004-652A65B33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FCF5-C78E-4EF7-AAFD-CC5B8DA21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9423-22AD-41D0-B305-22C61248E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5D0E-7294-4BF4-B595-7BC2EC97E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D23F-57BE-4818-9A33-F557E741D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3A89-5F23-4AFB-9F10-07A861124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C316-0F78-4BFA-AC36-57DB27D6D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B427-CF1D-42CE-8A13-751E10FF8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9544-0F04-4E1F-8A38-52264C790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250E-AEA8-490F-8084-4E664A57D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B599-C08C-4B5B-8E00-BAC07099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E9EC-B11D-499D-96DD-018E9BDCB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62CCF-69EC-43E8-9DC0-55BC7FA72D1E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chimbari politice in Mexic si Brazil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uterea politica in Brazil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esedinte Luis Inácio da Silva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artidul Muncitorilor (Socialist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les in 2002 si 2006 cu majoritati clare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legerile pentru Camera inferioara a parlamentului in 2006 (513 locuri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iscarea Democratica Braziliana: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89 locuri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artidul Muncitorilor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: 81 locuri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lte 21 partide au castigat locuri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paratie Brazilia - Mexi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volutii politice similare, dar cu o structura de partide diferit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artidelor din Brazilia le lipseste institutionalizarea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 cele din urma apare o competitie centrifugala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Joao Goulart presedinte in 1961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formator de stanga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terventia armatei in 1964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utoritarismul Birocratic ca si tip de regim politi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964-1985 regim milita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 serie de lideri militari se bazeaza pe birocratie pentru a elabora si implementa politici public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upa 1974 este o perioada de deschidere politica limitata, incercarea de a “aranja” alegerile din 1985 se intoarce impotriva militarilo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vocari petnru regimul democratic din Brazil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stitutiile statului sunt inca slabe ca urmare a federalismului si a sistemului de partide slab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xista mari diferente de veni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u exista o schimbare clara a culturii politic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stitutia Mexicana (1917)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H: 2, 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vaje social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 clasa / rasa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gional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istem prezidentia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istem electoral mix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00 SMD &amp; 300 PR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umarare separata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tat federa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stitutia Braziliei (1988)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H: 2,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vaje social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gional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 clasa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tnice / rasa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istem prezidentia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istem electoral proportiona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tat federa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egeri in Mexi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Vicente Fox in 2000: primul presedinte care nu este membru al PRI dupa 1929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legerile prezidentiale din 2006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elipe Calderon (PAN):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35.89%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ez Obrado (PRD):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35.31%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oberto Madrazo (PRI):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2.26%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legerile legislative din 2006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AN: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06 locuri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D: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60 locuri (alianta de 3 partide)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I: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21 locuri (alianta de 2 partide)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ltii: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13 locuri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I in Mexi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volutia Mexicana 191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I s-a format in 1929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umele initial: Partidul National Revolutionar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i-a schimbat numele in 1946 in Partidul Revolutionar Institutional (PRI)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I s-a format cu scopul de a realiza scopurile revolutiei mexican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I s-a afirmat ca si partid hegemonic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 ce este PRI un partid dominant?</a:t>
            </a:r>
            <a:br>
              <a:rPr sz="4000"/>
            </a:b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lientelis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zvoltarea unui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sistem de stat corporatis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tatul controleaza societatea civila/ grupurile interes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atronaj extins (s-a dezvoltat in special cu ajutorul veniturilor obtinute din petrol)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i-a apropiat elita industriala prin cooptarea in intreprinderile de st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i-a apropiat proprietarii de pamant prin reforme agricole (limitate) si subventii financiar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farsitul PR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Valul general de democratizare din anii ’80 a cuprins si Mexicul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etul petrolului a cazut in 198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Veniturile statului mexican au scazut semnificativ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gitimitatea statului a fost pusa in discutie atunci cand fondurile statului nu au fost suficiente pentru a sustine sistemul de patronaj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esedintele Ernesto Zedillo (1994) initiaza procesul de reform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fectele Reformelo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artidele de opozitie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e organizeaza si castiga alegerile local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cep sa combata mai virulent coruptia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astiga legitimitate ca urmare a faptului ca sunt invitate la consultari de catre Zedillo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ocietatea civila castiga incredere si oportunitati de afirmar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 ciuda unor neajunsuri NAFTA a fost benefica pentru Mexic – in special castiguri de legitimar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plicarea schimbarilo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 schimbare a culturii politice mexicane(?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cese de moderniza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chimbarea atitudinilor este inca greu de sesiza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apacitatea statului de a rezolva problemele tarii este relativ diminuat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reste puterea partidelor de opoziti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nducere personala (Zedillo, si altii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0T17:51:00Z</dcterms:created>
  <dc:creator>Paul Sum</dc:creator>
  <dc:description/>
  <dc:language>en-US</dc:language>
  <cp:lastModifiedBy>Cosmin Marian</cp:lastModifiedBy>
  <dcterms:modified xsi:type="dcterms:W3CDTF">2013-12-18T07:58:08Z</dcterms:modified>
  <cp:revision>60</cp:revision>
  <dc:subject/>
  <dc:title>Mexican Political Change</dc:title>
</cp:coreProperties>
</file>