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63FF-9CD2-4CED-8985-96FBEB64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886-586E-45F0-AFF1-7B21A68BAB7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5F5-DBC6-40E2-8F0C-46A38FA9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2C6-9FDF-4AF8-AC88-16A6C12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BD5-C468-409D-85D1-E36590A2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117-CCBA-4EAD-847E-BD85EB78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154-542B-422C-A829-061A115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9A1-3258-4C13-BCD6-F8B072D1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DE8-16E1-4457-A24C-258DC4B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12D-563D-401F-AC29-A46DEB85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E7C-8F5E-434C-80C2-A81893B0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AA5-A0F6-4E62-82DC-8A41242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607-AAE0-4FCE-858F-0246714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BD0-D56A-4A49-84B3-8920356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4C47-5CE0-48C1-830D-39665E373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PR (cu liste de parti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 masura ce MD creste rezultatele devin tot mai proportionale (raportul dintre voturi si locuri este mai clar pastra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e posibil sa existe un singur district la nivel national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rael: MD = 120; Olanda: MD = 15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electoral proportional - PR – tinde sa produca mai multe partid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gatorii percep ca exista oportunitate si pentru partidele mici de a castiga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sunt mai independente unele in raport cu alte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electorale Mixt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u: Bundestag-ul Germ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ecare alegator apartine la doua districte electorale care se suprapu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district este SMD: MD = 1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district este cu mai multi membrii MD &gt; 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ndestag-ul este impartit in doua parti egale 50/50, cate o parte pentru fiecare tip de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n 2002, Bundestag –ul are 598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inte de 2002 avea 656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“Overhang” maresc acest numar (se adauga la acest numar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electoral German “Mixt” pentru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egatorii primesc 2 buletine de v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 buletin contine candidatii pentru districtul SMD (MD = 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 buletin contine listele de partid (vot pe list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egatorii nu au control asupra suprapunerilor (intre cele 2 district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ormarea Voturilor in Locuri in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turile primite in districtele SMD/majoritare  sunt numarate prima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sunt alocate disctrictelor SMD prin regula majoritatii simple (plurality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oi toate voturile (SMD/plurality si PR-liste) sunt combinate si numa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didatii SMD sunt asociati partidului 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 PR distribuie locurile propor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castigate prin SMD sunt eliminate de la inceput de la distribuirea bazata pe sistemul P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ormarea Voturilor in Locuri in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ca un partid castiga mai multe locuri prin SMD decat ii revin prin distributie proportionala – PR, atunci acel partid isi pastreaza locurile suplimentare astfel castigate (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2: au fost 4 SPD si 1 CDU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02 un total de 603 locuri in Bundesta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5: au fost 9 SPD  si 6 CDU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05 un total de 614 locuri in Bundesta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Sistemel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e Mix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incurajeaza aparitia a 2 partide mari si anacron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incurajeaza partidele mici sa castige reprezentare (locur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mai mici se concentreaza asupra districtelor P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gatorii tind sa isi divizeze votu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mod obisnuit rezultatele alegerilor forteaza coalitii intre partide de stanga si de dreap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de locuri “overhang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ctrict PR = un land cu DM = 6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 locuri SMD si 30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X (un paritd mare si anacroni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tistiga 22 din cele 30 locuri SMD (42% din voturile acordate districtelor SM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binat cu voturi pe liste PR = 35% din votul to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 trebui sa primeasca 21 locuri din totalul de locuri (60) dar isi pastreaza cele 22 locuri SMD (si nu primeste nici un loc pe baza listelor P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u de Partid M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Y in acelasi Land ca si in exemplul anteri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stiga 3 din cele 30 locuri SMD cu 16% din votu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binat cu votul pe liste PR = 20% din votul to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 trebui sa primeasca in total 12 locu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dintre aceste locuri sunt obtinute pe baza voturilor pe lista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din Germania din 200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6 / 74 (7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4/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22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5 / 77 (9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6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/ 5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zii = 5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5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1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nt multe forme dar pot fi clasificate simplu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MD (Single Member District)/sisteme majorit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e PR (proportional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e mix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act asup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ui de partide: numar &amp; compet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ortionalitatea: transformarea voturilor in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  guvernamant uni-partid/ guverne de coaliti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lul reprezentarii (agentie vs. increder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D (Single Member District)/Sisteme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ctionarea sistemulu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gnitudinea Districtului  (DM) = 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 buletinul de vot numele candidatilor sunt listate alaturi de cele ale partidelo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Voturile sunt raportate la totalul obtinut de candida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didatul cu cele mai multe voturi castig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nde sa creeze o competitie intre doua partide, pe baza unor rationamente strategice ale alegatorilor si ale liderilor de parti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ivajele sociale pot duce la expectii de la aceasta situ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ultura politica poate duce la expectii de la aceasta situ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de Partide Politi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rtidul politic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o organizatie care urmareste sa isi plaseze reprezentanti in functii publice (de puter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Numarul de partid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: (20</a:t>
            </a:r>
            <a:r>
              <a:rPr b="1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4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-au inscris in cursa electorala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 (2010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partide au avut cel putin 0.1% din voturi (20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partide au castigat locuri in parlament (20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US (2008) Democratii au castigat 59 % din locurile in parlament cu 53% din totalul voturil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Numarul de partide efectiv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Numarul de partide care au impact efectiv/semnificativ asupra politicilor publ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 Marea Britanie, 2-3 (depinde de rezultatul alegerilor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Prezidentiale din 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olegiu Elector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ectorii = reprezentnati ai statel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buie sa produca o majoritate (o decizie luata de o majoritat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az contrar, decizia apartine Congres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ntia a fost de a produce un sistem de reprezentare bazat pe state si decis de cetateni, iar acest sistem sa fie controlat de Cong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majoritar cu doua tururi de scrut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gnitudinea Districtului (MD) = 1, dar daca un candidat nu are o majoritate in primul tur de scrutin, este organizat un al doilea t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3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re tendinta de produce aliante electorale in cadrul unul sistem multi-part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de partide din Franta a inceput sa se coalizeze in jurul  sistemului bazat pe doua tururi de scrut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icture 4" descr="2007electionmapr2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oportionale - P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cu lista de parti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 mai mare de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dele (fara numele candidatilor) sunt listate pe buletinul de vo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curile sunt distribuite proportional cu voturile primite de fiecare 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nt posibile mai multe formule (cele mai comune D’Honte si Har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ele tari utilizeaza districte stratificate astfel incat “restul de voturi” poate fi transferat la districtul de la nivelul superior (ex Ungari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 presupunem ca rezultatul alegerilor pentru un district este urmatoru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% of Vot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liber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46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5 (4.6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 (9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Democrat     34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 (3.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 (6.8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verd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16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 (1.6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(3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N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4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0 (0.4)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 (0.8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M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2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26:26Z</dcterms:created>
  <dc:creator>Paul Sum</dc:creator>
  <dc:description/>
  <dc:language>en-US</dc:language>
  <cp:lastModifiedBy>Cosmin Marian</cp:lastModifiedBy>
  <dcterms:modified xsi:type="dcterms:W3CDTF">2012-11-06T13:41:37Z</dcterms:modified>
  <cp:revision>65</cp:revision>
  <dc:subject/>
  <dc:title>Presidential v. Parliamentary Systems</dc:title>
</cp:coreProperties>
</file>