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402-AFAF-4EFD-BF4D-45EB1158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9F6-924D-4017-AD6E-A3342A00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55C-EBBD-42F9-B71B-ABDDF97A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E99-3750-440B-BC0A-DADC2721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399-F5BB-4F09-AC31-ED1E925C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C97-8753-4C8C-B12F-1C7BB5AC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615-0E67-472B-83DB-EF1FDDFA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8E6-113F-46BD-A232-D99B7F77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CDE-56B1-431B-8D16-88A9904E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5D3-F6E0-4012-935C-ABB46E22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644-992D-41FD-A6A7-8F5ADEF6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82C-E4AC-4A75-B282-A75B4FEB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B55E-69F6-469D-A92A-1B1D0B6D72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stitutii Statal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lori Poli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legerea varitiei intre tipurile de regim polit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anjamente Prezidenti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tele Uni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sedintele US (ales de Colegiile Electoral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e simultan seful statului si seful guvern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erile sunt separ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anjamente Semi-Prezidentiale (Executiv Dual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a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sedintele Frantei (ales prin vot direct de catre cetateni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imul Ministru (desemnat de Presedinte si ratificat de Parlamen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pararea puterilor depinde de rezultatele elector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erile Adminstratiei (Public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stanta dintre sefii administratiei (publice) si politicieni variaza de la o tar ala alta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esedintele US: numeste mai mult de 10,000 de functionari (6,500 direct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imul Ministru in Marea Britanie: numeste mai putin de 1000 de functionar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tabilitatea guvernului mareste puterea birocratie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ponia sub conducerea LDP (1950-93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rgentina sub dictatura (junta) militara (1966-73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imea Birocratiei ca indicator al Puter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 procent din forata de munca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nemarca si Suedia (putin peste 30%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K si Franta (aproximativ 20%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 si Germania (aproximativ 15%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ponia (aproximativ 6%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d devine Armata un actor activ si auton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ircumstant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titutii slabe care permit afirmarea ambitiilor person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viziuni sociale severe/adanci in societat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jloac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l activ al Armatei stipulat/institutionalizat prin Constitu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l activ bazat pe o cultura care sprijina acest rol (cultura traditional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mple: Turcia si Pakista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inirea unei Natiun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comunitate politica, imaginata ca fiind delimitata si suverana (Anderson 199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ile statului confera structura imaginatiilor popula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onente emotional/psihologice: trecut, prezent, viit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le Multinationale reprezinta Norm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ponia (99% Japonez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sia (79.8% Rus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lg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58% Flamanz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31% Walo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1% Altii/mix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snia-Herzegovin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48% Bosnieci/ Musulma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37% Sarbi/ Orthodocs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4% Croati/ Catoli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i ipoteze ale Conflictului Etn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u cat este mai mare omogenitate intre cetatenii unui stat cu atat e mai putin probabil sa apara un conflict etnic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flictul etnic este mai probabil sa apara in statele cu structuri/clivaje sociale polarizate (opuse celor transversale/“cross-cutting”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flictul etnic este mai probabil sa apara in democratiile noi decat in democratiile consolidate sau in regimurile nedemocrat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poteza lui Lijphart cu privire la Societatile Diviz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umptie: conflictul etnic poate fi depasit prin instaurarea unui regim democrat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egerile constitutionale sunt corelate cauzal cu nivelul de conflict in societatile divizat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andarile lui Lijpha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stemul Electoral (cum se transfera voturile in locuri in legislativ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comanda reprezentarea proportionala (list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rganizarea Executivului (Guvern) de catre Parla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ritati de guvernare locala (federalism sau zone speciale de autonomi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ructuri de diviziune/impartire a puterii inafara Guvernului si Parlament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lul Constitutiil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latia dintre stat si cetateni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fineste cetaten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epturi si libertati polit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latii de putere intre institutiile stat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ntru-perifer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cutiv/legislativ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dici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rocra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ma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lori politice si Procedura : Modelul Majorit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ile consolideaza puterea majoritat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cutiv putern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e partide polit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e restrictii impuse societatii civi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puncte de acces care permit participarea politic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atibil cu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livaje transversale/cross-cutting cleav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ele Parlamentare pot, in unele cazuri, promova valori majorit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i electorale care favorizeaza competitia bi-partinica (permit formarea in mod regulat a unei coalitii de guvernare majoritar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imul ministru este independent in numirile pe care le fa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ceduri dificile de vot de neincredere/cenzur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UK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zinta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1) si (2) si Germania prezinta (1) and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lori politice si Procedura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Modelul Consociat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ile construite/concepute pentru impartirea puter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cutiv divizat sau diminuat/red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imulente pentru existenta mai multor partid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e puncte de access care sa permita participarea politic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atibil cu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livaje polariz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ele Prezidentiale pot, in unele cazuri, promova valori consociation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ile electorale favorizeaza un sistem multi-parti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vederi speciale pentru partidele minoritare/mic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cutiv diviz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Bosnia-Herzegovin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prezinta toate cele 3 caracteristici,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lvetia doa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1) si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el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zidential-Parliament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mit fluctuatii intre cele 2 seturi de valori (majoritar si consociational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C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lamentul este format dintr-o majoritatea a partidului care il sprijina pe presedinte avem un regim mai aproape d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jorita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C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lamentul este format dintr-o majoritatea a partidului car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nu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il sprijina pe presedinte avem un regim mai aproape d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onsociation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c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 exista majoritate in parlament atunci procesele politice particulare vor determina in fiecare situatie concreta valorile care predomin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himbarea constitutiei este un indicator al schimbarii regimului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atunci cand relatiile fundamentale intre stat si societate sunt schimb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mplu: South Africa, 199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Nu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atunci cand schimbarile se limiteaza la relatiile intre institutiile statulu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mplu: Franta, 1958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dul de centralizare al puterii : state unitare si state feder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te unitare: guvern central (national); guvernul are autoritatea ultima (suprema) asupra unitatilor administrative loca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te federale: combina un guvern central relativ puternic cu putere/autoritate reala si autonoma acordata autoritatilor (guvernelor) loca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tele Unite: Stat Fede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Articolul 1, Sectiunea 9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 Limiteaza puterea congresulu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Articolul 4, Sectiunea 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 Recunoasterea puterii si autonomiei statelor in raport cu guvernul feder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Amendamentul 1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Puterile care nu sunt delegate catre Statele Unite (guvernul federal) prin Constitutie, si care nu sunt interzise prin Constitutie statelor, sunt rezervate statelor respective sau cetatenil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Amendamentul 1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 Limiteaza puterea statelor de a impune restrictii asupra drepturilor individuale garantate la nivel feder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zbekistan: Stat Unit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rticolul 15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ipuleaza “suprematia neconditionata a Constitutiei si a statului national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rticolul 78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lamentul poate aboli/suprima orice regiune la orice moment de tim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rticolul 10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uvernatorii regiunilor sunt numiti si demisi de catre Presedinte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stitutionalizarea Functiilor  Execu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ful statulu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principal o pozitie ceremonial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ele puteri (foarte) limi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rveste ca simbol al unitatii nation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ful guvernulu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incipala pozitie politica – stabileste agenda politic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deseori este seful armate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anjamente Executiv-Legislati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e parlamenta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e prezidentia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e prezidential-parlamentare/ semi-prezidentiale/ hybr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anjamente Parlament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rea Britani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gina Angliei (pozitie ereditara – nu este aleas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mul Ministru (Desemnat de Regina, Parlamentul  ratific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 exista o separare a puter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al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dinte (numit de Parlamen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mul Ministru (Desemnat de Presedinte, Parlamentul ratific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 exista o separare a puter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3:40:31Z</dcterms:created>
  <dc:creator>Paul Sum</dc:creator>
  <dc:description/>
  <dc:language>en-US</dc:language>
  <cp:lastModifiedBy>Cosmin Marian</cp:lastModifiedBy>
  <dcterms:modified xsi:type="dcterms:W3CDTF">2012-10-23T12:01:35Z</dcterms:modified>
  <cp:revision>66</cp:revision>
  <dc:subject/>
  <dc:title>State Institutions and Outcomes</dc:title>
</cp:coreProperties>
</file>