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3B03-3151-4E10-A645-21BB33857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E387-F311-4058-8403-0FA1E5E6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E41B-F911-4E88-BEEC-BDD1BF43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9609-3AA6-4035-816E-2BDE0CBAF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6078-3ED7-4DF4-ABA9-9C2AD085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2D24-EC44-43D7-89EA-3EE4DBA9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2540-ED36-4A16-9C4F-F1CD298F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7FD8-0CAB-4EC2-8F0E-4DC82FE4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4596-6130-405D-B23F-7AE341AB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D31A-64DC-4622-A51A-431DA5F9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3BB5-A191-493A-B085-612CDBF8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CBDC-AF6C-402A-9CED-18B2C358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6BC9-DD8F-45F4-928D-FA03DDCC05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79246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stitutii Statal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alori Polit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elegerea varitiei intre tipurile de regim politi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anjamente Prezidentia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tatele Uni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esedintele US (ales de Colegiile Electorale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ste simultan seful statului si seful guvernulu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uterile sunt separat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anjamente Semi-Prezidentiale (Executiv Dual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rant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esedintele Frantei (ales prin vot direct de catre cetateni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imul Ministru (desemnat de Presedinte si ratificat de Parlament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pararea puterilor depinde de rezultatele electora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terile Adminstratiei (Publice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stanta dintre sefii administratiei (publice) si politicieni variaza de la o tar ala alta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esedintele US: numeste mai mult de 10,000 de functionari (6,500 direct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imul Ministru in Marea Britanie: numeste mai putin de 1000 de functionar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stabilitatea guvernului mareste puterea birocratie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aponia sub conducerea LDP (1950-93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rgentina sub dictatura (junta) militara (1966-73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rimea Birocratiei ca indicator al Puteri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 procent din forata de munca …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anemarca si Suedia (putin peste 30%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K si Franta (aproximativ 20%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S si Germania (aproximativ 15%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ponia (aproximativ 6%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nd devine Armata un actor activ si autonom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ircumstante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stitutii slabe care permit afirmarea ambitiilor personal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viziuni sociale severe/adanci in societat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ijloace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l activ al Armatei stipulat/institutionalizat prin Constituti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l activ bazat pe o cultura care sprijina acest rol (cultura traditionala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xemple: Turcia si Pakista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finirea unei Natiun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 comunitate politica, imaginata ca fiind delimitata si suverana (Anderson 1991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ile statului confera structura imaginatiilor popula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mponente emotional/psihologice: trecut, prezent, viit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le Multinationale reprezinta Norm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ponia (99% Japonezi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usia (79.8% Rusi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elgi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58% Flamanz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31% Walon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11% Altii/mix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osnia-Herzegovin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48% Bosnieci/ Musulman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37% Sarbi/ Orthodocs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14% Croati/ Catolic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ei ipoteze ale Conflictului Etni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u cat este mai mare omogenitate intre cetatenii unui stat cu atat e mai putin probabil sa apara un conflict etnic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flictul etnic este mai probabil sa apara in statele cu structuri/clivaje sociale polarizate (opuse celor transversale/“cross-cutting”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flictul etnic este mai probabil sa apara in democratiile noi decat in democratiile consolidate sau in regimurile nedemocrati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poteza lui Lijphart cu privire la Societatile Diviz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sumptie: conflictul etnic poate fi depasit prin instaurarea unui regim democrati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egerile constitutionale sunt corelate cauzal cu nivelul de conflict in societatile divizate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comandarile lui Lijphar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stemul Electoral (cum se transfera voturile in locuri in legislativ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comanda reprezentarea proportionala (lista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rganizarea Executivului (Guvern) de catre Parlam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utoritati de guvernare locala (federalism sau zone speciale de autonomie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tructuri de diviziune/impartire a puterii inafara Guvernului si Parlamentulu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olul Constitutiilo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latia dintre stat si cetateni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fineste cetateni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epturi si libertati politic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latii de putere intre institutiile statulu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entru-periferi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ecutiv/legislativ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udicia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irocrati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rmat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alori politice si Procedura : Modelul Majorit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ile consolideaza puterea majoritati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xecutiv puternic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utine partide politi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utine restrictii impuse societatii civi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ltiple puncte de acces care permit participarea politic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mpatibil cu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clivaje transversale/cross-cutting cleavag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stemele Parlamentare pot, in unele cazuri, promova valori majorita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egi electorale care favorizeaza competitia bi-partinica (permit formarea in mod regulat a unei coalitii de guvernare majoritare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imul ministru este independent in numirile pe care le fa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ceduri dificile de vot de neincredere/cenzura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UK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ezinta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1) si (2) si Germania prezinta (1) and (3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alori politice si Procedura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Modelul Consociation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ile construite/concepute pentru impartirea puteri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xecutiv divizat sau diminuat/redu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timulente pentru existenta mai multor partide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utine puncte de access care sa permita participarea politic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mpatibil cu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clivaje polariza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stemele Prezidentiale pot, in unele cazuri, promova valori consociationa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egile electorale favorizeaza un sistem multi-parti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evederi speciale pentru partidele minoritare/mic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xecutiv diviza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Bosnia-Herzegovin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prezinta toate cele 3 caracteristici, 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Elvetia doar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1) si (3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stemel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ezidential-Parliamenta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ermit fluctuatii intre cele 2 seturi de valori (majoritar si consociationale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ACA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lamentul este format dintr-o majoritatea a partidului care il sprijina pe presedinte avem un regim mai aproape d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ajoritar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ACA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lamentul este format dintr-o majoritatea a partidului care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nu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il sprijina pe presedinte avem un regim mai aproape de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consociationa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aca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u exista majoritate in parlament atunci procesele politice particulare vor determina in fiecare situatie concreta valorile care predomin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himbarea constitutiei este un indicator al schimbarii regimului?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Da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: atunci cand relatiile fundamentale intre stat si societate sunt schimba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xemplu: South Africa, 1996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Nu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: atunci cand schimbarile se limiteaza la relatiile intre institutiile statulu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xemplu: Franta, 1958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radul de centralizare al puterii : state unitare si state federa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tate unitare: guvern central (national); guvernul are autoritatea ultima (suprema) asupra unitatilor administrative loca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tate federale: combina un guvern central relativ puternic cu putere/autoritate reala si autonoma acordata autoritatilor (guvernelor) loca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atele Unite: Stat Feder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Articolul 1, Sectiunea 9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: Limiteaza puterea congresulu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Articolul 4, Sectiunea 1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: Recunoasterea puterii si autonomiei statelor in raport cu guvernul federa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Amendamentul 10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Puterile care nu sunt delegate catre Statele Unite (guvernul federal) prin Constitutie, si care nu sunt interzise prin Constitutie statelor, sunt rezervate statelor respective sau cetatenilor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Amendamentul 1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: Limiteaza puterea statelor de a impune restrictii asupra drepturilor individuale garantate la nivel federa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zbekistan: Stat Unit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Articolul 15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ipuleaza “suprematia neconditionata a Constitutiei si a statului national”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Articolul 78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lamentul poate aboli/suprima orice regiune la orice moment de timp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Articolul 10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uvernatorii regiunilor sunt numiti si demisi de catre Presedinte”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stitutionalizarea Functiilor  Executiv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ful statulu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 principal o pozitie ceremonial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nele puteri (foarte) limitat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rveste ca simbol al unitatii nationa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ful guvernulu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incipala pozitie politica – stabileste agenda politic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deseori este seful armate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anjamente Executiv-Legislati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steme parlamenta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steme prezidentia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steme prezidential-parlamentare/ semi-prezidentiale/ hybrid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anjamente Parlamenta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rea Britanie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gina Angliei (pozitie ereditara – nu este aleasa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imul Ministru (Desemnat de Regina, Parlamentul  ratifica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u exista o separare a puterilo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tal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sedinte (numit de Parlament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imul Ministru (Desemnat de Presedinte, Parlamentul ratifica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u exista o separare a puterilo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23:40:31Z</dcterms:created>
  <dc:creator>Paul Sum</dc:creator>
  <dc:description/>
  <dc:language>en-US</dc:language>
  <cp:lastModifiedBy>Cosmin Marian</cp:lastModifiedBy>
  <dcterms:modified xsi:type="dcterms:W3CDTF">2012-10-23T12:01:35Z</dcterms:modified>
  <cp:revision>66</cp:revision>
  <dc:subject/>
  <dc:title>State Institutions and Outcomes</dc:title>
</cp:coreProperties>
</file>