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66B-C61F-45A6-B490-0681D4F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A0B-2CE6-49A7-A5C0-265772B0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C29-2FFE-426F-BAFA-ACC6839D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22B-33CB-4F6B-AAA5-BF55E4BD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C2E-E3D9-4BCF-A533-48B1B3A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311-BDA3-43CD-8D09-F943D75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818-92A8-4120-8625-E7403517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573-2CBF-4D09-8971-FD059CB1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DAE-FD6A-49DA-838F-81D2036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2E9-9AA4-4C87-80BE-4547662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7CE-538F-47DE-87E2-259F455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C3E-CD7B-4B7E-8E2F-5550B80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06D7-1368-4FEF-97AE-7BCDDC8037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de grupuri de interes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icularea Interese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ratie Germania si Japo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bership si Societate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nte din populatie care sunt activisti O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on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Vest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Est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tele Un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7.9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arul mediu de ONG-uri la care apartine un cetatean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onia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0.9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Vest 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.1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Est 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.4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tele Unite 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.59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ul statului in Societatea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ibutia Statului, procent din fondurile unui O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3.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de Es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3.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de Ves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8.7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tele Unite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.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aratie Germania si Japo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bele sunt cazuri de succes ale democratizarii dupa perioade de reginuri totalit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rrington Moore (1966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ructura de clivaje sociale diferit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divizata regional, religia si clasa sociala joaca un rol istor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 este relativ omogena cu tendinte colectivist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i constitutionale : diferite, cu influente exter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rmania este stat federal, Japonia este stat unit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bele au sisteme parlament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are u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vot de incredere constructi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 are ca si sef al statului un Impar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2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le electorale configureaza sistemul de part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are un sistem mix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 are un sistem mixt dupa 199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alegerilor 2005 German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U =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0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6 / 74 (7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SU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6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4/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22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5 / 77 (9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/ 6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P =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4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/ 5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= 5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/ 5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locuri in Bundestag = 61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alegerilor 2009 German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U =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4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73 / 21 (12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SU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5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5/ 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3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/ 9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6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4 / 82 (11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P =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6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6 / 6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8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/ 67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locuri in Bundestag = 62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ul de partide din Japo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47-55: Fragmentat sau “haotic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55-94: Partid hegemonic (LDP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94-prezent: Sistem competitiv de part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a Politica si Reprez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Japonia, relatiile patron-client sunt dominan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nivelul relatiei cetatean-reprezenta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infiltrat majoritatea partidelor polit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tatenii si membrii de partid se asteapta sa aiba relatii personale cu lider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ferintele ideologice nu sunt puternice in societate si sunt doar putin prezente la nivelul partidelor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 ce a dominat LD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DP si-a insusit modelul de relatii patron-cli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zultatele politicilor publice promovate de LDP sugereaza existenta la nivelul societatii a unui filosofii orientata usor catre centru-dreapt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ganizarea partidului a permis multiple facti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actiunile sunt legate intre ele de loialitatea (bazata pe obligatii)  fata de lide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DP a devenit in timp o masina de vot foarte eficien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 ce a dominat LD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electoral (1947-1994) a promovat acest tip de partid polit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ingle Non-Transferable Vot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D = 2-6 in functie de populatia distric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didatii apar cu numele pe buletinul de vo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egatorii au un vot pe care il pot da unui singur candidat de pe o lista de candid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etate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etate civil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toate grupurile organizate, pe baza de voluntariat, independente de stat, si care au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tential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 face mobilizare politica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de intere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 si organizatii profesion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ganizatii care ofera servicii si ajutor soci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religioa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uburi soci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ilar partidelor si sistemului de partide, societatea civila se bazeaza pe mecanisme de piata pentru a reprezenta cetaten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 ce a dominat LD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zultatele produse de SNT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aza si accentueaza conflicte intre candidatii aceluiasi parti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muleaza descentralizarea campaniilor electorale si incurajeaza centrarea acestora asupra candidat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aza puternice bariere pentru partidele mici, intrucat LDP poate incorpora sau produce candidati similari acestor partid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 utilizat japonezii acest sistem pentru a scurt-circuita o ordine constitutionala impusa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ce a decazut LD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iza economica din anii ’90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italismul ghidat de stat a insemnat ca guvernele sunt considerate responsabile de ceea ce se intampla in societate/econom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oaterea in evidenta a unui fenomen de coruptie generaliz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imic nou dar 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binat cu criza economica, reprezentarea bazata pe loialitate a fost afect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gerile din 199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uzatiile de coruptie au dus la aparitia multor voci care cereau reforme elector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rii de partid frustrati au lansat atacuri publice impotriva coleg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mod cert actorii cunosteau efectele sistemelor elector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Iunie 1993, defectori din JSP si LDP faciliteaza un vot de neincred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gerile din 199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alegerile din 1993 LDP castiga o pluralitate (dar nu majoritate absoluta) de votur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 aveau nevoie de 33 locuri pentru o majori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ate partidele au refuzat o coalitie cu LD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ectorii din LDP au permis formarea unei coalitii de partide care au format guvernu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electoral este schimbat cu unul mixt in 199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Electoral Mixt din Japonia (cel din prezen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mera Reprezentantilor (camera inferioar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0 locuri SMD/plurali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0 locuri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 sunt locuri “overhang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mera Consilierilor (camera superior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6 locuri SNT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6 locuri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ntru jumatate dintre locuri sunt organizate alegeri odata la 3 an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actul schimbarilor electo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ele mari sun</a:t>
            </a:r>
            <a:r>
              <a:rPr b="0" lang="ro-RO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vantaj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fel ca si in Germania, partidele mari se concentreaza pentru a castiga locuri SMD/pluralitate iar partidele mici asupra locurilor P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ista mai multa proportionalitate in sistemul politic (pentru mome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ormarea LD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nichiro Koizumi (LDP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les PM in 2001—A promis sa distruga LD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upe traditia relatiilor patron-client in LD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moveaza coerenta ideologica a partidului si structureaza conducerea acestu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DP  ca si partid de dreapta – pune accetul asupra unor politici fiscale conservatoare si a unei politici externe agresiv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ele din cadrul partidului au continuat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ruptie si conducere slab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zultatul: infrangere electorala in 2009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 electorale 2005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era Reprezentanti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artid    Vot %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M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o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8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19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9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PJ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1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1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me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8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3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1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i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1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2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 electorale 2009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era Reprezentanti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arti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ot %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M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o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J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5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2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6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6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1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me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1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2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4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i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1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2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lul Grupurilor de Interese intr-un regim Democr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ticuleaza interese/ Advocac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n in evidenta care este miza unor problem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emneaza reprezentan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termina optini cu privire la politicile publice (sau absenta optiunilor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bilizeaza cetatenii sa participe la viata publica / politic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urnizeaza informatii pentru cei care elaboreaza politici publ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eaza “capital social 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truiesc canale de reciprocitate si increde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eaza resurse pentru cetateni: incredere proprie si abilita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isteme Pluralis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 multe grupuri competitioneaza in jurul unei proble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ship-ul este volunt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 organizationala destul de superficial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se adreseaza institutiile statului dar numai rar devin parte a acestor institut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U.S., U.K., Jap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rporatism Democra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tii mari, umbrela, care domina discutia /dezbaterea cu privire la o problema (de obicei doua mari grupuri in jurul unei problem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iune mare pentru ca indivizii sa devina membr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rea este centralizata si ierarh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penetreaza in structura institutiilor stat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Germania, Norvegia, Sued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rporatism Controlat (de Sta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te un singur grup pentru fiecare arie de politici publice  — supravegheat de guver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embership-ul este obligatoriu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arte centralizat si ierarhic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le sunt controlate de sta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desea utilizate pentru implementarea unor politic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desea consultate in procesul de elaborare a politicilor publ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mple: China, Cuba, Russ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erite Sisteme de Gruprui de Interese si Democrat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oric sistemele de grupuri de interese au aparut  in interactiune cu structura de clivaje soci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tinerea Ipotezei Inghetarii Clivajelor (Freezing Hypothesis) (Rokkan 196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oria puterii clasei muncitoare (Stephens 1986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statul este unitar sau nu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grupurile se alinieaza partidelor politice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-a schimbat cultura politica in Germania si Japon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dex al Sprijinului pentru Democrat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rocent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950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972   1979   199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rmani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9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-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9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poni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3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-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6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9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sa: Inglehart 1984 &amp; Ingelhart 200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redere in Japonia, Germania si U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in procent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apan   WGE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GE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US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dere soc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8.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45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5.8     35.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ficient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19.8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7.7     28.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dere inst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39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9.5     33.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rsa date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an, WVS 1995; WGE &amp; EGE, CID 200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S, NES 20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3:28:26Z</dcterms:created>
  <dc:creator>Paul Sum</dc:creator>
  <dc:description/>
  <dc:language>en-US</dc:language>
  <cp:lastModifiedBy>sp</cp:lastModifiedBy>
  <dcterms:modified xsi:type="dcterms:W3CDTF">2013-11-27T09:19:32Z</dcterms:modified>
  <cp:revision>88</cp:revision>
  <dc:subject/>
  <dc:title>Citizen-Party Linkages: Aggregating Interests</dc:title>
</cp:coreProperties>
</file>