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18FF-BC58-4063-AD52-1BFC1710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5912-0D6B-4F8F-AAFD-69C21BDA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14A-FDF5-496C-A450-B0CEE7E8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851-18F7-4479-AE44-AFFB019E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7A2-E6F9-420C-A26A-8AE2D517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612-45D4-4507-B6E9-30F9F17F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753-647C-453F-A5A8-0161A4C2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C9C-2DFA-4FA8-8D82-14CD5B86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D4C-8F47-49F9-813D-DB0116D8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5E5-DB5F-4BFC-8526-A6D95857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6B5-1BF3-4F56-A9AA-8AD99B0C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5A9-2560-4FE1-BD39-DC191D4F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44FE-A4DF-45E0-B038-FDB7961AEA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e de grupuri de interes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ticularea Interesel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aratie Germania si Japo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mbership si Societate Civi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cente din populatie care sunt activisti O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ponia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6.3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rmania de Vest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6.8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rmania de Est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2.4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atele Unite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37.9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marul mediu de ONG-uri la care apartine un cetatean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ponia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0.92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rmania de Vest 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.12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rmania de Est 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.44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atele Unite 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3.59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lul statului in Societatea Civi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tributia Statului, procent din fondurile unui O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aponia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3.8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rmania de Est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3.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rmania de Vest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8.7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atele Unite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8.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aratie Germania si Japon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mbele sunt cazuri de succes ale democratizarii dupa perioade de reginuri totalita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arrington Moore (1966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ructura de clivaje sociale diferita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rmania divizata regional, religia si clasa sociala joaca un rol istori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aponia este relativ omogena cu tendinte colectivist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ucturi constitutionale : diferite, cu influente exter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rmania este stat federal, Japonia este stat unit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mbele au sisteme parlamenta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rmania are u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vot de incredere constructiv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aponia are ca si sef al statului un Impar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spcBef>
                <a:spcPts val="2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ele electorale configureaza sistemul de part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rmania are un sistem mix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aponia are un sistem mixt dupa 199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zultatele alegerilor 2005 German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U =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80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06 / 74 (7 overhan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SU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6 locuri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4/ 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DP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22 locuri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45 / 77 (9 overhan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DP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1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 / 6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P =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4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 / 5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een = 51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 / 5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tal locuri in Bundestag = 61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zultatele alegerilor 2009 German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DU =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94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73 / 21 (12 overhan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SU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5 locuri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5/ 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DP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3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 / 9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DP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46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4 / 82 (11 overhang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P =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6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6 / 6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een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8 locuri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 / 67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tal locuri in Bundestag = 62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stemul de partide din Japon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47-55: Fragmentat sau “haotic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55-94: Partid hegemonic (LDP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94-prezent: Sistem competitiv de part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ltura Politica si Reprezent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Japonia, relatiile patron-client sunt dominan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 nivelul relatiei cetatean-reprezenta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infiltrat majoritatea partidelor polit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tatenii si membrii de partid se asteapta sa aiba relatii personale cu lider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ferintele ideologice nu sunt puternice in societate si sunt doar putin prezente la nivelul partidelor polit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 ce a dominat LDP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DP si-a insusit modelul de relatii patron-cli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zultatele politicilor publice promovate de LDP sugereaza existenta la nivelul societatii a unui filosofii orientata usor catre centru-dreapta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rganizarea partidului a permis multiple factiun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actiunile sunt legate intre ele de loialitatea (bazata pe obligatii)  fata de lider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DP a devenit in timp o masina de vot foarte eficien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 ce a dominat LDP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ul electoral (1947-1994) a promovat acest tip de partid polit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ingle Non-Transferable Vot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D = 2-6 in functie de populatia districtulu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ndidatii apar cu numele pe buletinul de vo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egatorii au un vot pe care il pot da unui singur candidat de pe o lista de candida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etate Civi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cietate civil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 toate grupurile organizate, pe baza de voluntariat, independente de stat, si care au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otential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 face mobilizare politica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rupuri de interes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ndicate si organizatii profesiona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rganizatii care ofera servicii si ajutor socia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rupuri religioas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uburi socia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milar partidelor si sistemului de partide, societatea civila se bazeaza pe mecanisme de piata pentru a reprezenta cetaten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 ce a dominat LDP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Rezultatele produse de SNTV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reaza si accentueaza conflicte intre candidatii aceluiasi parti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imuleaza descentralizarea campaniilor electorale si incurajeaza centrarea acestora asupra candidati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reaza puternice bariere pentru partidele mici, intrucat LDP poate incorpora sau produce candidati similari acestor partid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 utilizat japonezii acest sistem pentru a scurt-circuita o ordine constitutionala impusa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ce a decazut LD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iza economica din anii ’90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pitalismul ghidat de stat a insemnat ca guvernele sunt considerate responsabile de ceea ce se intampla in societate/econom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oaterea in evidenta a unui fenomen de coruptie generaliz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imic nou dar …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mbinat cu criza economica, reprezentarea bazata pe loialitate a fost afecta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egerile din 199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cuzatiile de coruptie au dus la aparitia multor voci care cereau reforme elector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rii de partid frustrati au lansat atacuri publice impotriva colegil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 mod cert actorii cunosteau efectele sistemelor electora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Iunie 1993, defectori din JSP si LDP faciliteaza un vot de neincrede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egerile din 199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 alegerile din 1993 LDP castiga o pluralitate (dar nu majoritate absoluta) de voturi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i aveau nevoie de 33 locuri pentru o majorit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ate partidele au refuzat o coalitie cu LD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fectorii din LDP au permis formarea unei coalitii de partide care au format guvernu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mul electoral este schimbat cu unul mixt in 1994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ul Electoral Mixt din Japonia (cel din prezent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mera Reprezentantilor (camera inferioara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00 locuri SMD/pluralit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80 locuri P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u sunt locuri “overhang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mera Consilierilor (camera superiora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46 locuri SNTV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6 locuri P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ntru jumatate dintre locuri sunt organizate alegeri odata la 3 an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mpactul schimbarilor elector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tidele mari sun</a:t>
            </a:r>
            <a:r>
              <a:rPr b="0" lang="ro-RO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vantaj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 fel ca si in Germania, partidele mari se concentreaza pentru a castiga locuri SMD/pluralitate iar partidele mici asupra locurilor P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ista mai multa proportionalitate in sistemul politic (pentru momen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ormarea LD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unichiro Koizumi (LDP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les PM in 2001—A promis sa distruga LD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upe traditia relatiilor patron-client in LD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moveaza coerenta ideologica a partidului si structureaza conducerea acestu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DP  ca si partid de dreapta – pune accetul asupra unor politici fiscale conservatoare si a unei politici externe agresiv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ele din cadrul partidului au continuat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ruptie si conducere slab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zultatul: infrangere electorala in 2009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zultate electorale 2005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mera Reprezentantil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Partid    Vot %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MD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Tot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DP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8.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77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19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9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PJ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1.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5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1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ome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3.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8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3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DP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5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6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1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ti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2.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1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2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zultate electorale 2009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mera Reprezentantil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Partid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ot %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MD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Tot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JP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5.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7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2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08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DP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6.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6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1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ome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1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2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DP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4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ti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2.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1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2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lul Grupurilor de Interese intr-un regim Democrat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rticuleaza interese/ Advocac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n in evidenta care este miza unor problem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emneaza reprezentant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termina optini cu privire la politicile publice (sau absenta optiunilor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bilizeaza cetatenii sa participe la viata publica / politic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urnizeaza informatii pentru cei care elaboreaza politici publi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eaza “capital social ”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struiesc canale de reciprocitate si increde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eaza resurse pentru cetateni: incredere proprie si abilitat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ificarea Sistemelor de Grupuri de Intere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isteme Pluralis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 multe grupuri competitioneaza in jurul unei problem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ship-ul este volunta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uctura organizationala destul de superficiala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upurile se adreseaza institutiile statului dar numai rar devin parte a acestor institut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emple: U.S., U.K., Japa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ificarea Sistemelor de Grupuri de Intere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rporatism Democratic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rganizatii mari, umbrela, care domina discutia /dezbaterea cu privire la o problema (de obicei doua mari grupuri in jurul unei problem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iune mare pentru ca indivizii sa devina membr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rganizarea este centralizata si ierarhic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upurile penetreaza in structura institutiilor statulu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emple: Germania, Norvegia, Sued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asificarea Sistemelor de Grupuri de Intere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rporatism Controlat (de Stat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te un singur grup pentru fiecare arie de politici publice  — supravegheat de guver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embership-ul este obligatoriu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arte centralizat si ierarhic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rupurile sunt controlate de sta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Adesea utilizate pentru implementarea unor politici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Adesea consultate in procesul de elaborare a politicilor public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emple: China, Cuba, Russ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ferite Sisteme de Gruprui de Interese si Democrat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toric sistemele de grupuri de interese au aparut  in interactiune cu structura de clivaje socia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xtinerea Ipotezei Inghetarii Clivajelor (Freezing Hypothesis) (Rokkan 1967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oria puterii clasei muncitoare (Stephens 1986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sura in care statul este unitar sau nu are importanta in formarea sistemului de grupuri de intere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sura in care grupurile se alinieaza partidelor politice are importanta in formarea sistemului de grupuri de intere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-a schimbat cultura politica in Germania si Japoni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dex al Sprijinului pentru Democrati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Procent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1950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1972   1979   199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rmani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5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9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-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9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aponia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3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-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6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9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sa: Inglehart 1984 &amp; Ingelhart 2004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redere in Japonia, Germania si U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in procent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Japan   WGE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GE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  US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redere soc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8.6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45.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5.8     35.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ficienta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7.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19.8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7.7     28.4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redere inst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6.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39.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9.5     33.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rsa date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pan, WVS 1995; WGE &amp; EGE, CID 2001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US, NES 200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3:28:26Z</dcterms:created>
  <dc:creator>Paul Sum</dc:creator>
  <dc:description/>
  <dc:language>en-US</dc:language>
  <cp:lastModifiedBy>sp</cp:lastModifiedBy>
  <dcterms:modified xsi:type="dcterms:W3CDTF">2013-11-27T09:19:32Z</dcterms:modified>
  <cp:revision>88</cp:revision>
  <dc:subject/>
  <dc:title>Citizen-Party Linkages: Aggregating Interests</dc:title>
</cp:coreProperties>
</file>