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7.gif" ContentType="image/gif"/>
  <Override PartName="/ppt/media/Elvis%20ificandream.wav" ContentType="audio/x-wav"/>
  <Override PartName="/ppt/media/image6.jpeg" ContentType="image/jpeg"/>
  <Override PartName="/ppt/media/image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63A-CB09-412E-9E8D-4E2645EA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F00-BC70-4F92-AE1F-8B2D029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B6F-5B4F-4304-B1D7-11677639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B64-283D-4F0C-911D-450A2A2A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1D3-6058-4EBD-8666-95FE919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27A-803A-4239-AB4C-3B61A67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492-4996-43F4-83B6-957162F5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727-6937-42E9-BCC8-59BE4ECE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107-9370-4714-BFD7-7A861E2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A1C-B95D-4A09-A5E2-F5F6DB1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281-B0E6-46EF-9E23-A2E38FB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2F3-44FC-4A64-AA47-B8D7382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C79B-5D69-4473-BB83-17B830CE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vis%20ificand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owerpoints.sexlog.nl/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chinesepowerpoints.sexlog.nl/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ppsworld.sexlog.nl/" TargetMode="External"/><Relationship Id="rId7" Type="http://schemas.openxmlformats.org/officeDocument/2006/relationships/image" Target="../media/image17.gif"/><Relationship Id="rId8" Type="http://schemas.openxmlformats.org/officeDocument/2006/relationships/hyperlink" Target="http://x-sky.skynetblogs.be/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www.fotoric.be/" TargetMode="External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421000"/>
            <a:ext cx="655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6313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onton ICG"/>
              </a:rPr>
              <a:t>Yumi Lee ...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6313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Wonton ICG"/>
              <a:ea typeface="Wonton ICG"/>
            </a:endParaRPr>
          </a:p>
        </p:txBody>
      </p:sp>
    </p:spTree>
  </p:cSld>
  <p:transition spd="slow" advTm="7000">
    <p:random/>
    <p:sndAc>
      <p:stSnd>
        <p:snd r:embed="rId2" name="Elvis%20ifican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92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28920" y="1343160"/>
            <a:ext cx="4286160" cy="41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333360"/>
            <a:ext cx="538164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1628640"/>
            <a:ext cx="5400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2924280"/>
            <a:ext cx="5400720" cy="93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8000" y="4221000"/>
            <a:ext cx="5400720" cy="10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5589720"/>
            <a:ext cx="540072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67160" y="480960"/>
            <a:ext cx="4009680" cy="589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62120" y="49536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62120" y="423720"/>
            <a:ext cx="4019760" cy="601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62120" y="485640"/>
            <a:ext cx="40197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396072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1:47:30Z</dcterms:created>
  <dc:creator>Rudi</dc:creator>
  <dc:description/>
  <dc:language>en-US</dc:language>
  <cp:lastModifiedBy>Rudi</cp:lastModifiedBy>
  <dcterms:modified xsi:type="dcterms:W3CDTF">2006-09-17T12:04:15Z</dcterms:modified>
  <cp:revision>2</cp:revision>
  <dc:subject/>
  <dc:title>Dia 1</dc:title>
</cp:coreProperties>
</file>