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7.gif" ContentType="image/gif"/>
  <Override PartName="/ppt/media/Elvis%20ificandream.wav" ContentType="audio/x-wav"/>
  <Override PartName="/ppt/media/image6.jpeg" ContentType="image/jpeg"/>
  <Override PartName="/ppt/media/image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C79-C363-4AF2-9118-E50D7596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B3C-292D-4D41-BA55-54CE383A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65C-347B-4AB0-9565-370F3CC7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5A5-34A4-46D4-B6EE-2D6EE60D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B96-E364-48C7-A3B3-43843C99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CDF-3CA1-44E8-8203-C1BE363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B99-032A-4C0F-B66A-45DFBB6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A91-FBAD-4F48-A534-7A4DECF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477-A37F-4FCC-A200-965D62FF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3E3-E605-45B2-B475-315BD59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D48-FA67-4BBC-AF14-45D03F2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57F-CDE5-47B5-8E97-A63CF7F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C21-3F98-4C59-8D09-A611538B3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vis%20ificandream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hyperlink" Target="http://powerpoints.sexlog.nl/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chinesepowerpoints.sexlog.nl/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ppsworld.sexlog.nl/" TargetMode="External"/><Relationship Id="rId7" Type="http://schemas.openxmlformats.org/officeDocument/2006/relationships/image" Target="../media/image17.gif"/><Relationship Id="rId8" Type="http://schemas.openxmlformats.org/officeDocument/2006/relationships/hyperlink" Target="http://x-sky.skynetblogs.be/" TargetMode="External"/><Relationship Id="rId9" Type="http://schemas.openxmlformats.org/officeDocument/2006/relationships/image" Target="../media/image18.jpeg"/><Relationship Id="rId10" Type="http://schemas.openxmlformats.org/officeDocument/2006/relationships/hyperlink" Target="http://www.fotoric.be/" TargetMode="External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421000"/>
            <a:ext cx="65516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6313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Wonton ICG"/>
              </a:rPr>
              <a:t>Yumi Lee ...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6313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Wonton ICG"/>
              <a:ea typeface="Wonton ICG"/>
            </a:endParaRPr>
          </a:p>
        </p:txBody>
      </p:sp>
    </p:spTree>
  </p:cSld>
  <p:transition spd="slow" advTm="7000">
    <p:random/>
    <p:sndAc>
      <p:stSnd>
        <p:snd r:embed="rId2" name="Elvis%20ificandream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39272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28920" y="1343160"/>
            <a:ext cx="4286160" cy="4171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2592360" cy="792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333360"/>
            <a:ext cx="5381640" cy="91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8000" y="1628640"/>
            <a:ext cx="54007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08000" y="2924280"/>
            <a:ext cx="5400720" cy="93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8000" y="4221000"/>
            <a:ext cx="5400720" cy="1008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8000" y="5589720"/>
            <a:ext cx="5400720" cy="100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67160" y="480960"/>
            <a:ext cx="4009680" cy="5896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62120" y="49536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62120" y="423720"/>
            <a:ext cx="4019760" cy="601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62120" y="485640"/>
            <a:ext cx="401976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84360" y="54936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62120" y="419040"/>
            <a:ext cx="4019760" cy="601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27280" y="476280"/>
            <a:ext cx="396072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1:47:30Z</dcterms:created>
  <dc:creator>Rudi</dc:creator>
  <dc:description/>
  <dc:language>en-US</dc:language>
  <cp:lastModifiedBy>Rudi</cp:lastModifiedBy>
  <dcterms:modified xsi:type="dcterms:W3CDTF">2006-09-17T12:04:15Z</dcterms:modified>
  <cp:revision>2</cp:revision>
  <dc:subject/>
  <dc:title>Dia 1</dc:title>
</cp:coreProperties>
</file>