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504-E6EC-45C2-ADAF-919E5F5D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262-CD35-477E-9147-9E866BC1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B9E-5C17-4AB2-B9F0-55F636C4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153-4BDA-4CF1-BCB9-F7A90D69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EEA-9ED4-4D41-B587-8F5B4B35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FBF0-8AFD-41F3-A850-C112D621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BD8F-9896-4B18-8040-9D7DC5AD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444-8CF5-4CEF-A781-F891D4CC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F03-03F8-4AAF-A165-5DC4A554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35F-CFF9-4A14-8DC9-69C4D5C7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829-5A26-405F-AA58-21B6806D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C4A-91A9-4CEA-A9B5-4BC8762B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5EC5-C345-46A4-ABBA-7AC80EF3D2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0:35:43Z</dcterms:created>
  <dc:creator>Ge -- http://groups.yahoo.com/group/adultPPSfiles/</dc:creator>
  <dc:description/>
  <dc:language>en-US</dc:language>
  <cp:lastModifiedBy>Administrador</cp:lastModifiedBy>
  <dcterms:modified xsi:type="dcterms:W3CDTF">2007-08-18T14:54:56Z</dcterms:modified>
  <cp:revision>8</cp:revision>
  <dc:subject/>
  <dc:title>Dia 1</dc:title>
</cp:coreProperties>
</file>