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4EA-9DDE-43FF-9667-4839CBB6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DFD-D5AD-4E2B-A63B-A5534B5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7D0-9CF2-4BD4-A170-F141958C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476-929A-40E1-AACE-37F71C14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43A-7838-4023-893C-05EAF446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032-9EFF-46FC-A1A9-CCA0BEFE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C84-BF58-4482-A7BB-14E6A7E5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1B7-EB5E-46F8-9946-7D9F1EB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E71-035E-4092-B71C-EE43703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D0-B76B-4B2B-BEBF-37FADEC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F41-AF7B-4639-87F3-6D972C2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27A-D4AA-4EC1-935C-AA26056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C75-1EA3-4A18-9639-85315E58DA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35:43Z</dcterms:created>
  <dc:creator>Ge -- http://groups.yahoo.com/group/adultPPSfiles/</dc:creator>
  <dc:description/>
  <dc:language>en-US</dc:language>
  <cp:lastModifiedBy>Administrador</cp:lastModifiedBy>
  <dcterms:modified xsi:type="dcterms:W3CDTF">2007-08-18T14:54:56Z</dcterms:modified>
  <cp:revision>8</cp:revision>
  <dc:subject/>
  <dc:title>Dia 1</dc:title>
</cp:coreProperties>
</file>