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C2D-2308-4E60-8554-971F89C8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B8D-2E26-4019-BE8B-D7BE999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888-C1CF-41CF-848C-FB3BA67A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79B-0F01-402C-9CFB-CEFD22C6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A78-ED50-4AA2-B9DE-7B0A4DC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08E-61EB-4F9C-A83F-010AE69F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D67-570E-4FEE-9F0A-8BC3E25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82C-24D6-4797-BDD4-8F94F15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7B1-23CD-409F-9C07-63BA78C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AE5-F44B-4ED7-83BB-47DA6C1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CDC-4977-479E-8BDA-F661F7F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C04-457E-49FF-A1D1-617E990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AA16-03A4-4C7A-8797-8FF4AFE0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2440"/>
            <a:ext cx="9144000" cy="610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3680" y="0"/>
            <a:ext cx="4614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57560" y="0"/>
            <a:ext cx="4628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680"/>
            <a:ext cx="9144000" cy="62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85920" y="0"/>
            <a:ext cx="4772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02:21:58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34Z</dcterms:modified>
  <cp:revision>15</cp:revision>
  <dc:subject/>
  <dc:title>(N) ROSÂNGELA</dc:title>
</cp:coreProperties>
</file>