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F6D-3171-498F-B47E-543772E2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0E6-364C-4DDE-8426-ED540AE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43A-683D-414D-9275-F38FCC31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634-71EA-482E-92BC-0BC01E00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855-2CCE-4313-9DF9-2B4AE8D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386-D50F-45C2-9F36-A67AD28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789-0F05-4362-B4BB-6D6905D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CC4-AE40-4744-A000-28D95E4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81B-2B39-4237-89BA-C249B34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AFD-DBD9-41DC-B808-822EDD9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BA6-C77F-40DD-9EBB-C928FE42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9FF-CC9D-4EF9-BFA1-2140518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6D7-80BF-455D-834A-05B44399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564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2440"/>
            <a:ext cx="9144000" cy="610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3680" y="0"/>
            <a:ext cx="4614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1600" y="0"/>
            <a:ext cx="4600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57560" y="0"/>
            <a:ext cx="4628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680"/>
            <a:ext cx="9144000" cy="620064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85920" y="0"/>
            <a:ext cx="4772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6633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8080" y="0"/>
            <a:ext cx="45864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02:21:58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34Z</dcterms:modified>
  <cp:revision>15</cp:revision>
  <dc:subject/>
  <dc:title>(N) ROSÂNGELA</dc:title>
</cp:coreProperties>
</file>