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659-1FD0-40AD-9A75-22924572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E52-1117-473D-BEF5-9B211817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0E1-8EBF-4D43-A491-624FC059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23E-5709-4A8A-9CFA-28533BCA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B3D-A3AA-4554-870C-DA14A07F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F74-4FCE-4F61-B905-888AE075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765-2099-44FE-8405-EE7CF7C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12E-5FD5-4210-B131-ED9D051C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6D8-BE14-4BB7-8F5D-163EA7D6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50C-BEC8-41D6-9E6A-EEA9002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B0E-23C2-4B91-886C-26231F83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93A-D809-47C0-9F10-8C72D583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41B-E314-4F7D-8CFA-B96194372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028000" y="0"/>
            <a:ext cx="1116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MISTER N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6597720"/>
            <a:ext cx="212400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MISTER N @ Produções.com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0"/>
            <a:ext cx="47404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9040" y="0"/>
            <a:ext cx="41641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1840"/>
            <a:ext cx="9144000" cy="639432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27200" y="0"/>
            <a:ext cx="40878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2480" y="0"/>
            <a:ext cx="4557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5680"/>
            <a:ext cx="9144000" cy="668664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3:48:16Z</dcterms:created>
  <dc:creator>MISTER N</dc:creator>
  <dc:description>PODEM REPASSAR , MAS O FAÇAM SEM MODIFICAR OS SLIDES , GRATO . NUNES.  </dc:description>
  <dc:language>en-US</dc:language>
  <cp:lastModifiedBy>Administrador</cp:lastModifiedBy>
  <dcterms:modified xsi:type="dcterms:W3CDTF">2007-08-18T14:56:23Z</dcterms:modified>
  <cp:revision>57</cp:revision>
  <dc:subject/>
  <dc:title>(N) ROSSANE BOM</dc:title>
</cp:coreProperties>
</file>