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45D-89E9-4233-954C-D08EB7CA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E75-1064-4583-A940-0FD14F08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12B-402A-40D7-8FD6-7A873C4B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A8C-322D-48A8-908D-060D4352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3C9-F78E-429A-BB60-5517C831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55A-380C-487C-88A9-1EF6EDA6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D44-4356-4E61-BE8A-30B4561F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D1F-7DE9-45C9-9C6B-9E295490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162-7CB2-456F-A006-4E68076D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15D-B97C-4AF0-85DF-F3456B4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562-6915-4FCB-8B21-1026375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EFC-3CB9-48DC-9710-9BF6445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15B9-CF33-4312-97C0-A790A508D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MISTER N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6597720"/>
            <a:ext cx="212400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MISTER N @ Produções.com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0"/>
            <a:ext cx="47404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9040" y="0"/>
            <a:ext cx="4164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1840"/>
            <a:ext cx="9144000" cy="639432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27200" y="0"/>
            <a:ext cx="40878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2480" y="0"/>
            <a:ext cx="4557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5680"/>
            <a:ext cx="9144000" cy="668664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3:48:16Z</dcterms:created>
  <dc:creator>MISTER N</dc:creator>
  <dc:description>PODEM REPASSAR , MAS O FAÇAM SEM MODIFICAR OS SLIDES , GRATO . NUNES.  </dc:description>
  <dc:language>en-US</dc:language>
  <cp:lastModifiedBy>Administrador</cp:lastModifiedBy>
  <dcterms:modified xsi:type="dcterms:W3CDTF">2007-08-18T14:56:23Z</dcterms:modified>
  <cp:revision>57</cp:revision>
  <dc:subject/>
  <dc:title>(N) ROSSANE BOM</dc:title>
</cp:coreProperties>
</file>