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6CD-CAE1-413C-B634-1A49512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B06-786F-41E4-B082-7135507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F31-A4EC-4193-B5C9-9174519C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F0E-C195-4BB1-89D8-ABCC1636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F6B-3948-4DDF-ACC4-B81BC32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DE0-DDFA-4D63-8958-2A2E282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AAA-97FC-4130-B05E-D7CBA458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189-324C-4C92-B243-84940C3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A1F-F6E9-4E6B-A117-D83EFD4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751-046E-40D9-9BD2-BAA02B8B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7B2-2D20-445E-B75E-4FF2C34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9F4-E637-4B77-88C6-864C6AC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A481-9C51-40C6-AFAA-C3435FEA35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Bombe nord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9868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34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5157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604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9:25:03Z</dcterms:created>
  <dc:creator>Philippe</dc:creator>
  <dc:description/>
  <dc:language>en-US</dc:language>
  <cp:lastModifiedBy>jacouille</cp:lastModifiedBy>
  <dcterms:modified xsi:type="dcterms:W3CDTF">2005-07-25T10:51:22Z</dcterms:modified>
  <cp:revision>3</cp:revision>
  <dc:subject/>
  <dc:title>bombe</dc:title>
</cp:coreProperties>
</file>