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A81-D4B1-4E1A-B184-3170E667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B05-3DCB-4D90-A775-66D46BEB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2CD-1E91-416C-82E9-05067E8A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11F-AFA0-44BD-914F-0C0D528D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8AC-750C-4032-A956-FAC7D746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7BF-802C-4EEF-914B-76C7038C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6BD-31CE-4E47-B03E-C4EE926D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A92-C1CB-4E1F-A81E-7037884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4C2-B6A1-41FA-8677-A4B0FCF9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629-B72B-4725-84D6-5096890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349-73D2-4A29-8C04-BDB6613C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97C-A2C3-4F6F-9629-47155531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B869-C5B7-4E92-9D41-4D1271CF4F4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Bombe nord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7920" y="0"/>
            <a:ext cx="444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5840" y="0"/>
            <a:ext cx="443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98680" y="0"/>
            <a:ext cx="43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344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35280" y="5157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4604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57560" y="0"/>
            <a:ext cx="46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9:25:03Z</dcterms:created>
  <dc:creator>Philippe</dc:creator>
  <dc:description/>
  <dc:language>en-US</dc:language>
  <cp:lastModifiedBy>jacouille</cp:lastModifiedBy>
  <dcterms:modified xsi:type="dcterms:W3CDTF">2005-07-25T10:51:22Z</dcterms:modified>
  <cp:revision>3</cp:revision>
  <dc:subject/>
  <dc:title>bombe</dc:title>
</cp:coreProperties>
</file>