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9909-04D4-4487-922A-949A437AA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4B83-9BA9-4892-8DA8-1437AA32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9D53-5F54-4CD6-997A-44DBEDC89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CD5A-CD88-4DB3-9841-B9712B655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322C-FB21-468A-BA2D-3755CABC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B47D-EBD0-4AB1-935E-4A575AA3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7826-4CAE-4582-B5E2-58CB7CD0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4D69-08F2-4519-9F88-DA3C9B40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C85D-FE13-4D5B-B677-83D6A101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B163-5CFB-4F2E-A23B-FFBC596C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1E1E-C8E8-47C0-A985-95817F3B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B4B0-406D-4529-BA4F-47FDFCFD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000000"/>
            </a:gs>
            <a:gs pos="100000">
              <a:srgbClr val="0066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A971-24C2-46EE-8D00-1402C1ED7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000000"/>
            </a:gs>
            <a:gs pos="100000">
              <a:srgbClr val="0066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1320" y="0"/>
            <a:ext cx="4581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25092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000000"/>
            </a:gs>
            <a:gs pos="100000">
              <a:srgbClr val="0066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1320" y="0"/>
            <a:ext cx="4581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000000"/>
            </a:gs>
            <a:gs pos="100000">
              <a:srgbClr val="0066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1320" y="0"/>
            <a:ext cx="4581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000000"/>
            </a:gs>
            <a:gs pos="100000">
              <a:srgbClr val="0066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1320" y="0"/>
            <a:ext cx="4581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000000"/>
            </a:gs>
            <a:gs pos="100000">
              <a:srgbClr val="0066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1320" y="0"/>
            <a:ext cx="4581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000000"/>
            </a:gs>
            <a:gs pos="100000">
              <a:srgbClr val="0066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1320" y="0"/>
            <a:ext cx="4581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000000"/>
            </a:gs>
            <a:gs pos="100000">
              <a:srgbClr val="0066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1320" y="0"/>
            <a:ext cx="4581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000000"/>
            </a:gs>
            <a:gs pos="100000">
              <a:srgbClr val="0066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1320" y="0"/>
            <a:ext cx="4581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000000"/>
            </a:gs>
            <a:gs pos="100000">
              <a:srgbClr val="0066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1320" y="0"/>
            <a:ext cx="458136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7T16:00:01Z</dcterms:created>
  <dc:creator>Marcos</dc:creator>
  <dc:description/>
  <dc:language>en-US</dc:language>
  <cp:lastModifiedBy>Administrador</cp:lastModifiedBy>
  <dcterms:modified xsi:type="dcterms:W3CDTF">2007-08-18T14:39:25Z</dcterms:modified>
  <cp:revision>6</cp:revision>
  <dc:subject/>
  <dc:title>PowerPoint Presentation</dc:title>
</cp:coreProperties>
</file>