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F5F-9BC7-4985-8967-731A91E4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0F6-F4DC-4F7B-B4B5-738370E9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658-EA6A-438A-B6A2-7B168112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C32-5798-4097-8BF2-B5A56ABB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9AA-23E7-49C3-80CB-62FD9359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04E-5600-4415-B693-41C08F16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09B-D655-4EB0-BCCB-2A8F9F8F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929-C7B8-4465-9F4E-B3EA9997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21D-46D2-4834-8270-16E93506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1B5-15F5-46D9-B25B-9836744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7C7-60A3-4404-A73F-10F35680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590-021F-45BC-9474-2BCBEE6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2549-5529-4092-A145-E91523433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0000"/>
            </a:gs>
            <a:gs pos="100000">
              <a:srgbClr val="0066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1320" y="0"/>
            <a:ext cx="4581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16:00:01Z</dcterms:created>
  <dc:creator>Marcos</dc:creator>
  <dc:description/>
  <dc:language>en-US</dc:language>
  <cp:lastModifiedBy>Administrador</cp:lastModifiedBy>
  <dcterms:modified xsi:type="dcterms:W3CDTF">2007-08-18T14:39:25Z</dcterms:modified>
  <cp:revision>6</cp:revision>
  <dc:subject/>
  <dc:title>PowerPoint Presentation</dc:title>
</cp:coreProperties>
</file>