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D54-D958-41B3-AE52-7754E235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CE6-9AE7-420C-AEB4-7A82CC02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B40-890A-41D2-93DF-0FE17E4A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EC3-93DD-4200-A877-E6CE1A25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B76-0E0E-44B9-B5F6-C2D1B42D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0A8-DC34-4BFD-865E-62BD869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23C-C583-450B-9086-CA1005A7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CE7-ABED-4911-81D4-949B1F3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127-1059-4FF1-8EE3-BFABF2A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B58-8EBD-4B81-A3D8-CFB88FE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67B-A8AE-485F-B623-E1F94307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12D-1593-4965-B2F9-5043C595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D7D7-65E6-42E7-97A8-60ABCAB8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97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9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0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333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34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7:41:05Z</dcterms:created>
  <dc:creator>U05375</dc:creator>
  <dc:description/>
  <dc:language>en-US</dc:language>
  <cp:lastModifiedBy>U05375</cp:lastModifiedBy>
  <dcterms:modified xsi:type="dcterms:W3CDTF">2009-05-11T17:42:22Z</dcterms:modified>
  <cp:revision>1</cp:revision>
  <dc:subject/>
  <dc:title>Diapositiva 1</dc:title>
</cp:coreProperties>
</file>