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7016-399B-4DC6-A055-515E5478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D4E-1AC1-4F4F-9C04-8210DEBA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406-C5F1-46D0-8A60-BC8C8D0B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2E3A-68CB-43BD-9D48-9D2601DE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CB6-D590-4403-BCA4-EF196C34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5445-F734-4CE1-9562-F9D646A5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03DD-2279-4A54-86F4-34D93140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8B6-B549-4928-B84B-EA767A48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F4C-ADAE-487A-B6EB-49ED6C9D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470-3055-4BB7-A7E8-7BAB613B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3E32-7D16-406A-B002-D16398E0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351-123A-4AB4-A559-39BB9F88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22FC-94AB-4DE6-B5ED-29585A676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0560" y="0"/>
            <a:ext cx="497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684360" y="0"/>
            <a:ext cx="982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9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06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1033308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7:41:05Z</dcterms:created>
  <dc:creator>U05375</dc:creator>
  <dc:description/>
  <dc:language>en-US</dc:language>
  <cp:lastModifiedBy>U05375</cp:lastModifiedBy>
  <dcterms:modified xsi:type="dcterms:W3CDTF">2009-05-11T17:42:22Z</dcterms:modified>
  <cp:revision>1</cp:revision>
  <dc:subject/>
  <dc:title>Diapositiva 1</dc:title>
</cp:coreProperties>
</file>