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740-7453-426E-88B1-3D0CF1B6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509-F2D8-48CC-ADA9-DBEBD78C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FE4-F95E-4655-81F6-127C7357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0DBA-70DD-453A-9BB2-3BAFA849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053-0500-44C3-A286-858FAF8E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49B-242C-43D5-813C-3E0A5DA0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319-6D87-4685-A5EF-192E9CF1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C3A2-CDE7-4F57-8BE2-1EB6922E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D55-5E10-40B4-B610-1896324E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69B-ECE1-4F67-A756-CBCC2C59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B87B-8300-417D-ABA8-34097D9C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334E-27EB-4269-844C-21CB18AE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61B1-01CD-4C91-A374-DAC72A5812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5092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15:49:21Z</dcterms:created>
  <dc:creator>Ge -- http://groups.yahoo.com/group/adultPPSfiles/</dc:creator>
  <dc:description/>
  <dc:language>en-US</dc:language>
  <cp:lastModifiedBy>Administrador</cp:lastModifiedBy>
  <dcterms:modified xsi:type="dcterms:W3CDTF">2007-08-18T14:56:14Z</dcterms:modified>
  <cp:revision>10</cp:revision>
  <dc:subject/>
  <dc:title>Dia 1</dc:title>
</cp:coreProperties>
</file>