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1933-CAFC-4393-8DB0-2F9CD887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6ACC-B8FD-4068-B7E0-A82D440B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0C7-3C02-46D0-973B-DFEE4FFE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4E14-0B6B-42B5-90DA-F7D07F1E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474-B5AC-4A63-91F3-AEE50812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D1F6-A60A-4C39-953F-44669199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E31-CABC-4D4C-BB83-1159FA8B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F308-7E81-4F91-9E70-3DB9E8D2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107-5733-4026-99A9-19D0E6D3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378-9A91-4C02-B7FF-F834C3E1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935-078F-429C-A2AB-BFC17382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D77-1D1B-4885-884E-8520E080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A83E-CBA5-4235-8530-3DDFD55A99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15:49:21Z</dcterms:created>
  <dc:creator>Ge -- http://groups.yahoo.com/group/adultPPSfiles/</dc:creator>
  <dc:description/>
  <dc:language>en-US</dc:language>
  <cp:lastModifiedBy>Administrador</cp:lastModifiedBy>
  <dcterms:modified xsi:type="dcterms:W3CDTF">2007-08-18T14:56:14Z</dcterms:modified>
  <cp:revision>10</cp:revision>
  <dc:subject/>
  <dc:title>Dia 1</dc:title>
</cp:coreProperties>
</file>