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Are%20you%20satisfied,%20Rusty%20Draper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9F73-D3F5-43E7-BB82-02B6DDAF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20C-DEB5-4BBA-9B89-D04430AD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DA5-2838-4C98-9381-0C9EDAD7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863-7AFD-4E39-91CE-FBD7BAC8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91B-730C-4CDF-8BA1-12E86901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672-0997-4B92-B6D2-A94EC35D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E2B-B293-4406-BB20-C87AE4A3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5D1-C8D0-4E32-9FDE-ED7B3BFF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5600-D9A6-4DA0-A1E3-BC7AF6CE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590-D619-4259-B8F9-1560BC01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7A55-C1CB-4088-9138-798F5C65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191-3C2E-4764-AD67-41434AC3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484C-F2A4-4AC2-B71C-891C94C1B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e%20you%20satisfied,%20Rusty%20Drape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_4584be39dcbad85f83c058d7153f9f80"/>
          <p:cNvPicPr/>
          <p:nvPr/>
        </p:nvPicPr>
        <p:blipFill>
          <a:blip r:embed="rId1"/>
          <a:stretch/>
        </p:blipFill>
        <p:spPr>
          <a:xfrm>
            <a:off x="226836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  <p:sndAc>
      <p:stSnd>
        <p:snd r:embed="rId2" name="Are%20you%20satisfied,%20Rusty%20Drap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l_d891fd4d07997448e87ecaeda9f86b85"/>
          <p:cNvPicPr/>
          <p:nvPr/>
        </p:nvPicPr>
        <p:blipFill>
          <a:blip r:embed="rId1"/>
          <a:stretch/>
        </p:blipFill>
        <p:spPr>
          <a:xfrm>
            <a:off x="2124000" y="0"/>
            <a:ext cx="4869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_e10a1abb11b9e58276bf6a3181a0444a"/>
          <p:cNvPicPr/>
          <p:nvPr/>
        </p:nvPicPr>
        <p:blipFill>
          <a:blip r:embed="rId1"/>
          <a:stretch/>
        </p:blipFill>
        <p:spPr>
          <a:xfrm>
            <a:off x="226836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_6be840e9b9c9397e0ac364b5a86bade3"/>
          <p:cNvPicPr/>
          <p:nvPr/>
        </p:nvPicPr>
        <p:blipFill>
          <a:blip r:embed="rId1"/>
          <a:stretch/>
        </p:blipFill>
        <p:spPr>
          <a:xfrm>
            <a:off x="2235240" y="0"/>
            <a:ext cx="4570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l_5f206e3eb419fe7a7122324201111a0a"/>
          <p:cNvPicPr/>
          <p:nvPr/>
        </p:nvPicPr>
        <p:blipFill>
          <a:blip r:embed="rId1"/>
          <a:stretch/>
        </p:blipFill>
        <p:spPr>
          <a:xfrm>
            <a:off x="226224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l_482693792a336322507ffdb108a4eb0a"/>
          <p:cNvPicPr/>
          <p:nvPr/>
        </p:nvPicPr>
        <p:blipFill>
          <a:blip r:embed="rId1"/>
          <a:stretch/>
        </p:blipFill>
        <p:spPr>
          <a:xfrm>
            <a:off x="2340000" y="0"/>
            <a:ext cx="446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l_0d60388c86a49a85054152b470e3f43e"/>
          <p:cNvPicPr/>
          <p:nvPr/>
        </p:nvPicPr>
        <p:blipFill>
          <a:blip r:embed="rId1"/>
          <a:stretch/>
        </p:blipFill>
        <p:spPr>
          <a:xfrm>
            <a:off x="2268360" y="0"/>
            <a:ext cx="45626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l_2b5bd6371d5a1189b9a1ce977a4d7b16"/>
          <p:cNvPicPr/>
          <p:nvPr/>
        </p:nvPicPr>
        <p:blipFill>
          <a:blip r:embed="rId1"/>
          <a:stretch/>
        </p:blipFill>
        <p:spPr>
          <a:xfrm>
            <a:off x="2271600" y="0"/>
            <a:ext cx="45705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l_54f377df510ff322465a3e2f74f0097a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l_3a8e952d545a9640c722cbb825632c40"/>
          <p:cNvPicPr/>
          <p:nvPr/>
        </p:nvPicPr>
        <p:blipFill>
          <a:blip r:embed="rId1"/>
          <a:stretch/>
        </p:blipFill>
        <p:spPr>
          <a:xfrm>
            <a:off x="3322800" y="0"/>
            <a:ext cx="24746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l_adcb39c6c074f188edfeabb54d1b3aa9"/>
          <p:cNvPicPr/>
          <p:nvPr/>
        </p:nvPicPr>
        <p:blipFill>
          <a:blip r:embed="rId1"/>
          <a:stretch/>
        </p:blipFill>
        <p:spPr>
          <a:xfrm>
            <a:off x="2340000" y="0"/>
            <a:ext cx="43927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l_e773cda9e8c91b89ff806fee15f6887a"/>
          <p:cNvPicPr/>
          <p:nvPr/>
        </p:nvPicPr>
        <p:blipFill>
          <a:blip r:embed="rId1"/>
          <a:stretch/>
        </p:blipFill>
        <p:spPr>
          <a:xfrm>
            <a:off x="2050920" y="0"/>
            <a:ext cx="49849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cc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l_677c82eecc0367b091c0dfeef4dbf8ca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20:00:34Z</dcterms:created>
  <dc:creator/>
  <dc:description/>
  <dc:language>en-US</dc:language>
  <cp:lastModifiedBy>Francisco</cp:lastModifiedBy>
  <dcterms:modified xsi:type="dcterms:W3CDTF">2008-04-26T03:35:45Z</dcterms:modified>
  <cp:revision>5</cp:revision>
  <dc:subject/>
  <dc:title/>
</cp:coreProperties>
</file>