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Are%20you%20satisfied,%20Rusty%20Draper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DFB-8787-4F35-9BB7-6E6FC637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FC0-683B-4824-9867-FEBE170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C5A-A28A-474B-BA55-D72FE5A2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AB3-7746-4A51-8E46-074E6FCA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FF1-06FD-4208-92CB-553CDCAB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D65-0A9E-4506-A211-07C0A23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086-B366-4AF1-AF9C-428A066E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32B-7208-40CF-9425-DE469B3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53B-8570-4F13-A0EB-7912B32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D52-2202-4DC4-B5A5-84A4F5B5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8FC-D3B2-4BD5-B8A7-F64FDB2B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408-40B1-4BBD-B04C-250E5EE9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974-9B04-4704-82AE-EAE2A0DA7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e%20you%20satisfied,%20Rusty%20Drap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_4584be39dcbad85f83c058d7153f9f80"/>
          <p:cNvPicPr/>
          <p:nvPr/>
        </p:nvPicPr>
        <p:blipFill>
          <a:blip r:embed="rId1"/>
          <a:stretch/>
        </p:blipFill>
        <p:spPr>
          <a:xfrm>
            <a:off x="226836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  <p:sndAc>
      <p:stSnd>
        <p:snd r:embed="rId2" name="Are%20you%20satisfied,%20Rusty%20Drap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_d891fd4d07997448e87ecaeda9f86b85"/>
          <p:cNvPicPr/>
          <p:nvPr/>
        </p:nvPicPr>
        <p:blipFill>
          <a:blip r:embed="rId1"/>
          <a:stretch/>
        </p:blipFill>
        <p:spPr>
          <a:xfrm>
            <a:off x="21240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_e10a1abb11b9e58276bf6a3181a0444a"/>
          <p:cNvPicPr/>
          <p:nvPr/>
        </p:nvPicPr>
        <p:blipFill>
          <a:blip r:embed="rId1"/>
          <a:stretch/>
        </p:blipFill>
        <p:spPr>
          <a:xfrm>
            <a:off x="226836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_6be840e9b9c9397e0ac364b5a86bade3"/>
          <p:cNvPicPr/>
          <p:nvPr/>
        </p:nvPicPr>
        <p:blipFill>
          <a:blip r:embed="rId1"/>
          <a:stretch/>
        </p:blipFill>
        <p:spPr>
          <a:xfrm>
            <a:off x="223524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l_5f206e3eb419fe7a7122324201111a0a"/>
          <p:cNvPicPr/>
          <p:nvPr/>
        </p:nvPicPr>
        <p:blipFill>
          <a:blip r:embed="rId1"/>
          <a:stretch/>
        </p:blipFill>
        <p:spPr>
          <a:xfrm>
            <a:off x="226224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l_482693792a336322507ffdb108a4eb0a"/>
          <p:cNvPicPr/>
          <p:nvPr/>
        </p:nvPicPr>
        <p:blipFill>
          <a:blip r:embed="rId1"/>
          <a:stretch/>
        </p:blipFill>
        <p:spPr>
          <a:xfrm>
            <a:off x="234000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l_0d60388c86a49a85054152b470e3f43e"/>
          <p:cNvPicPr/>
          <p:nvPr/>
        </p:nvPicPr>
        <p:blipFill>
          <a:blip r:embed="rId1"/>
          <a:stretch/>
        </p:blipFill>
        <p:spPr>
          <a:xfrm>
            <a:off x="226836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_2b5bd6371d5a1189b9a1ce977a4d7b16"/>
          <p:cNvPicPr/>
          <p:nvPr/>
        </p:nvPicPr>
        <p:blipFill>
          <a:blip r:embed="rId1"/>
          <a:stretch/>
        </p:blipFill>
        <p:spPr>
          <a:xfrm>
            <a:off x="227160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_54f377df510ff322465a3e2f74f0097a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_3a8e952d545a9640c722cbb825632c40"/>
          <p:cNvPicPr/>
          <p:nvPr/>
        </p:nvPicPr>
        <p:blipFill>
          <a:blip r:embed="rId1"/>
          <a:stretch/>
        </p:blipFill>
        <p:spPr>
          <a:xfrm>
            <a:off x="3322800" y="0"/>
            <a:ext cx="2474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l_adcb39c6c074f188edfeabb54d1b3aa9"/>
          <p:cNvPicPr/>
          <p:nvPr/>
        </p:nvPicPr>
        <p:blipFill>
          <a:blip r:embed="rId1"/>
          <a:stretch/>
        </p:blipFill>
        <p:spPr>
          <a:xfrm>
            <a:off x="234000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_e773cda9e8c91b89ff806fee15f6887a"/>
          <p:cNvPicPr/>
          <p:nvPr/>
        </p:nvPicPr>
        <p:blipFill>
          <a:blip r:embed="rId1"/>
          <a:stretch/>
        </p:blipFill>
        <p:spPr>
          <a:xfrm>
            <a:off x="2050920" y="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l_677c82eecc0367b091c0dfeef4dbf8ca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20:00:34Z</dcterms:created>
  <dc:creator/>
  <dc:description/>
  <dc:language>en-US</dc:language>
  <cp:lastModifiedBy>Francisco</cp:lastModifiedBy>
  <dcterms:modified xsi:type="dcterms:W3CDTF">2008-04-26T03:35:45Z</dcterms:modified>
  <cp:revision>5</cp:revision>
  <dc:subject/>
  <dc:title/>
</cp:coreProperties>
</file>