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1078-CBDB-4F66-85D3-9F55E3B0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240" y="384624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0A9B-5C48-4D6F-8BFD-9342FAE3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24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692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9B50-9C47-4DD4-927A-3CA7F0FE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184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280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24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184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280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1D31-A499-44AD-9F87-EF030091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225C-8C33-4AA7-8971-2EA2D493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D24F-1A60-43F3-957C-71EBB66D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EDE5-DCC2-4A5F-B589-2EB26F7B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B7FD-1001-40EA-B07E-ECD38429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7631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F2B3-740D-4B25-BB3C-587E6119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24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C86B-B0E8-4B5C-9945-6F457131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692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57F8-5EEE-4FB5-AE5F-D00C779E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384624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522F-FE4B-402D-A894-5629FB19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477120"/>
            <a:ext cx="4876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51A7-7C89-4326-94CB-CA9469B3C542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sta flaca es una bomba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Eva Ellingt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estanriquisimas@hotmail.com estanriquisimas@gmail.c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75560" y="3716280"/>
            <a:ext cx="2368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Den clic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para avanz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549360"/>
            <a:ext cx="439272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Eva Ellington fue presentada a ustedes gracias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estanriquisimas@hot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estanriquisimas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012000" y="2852640"/>
            <a:ext cx="1542960" cy="1543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9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3T06:07:58Z</dcterms:created>
  <dc:creator>estanriquisimas@hotmail.com</dc:creator>
  <dc:description/>
  <dc:language>en-US</dc:language>
  <cp:lastModifiedBy>...</cp:lastModifiedBy>
  <dcterms:modified xsi:type="dcterms:W3CDTF">2011-08-13T06:21:50Z</dcterms:modified>
  <cp:revision>2</cp:revision>
  <dc:subject>Eva Ellington</dc:subject>
  <dc:title>Esta flaca es una bomba</dc:title>
</cp:coreProperties>
</file>