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9B7-B062-4E2D-A642-957D18BB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F7D-FBA9-4B7A-A94B-97070DC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E85-8FD2-4254-B8FE-BF7E36A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F2F-C892-4E30-A51A-7C93FADF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FA6-CD49-4243-A0AA-007BE68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4CB-AE1A-4826-8E0D-FD051094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1DD-49D1-4480-A8E6-80D278EE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F74-3CD3-4F70-91ED-629B0ED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391-3BA8-47EB-944A-B6671F4E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70C-E4B7-400D-A62F-A7A6C1D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33B-390B-4624-B3A1-E5E12DF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8FA-28DA-4049-9088-235AA0D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E370-EE0C-42B2-8831-0D7E478E783A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sta flaca es una bomb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 Ellingt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hotmail.com estanriquisimas@gmail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75560" y="3716280"/>
            <a:ext cx="2368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en clic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ara avan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49360"/>
            <a:ext cx="439272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va Ellington fue presentada a ustedes gracia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estanriquisimas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1542960" cy="15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"/>
          <p:cNvSpPr/>
          <p:nvPr/>
        </p:nvSpPr>
        <p:spPr>
          <a:xfrm>
            <a:off x="2290680" y="0"/>
            <a:ext cx="456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6:07:58Z</dcterms:created>
  <dc:creator>estanriquisimas@hotmail.com</dc:creator>
  <dc:description/>
  <dc:language>en-US</dc:language>
  <cp:lastModifiedBy>...</cp:lastModifiedBy>
  <dcterms:modified xsi:type="dcterms:W3CDTF">2011-08-13T06:21:50Z</dcterms:modified>
  <cp:revision>2</cp:revision>
  <dc:subject>Eva Ellington</dc:subject>
  <dc:title>Esta flaca es una bomba</dc:title>
</cp:coreProperties>
</file>