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087-2AB3-4551-9DBB-40A22B5D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B56-C66E-427E-AC86-34A9A5B9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E6E-5F45-429C-AE59-7D7AFA42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8DF-CEED-46A2-8270-942C736A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81D-5F01-40C8-9952-BCA6BD25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A1C-F4AE-47D4-A4B6-CE05C164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E30-7C41-432D-B60D-D6EC005E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238-7517-41DC-B0A9-C885976C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295-43C1-45AF-B057-2FD93C80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65F-5462-400F-A51C-1D08E0FA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2A0-7867-47A9-8608-59019DA7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D3B-1E65-4952-821E-2CCDDEC5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8042-A190-4EBA-B930-7D57640EB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3760" y="0"/>
            <a:ext cx="4415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228600" y="500040"/>
            <a:ext cx="93726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0:14:25Z</dcterms:created>
  <dc:creator>sergio</dc:creator>
  <dc:description/>
  <dc:language>en-US</dc:language>
  <cp:lastModifiedBy>Administrador</cp:lastModifiedBy>
  <dcterms:modified xsi:type="dcterms:W3CDTF">2007-08-22T15:44:02Z</dcterms:modified>
  <cp:revision>5</cp:revision>
  <dc:subject/>
  <dc:title>Slide sem título </dc:title>
</cp:coreProperties>
</file>