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E75B-CB11-48BB-85D1-C089CD28E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BA07-1CAA-4837-96AF-62215A24E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2D73-C377-4602-AD54-CAB3B3809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8A8B-AA89-4F6D-923C-5B5E2A65E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ECD7-1F3F-4D0C-A193-B7A9CA6A7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99E8-7693-45FA-BD2A-AAC2B598C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4A1C-F660-491C-99CD-22886F35D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5E64-B1E6-45E4-8906-0A7C21385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B9E0-C164-4E1F-B5B2-522EFB32C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F98B-52FA-4722-9279-73E5B944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BC09-3538-4093-B118-E05016979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8A90-B7C9-4140-8BB7-FEAD4E64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6DF7B-71B4-454C-9CC9-8100F8DABB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63760" y="0"/>
            <a:ext cx="44150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250920" cy="260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500040"/>
            <a:ext cx="914400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228600" y="500040"/>
            <a:ext cx="9372600" cy="60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450720"/>
            <a:ext cx="9144000" cy="59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450720"/>
            <a:ext cx="9144000" cy="59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450720"/>
            <a:ext cx="9144000" cy="59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450720"/>
            <a:ext cx="9144000" cy="59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20:14:25Z</dcterms:created>
  <dc:creator>sergio</dc:creator>
  <dc:description/>
  <dc:language>en-US</dc:language>
  <cp:lastModifiedBy>Administrador</cp:lastModifiedBy>
  <dcterms:modified xsi:type="dcterms:W3CDTF">2007-08-22T15:44:02Z</dcterms:modified>
  <cp:revision>5</cp:revision>
  <dc:subject/>
  <dc:title>Slide sem título </dc:title>
</cp:coreProperties>
</file>