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CEC-119B-447D-A59C-99AC90FF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777-84F8-4998-BFE2-B6072F1B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531-A589-4FFA-A667-F2A7D54A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3BC-3956-46FE-956A-6B6C45EF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558A-2F2D-4DB3-8D0A-13E178E8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D91-9810-43C4-A310-8C44181D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1BC-E606-44D5-9E3E-EC1CFA1C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206-2E8A-4787-8B97-F1250DBC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396-513A-4787-B416-2B2A5FDC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3B9-B4A8-495D-AC50-A7FCDD4F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DD5-8905-4081-903E-83CF7F14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A68-247D-4109-9ECE-DDDDC1C5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B189-D771-4562-93CE-6221568AD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31800" y="0"/>
            <a:ext cx="60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82840" y="0"/>
            <a:ext cx="43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65240" y="0"/>
            <a:ext cx="52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7:11:23Z</dcterms:created>
  <dc:creator>MARTÍN GODDIO</dc:creator>
  <dc:description/>
  <dc:language>en-US</dc:language>
  <cp:lastModifiedBy>Plash</cp:lastModifiedBy>
  <dcterms:modified xsi:type="dcterms:W3CDTF">2009-07-08T08:12:31Z</dcterms:modified>
  <cp:revision>31</cp:revision>
  <dc:subject/>
  <dc:title>Presentación de PowerPoint</dc:title>
</cp:coreProperties>
</file>