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D60D-DBDD-4140-998F-973F9B196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F774-C665-44E6-B544-0F757C7D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20F1-C62E-41F1-B133-9E7918991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68F1-016D-4E40-94EF-B3C8850CA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6499-3108-41B3-8926-841063A5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6C08-134D-4AAF-8A0E-90AF9EC7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E230-9FCF-4337-8DDC-D09F4477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EF6E-CAAF-4EB2-A845-6E5CD387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3F1C-A929-44DD-9535-C918125F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BB2F-9A6E-4FF3-9EC0-625B2B07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9419-B408-4B88-9C6A-B4CB91A6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FE08-7158-4A1B-AA1B-7E70DCE7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C20C-278B-4EDE-85CD-79B3A8853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920960" y="0"/>
            <a:ext cx="5302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31800" y="0"/>
            <a:ext cx="608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116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382840" y="0"/>
            <a:ext cx="43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92564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965240" y="0"/>
            <a:ext cx="521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-2376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17:11:23Z</dcterms:created>
  <dc:creator>MARTÍN GODDIO</dc:creator>
  <dc:description/>
  <dc:language>en-US</dc:language>
  <cp:lastModifiedBy>Plash</cp:lastModifiedBy>
  <dcterms:modified xsi:type="dcterms:W3CDTF">2009-07-08T08:12:31Z</dcterms:modified>
  <cp:revision>31</cp:revision>
  <dc:subject/>
  <dc:title>Presentación de PowerPoint</dc:title>
</cp:coreProperties>
</file>