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545-9811-48EF-BDDA-B0277F5C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B99C-B47F-4137-814D-CA081E10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6C79-5359-4627-A0E6-76304F62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740E-E07A-4A32-932C-87B0C4C4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20B6-FA0C-4F78-B302-A25FE5CB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C023-5C23-4CF2-B52C-06CF941E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0700-BCEF-469A-B8AF-56ECAB58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309-7261-4D3B-AB15-8AC9D093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201-5F8C-4D89-B638-7CF30607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542-E2E6-4778-8BB4-630D4A34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DFC8-54DD-4E5E-9EB7-2E963592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57DF-B6F7-45AA-A2FF-A438CD9A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3545-42E2-4152-ACA2-82D6364F22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612720" y="20520"/>
            <a:ext cx="10298160" cy="686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2:00Z</dcterms:created>
  <dc:creator>Ge -- http://groups.yahoo.com/group/adultPPSfiles/</dc:creator>
  <dc:description/>
  <dc:language>en-US</dc:language>
  <cp:lastModifiedBy>Administrador</cp:lastModifiedBy>
  <dcterms:modified xsi:type="dcterms:W3CDTF">2007-08-22T15:43:40Z</dcterms:modified>
  <cp:revision>9</cp:revision>
  <dc:subject/>
  <dc:title>Dia 1</dc:title>
</cp:coreProperties>
</file>