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C7F-9784-4650-A020-6D79FE15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28C-E66B-4FC7-A62D-0FCD2EA3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847-312A-4BC4-ACA1-C58EDB7B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1DA-DA82-434C-996C-B95CB0AC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CFD-6713-4CF0-8706-F2DCE701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79D-1F81-491B-90F6-93790D22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A7E-F7FA-451B-8580-FD8AAC9D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147-A1CD-4127-BBC1-F222DFDD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7AA-5151-4C48-A583-6646AFB6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EB2-8A06-4545-8599-1569CAD0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FDC-FD24-4AB3-B5A4-AD159AAD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81D-A1CA-40F1-AA89-0578461A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C3DA-3B1C-41C4-B400-644B5C9F31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612720" y="20520"/>
            <a:ext cx="10298160" cy="686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2:00Z</dcterms:created>
  <dc:creator>Ge -- http://groups.yahoo.com/group/adultPPSfiles/</dc:creator>
  <dc:description/>
  <dc:language>en-US</dc:language>
  <cp:lastModifiedBy>Administrador</cp:lastModifiedBy>
  <dcterms:modified xsi:type="dcterms:W3CDTF">2007-08-22T15:43:40Z</dcterms:modified>
  <cp:revision>9</cp:revision>
  <dc:subject/>
  <dc:title>Dia 1</dc:title>
</cp:coreProperties>
</file>