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361-14DC-41B2-BD42-D0F3F266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972-9B74-412B-B05B-1A841DD3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0E3-D7FC-43CD-B31A-05EEC02A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BD7-8514-484F-B119-F08D79C2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3922-DDBB-4889-8ED5-E12570D1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EA1A-D873-488E-91E5-C4259E2A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6333-36FD-412B-B12A-D17A03E8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8D7F-DA33-4E0A-9AB2-57A51CAA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85FD-B66C-4F20-9FFD-EC96833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A0B6-9E67-4D27-AB47-8F1E04A2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4C2C-F2E7-485B-82A4-CE398A5E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A64-5877-4E76-B42F-2AE40C53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A515-6626-4413-A2CC-47E28A4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FB16-DD6C-4805-81FC-E1C83EA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93F8-C0CC-4C2C-932A-4CA17EBF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93E2-95EB-45D1-88F9-606D433A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ADA5-FEFA-4753-B5AD-B3DAEEFC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AF5-6941-4304-A88F-D362E298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B37-CE8C-46C5-AC2F-EC70F51A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01C-E886-4DDB-B8DB-0F5455F1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546480"/>
            <a:ext cx="85960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3AE-B811-4073-8F46-D18F6C95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E4F-A634-4A51-BC83-308230F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EA8-33EA-466C-8D6E-7CFC0F8F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08E-477F-421F-B7C6-946F87B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546480"/>
            <a:ext cx="8596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B2E3-0D35-40CF-A4CC-D41B5A56EA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14800"/>
            <a:ext cx="7772400" cy="140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59BC-E59C-4FFD-8A32-FE9DD6F0A1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43240" y="0"/>
            <a:ext cx="5505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06:58:44Z</dcterms:created>
  <dc:creator>Vera</dc:creator>
  <dc:description/>
  <dc:language>en-US</dc:language>
  <cp:lastModifiedBy>Administrador</cp:lastModifiedBy>
  <dcterms:modified xsi:type="dcterms:W3CDTF">2007-08-18T14:53:04Z</dcterms:modified>
  <cp:revision>4</cp:revision>
  <dc:subject/>
  <dc:title>Apresentação do PowerPoint</dc:title>
</cp:coreProperties>
</file>