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99F-6169-4236-952B-EFECBBA0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A56-2EEC-4141-86DB-F4DBC2E5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FF2-8315-4C26-A317-B503A820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9F6-4047-420E-AF6B-6FFD0809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E8EF-55CE-4245-B6C9-48113763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7672-FB89-4E77-8DB8-FEA83925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B0EE-9125-42D1-A123-2A8F1BDF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A6E2-C6F2-4A44-9393-5672ADB6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46CE-7EBC-4127-A7D0-87247B4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A851-1355-4C3D-A34C-DDC13C10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D624-FD18-4A00-B687-4399394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AC1-B86D-44A0-B364-EBA516F8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406E-624D-444B-943B-83B8B392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874B-29D8-4A51-A193-009FDDAD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816B-EA24-4429-BC28-E53BF51C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934D-FBFB-459F-80AC-7804B4A3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13F5-C59F-411C-918A-6C843F58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42C-E499-4761-9055-FEA1E9EA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414-4279-4FC5-AFEE-A094BB77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099-1C3B-4F9F-A909-CCBD9129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4A1-A95F-46CA-8B9B-8284BDD8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CC9-59E9-4BA8-9124-D59328FC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856-CB69-4133-9735-2D23A93B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5BE-5E59-4877-9919-993EA10C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6850-96B1-4A0A-BFC2-15F8838007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4D3D-4E76-41F1-9732-F8763AD5B7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43240" y="0"/>
            <a:ext cx="5505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06:58:44Z</dcterms:created>
  <dc:creator>Vera</dc:creator>
  <dc:description/>
  <dc:language>en-US</dc:language>
  <cp:lastModifiedBy>Administrador</cp:lastModifiedBy>
  <dcterms:modified xsi:type="dcterms:W3CDTF">2007-08-18T14:53:04Z</dcterms:modified>
  <cp:revision>4</cp:revision>
  <dc:subject/>
  <dc:title>Apresentação do PowerPoint</dc:title>
</cp:coreProperties>
</file>