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765-C4C0-4A71-9AC7-D221D029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242-CC31-42A2-87C8-84FE10E9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743-3EE3-4D36-AC56-A25BB6E8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F37-320E-4BA3-B3AE-4081527A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B61-7F48-4314-A33D-016D4CF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483-5877-4D8D-AE85-67FC587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DEC-12E4-42B9-8ED7-231E556E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78E-AD3F-4A7F-AD66-DC85AE3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308-2598-41C5-8136-D99C0D2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777-26FF-4658-9F4C-9058E32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E85-D75E-40D1-A1D4-05158B4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0A4-E009-4FA5-83E2-A5128E4D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F9C-1A9C-495A-A942-35A5EA7A2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808200" y="160200"/>
            <a:ext cx="10760400" cy="653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6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55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415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1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600" y="555480"/>
            <a:ext cx="9118800" cy="574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1292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90560" y="276120"/>
            <a:ext cx="1072512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67040" y="-152280"/>
            <a:ext cx="511956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81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818"/>
                </a:solidFill>
                <a:latin typeface="Arial"/>
              </a:rPr>
              <a:t>t h e  e n 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8480" y="0"/>
            <a:ext cx="4668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6800" y="0"/>
            <a:ext cx="472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43000" y="0"/>
            <a:ext cx="503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0:25:53Z</dcterms:created>
  <dc:creator/>
  <dc:description/>
  <dc:language>en-US</dc:language>
  <cp:lastModifiedBy/>
  <dcterms:modified xsi:type="dcterms:W3CDTF">2007-11-19T12:51:22Z</dcterms:modified>
  <cp:revision>22</cp:revision>
  <dc:subject/>
  <dc:title> </dc:title>
</cp:coreProperties>
</file>