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9CBE-C0BA-4DBC-A4DB-F9D586321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D5DA-88D4-4D18-9E90-C678EED7B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805F-3E4C-4041-9CA5-F15CD6CC8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2EC5-1674-40B2-AE7E-B20FEFE56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4FA7-704E-48CB-9FA0-DBC24D7F8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7946-8091-47F8-97C6-5E1322181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EF6F-9B2F-4F84-8B8D-5217228CC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6749-B379-4F0B-A14C-BFA73238A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7083-7A00-468F-9E4C-3F705A01E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9AF2-31EA-434A-8D5C-43108C0C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1173-A347-4883-A9F0-0106903C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5384-854A-4298-A8E7-67FC603F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E495C-0989-4255-BC4A-D0C5643E8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585720"/>
            <a:ext cx="9144000" cy="568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808200" y="160200"/>
            <a:ext cx="10760400" cy="653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739880" y="0"/>
            <a:ext cx="56642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638280"/>
            <a:ext cx="9144000" cy="55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712800"/>
            <a:ext cx="9144000" cy="543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641520"/>
            <a:ext cx="9144000" cy="557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419040"/>
            <a:ext cx="9144000" cy="601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209600" y="0"/>
            <a:ext cx="67215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2600" y="555480"/>
            <a:ext cx="9118800" cy="574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212920" y="0"/>
            <a:ext cx="47181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48744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790560" y="276120"/>
            <a:ext cx="10725120" cy="630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507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67040" y="-152280"/>
            <a:ext cx="5119560" cy="701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0"/>
            <a:ext cx="777240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818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0818"/>
                </a:solidFill>
                <a:latin typeface="Arial"/>
              </a:rPr>
              <a:t>t h e  e n d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655560"/>
            <a:ext cx="9144000" cy="55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615960"/>
            <a:ext cx="9144000" cy="563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38480" y="0"/>
            <a:ext cx="46688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06800" y="0"/>
            <a:ext cx="47289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043000" y="0"/>
            <a:ext cx="5035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232000" y="0"/>
            <a:ext cx="4680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388800"/>
            <a:ext cx="9144000" cy="6081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3T20:25:53Z</dcterms:created>
  <dc:creator/>
  <dc:description/>
  <dc:language>en-US</dc:language>
  <cp:lastModifiedBy/>
  <dcterms:modified xsi:type="dcterms:W3CDTF">2007-11-19T12:51:22Z</dcterms:modified>
  <cp:revision>22</cp:revision>
  <dc:subject/>
  <dc:title> </dc:title>
</cp:coreProperties>
</file>