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DAC-2104-4E14-9675-16B579F9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771-783C-4252-A144-92570BD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FC3-D170-4918-A09B-FB93E1F8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E82-82C7-41AD-A370-9312EB90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181-25D7-4109-8CD7-F7303E9D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59B-6986-4305-9EF1-BC4157FC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640-8959-43DA-9EFA-6D1331F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7F7-AA1A-4B8F-8800-C9885FD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E2F-4928-408A-AC34-C48F34E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EDA-6715-4DE2-968B-103E8EA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F25-EF45-40C9-AAC7-D714D28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CAD-56B4-4DD8-A99B-77F929F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A239-4282-49F7-96F6-481CD816E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En ocasiones uno puede decir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¡!¡! Hay No mames¡!¡!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Pero estas son “</a:t>
            </a:r>
            <a:r>
              <a:rPr b="1" i="1" lang="en-US" sz="3500" spc="-1" strike="noStrike">
                <a:solidFill>
                  <a:srgbClr val="ffffff"/>
                </a:solidFill>
                <a:latin typeface="Bookman Old Style"/>
              </a:rPr>
              <a:t>Chingadurias</a:t>
            </a: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”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A continuacion veran porque no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hay que ser </a:t>
            </a:r>
            <a:r>
              <a:rPr b="0" i="1" lang="en-US" sz="3500" spc="-1" strike="noStrike">
                <a:solidFill>
                  <a:srgbClr val="ffffff"/>
                </a:solidFill>
                <a:latin typeface="Bookman Old Style"/>
              </a:rPr>
              <a:t>tan’indejos</a:t>
            </a: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¿Como podran publicar esto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por la Internet?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019920"/>
            <a:ext cx="91440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Que pues, tan coqueto el “chupamirto” es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6012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La foto se ve normal, pero el paradito lo hace 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 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un poco sospechoso. Sera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8600" y="-304920"/>
            <a:ext cx="5657760" cy="7543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0"/>
            <a:ext cx="4114800" cy="769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CONFIRMA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Bookman Old Style"/>
              </a:rPr>
              <a:t>PUTO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¡¡Es mas re-put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4857840" cy="7543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24280" y="-304920"/>
            <a:ext cx="4419720" cy="842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que 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Uno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Greml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al parece que no le dio verguenza mostrar lo Feo, lo negro y lo maric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423360" cy="7067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-228600"/>
            <a:ext cx="9906120" cy="16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Mamita, te enchilast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8080"/>
                </a:solidFill>
                <a:latin typeface="Bookman Old Style"/>
              </a:rPr>
              <a:t>SSSSSSS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... La esta midiendo con la vist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581280"/>
            <a:ext cx="83844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3581280"/>
            <a:ext cx="137160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318280"/>
            <a:ext cx="914400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Definitivamente, no hay derecho a ser tan PUTO, al menos que se razure el bigo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Por eso le pusieron </a:t>
            </a:r>
            <a:r>
              <a:rPr b="1" i="1" lang="en-US" sz="2500" spc="-1" strike="noStrike">
                <a:solidFill>
                  <a:srgbClr val="ffffff"/>
                </a:solidFill>
                <a:latin typeface="Bookman Old Style"/>
              </a:rPr>
              <a:t>“La Combi”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... La combigo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-320760"/>
            <a:ext cx="9144000" cy="16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Mira esta pinche carita de trasnocha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Que churron se fumò este galli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723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24280" y="-304920"/>
            <a:ext cx="4419720" cy="9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ta buena para el anunci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Colgate Total 12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Pero necesitaria otro tipo de cepillo. (No con mas cerdas sino con mas limpia enci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Ustedes que opina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24280" y="-304920"/>
            <a:ext cx="4419720" cy="861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man Old Style"/>
              </a:rPr>
              <a:t>¡!¡! “</a:t>
            </a: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INGIESU</a:t>
            </a:r>
            <a:r>
              <a:rPr b="1" i="1" lang="en-US" sz="2400" spc="-1" strike="noStrike">
                <a:solidFill>
                  <a:srgbClr val="0000ff"/>
                </a:solidFill>
                <a:latin typeface="Bookman Old Style"/>
              </a:rPr>
              <a:t>” ¡!¡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ras de ser Feo y puto... Todavia...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‘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ingada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-549360"/>
            <a:ext cx="9601200" cy="16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Sera que al par de lechoncitos se los habrá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comido esa noch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Miren no mas esta morsa, él jura que se ve coquet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28600" y="-152280"/>
            <a:ext cx="6732720" cy="708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4120" y="0"/>
            <a:ext cx="3809880" cy="67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¡!¡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purate con la foto guey que me voy a asfixiar ¡!¡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-304920"/>
            <a:ext cx="9144000" cy="143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A esta chiquilla la apodan </a:t>
            </a:r>
            <a:r>
              <a:rPr b="1" i="1" lang="en-US" sz="2500" spc="-1" strike="noStrike">
                <a:solidFill>
                  <a:srgbClr val="ff00ff"/>
                </a:solidFill>
                <a:latin typeface="Bookman Old Style"/>
              </a:rPr>
              <a:t>“El Rosal”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 ( y no por la blusa) sino que esta a punto de reventar un </a:t>
            </a:r>
            <a:r>
              <a:rPr b="1" i="1" lang="en-US" sz="2500" spc="-1" strike="noStrike">
                <a:solidFill>
                  <a:srgbClr val="ff00ff"/>
                </a:solidFill>
                <a:latin typeface="Bookman Old Style"/>
              </a:rPr>
              <a:t>boton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62120" y="-76320"/>
            <a:ext cx="7315200" cy="700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867280" y="-304920"/>
            <a:ext cx="3276720" cy="769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Co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4267080" cy="893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¡¡¡¡ No jodan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nda y vistete chingada chamaca “cuerpo’de Anaconda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33"/>
                </a:solidFill>
                <a:latin typeface="Bookman Old Style"/>
              </a:rPr>
              <a:t>(sin ofender a los ofide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5311800" cy="716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24280" y="-304920"/>
            <a:ext cx="4419720" cy="730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¡¡A’la chingad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enzeña este cabron? La musculatura, los pelambres o el calzon’prestado </a:t>
            </a:r>
            <a:r>
              <a:rPr b="1" lang="en-US" sz="2400" spc="-1" strike="noStrike">
                <a:solidFill>
                  <a:srgbClr val="99cc00"/>
                </a:solidFill>
                <a:latin typeface="Bookman Old Style"/>
              </a:rPr>
              <a:t>verde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320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81280" y="0"/>
            <a:ext cx="5562720" cy="684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Bookman Old Style"/>
              </a:rPr>
              <a:t>Y este tri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00ff"/>
                </a:solidFill>
                <a:latin typeface="Bookman Old Style"/>
              </a:rPr>
              <a:t>Traralailas” que se creen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putitos les salieron a sus papas 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obrecitos, no hay derecho (los papas, d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28960" y="0"/>
            <a:ext cx="5315040" cy="7086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4038480" cy="69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¿¿¿Que’inga no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e supone que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ve muy “sepz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con esa pinche cara de guevon 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dminis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5143680" cy="7086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24280" y="-33480"/>
            <a:ext cx="4419720" cy="769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te fue el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l intentar clon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Cantinf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on’da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¡!¡! No hay derecho ¡!¡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-380880"/>
            <a:ext cx="9144000" cy="143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Cada vez son mas los que salen del closet. Y mas en el tiempo de lluvia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-457200"/>
            <a:ext cx="91440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Uy no no no no, esta si se volo la barda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4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0"/>
            <a:ext cx="41148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CAR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ERA E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PERP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80880" y="-76320"/>
            <a:ext cx="5132160" cy="708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-304920"/>
            <a:ext cx="4419720" cy="93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que tal este luci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Picado a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de tall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Los unicos d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va a poder 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on lo que tien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la pared. jaj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045120"/>
            <a:ext cx="914400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ookman Old Style"/>
              </a:rPr>
              <a:t>Y esta si fue la mejor de todas, el monumento al “hambre, la Anorexia y a la puteria”. Y todavia </a:t>
            </a:r>
            <a:r>
              <a:rPr b="1" lang="en-US" sz="1800" spc="-1" strike="noStrike">
                <a:solidFill>
                  <a:srgbClr val="808080"/>
                </a:solidFill>
                <a:latin typeface="Bodoni MT Poster Compressed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doni MT Poster Compressed"/>
              </a:rPr>
              <a:t>ODIA EL GLAMOUR</a:t>
            </a:r>
            <a:r>
              <a:rPr b="0" lang="en-US" sz="1800" spc="-1" strike="noStrike">
                <a:solidFill>
                  <a:srgbClr val="808080"/>
                </a:solidFill>
                <a:latin typeface="Bodoni MT Poster Compressed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223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Por favor cuando se to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una pinche foto, observenla muy bi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pidan opiniones antes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subirlas en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My space</a:t>
            </a: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,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Hi5</a:t>
            </a: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,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cualquier otro sitio d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¡!¡!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 la chinguen ¡!¡!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0164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114800" cy="842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an chiquita y ya practicando las co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de l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Notese la h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para co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l banano y como lo apresa con los la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¿Se harà una exper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Y desde cuando hay juego de sapo en el “</a:t>
            </a:r>
            <a:r>
              <a:rPr b="1" lang="en-US" sz="2500" spc="-1" strike="noStrike">
                <a:solidFill>
                  <a:srgbClr val="ff3300"/>
                </a:solidFill>
                <a:latin typeface="Bookman Old Style"/>
              </a:rPr>
              <a:t>SUBA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”. Esto es toda una innovac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3822840" cy="693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9880" y="0"/>
            <a:ext cx="5334120" cy="804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pena cuando uno muestra tanto el hambre. Si eso fue con un abrazo, se imaginan que puede pasar solo con un bes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demas, notese la car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la damita, Ella sabe que no es la mano en su cintura, ok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3726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usted pagarìa por ese cor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No jodas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324480"/>
            <a:ext cx="91440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tara esperando a que la recogan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24280" y="-31680"/>
            <a:ext cx="7391520" cy="711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48006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tristeza lle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 viejo y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an ma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2:11:24Z</dcterms:created>
  <dc:creator>USER</dc:creator>
  <dc:description/>
  <dc:language>en-US</dc:language>
  <cp:lastModifiedBy>Recursos Humanos</cp:lastModifiedBy>
  <dcterms:modified xsi:type="dcterms:W3CDTF">2008-09-30T22:20:14Z</dcterms:modified>
  <cp:revision>27</cp:revision>
  <dc:subject/>
  <dc:title>Slide 1</dc:title>
</cp:coreProperties>
</file>