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669-9A71-4BB1-9AC3-EB3F18CF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414-F4A0-4AD9-AC97-EFE3885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F56-15CE-479C-B252-A17DB31E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D69-682E-42EF-88AF-78863D63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170-7CEB-4E7A-8FD1-37855395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B99-A82D-43ED-B3D2-0E60009B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1E6-BA8E-4D05-97B6-71D3DAD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62C-C2B1-47E4-A948-F76AB71E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612-2C54-4AB2-B7F2-9F6A80FA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FE5-4665-4372-84B1-4660D6D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D79-0466-40B1-827F-38A6D6E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BFD-2BD3-47F9-97BF-5E8FF03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157-C3A0-4D05-84F5-BA417FC6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8800"/>
            <a:ext cx="9144000" cy="608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5080" y="0"/>
            <a:ext cx="4532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0:36:30Z</dcterms:created>
  <dc:creator/>
  <dc:description/>
  <dc:language>en-US</dc:language>
  <cp:lastModifiedBy>Administrador</cp:lastModifiedBy>
  <dcterms:modified xsi:type="dcterms:W3CDTF">2007-08-18T14:55:06Z</dcterms:modified>
  <cp:revision>4</cp:revision>
  <dc:subject/>
  <dc:title>Diapositiva 1</dc:title>
</cp:coreProperties>
</file>