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C7A-1303-4B74-92DB-19C8C75E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CEC-FDEF-405C-91BD-4E1535A4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E39F-A78A-4E81-9F41-37870994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05AC-D0B5-4C17-8434-E872B0D1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D8DA-85D5-4296-BCDE-D310B467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264A-601A-47D0-B89C-4D41687A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1F7-B92A-4440-B54D-833D4C43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1B6-37EB-43BE-A56C-FEB66BBD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2A11-18D6-4AFA-979A-C9790A1C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7DC-F1C8-41D3-B55D-E49743C2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73C-CDE1-4748-94B9-37C4A5BD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9CA-92A9-41DB-8135-B88193A6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ABD7-4FF1-4089-B492-489BC9065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88800"/>
            <a:ext cx="9144000" cy="608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0:36:30Z</dcterms:created>
  <dc:creator/>
  <dc:description/>
  <dc:language>en-US</dc:language>
  <cp:lastModifiedBy>Administrador</cp:lastModifiedBy>
  <dcterms:modified xsi:type="dcterms:W3CDTF">2007-08-18T14:55:06Z</dcterms:modified>
  <cp:revision>4</cp:revision>
  <dc:subject/>
  <dc:title>Diapositiva 1</dc:title>
</cp:coreProperties>
</file>