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CAB-D3BC-4A55-BBA2-5723C372C6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B0B-1293-4703-8509-D07EFA75E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DFC-89C7-4C18-A765-33CCEC47D6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4B6-211E-4896-9F3A-B0939C39A6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C78-4C4E-4101-8F17-7B0931845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DC8-3DEB-4CE9-A054-6889B51831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B9C-A1F6-4B01-B4CE-15A8E2060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3C2-467F-4AA0-9152-071039143F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0D9-22DC-4E7C-A497-4043A095D9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79B-4E0F-44C6-8A45-F4FEECF79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328-FFF3-4127-A6C6-739C9A7B8E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9CB-AE6C-4628-A039-CAE317A88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-349200"/>
            <a:ext cx="746748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Handwriting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0" y="64771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Lucida Handwriting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Lucida Handwriting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271-FD01-4F85-A662-7B37F3E9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4.xml"/><Relationship Id="rId3" Type="http://schemas.openxmlformats.org/officeDocument/2006/relationships/image" Target="../media/image3.jpeg"/><Relationship Id="rId4" Type="http://schemas.openxmlformats.org/officeDocument/2006/relationships/slide" Target="slide14.xml"/><Relationship Id="rId5" Type="http://schemas.openxmlformats.org/officeDocument/2006/relationships/image" Target="../media/image4.jpeg"/><Relationship Id="rId6" Type="http://schemas.openxmlformats.org/officeDocument/2006/relationships/slide" Target="slide14.xml"/><Relationship Id="rId7" Type="http://schemas.openxmlformats.org/officeDocument/2006/relationships/image" Target="../media/image6.jpeg"/><Relationship Id="rId8" Type="http://schemas.openxmlformats.org/officeDocument/2006/relationships/slide" Target="slide14.xml"/><Relationship Id="rId9" Type="http://schemas.openxmlformats.org/officeDocument/2006/relationships/image" Target="../media/image7.jpeg"/><Relationship Id="rId10" Type="http://schemas.openxmlformats.org/officeDocument/2006/relationships/slide" Target="slide14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image" Target="../media/image3.jpeg"/><Relationship Id="rId4" Type="http://schemas.openxmlformats.org/officeDocument/2006/relationships/slide" Target="slide16.xml"/><Relationship Id="rId5" Type="http://schemas.openxmlformats.org/officeDocument/2006/relationships/image" Target="../media/image4.jpeg"/><Relationship Id="rId6" Type="http://schemas.openxmlformats.org/officeDocument/2006/relationships/slide" Target="slide16.xml"/><Relationship Id="rId7" Type="http://schemas.openxmlformats.org/officeDocument/2006/relationships/image" Target="../media/image6.jpeg"/><Relationship Id="rId8" Type="http://schemas.openxmlformats.org/officeDocument/2006/relationships/slide" Target="slide16.xml"/><Relationship Id="rId9" Type="http://schemas.openxmlformats.org/officeDocument/2006/relationships/image" Target="../media/image7.jpeg"/><Relationship Id="rId10" Type="http://schemas.openxmlformats.org/officeDocument/2006/relationships/slide" Target="slide16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8.xml"/><Relationship Id="rId3" Type="http://schemas.openxmlformats.org/officeDocument/2006/relationships/image" Target="../media/image3.jpeg"/><Relationship Id="rId4" Type="http://schemas.openxmlformats.org/officeDocument/2006/relationships/slide" Target="slide18.xml"/><Relationship Id="rId5" Type="http://schemas.openxmlformats.org/officeDocument/2006/relationships/image" Target="../media/image4.jpeg"/><Relationship Id="rId6" Type="http://schemas.openxmlformats.org/officeDocument/2006/relationships/slide" Target="slide18.xml"/><Relationship Id="rId7" Type="http://schemas.openxmlformats.org/officeDocument/2006/relationships/image" Target="../media/image6.jpeg"/><Relationship Id="rId8" Type="http://schemas.openxmlformats.org/officeDocument/2006/relationships/slide" Target="slide18.xml"/><Relationship Id="rId9" Type="http://schemas.openxmlformats.org/officeDocument/2006/relationships/image" Target="../media/image7.jpeg"/><Relationship Id="rId10" Type="http://schemas.openxmlformats.org/officeDocument/2006/relationships/slide" Target="slide18.xml"/><Relationship Id="rId11" Type="http://schemas.openxmlformats.org/officeDocument/2006/relationships/image" Target="../media/image8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17.xml"/><Relationship Id="rId9" Type="http://schemas.openxmlformats.org/officeDocument/2006/relationships/image" Target="../media/image5.jpeg"/><Relationship Id="rId10" Type="http://schemas.openxmlformats.org/officeDocument/2006/relationships/slide" Target="slide21.xml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1.xml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5.jpeg"/><Relationship Id="rId9" Type="http://schemas.openxmlformats.org/officeDocument/2006/relationships/slide" Target="slide23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4.xml"/><Relationship Id="rId9" Type="http://schemas.openxmlformats.org/officeDocument/2006/relationships/image" Target="../media/image6.jpeg"/><Relationship Id="rId10" Type="http://schemas.openxmlformats.org/officeDocument/2006/relationships/slide" Target="slide4.xml"/><Relationship Id="rId11" Type="http://schemas.openxmlformats.org/officeDocument/2006/relationships/image" Target="../media/image7.jpeg"/><Relationship Id="rId12" Type="http://schemas.openxmlformats.org/officeDocument/2006/relationships/slide" Target="slide4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" Target="slide24.xml"/><Relationship Id="rId5" Type="http://schemas.openxmlformats.org/officeDocument/2006/relationships/image" Target="../media/image3.jpeg"/><Relationship Id="rId6" Type="http://schemas.openxmlformats.org/officeDocument/2006/relationships/slide" Target="slide24.xml"/><Relationship Id="rId7" Type="http://schemas.openxmlformats.org/officeDocument/2006/relationships/image" Target="../media/image4.jpeg"/><Relationship Id="rId8" Type="http://schemas.openxmlformats.org/officeDocument/2006/relationships/slide" Target="slide24.xml"/><Relationship Id="rId9" Type="http://schemas.openxmlformats.org/officeDocument/2006/relationships/image" Target="../media/image5.jpeg"/><Relationship Id="rId10" Type="http://schemas.openxmlformats.org/officeDocument/2006/relationships/slide" Target="slide24.xml"/><Relationship Id="rId11" Type="http://schemas.openxmlformats.org/officeDocument/2006/relationships/image" Target="../media/image7.jpeg"/><Relationship Id="rId12" Type="http://schemas.openxmlformats.org/officeDocument/2006/relationships/slide" Target="slide24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" Target="slide26.xml"/><Relationship Id="rId5" Type="http://schemas.openxmlformats.org/officeDocument/2006/relationships/image" Target="../media/image3.jpeg"/><Relationship Id="rId6" Type="http://schemas.openxmlformats.org/officeDocument/2006/relationships/slide" Target="slide26.xml"/><Relationship Id="rId7" Type="http://schemas.openxmlformats.org/officeDocument/2006/relationships/image" Target="../media/image4.jpeg"/><Relationship Id="rId8" Type="http://schemas.openxmlformats.org/officeDocument/2006/relationships/slide" Target="slide26.xml"/><Relationship Id="rId9" Type="http://schemas.openxmlformats.org/officeDocument/2006/relationships/image" Target="../media/image5.jpeg"/><Relationship Id="rId10" Type="http://schemas.openxmlformats.org/officeDocument/2006/relationships/slide" Target="slide26.xml"/><Relationship Id="rId11" Type="http://schemas.openxmlformats.org/officeDocument/2006/relationships/image" Target="../media/image7.jpeg"/><Relationship Id="rId12" Type="http://schemas.openxmlformats.org/officeDocument/2006/relationships/slide" Target="slide26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" Target="slide28.xml"/><Relationship Id="rId5" Type="http://schemas.openxmlformats.org/officeDocument/2006/relationships/image" Target="../media/image3.jpeg"/><Relationship Id="rId6" Type="http://schemas.openxmlformats.org/officeDocument/2006/relationships/slide" Target="slide28.xml"/><Relationship Id="rId7" Type="http://schemas.openxmlformats.org/officeDocument/2006/relationships/image" Target="../media/image4.jpeg"/><Relationship Id="rId8" Type="http://schemas.openxmlformats.org/officeDocument/2006/relationships/slide" Target="slide28.xml"/><Relationship Id="rId9" Type="http://schemas.openxmlformats.org/officeDocument/2006/relationships/image" Target="../media/image5.jpeg"/><Relationship Id="rId10" Type="http://schemas.openxmlformats.org/officeDocument/2006/relationships/slide" Target="slide28.xml"/><Relationship Id="rId11" Type="http://schemas.openxmlformats.org/officeDocument/2006/relationships/image" Target="../media/image7.jpeg"/><Relationship Id="rId12" Type="http://schemas.openxmlformats.org/officeDocument/2006/relationships/slide" Target="slide28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1.xml"/><Relationship Id="rId3" Type="http://schemas.openxmlformats.org/officeDocument/2006/relationships/image" Target="../media/image6.jpeg"/><Relationship Id="rId4" Type="http://schemas.openxmlformats.org/officeDocument/2006/relationships/slide" Target="slide30.xml"/><Relationship Id="rId5" Type="http://schemas.openxmlformats.org/officeDocument/2006/relationships/image" Target="../media/image3.jpeg"/><Relationship Id="rId6" Type="http://schemas.openxmlformats.org/officeDocument/2006/relationships/slide" Target="slide30.xml"/><Relationship Id="rId7" Type="http://schemas.openxmlformats.org/officeDocument/2006/relationships/image" Target="../media/image4.jpeg"/><Relationship Id="rId8" Type="http://schemas.openxmlformats.org/officeDocument/2006/relationships/slide" Target="slide30.xml"/><Relationship Id="rId9" Type="http://schemas.openxmlformats.org/officeDocument/2006/relationships/image" Target="../media/image5.jpeg"/><Relationship Id="rId10" Type="http://schemas.openxmlformats.org/officeDocument/2006/relationships/slide" Target="slide30.xml"/><Relationship Id="rId11" Type="http://schemas.openxmlformats.org/officeDocument/2006/relationships/image" Target="../media/image7.jpeg"/><Relationship Id="rId12" Type="http://schemas.openxmlformats.org/officeDocument/2006/relationships/slide" Target="slide30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3.xml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3.xm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4.xml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6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6.jpeg"/><Relationship Id="rId9" Type="http://schemas.openxmlformats.org/officeDocument/2006/relationships/slide" Target="slide35.xml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6.xml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6.jpeg"/><Relationship Id="rId10" Type="http://schemas.openxmlformats.org/officeDocument/2006/relationships/slide" Target="slide36.xml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7.xml"/><Relationship Id="rId3" Type="http://schemas.openxmlformats.org/officeDocument/2006/relationships/image" Target="../media/image3.jpeg"/><Relationship Id="rId4" Type="http://schemas.openxmlformats.org/officeDocument/2006/relationships/slide" Target="slide37.xml"/><Relationship Id="rId5" Type="http://schemas.openxmlformats.org/officeDocument/2006/relationships/image" Target="../media/image4.jpeg"/><Relationship Id="rId6" Type="http://schemas.openxmlformats.org/officeDocument/2006/relationships/slide" Target="slide37.xml"/><Relationship Id="rId7" Type="http://schemas.openxmlformats.org/officeDocument/2006/relationships/image" Target="../media/image5.jpeg"/><Relationship Id="rId8" Type="http://schemas.openxmlformats.org/officeDocument/2006/relationships/slide" Target="slide37.xml"/><Relationship Id="rId9" Type="http://schemas.openxmlformats.org/officeDocument/2006/relationships/image" Target="../media/image6.jpeg"/><Relationship Id="rId10" Type="http://schemas.openxmlformats.org/officeDocument/2006/relationships/slide" Target="slide37.xml"/><Relationship Id="rId11" Type="http://schemas.openxmlformats.org/officeDocument/2006/relationships/image" Target="../media/image8.jpeg"/><Relationship Id="rId12" Type="http://schemas.openxmlformats.org/officeDocument/2006/relationships/slide" Target="slide38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9.xml"/><Relationship Id="rId3" Type="http://schemas.openxmlformats.org/officeDocument/2006/relationships/image" Target="../media/image3.jpeg"/><Relationship Id="rId4" Type="http://schemas.openxmlformats.org/officeDocument/2006/relationships/slide" Target="slide39.xml"/><Relationship Id="rId5" Type="http://schemas.openxmlformats.org/officeDocument/2006/relationships/image" Target="../media/image4.jpeg"/><Relationship Id="rId6" Type="http://schemas.openxmlformats.org/officeDocument/2006/relationships/slide" Target="slide39.xml"/><Relationship Id="rId7" Type="http://schemas.openxmlformats.org/officeDocument/2006/relationships/image" Target="../media/image5.jpeg"/><Relationship Id="rId8" Type="http://schemas.openxmlformats.org/officeDocument/2006/relationships/slide" Target="slide39.xml"/><Relationship Id="rId9" Type="http://schemas.openxmlformats.org/officeDocument/2006/relationships/image" Target="../media/image6.jpeg"/><Relationship Id="rId10" Type="http://schemas.openxmlformats.org/officeDocument/2006/relationships/slide" Target="slide39.xml"/><Relationship Id="rId11" Type="http://schemas.openxmlformats.org/officeDocument/2006/relationships/image" Target="../media/image8.jpeg"/><Relationship Id="rId12" Type="http://schemas.openxmlformats.org/officeDocument/2006/relationships/slide" Target="slide40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1.xml"/><Relationship Id="rId3" Type="http://schemas.openxmlformats.org/officeDocument/2006/relationships/image" Target="../media/image3.jpeg"/><Relationship Id="rId4" Type="http://schemas.openxmlformats.org/officeDocument/2006/relationships/slide" Target="slide41.xml"/><Relationship Id="rId5" Type="http://schemas.openxmlformats.org/officeDocument/2006/relationships/image" Target="../media/image4.jpeg"/><Relationship Id="rId6" Type="http://schemas.openxmlformats.org/officeDocument/2006/relationships/slide" Target="slide41.xml"/><Relationship Id="rId7" Type="http://schemas.openxmlformats.org/officeDocument/2006/relationships/image" Target="../media/image5.jpeg"/><Relationship Id="rId8" Type="http://schemas.openxmlformats.org/officeDocument/2006/relationships/slide" Target="slide41.xml"/><Relationship Id="rId9" Type="http://schemas.openxmlformats.org/officeDocument/2006/relationships/image" Target="../media/image6.jpeg"/><Relationship Id="rId10" Type="http://schemas.openxmlformats.org/officeDocument/2006/relationships/slide" Target="slide41.xml"/><Relationship Id="rId11" Type="http://schemas.openxmlformats.org/officeDocument/2006/relationships/image" Target="../media/image8.jpeg"/><Relationship Id="rId12" Type="http://schemas.openxmlformats.org/officeDocument/2006/relationships/slide" Target="slide4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3.xml"/><Relationship Id="rId3" Type="http://schemas.openxmlformats.org/officeDocument/2006/relationships/image" Target="../media/image3.jpeg"/><Relationship Id="rId4" Type="http://schemas.openxmlformats.org/officeDocument/2006/relationships/slide" Target="slide43.xml"/><Relationship Id="rId5" Type="http://schemas.openxmlformats.org/officeDocument/2006/relationships/image" Target="../media/image4.jpeg"/><Relationship Id="rId6" Type="http://schemas.openxmlformats.org/officeDocument/2006/relationships/slide" Target="slide43.xml"/><Relationship Id="rId7" Type="http://schemas.openxmlformats.org/officeDocument/2006/relationships/image" Target="../media/image5.jpeg"/><Relationship Id="rId8" Type="http://schemas.openxmlformats.org/officeDocument/2006/relationships/slide" Target="slide43.xml"/><Relationship Id="rId9" Type="http://schemas.openxmlformats.org/officeDocument/2006/relationships/image" Target="../media/image6.jpeg"/><Relationship Id="rId10" Type="http://schemas.openxmlformats.org/officeDocument/2006/relationships/slide" Target="slide43.xml"/><Relationship Id="rId11" Type="http://schemas.openxmlformats.org/officeDocument/2006/relationships/image" Target="../media/image8.jpeg"/><Relationship Id="rId12" Type="http://schemas.openxmlformats.org/officeDocument/2006/relationships/slide" Target="slide44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45.xml"/><Relationship Id="rId3" Type="http://schemas.openxmlformats.org/officeDocument/2006/relationships/image" Target="../media/image3.jpeg"/><Relationship Id="rId4" Type="http://schemas.openxmlformats.org/officeDocument/2006/relationships/slide" Target="slide45.xml"/><Relationship Id="rId5" Type="http://schemas.openxmlformats.org/officeDocument/2006/relationships/image" Target="../media/image4.jpeg"/><Relationship Id="rId6" Type="http://schemas.openxmlformats.org/officeDocument/2006/relationships/slide" Target="slide45.xml"/><Relationship Id="rId7" Type="http://schemas.openxmlformats.org/officeDocument/2006/relationships/image" Target="../media/image5.jpeg"/><Relationship Id="rId8" Type="http://schemas.openxmlformats.org/officeDocument/2006/relationships/slide" Target="slide45.xml"/><Relationship Id="rId9" Type="http://schemas.openxmlformats.org/officeDocument/2006/relationships/image" Target="../media/image6.jpeg"/><Relationship Id="rId10" Type="http://schemas.openxmlformats.org/officeDocument/2006/relationships/slide" Target="slide45.xml"/><Relationship Id="rId11" Type="http://schemas.openxmlformats.org/officeDocument/2006/relationships/image" Target="../media/image8.jpeg"/><Relationship Id="rId12" Type="http://schemas.openxmlformats.org/officeDocument/2006/relationships/slide" Target="slide46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7.xml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8.xml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8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" Target="slide5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9.xml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49.xml"/><Relationship Id="rId1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0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0.xml"/><Relationship Id="rId10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1.xml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1.xml"/><Relationship Id="rId10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" Target="slide52.xml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4.xml"/><Relationship Id="rId3" Type="http://schemas.openxmlformats.org/officeDocument/2006/relationships/image" Target="../media/image8.jpeg"/><Relationship Id="rId4" Type="http://schemas.openxmlformats.org/officeDocument/2006/relationships/slide" Target="slide53.xml"/><Relationship Id="rId5" Type="http://schemas.openxmlformats.org/officeDocument/2006/relationships/image" Target="../media/image4.jpeg"/><Relationship Id="rId6" Type="http://schemas.openxmlformats.org/officeDocument/2006/relationships/slide" Target="slide53.xml"/><Relationship Id="rId7" Type="http://schemas.openxmlformats.org/officeDocument/2006/relationships/image" Target="../media/image5.jpeg"/><Relationship Id="rId8" Type="http://schemas.openxmlformats.org/officeDocument/2006/relationships/slide" Target="slide53.xml"/><Relationship Id="rId9" Type="http://schemas.openxmlformats.org/officeDocument/2006/relationships/image" Target="../media/image6.jpeg"/><Relationship Id="rId10" Type="http://schemas.openxmlformats.org/officeDocument/2006/relationships/slide" Target="slide53.xml"/><Relationship Id="rId11" Type="http://schemas.openxmlformats.org/officeDocument/2006/relationships/image" Target="../media/image7.jpeg"/><Relationship Id="rId12" Type="http://schemas.openxmlformats.org/officeDocument/2006/relationships/slide" Target="slide53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6.xml"/><Relationship Id="rId3" Type="http://schemas.openxmlformats.org/officeDocument/2006/relationships/image" Target="../media/image8.jpeg"/><Relationship Id="rId4" Type="http://schemas.openxmlformats.org/officeDocument/2006/relationships/slide" Target="slide55.xml"/><Relationship Id="rId5" Type="http://schemas.openxmlformats.org/officeDocument/2006/relationships/image" Target="../media/image4.jpeg"/><Relationship Id="rId6" Type="http://schemas.openxmlformats.org/officeDocument/2006/relationships/slide" Target="slide55.xml"/><Relationship Id="rId7" Type="http://schemas.openxmlformats.org/officeDocument/2006/relationships/image" Target="../media/image5.jpeg"/><Relationship Id="rId8" Type="http://schemas.openxmlformats.org/officeDocument/2006/relationships/slide" Target="slide55.xml"/><Relationship Id="rId9" Type="http://schemas.openxmlformats.org/officeDocument/2006/relationships/image" Target="../media/image6.jpeg"/><Relationship Id="rId10" Type="http://schemas.openxmlformats.org/officeDocument/2006/relationships/slide" Target="slide55.xml"/><Relationship Id="rId11" Type="http://schemas.openxmlformats.org/officeDocument/2006/relationships/image" Target="../media/image7.jpeg"/><Relationship Id="rId12" Type="http://schemas.openxmlformats.org/officeDocument/2006/relationships/slide" Target="slide55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8.xml"/><Relationship Id="rId3" Type="http://schemas.openxmlformats.org/officeDocument/2006/relationships/image" Target="../media/image8.jpeg"/><Relationship Id="rId4" Type="http://schemas.openxmlformats.org/officeDocument/2006/relationships/slide" Target="slide57.xml"/><Relationship Id="rId5" Type="http://schemas.openxmlformats.org/officeDocument/2006/relationships/image" Target="../media/image4.jpeg"/><Relationship Id="rId6" Type="http://schemas.openxmlformats.org/officeDocument/2006/relationships/slide" Target="slide57.xml"/><Relationship Id="rId7" Type="http://schemas.openxmlformats.org/officeDocument/2006/relationships/image" Target="../media/image5.jpeg"/><Relationship Id="rId8" Type="http://schemas.openxmlformats.org/officeDocument/2006/relationships/slide" Target="slide57.xml"/><Relationship Id="rId9" Type="http://schemas.openxmlformats.org/officeDocument/2006/relationships/image" Target="../media/image6.jpeg"/><Relationship Id="rId10" Type="http://schemas.openxmlformats.org/officeDocument/2006/relationships/slide" Target="slide57.xml"/><Relationship Id="rId11" Type="http://schemas.openxmlformats.org/officeDocument/2006/relationships/image" Target="../media/image7.jpeg"/><Relationship Id="rId12" Type="http://schemas.openxmlformats.org/officeDocument/2006/relationships/slide" Target="slide57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image" Target="../media/image4.jpeg"/><Relationship Id="rId4" Type="http://schemas.openxmlformats.org/officeDocument/2006/relationships/slide" Target="slide10.xml"/><Relationship Id="rId5" Type="http://schemas.openxmlformats.org/officeDocument/2006/relationships/image" Target="../media/image3.jpeg"/><Relationship Id="rId6" Type="http://schemas.openxmlformats.org/officeDocument/2006/relationships/slide" Target="slide10.xml"/><Relationship Id="rId7" Type="http://schemas.openxmlformats.org/officeDocument/2006/relationships/image" Target="../media/image5.jpeg"/><Relationship Id="rId8" Type="http://schemas.openxmlformats.org/officeDocument/2006/relationships/slide" Target="slide10.xml"/><Relationship Id="rId9" Type="http://schemas.openxmlformats.org/officeDocument/2006/relationships/image" Target="../media/image6.jpeg"/><Relationship Id="rId10" Type="http://schemas.openxmlformats.org/officeDocument/2006/relationships/slide" Target="slide10.xml"/><Relationship Id="rId11" Type="http://schemas.openxmlformats.org/officeDocument/2006/relationships/image" Target="../media/image7.jpeg"/><Relationship Id="rId12" Type="http://schemas.openxmlformats.org/officeDocument/2006/relationships/slide" Target="slide10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0.xml"/><Relationship Id="rId3" Type="http://schemas.openxmlformats.org/officeDocument/2006/relationships/image" Target="../media/image8.jpeg"/><Relationship Id="rId4" Type="http://schemas.openxmlformats.org/officeDocument/2006/relationships/slide" Target="slide59.xml"/><Relationship Id="rId5" Type="http://schemas.openxmlformats.org/officeDocument/2006/relationships/image" Target="../media/image4.jpeg"/><Relationship Id="rId6" Type="http://schemas.openxmlformats.org/officeDocument/2006/relationships/slide" Target="slide59.xml"/><Relationship Id="rId7" Type="http://schemas.openxmlformats.org/officeDocument/2006/relationships/image" Target="../media/image5.jpeg"/><Relationship Id="rId8" Type="http://schemas.openxmlformats.org/officeDocument/2006/relationships/slide" Target="slide59.xml"/><Relationship Id="rId9" Type="http://schemas.openxmlformats.org/officeDocument/2006/relationships/image" Target="../media/image6.jpeg"/><Relationship Id="rId10" Type="http://schemas.openxmlformats.org/officeDocument/2006/relationships/slide" Target="slide59.xml"/><Relationship Id="rId11" Type="http://schemas.openxmlformats.org/officeDocument/2006/relationships/image" Target="../media/image7.jpeg"/><Relationship Id="rId12" Type="http://schemas.openxmlformats.org/officeDocument/2006/relationships/slide" Target="slide59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" Target="slide61.xml"/><Relationship Id="rId4" Type="http://schemas.openxmlformats.org/officeDocument/2006/relationships/image" Target="../media/image4.jpeg"/><Relationship Id="rId5" Type="http://schemas.openxmlformats.org/officeDocument/2006/relationships/slide" Target="slide61.xml"/><Relationship Id="rId6" Type="http://schemas.openxmlformats.org/officeDocument/2006/relationships/image" Target="../media/image5.jpeg"/><Relationship Id="rId7" Type="http://schemas.openxmlformats.org/officeDocument/2006/relationships/slide" Target="slide61.xml"/><Relationship Id="rId8" Type="http://schemas.openxmlformats.org/officeDocument/2006/relationships/image" Target="../media/image6.jpeg"/><Relationship Id="rId9" Type="http://schemas.openxmlformats.org/officeDocument/2006/relationships/slide" Target="slide61.xml"/><Relationship Id="rId10" Type="http://schemas.openxmlformats.org/officeDocument/2006/relationships/image" Target="../media/image7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3.jpeg"/><Relationship Id="rId6" Type="http://schemas.openxmlformats.org/officeDocument/2006/relationships/slide" Target="slide9.xml"/><Relationship Id="rId7" Type="http://schemas.openxmlformats.org/officeDocument/2006/relationships/image" Target="../media/image5.jpeg"/><Relationship Id="rId8" Type="http://schemas.openxmlformats.org/officeDocument/2006/relationships/slide" Target="slide9.xml"/><Relationship Id="rId9" Type="http://schemas.openxmlformats.org/officeDocument/2006/relationships/image" Target="../media/image6.jpeg"/><Relationship Id="rId10" Type="http://schemas.openxmlformats.org/officeDocument/2006/relationships/slide" Target="slide9.xml"/><Relationship Id="rId11" Type="http://schemas.openxmlformats.org/officeDocument/2006/relationships/image" Target="../media/image7.jpeg"/><Relationship Id="rId12" Type="http://schemas.openxmlformats.org/officeDocument/2006/relationships/slide" Target="slide9.xml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3.xml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4.jpeg"/><Relationship Id="rId9" Type="http://schemas.openxmlformats.org/officeDocument/2006/relationships/slide" Target="slide12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960" y="1979280"/>
            <a:ext cx="65530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A chacun son truc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Milano LET"/>
              </a:rPr>
              <a:t>Diaporama exclusivement réservé aux femmes !!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G P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 n’es vraiment pas très observatric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0666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n’es pas si mauvaise que ç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9800" cy="6553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3848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 petit effor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428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1480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e, pour une championne comme toi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le fais exprè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600200" y="5334120"/>
            <a:ext cx="685800" cy="95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 commençais à désespér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28560" cy="981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! Gag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0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le fais exprè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mal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8080" cy="6705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22520" y="5257800"/>
            <a:ext cx="663480" cy="1035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é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0" y="5257800"/>
            <a:ext cx="349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tit manque d’attentio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495680" y="5257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expert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99120" cy="66294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52680" y="88920"/>
            <a:ext cx="4572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iap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itive N° 3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608040" cy="9478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944640" cy="1079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6934320" y="152388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5181480" y="4102200"/>
            <a:ext cx="804960" cy="1079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907920" cy="107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692280" cy="107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029200" y="990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é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26668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35360" y="4005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z pour remettre la « chose » e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1360" y="479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bonne réponse au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sai:1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n’es pas si mauvaise que ç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6708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 second petit effor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6708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l’instant une seul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14800" y="22536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l’instant tu as tout ju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0492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14800" y="22536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495680" y="548640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possi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45720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990720" y="4952880"/>
            <a:ext cx="874440" cy="12193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mis tes lunet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457200"/>
            <a:ext cx="4448160" cy="6095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8"/>
          <a:stretch/>
        </p:blipFill>
        <p:spPr>
          <a:xfrm>
            <a:off x="990720" y="4952880"/>
            <a:ext cx="87444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 !! 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pourrais mettre tes lunet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3360" y="12600"/>
            <a:ext cx="47242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l’instant 50% de réus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Ah!! 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ne t’intéresse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495680" y="5486400"/>
            <a:ext cx="35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l’instant 75% de réus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9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 - Résultat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4267080" y="5791320"/>
            <a:ext cx="1008360" cy="50472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38" h="21600">
                <a:moveTo>
                  <a:pt x="0" y="0"/>
                </a:moveTo>
                <a:lnTo>
                  <a:pt x="43138" y="0"/>
                </a:lnTo>
                <a:lnTo>
                  <a:pt x="43138" y="21600"/>
                </a:lnTo>
                <a:lnTo>
                  <a:pt x="0" y="21600"/>
                </a:lnTo>
                <a:close/>
              </a:path>
              <a:path fill="lightenLess" w="43138" h="21600">
                <a:moveTo>
                  <a:pt x="0" y="0"/>
                </a:moveTo>
                <a:lnTo>
                  <a:pt x="43138" y="0"/>
                </a:lnTo>
                <a:lnTo>
                  <a:pt x="41738" y="1400"/>
                </a:lnTo>
                <a:lnTo>
                  <a:pt x="1400" y="1400"/>
                </a:lnTo>
                <a:close/>
              </a:path>
              <a:path fill="darken" w="43138" h="21600">
                <a:moveTo>
                  <a:pt x="43138" y="0"/>
                </a:moveTo>
                <a:lnTo>
                  <a:pt x="43138" y="21600"/>
                </a:lnTo>
                <a:lnTo>
                  <a:pt x="41738" y="20200"/>
                </a:lnTo>
                <a:lnTo>
                  <a:pt x="41738" y="1400"/>
                </a:lnTo>
                <a:close/>
              </a:path>
              <a:path fill="darkenLess" w="43138" h="21600">
                <a:moveTo>
                  <a:pt x="43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8" y="20200"/>
                </a:lnTo>
                <a:close/>
              </a:path>
              <a:path fill="lighten" w="43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8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066680" y="4746600"/>
            <a:ext cx="920880" cy="89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5780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35360" y="400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 coup d’œil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066680"/>
            <a:ext cx="144756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343400" y="548640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rId9" action="ppaction://hlinksldjump"/>
          </p:cNvPr>
          <p:cNvSpPr/>
          <p:nvPr/>
        </p:nvSpPr>
        <p:spPr>
          <a:xfrm>
            <a:off x="5638680" y="6348240"/>
            <a:ext cx="1008360" cy="505080"/>
          </a:xfrm>
          <a:custGeom>
            <a:avLst/>
            <a:gdLst>
              <a:gd name="textAreaLeft" fmla="*/ 32400 w 1008360"/>
              <a:gd name="textAreaRight" fmla="*/ 975600 w 1008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108" h="21600">
                <a:moveTo>
                  <a:pt x="0" y="0"/>
                </a:moveTo>
                <a:lnTo>
                  <a:pt x="43108" y="0"/>
                </a:lnTo>
                <a:lnTo>
                  <a:pt x="43108" y="21600"/>
                </a:lnTo>
                <a:lnTo>
                  <a:pt x="0" y="21600"/>
                </a:lnTo>
                <a:close/>
              </a:path>
              <a:path fill="lightenLess" w="43108" h="21600">
                <a:moveTo>
                  <a:pt x="0" y="0"/>
                </a:moveTo>
                <a:lnTo>
                  <a:pt x="43108" y="0"/>
                </a:lnTo>
                <a:lnTo>
                  <a:pt x="41708" y="1400"/>
                </a:lnTo>
                <a:lnTo>
                  <a:pt x="1400" y="1400"/>
                </a:lnTo>
                <a:close/>
              </a:path>
              <a:path fill="darken" w="43108" h="21600">
                <a:moveTo>
                  <a:pt x="43108" y="0"/>
                </a:moveTo>
                <a:lnTo>
                  <a:pt x="43108" y="21600"/>
                </a:lnTo>
                <a:lnTo>
                  <a:pt x="41708" y="20200"/>
                </a:lnTo>
                <a:lnTo>
                  <a:pt x="41708" y="1400"/>
                </a:lnTo>
                <a:close/>
              </a:path>
              <a:path fill="darkenLess" w="43108" h="21600">
                <a:moveTo>
                  <a:pt x="43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08" y="20200"/>
                </a:lnTo>
                <a:close/>
              </a:path>
              <a:path fill="lighten" w="43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08" h="21600">
                <a:moveTo>
                  <a:pt x="14547" y="3794"/>
                </a:moveTo>
                <a:lnTo>
                  <a:pt x="28560" y="10800"/>
                </a:lnTo>
                <a:lnTo>
                  <a:pt x="14547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495680" y="548640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 de do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une spécialist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0" t="11126" r="0" b="0"/>
          <a:stretch/>
        </p:blipFill>
        <p:spPr>
          <a:xfrm>
            <a:off x="0" y="380880"/>
            <a:ext cx="4448160" cy="60962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282420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5029200" y="137628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5"/>
          <a:stretch/>
        </p:blipFill>
        <p:spPr>
          <a:xfrm>
            <a:off x="6934320" y="4272120"/>
            <a:ext cx="927000" cy="1223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5141880" y="4272120"/>
            <a:ext cx="801720" cy="1223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5029200" y="2824200"/>
            <a:ext cx="1030320" cy="1224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6934320" y="1371600"/>
            <a:ext cx="981000" cy="1224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"/>
          <a:stretch/>
        </p:blipFill>
        <p:spPr>
          <a:xfrm>
            <a:off x="990720" y="4876920"/>
            <a:ext cx="874440" cy="12189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838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10" action="ppaction://hlinksldjump"/>
          </p:cNvPr>
          <p:cNvSpPr/>
          <p:nvPr/>
        </p:nvSpPr>
        <p:spPr>
          <a:xfrm>
            <a:off x="5791320" y="63532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09680" y="12600"/>
            <a:ext cx="4724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4 - Résult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ore actu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>
            <a:off x="6553080" y="274320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Observes bien, et mets tes lunet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4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800600" y="563868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Observes bien, tu en as déjà trouvé un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5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4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4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5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Tu devrais trouv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5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6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6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7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7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800600" y="563868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Facile pour to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8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8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9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9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0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Avec aucune erreur, cela devrait être faci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33720" y="126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7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1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2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2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3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est pas possib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3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4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4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5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5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c des lunet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va mieux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88040" y="3049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Enfin ! 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6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6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7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17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18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343400" y="5105520"/>
            <a:ext cx="372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re un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s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s enfin, regardes la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18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19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0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0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8080"/>
            <a:ext cx="74674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Diapositive N° 1 - Résultat</a:t>
            </a:r>
            <a:br>
              <a:rPr sz="2600"/>
            </a:br>
            <a:r>
              <a:rPr b="0" lang="en-US" sz="26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3390840" cy="518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23000" y="1295280"/>
            <a:ext cx="920880" cy="97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99000" y="1295280"/>
            <a:ext cx="870120" cy="959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19720" y="1295280"/>
            <a:ext cx="79380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572080" y="2514600"/>
            <a:ext cx="75096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419720" y="25146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727680" y="2514600"/>
            <a:ext cx="968400" cy="10796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4267080" y="5791320"/>
            <a:ext cx="1008360" cy="50472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38" h="21600">
                <a:moveTo>
                  <a:pt x="0" y="0"/>
                </a:moveTo>
                <a:lnTo>
                  <a:pt x="43138" y="0"/>
                </a:lnTo>
                <a:lnTo>
                  <a:pt x="43138" y="21600"/>
                </a:lnTo>
                <a:lnTo>
                  <a:pt x="0" y="21600"/>
                </a:lnTo>
                <a:close/>
              </a:path>
              <a:path fill="lightenLess" w="43138" h="21600">
                <a:moveTo>
                  <a:pt x="0" y="0"/>
                </a:moveTo>
                <a:lnTo>
                  <a:pt x="43138" y="0"/>
                </a:lnTo>
                <a:lnTo>
                  <a:pt x="41738" y="1400"/>
                </a:lnTo>
                <a:lnTo>
                  <a:pt x="1400" y="1400"/>
                </a:lnTo>
                <a:close/>
              </a:path>
              <a:path fill="darken" w="43138" h="21600">
                <a:moveTo>
                  <a:pt x="43138" y="0"/>
                </a:moveTo>
                <a:lnTo>
                  <a:pt x="43138" y="21600"/>
                </a:lnTo>
                <a:lnTo>
                  <a:pt x="41738" y="20200"/>
                </a:lnTo>
                <a:lnTo>
                  <a:pt x="41738" y="1400"/>
                </a:lnTo>
                <a:close/>
              </a:path>
              <a:path fill="darkenLess" w="43138" h="21600">
                <a:moveTo>
                  <a:pt x="43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8" y="20200"/>
                </a:lnTo>
                <a:close/>
              </a:path>
              <a:path fill="lighten" w="43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8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1066680" y="4746600"/>
            <a:ext cx="914400" cy="89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00536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là la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1066680"/>
            <a:ext cx="144756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commences à t’intéress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1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1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2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2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3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0320" cy="1074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495680" y="5105520"/>
            <a:ext cx="357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re un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ne t’intéresses pa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4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4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5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5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6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495680" y="518148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commences à t’intéresse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66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71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27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28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28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s bien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292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29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0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0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1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343400" y="518148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 ma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seule erreur pour l’instan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1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2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28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33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495680" y="5481720"/>
            <a:ext cx="357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était pourtant facil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188040" y="380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4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4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5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59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64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2600" cy="6629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858000" y="3692520"/>
            <a:ext cx="976320" cy="11127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105520" y="1101600"/>
            <a:ext cx="903240" cy="11131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29560" y="1066680"/>
            <a:ext cx="963360" cy="11131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5116680" y="2397240"/>
            <a:ext cx="903240" cy="11127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6858000" y="2397240"/>
            <a:ext cx="903240" cy="111276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33720" y="-76680"/>
            <a:ext cx="41148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5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1600200" y="5257800"/>
            <a:ext cx="1031760" cy="10764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/>
          <a:stretch/>
        </p:blipFill>
        <p:spPr>
          <a:xfrm>
            <a:off x="5105520" y="3692520"/>
            <a:ext cx="1066680" cy="11127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343400" y="5181480"/>
            <a:ext cx="372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ea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une erreur pour l’instan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88040" y="457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rId9" action="ppaction://hlinksldjump"/>
          </p:cNvPr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3581280"/>
            <a:ext cx="1600200" cy="1447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7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7 -0.029 -0.012 -0.044 -0.012 C -0.114 -0.012 -0.169 0.064 -0.169 0.156 C -0.169 0.24667 -0.114 0.32133 -0.044 0.32133 C -0.029 0.32133 -0.014 0.31733 0 0.31067 C -0.047 0.28667 -0.08 0.22667 -0.08 0.156 C -0.08 0.084 -0.047 0.024 0 0 Z">
                                      <p:cBhvr>
                                        <p:cTn id="37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C -0.0007 0.05092 0.04305 0.09583 0.09809 0.09745 C 0.14184 0.10185 0.1776 0.07731 0.17847 0.04676 C 0.17847 0.01643 0.14323 -0.01227 0.09896 -0.01389 C 0.07656 -0.01389 0.05659 -0.01019 0.04218 4.07407E-006 C 0.02153 0.01412 0.00937 0.0368 0.00937 0.06319 C 0.00937 0.07731 0.01284 0.09143 0.01944 0.10393 C 0.03437 0.13032 0.06371 0.14838 0.09739 0.15046 C 0.1368 0.15463 0.16909 0.13217 0.16909 0.10601 C 0.16979 0.07731 0.1375 0.05301 0.09809 0.04884 C 0.07812 0.04884 0.06024 0.05301 0.04653 0.06111 C 0.02864 0.07523 0.01718 0.09745 0.01718 0.12013 C 0.01718 0.13217 0.02066 0.14444 0.02639 0.15671 C 0.0401 0.17916 0.06597 0.19745 0.0967 0.19907 C 0.13264 0.20138 0.16128 0.18125 0.16128 0.15671 C 0.16198 0.13217 0.13316 0.10995 0.09739 0.10787 C 0.07951 0.10601 0.06302 0.10995 0.05087 0.11805 C 0.03437 0.13032 0.02517 0.14838 0.02517 0.17083 C 0.02517 0.18125 0.02795 0.19305 0.03298 0.20347 C 0.04514 0.22384 0.06875 0.24004 0.096 0.24189 C 0.1283 0.24189 0.15399 0.22569 0.15399 0.20347 C 0.15399 0.18125 0.12899 0.16064 0.0967 0.15856 C 0.0809 0.15856 0.06597 0.16273 0.05521 0.16875 C 0.0401 0.17916 0.03142 0.19745 0.0309 0.21574 C 0.0309 0.22569 0.03437 0.23588 0.03871 0.24398 C 0.0493 0.26435 0.07083 0.27847 0.09531 0.27847 C 0.12396 0.28078 0.14757 0.26666 0.14757 0.24606 C 0.14826 0.22569 0.12465 0.20763 0.096 0.20555 C 0.08177 0.20555 0.06805 0.20763 0.05868 0.21574 C 0.04514 0.22384 0.03732 0.24004 0.03732 0.25625 C 0.03732 0.26666 0.03941 0.27476 0.04357 0.28287 C 0.05364 0.30092 0.07239 0.31319 0.09444 0.31527 C 0.121 0.31527 0.14184 0.30301 0.14184 0.28449 C 0.14253 0.26666 0.1217 0.25 0.09531 0.24814 C 0.08229 0.24814 0.07083 0.25 0.06232 0.25625 C 0.05017 0.26435 0.04305 0.27847 0.04305 0.2949 C 0.04305 0.30301 0.04514 0.30926 0.04878 0.31736 C 0.05729 0.33356 0.07448 0.34351 0.09444 0.3456 C 0.11823 0.34768 0.1368 0.33541 0.1368 0.31736 C 0.1368 0.30301 0.11892 0.2868 0.09531 0.2868 C 0.08316 0.28449 0.07239 0.28888 0.06441 0.29259 C 0.05364 0.30092 0.04722 0.31319 0.04722 0.32731 C 0.04722 0.33541 0.0493 0.34166 0.05295 0.34768 C 0.06093 0.3618 0.07656 0.37222 0.09392 0.3743 C 0.11528 0.37638 0.13264 0.36388 0.13264 0.34976 C 0.13264 0.33356 0.11528 0.32129 0.09444 0.31921 C 0.08455 0.31921 0.07448 0.32129 0.06736 0.32731 C 0.05729 0.33356 0.05156 0.34351 0.05156 0.3581 C 0.05156 0.36388 0.05364 0.3699 0.05659 0.37638 C 0.06371 0.38842 0.07743 0.39861 0.09392 0.39861 C 0.1125 0.40069 0.1283 0.39051 0.1283 0.37638 C 0.1283 0.36388 0.11319 0.35162 0.09392 0.35162 C 0.08524 0.34976 0.07604 0.35162 0.06944 0.35578 C 0.06093 0.36388 0.0559 0.3743 0.0559 0.38449 C 0.0559 0.39051 0.05729 0.39652 0.06024 0.40069 C 0.06666 0.41273 0.07882 0.42083 0.09392 0.42291 C 0.11111 0.42291 0.12465 0.41273 0.12465 0.40254 C 0.12465 0.39051 0.11111 0.37801 0.09392 0.37801 C 0.08524 0.37801 0.07743 0.38032 0.07239 0.38449 C 0.06371 0.38842 0.05937 0.39861 0.05937 0.40879 C 0.05937 0.41273 0.06093 0.41898 0.06302 0.42291 C 0.06875 0.43518 0.08021 0.4412 0.09323 0.44351 C 0.10903 0.44351 0.121 0.43518 0.121 0.425 C 0.121 0.41273 0.10903 0.40463 0.09392 0.40254 C 0.08593 0.40254 0.07882 0.40463 0.07378 0.40879 C 0.06666 0.41273 0.06232 0.42083 0.06232 0.43101 C 0.06232 0.43518 0.06371 0.43912 0.06597 0.44351 E">
                                      <p:cBhvr>
                                        <p:cTn id="380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3148 L -0.00382 0.40949 E">
                                      <p:cBhvr>
                                        <p:cTn id="38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4635 -0.01041 E">
                                      <p:cBhvr>
                                        <p:cTn id="390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Au moins un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39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0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06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11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16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21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Une second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27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32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37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4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4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52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50% de bonnes ré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58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63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68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47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478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483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48320" y="49528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Réfléchis un peu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Encore une bonne répons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48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49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499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0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09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1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11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 parcourt presque sans fa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20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2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30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3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4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45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 parcourt sans faut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038480" y="24120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5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5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61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7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57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es vraiment null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0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2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582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587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592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9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0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0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sauvé la fa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5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13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1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23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2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33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3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ne t’intéresses à rie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8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4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49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54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59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64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669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572000" y="5638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a ne fait qu’un tiers de bonnes réponse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675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680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685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690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95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00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n’es pas très observatri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4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06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1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16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21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26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31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4267080" y="5410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a ne fait que cinquante pour cent de bonnes réponse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37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42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47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52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5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62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572000" y="5638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3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0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68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773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778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783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788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793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z !! Pour une seconde bonne répons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520" y="-63720"/>
            <a:ext cx="4114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observé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3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79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0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5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09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1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19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2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0" y="54100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4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30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3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40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4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5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55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 observé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9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6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6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871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87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88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88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572000" y="54100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ère erreur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s la bonne répons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5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2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892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897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902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90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912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917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4000" cy="66294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7095960" y="1981080"/>
            <a:ext cx="1057320" cy="12938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4419720" y="19731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5791320" y="1979640"/>
            <a:ext cx="1057320" cy="122076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4419720" y="3801960"/>
            <a:ext cx="1057320" cy="13035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6"/>
          <a:stretch/>
        </p:blipFill>
        <p:spPr>
          <a:xfrm>
            <a:off x="5800680" y="3809880"/>
            <a:ext cx="1057320" cy="127476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7"/>
          <a:stretch/>
        </p:blipFill>
        <p:spPr>
          <a:xfrm>
            <a:off x="7086600" y="3809880"/>
            <a:ext cx="1057320" cy="12067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8"/>
          <a:stretch/>
        </p:blipFill>
        <p:spPr>
          <a:xfrm>
            <a:off x="1371600" y="5029200"/>
            <a:ext cx="1058760" cy="13716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26708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mpionn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41148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6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final = 6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1371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GA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81680" y="1905120"/>
            <a:ext cx="1600200" cy="14475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348240"/>
            <a:ext cx="1008000" cy="505080"/>
          </a:xfrm>
          <a:custGeom>
            <a:avLst/>
            <a:gdLst>
              <a:gd name="textAreaLeft" fmla="*/ 32760 w 1008000"/>
              <a:gd name="textAreaRight" fmla="*/ 975600 w 1008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-0.64723 0.35694 E">
                                      <p:cBhvr>
                                        <p:cTn id="923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2.59259E-006 C -0.00364 0.00162 -0.00746 0.00231 -0.01076 0.00462 C -0.01475 0.0074 -0.03385 0.03287 -0.03402 0.03333 C -0.03524 0.03564 -0.03593 0.03842 -0.0375 0.0405 C -0.03958 0.04328 -0.04236 0.0449 -0.04461 0.04745 C -0.05434 0.05925 -0.06232 0.07337 -0.07326 0.08333 C -0.07864 0.09398 -0.08507 0.10231 -0.09288 0.10949 C -0.09548 0.12037 -0.09826 0.12384 -0.10538 0.13078 C -0.11059 0.14467 -0.11892 0.15787 -0.12864 0.16666 C -0.13402 0.17777 -0.14114 0.18819 -0.14826 0.19745 C -0.15156 0.21134 -0.1585 0.22314 -0.16614 0.23333 C -0.17048 0.25138 -0.16406 0.22986 -0.17326 0.24513 C -0.17448 0.24699 -0.17395 0.25023 -0.175 0.25231 C -0.17691 0.25601 -0.17986 0.25833 -0.18211 0.2618 C -0.18767 0.2706 -0.18472 0.26921 -0.18941 0.28078 C -0.19357 0.29074 -0.19757 0.29907 -0.20364 0.30717 C -0.2059 0.31967 -0.21145 0.32685 -0.21614 0.33796 C -0.22239 0.35324 -0.22951 0.36689 -0.2375 0.38078 C -0.2427 0.39004 -0.24253 0.3956 -0.25 0.40231 C -0.25295 0.41342 -0.26961 0.43564 -0.27691 0.44513 C -0.28055 0.45486 -0.28437 0.4625 -0.28941 0.47129 C -0.29201 0.48518 -0.29513 0.48634 -0.30191 0.49745 C -0.30468 0.50185 -0.30902 0.5118 -0.30902 0.5118 C -0.31111 0.52361 -0.31597 0.52824 -0.32152 0.53796 C -0.3243 0.5537 -0.33125 0.56944 -0.3375 0.58333 C -0.33975 0.58819 -0.34323 0.59212 -0.34461 0.59745 C -0.34635 0.60462 -0.34826 0.6118 -0.35 0.61898 C -0.35069 0.62129 -0.35191 0.62615 -0.35191 0.62615 C -0.35121 0.64513 -0.35156 0.66435 -0.35 0.68333 C -0.34895 0.69513 -0.33715 0.70717 -0.33038 0.7118 C -0.32083 0.71828 -0.31198 0.72847 -0.30191 0.73333 C -0.28993 0.73912 -0.27708 0.74097 -0.26441 0.74282 C -0.23385 0.75254 -0.19114 0.74351 -0.16441 0.74282 C -0.15277 0.73912 -0.14166 0.73356 -0.13038 0.72847 C -0.12725 0.72708 -0.121 0.72592 -0.11788 0.72384 C -0.11475 0.72175 -0.11215 0.71851 -0.10902 0.71666 C -0.0993 0.71087 -0.08819 0.70856 -0.07864 0.70231 C -0.06128 0.69097 -0.07638 0.69814 -0.06441 0.69282 C -0.04739 0.67754 -0.02708 0.66921 -0.01076 0.65231 C 0.01268 0.628 0.03247 0.59699 0.05348 0.56898 C 0.05747 0.56365 0.05955 0.5537 0.0625 0.54745 C 0.06806 0.53564 0.0757 0.52592 0.07848 0.5118 C 0.08108 0.49907 0.08629 0.48287 0.09098 0.47129 C 0.10504 0.4368 0.09254 0.47523 0.10174 0.44513 C 0.10365 0.42986 0.1066 0.41666 0.11059 0.40231 C 0.11372 0.39143 0.11146 0.39282 0.11424 0.38078 C 0.12153 0.34814 0.11945 0.35439 0.12674 0.33564 C 0.12813 0.31296 0.13039 0.29791 0.13386 0.27615 C 0.13802 0.20763 0.14532 0.12916 0.1125 0.07129 C 0.10747 0.05231 0.11493 0.07708 0.10539 0.05717 C 0.09462 0.03449 0.10417 0.04074 0.09289 0.03564 C 0.09167 0.0324 0.09098 0.02893 0.08924 0.02615 C 0.08334 0.01666 0.07049 0.01689 0.0625 0.0118 C 0.05243 0.00532 0.06198 0.00856 0.05174 0.00462 C 0.04375 0.00162 0.04653 0.00115 0.04098 0.00462 E">
                                      <p:cBhvr>
                                        <p:cTn id="92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-0.12986 0.0169 -0.26094 -0.00254 -0.39115 0.00718 C -0.39913 0.01135 -0.40608 0.01644 -0.41441 0.01898 C -0.42188 0.02593 -0.43212 0.03033 -0.44115 0.03334 C -0.45174 0.04746 -0.44115 0.03565 -0.45191 0.04283 C -0.46042 0.04861 -0.45903 0.05348 -0.46962 0.05718 C -0.47865 0.06528 -0.48281 0.06991 -0.48941 0.08102 C -0.4934 0.08773 -0.49549 0.0963 -0.5 0.10232 C -0.50694 0.11158 -0.50399 0.10672 -0.50903 0.11667 C -0.51163 0.12778 -0.51632 0.13843 -0.52153 0.14769 C -0.52396 0.16065 -0.52969 0.17686 -0.53576 0.18797 C -0.53733 0.19074 -0.53958 0.19236 -0.54115 0.19514 C -0.54375 0.19977 -0.54826 0.20949 -0.54826 0.20973 C -0.55156 0.22732 -0.54792 0.21065 -0.55365 0.22848 C -0.5566 0.23773 -0.55625 0.24607 -0.56076 0.25463 C -0.56267 0.275 -0.56441 0.29445 -0.56788 0.31436 C -0.57222 0.3676 -0.57552 0.42107 -0.58038 0.47385 C -0.58333 0.50695 -0.58299 0.54375 -0.58941 0.57616 C -0.59201 0.6125 -0.59306 0.61574 -0.58941 0.66436 C -0.58906 0.66783 -0.58142 0.67662 -0.58038 0.67848 C -0.5658 0.70209 -0.54253 0.71088 -0.51962 0.71181 C -0.48281 0.71343 -0.44583 0.71505 -0.40903 0.71667 C -0.39427 0.72037 -0.37934 0.72199 -0.36441 0.72385 C -0.29688 0.75301 -0.22031 0.74584 -0.15208 0.7213 C -0.14792 0.71783 -0.14323 0.71574 -0.13941 0.71181 C -0.12604 0.69838 -0.13785 0.70486 -0.12708 0.7 C -0.12448 0.69676 -0.1224 0.69329 -0.11979 0.69051 C -0.11632 0.68704 -0.10903 0.68102 -0.10903 0.68125 C -0.10608 0.67477 -0.10365 0.6676 -0.10017 0.66181 C -0.09809 0.6588 -0.09497 0.65741 -0.09288 0.65463 C -0.08906 0.64954 -0.08559 0.64375 -0.08212 0.63797 C -0.07604 0.62801 -0.07309 0.61875 -0.06615 0.60949 C -0.06354 0.60093 -0.06233 0.59144 -0.05903 0.58334 C -0.05729 0.57894 -0.05382 0.5757 -0.05191 0.5713 C -0.04392 0.55348 -0.05174 0.56598 -0.04653 0.55 C -0.04566 0.54746 -0.04392 0.54537 -0.04288 0.54283 C -0.04149 0.53912 -0.04063 0.53496 -0.03941 0.53102 C -0.03646 0.50834 -0.02882 0.48889 -0.025 0.46667 C -0.01944 0.43473 -0.01337 0.40301 -0.00712 0.3713 C -0.0066 0.36505 -0.00625 0.35857 -0.00538 0.35232 C -0.0033 0.33635 0.00174 0.30463 0.00174 0.30486 C 0.0026 0.20834 0.00712 0.11436 0.00712 0.01898 E">
                                      <p:cBhvr>
                                        <p:cTn id="933" dur="3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938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943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7 0.026 -0.07733 0.058 -0.07733 L 0.192 -0.07733 C 0.224 -0.07733 0.25 -0.04267 0.25 0 L 0.25 0.176 C 0.25 0.21867 0.224 0.25467 0.192 0.25467 L 0.058 0.25467 C 0.026 0.25467 0 0.21867 0 0.176 Z">
                                      <p:cBhvr>
                                        <p:cTn id="948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0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0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Et, ce ne sera pas un tricot pour homm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6320" y="1447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1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25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Moi, j’en dout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6320" y="1828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2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0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A partir de maintenant, n’éteints plus la lumière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3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5410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Je pense que tu as besoin de lunet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320" y="2590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4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0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Mais, un peu plus d’observation serait nécessair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6320" y="2971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élicitation, second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2 point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58831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5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3429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Très expérimentée mêm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/6 : Intéressez-vous  plutôt au tri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6 : Avez-vous déjà vu un homme 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6 : Regardez de plus prè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6 : Vous n’êtes pas très observat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6 : Cette chose vous est manifestement famili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: Vous êtes une femme expériment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6 : Rien à dire! C’est la class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title"/>
          </p:nvPr>
        </p:nvSpPr>
        <p:spPr>
          <a:xfrm>
            <a:off x="2286000" y="271800"/>
            <a:ext cx="4114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ésultats : 6/6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0" name=""/>
          <p:cNvSpPr/>
          <p:nvPr/>
        </p:nvSpPr>
        <p:spPr>
          <a:xfrm>
            <a:off x="76320" y="3809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4100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9900"/>
                </a:solidFill>
                <a:latin typeface="Arial"/>
              </a:rPr>
              <a:t>N’es-tu pas un peu obsédé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629400" y="624852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741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Arial Black"/>
              </a:rPr>
              <a:t>Que souhaites-tu faire maintenant ?</a:t>
            </a:r>
            <a:endParaRPr b="0" lang="en-US" sz="30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588000" cy="5921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457200" y="5891040"/>
            <a:ext cx="1500120" cy="662040"/>
          </a:xfrm>
          <a:custGeom>
            <a:avLst/>
            <a:gdLst>
              <a:gd name="textAreaLeft" fmla="*/ 165240 w 1500120"/>
              <a:gd name="textAreaRight" fmla="*/ 1334880 w 1500120"/>
              <a:gd name="textAreaTop" fmla="*/ 165240 h 662040"/>
              <a:gd name="textAreaBottom" fmla="*/ 496800 h 662040"/>
            </a:gdLst>
            <a:ahLst/>
            <a:rect l="textAreaLeft" t="textAreaTop" r="textAreaRight" b="textAreaBottom"/>
            <a:pathLst>
              <a:path w="48929" h="21600">
                <a:moveTo>
                  <a:pt x="0" y="0"/>
                </a:moveTo>
                <a:lnTo>
                  <a:pt x="48929" y="0"/>
                </a:lnTo>
                <a:lnTo>
                  <a:pt x="48929" y="21600"/>
                </a:lnTo>
                <a:lnTo>
                  <a:pt x="0" y="21600"/>
                </a:lnTo>
                <a:close/>
              </a:path>
              <a:path fill="lightenLess" w="48929" h="21600">
                <a:moveTo>
                  <a:pt x="0" y="0"/>
                </a:moveTo>
                <a:lnTo>
                  <a:pt x="48929" y="0"/>
                </a:lnTo>
                <a:lnTo>
                  <a:pt x="43529" y="5400"/>
                </a:lnTo>
                <a:lnTo>
                  <a:pt x="5400" y="5400"/>
                </a:lnTo>
                <a:close/>
              </a:path>
              <a:path fill="darken" w="48929" h="21600">
                <a:moveTo>
                  <a:pt x="48929" y="0"/>
                </a:moveTo>
                <a:lnTo>
                  <a:pt x="48929" y="21600"/>
                </a:lnTo>
                <a:lnTo>
                  <a:pt x="43529" y="16200"/>
                </a:lnTo>
                <a:lnTo>
                  <a:pt x="43529" y="5400"/>
                </a:lnTo>
                <a:close/>
              </a:path>
              <a:path fill="darkenLess" w="48929" h="21600">
                <a:moveTo>
                  <a:pt x="4892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3529" y="16200"/>
                </a:lnTo>
                <a:close/>
              </a:path>
              <a:path fill="lighten" w="4892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" action="ppaction://hlinkshowjump?jump=endshow"/>
          </p:cNvPr>
          <p:cNvSpPr/>
          <p:nvPr/>
        </p:nvSpPr>
        <p:spPr>
          <a:xfrm>
            <a:off x="5791320" y="5943600"/>
            <a:ext cx="1500120" cy="662040"/>
          </a:xfrm>
          <a:custGeom>
            <a:avLst/>
            <a:gdLst>
              <a:gd name="textAreaLeft" fmla="*/ 165240 w 1500120"/>
              <a:gd name="textAreaRight" fmla="*/ 1334880 w 1500120"/>
              <a:gd name="textAreaTop" fmla="*/ 165240 h 662040"/>
              <a:gd name="textAreaBottom" fmla="*/ 496800 h 662040"/>
            </a:gdLst>
            <a:ahLst/>
            <a:rect l="textAreaLeft" t="textAreaTop" r="textAreaRight" b="textAreaBottom"/>
            <a:pathLst>
              <a:path w="48929" h="21600">
                <a:moveTo>
                  <a:pt x="0" y="0"/>
                </a:moveTo>
                <a:lnTo>
                  <a:pt x="48929" y="0"/>
                </a:lnTo>
                <a:lnTo>
                  <a:pt x="48929" y="21600"/>
                </a:lnTo>
                <a:lnTo>
                  <a:pt x="0" y="21600"/>
                </a:lnTo>
                <a:close/>
              </a:path>
              <a:path fill="lightenLess" w="48929" h="21600">
                <a:moveTo>
                  <a:pt x="0" y="0"/>
                </a:moveTo>
                <a:lnTo>
                  <a:pt x="48929" y="0"/>
                </a:lnTo>
                <a:lnTo>
                  <a:pt x="43529" y="5400"/>
                </a:lnTo>
                <a:lnTo>
                  <a:pt x="5400" y="5400"/>
                </a:lnTo>
                <a:close/>
              </a:path>
              <a:path fill="darken" w="48929" h="21600">
                <a:moveTo>
                  <a:pt x="48929" y="0"/>
                </a:moveTo>
                <a:lnTo>
                  <a:pt x="48929" y="21600"/>
                </a:lnTo>
                <a:lnTo>
                  <a:pt x="43529" y="16200"/>
                </a:lnTo>
                <a:lnTo>
                  <a:pt x="43529" y="5400"/>
                </a:lnTo>
                <a:close/>
              </a:path>
              <a:path fill="darkenLess" w="48929" h="21600">
                <a:moveTo>
                  <a:pt x="4892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3529" y="16200"/>
                </a:lnTo>
                <a:close/>
              </a:path>
              <a:path fill="lighten" w="4892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élicitation, enfin une bonne répon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8831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BRAV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99072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48320" y="495288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u n’es pas très observatric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5920" y="380880"/>
            <a:ext cx="3900240" cy="604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79680" cy="895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789120" cy="9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181480" y="3352680"/>
            <a:ext cx="825480" cy="90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181480" y="2274840"/>
            <a:ext cx="66996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857280" y="1219320"/>
            <a:ext cx="825480" cy="9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6858000" y="2286000"/>
            <a:ext cx="750960" cy="90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2133720" y="5181480"/>
            <a:ext cx="650880" cy="860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9000" y="73080"/>
            <a:ext cx="4648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Diapositive N° 2 - Résultat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Score actuel = 1 poi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6111720" y="83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Handwriting"/>
              </a:rPr>
              <a:t>Pe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066680"/>
            <a:ext cx="14479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4630680" y="61246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G P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3:26:37Z</dcterms:created>
  <dc:creator>Michel</dc:creator>
  <dc:description/>
  <dc:language>en-US</dc:language>
  <cp:lastModifiedBy>Michel GUIANVARCH</cp:lastModifiedBy>
  <dcterms:modified xsi:type="dcterms:W3CDTF">2005-04-30T05:16:23Z</dcterms:modified>
  <cp:revision>90</cp:revision>
  <dc:subject>Pour femme</dc:subject>
  <dc:title>A chacun son truc…</dc:title>
</cp:coreProperties>
</file>