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4.gif" ContentType="image/gif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240" y="-349200"/>
            <a:ext cx="746748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240" y="-349200"/>
            <a:ext cx="746748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28240" y="-349200"/>
            <a:ext cx="746748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F8DDC-2E46-42E0-80C5-48F92BE6D7C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240" y="-349200"/>
            <a:ext cx="746748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72131-5E65-4021-ACBE-4A8C9FA11F2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240" y="-349200"/>
            <a:ext cx="746748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21D2A-E70C-4FA8-A5F9-E7B24E1FB7F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240" y="-349200"/>
            <a:ext cx="746748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118DF-6EDD-4E95-8DAE-B84F8A6B24B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240" y="-349200"/>
            <a:ext cx="746748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1B3A5-4E4E-4638-BFB4-9CDB92A58C8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228240" y="-349200"/>
            <a:ext cx="7467480" cy="97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78B3D-2ACD-4736-B085-6B91159057B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240" y="-349200"/>
            <a:ext cx="746748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6F564-4ADC-46CC-ADBD-60E37F93C39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28240" y="-349200"/>
            <a:ext cx="746748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240" y="-349200"/>
            <a:ext cx="746748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815D9-3BA9-4CF8-9914-A28D538FFEF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240" y="-349200"/>
            <a:ext cx="746748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8B9A4-2DD0-4D74-8422-BFBD8C97B2D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240" y="-349200"/>
            <a:ext cx="746748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56F8F-BB42-4494-81B4-4870F3FF826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240" y="-349200"/>
            <a:ext cx="746748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028DB-998B-4251-BD3D-5EEE82F72B9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240" y="-349200"/>
            <a:ext cx="746748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B11F4-8BAD-4A12-BD47-8A75936C216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240" y="-349200"/>
            <a:ext cx="746748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240" y="-349200"/>
            <a:ext cx="746748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240" y="-349200"/>
            <a:ext cx="746748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28240" y="-349200"/>
            <a:ext cx="7467480" cy="97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240" y="-349200"/>
            <a:ext cx="746748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8240" y="-349200"/>
            <a:ext cx="746748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8240" y="-349200"/>
            <a:ext cx="746748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bamboo" descr=""/>
          <p:cNvPicPr/>
          <p:nvPr/>
        </p:nvPicPr>
        <p:blipFill>
          <a:blip r:embed="rId2"/>
          <a:srcRect l="0" t="0" r="45976" b="0"/>
          <a:stretch/>
        </p:blipFill>
        <p:spPr>
          <a:xfrm>
            <a:off x="7353360" y="0"/>
            <a:ext cx="179064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240" y="-349200"/>
            <a:ext cx="746748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-360" y="6629400"/>
            <a:ext cx="3505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0000"/>
                </a:solidFill>
                <a:latin typeface="Lucida Handwriting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Lucida Handwriting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bamboo" descr=""/>
          <p:cNvPicPr/>
          <p:nvPr/>
        </p:nvPicPr>
        <p:blipFill>
          <a:blip r:embed="rId2"/>
          <a:srcRect l="0" t="0" r="13799" b="0"/>
          <a:stretch/>
        </p:blipFill>
        <p:spPr>
          <a:xfrm>
            <a:off x="6292800" y="-1440"/>
            <a:ext cx="2857680" cy="686880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920" y="488520"/>
            <a:ext cx="624816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2"/>
          </p:nvPr>
        </p:nvSpPr>
        <p:spPr>
          <a:xfrm>
            <a:off x="0" y="6477120"/>
            <a:ext cx="2997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0000"/>
                </a:solidFill>
                <a:latin typeface="Lucida Handwriting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Lucida Handwriting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3"/>
          </p:nvPr>
        </p:nvSpPr>
        <p:spPr>
          <a:xfrm>
            <a:off x="5486400" y="624852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16CA1-D761-4374-898F-2D9F986C6C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f5f5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4.jpeg"/><Relationship Id="rId3" Type="http://schemas.openxmlformats.org/officeDocument/2006/relationships/image" Target="../media/image3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4.jpeg"/><Relationship Id="rId9" Type="http://schemas.openxmlformats.org/officeDocument/2006/relationships/slide" Target="slide11.xml"/><Relationship Id="rId10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" Target="slide14.xml"/><Relationship Id="rId3" Type="http://schemas.openxmlformats.org/officeDocument/2006/relationships/image" Target="../media/image3.jpeg"/><Relationship Id="rId4" Type="http://schemas.openxmlformats.org/officeDocument/2006/relationships/slide" Target="slide14.xml"/><Relationship Id="rId5" Type="http://schemas.openxmlformats.org/officeDocument/2006/relationships/image" Target="../media/image4.jpeg"/><Relationship Id="rId6" Type="http://schemas.openxmlformats.org/officeDocument/2006/relationships/slide" Target="slide14.xml"/><Relationship Id="rId7" Type="http://schemas.openxmlformats.org/officeDocument/2006/relationships/image" Target="../media/image6.jpeg"/><Relationship Id="rId8" Type="http://schemas.openxmlformats.org/officeDocument/2006/relationships/slide" Target="slide14.xml"/><Relationship Id="rId9" Type="http://schemas.openxmlformats.org/officeDocument/2006/relationships/image" Target="../media/image7.jpeg"/><Relationship Id="rId10" Type="http://schemas.openxmlformats.org/officeDocument/2006/relationships/slide" Target="slide14.xml"/><Relationship Id="rId11" Type="http://schemas.openxmlformats.org/officeDocument/2006/relationships/image" Target="../media/image8.jpeg"/><Relationship Id="rId12" Type="http://schemas.openxmlformats.org/officeDocument/2006/relationships/image" Target="../media/image5.jpeg"/><Relationship Id="rId1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" Target="slide16.xml"/><Relationship Id="rId3" Type="http://schemas.openxmlformats.org/officeDocument/2006/relationships/image" Target="../media/image3.jpeg"/><Relationship Id="rId4" Type="http://schemas.openxmlformats.org/officeDocument/2006/relationships/slide" Target="slide16.xml"/><Relationship Id="rId5" Type="http://schemas.openxmlformats.org/officeDocument/2006/relationships/image" Target="../media/image4.jpeg"/><Relationship Id="rId6" Type="http://schemas.openxmlformats.org/officeDocument/2006/relationships/slide" Target="slide16.xml"/><Relationship Id="rId7" Type="http://schemas.openxmlformats.org/officeDocument/2006/relationships/image" Target="../media/image6.jpeg"/><Relationship Id="rId8" Type="http://schemas.openxmlformats.org/officeDocument/2006/relationships/slide" Target="slide16.xml"/><Relationship Id="rId9" Type="http://schemas.openxmlformats.org/officeDocument/2006/relationships/image" Target="../media/image7.jpeg"/><Relationship Id="rId10" Type="http://schemas.openxmlformats.org/officeDocument/2006/relationships/slide" Target="slide16.xml"/><Relationship Id="rId11" Type="http://schemas.openxmlformats.org/officeDocument/2006/relationships/image" Target="../media/image8.jpeg"/><Relationship Id="rId12" Type="http://schemas.openxmlformats.org/officeDocument/2006/relationships/image" Target="../media/image5.jpeg"/><Relationship Id="rId1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" Target="slide18.xml"/><Relationship Id="rId3" Type="http://schemas.openxmlformats.org/officeDocument/2006/relationships/image" Target="../media/image3.jpeg"/><Relationship Id="rId4" Type="http://schemas.openxmlformats.org/officeDocument/2006/relationships/slide" Target="slide18.xml"/><Relationship Id="rId5" Type="http://schemas.openxmlformats.org/officeDocument/2006/relationships/image" Target="../media/image4.jpeg"/><Relationship Id="rId6" Type="http://schemas.openxmlformats.org/officeDocument/2006/relationships/slide" Target="slide18.xml"/><Relationship Id="rId7" Type="http://schemas.openxmlformats.org/officeDocument/2006/relationships/image" Target="../media/image6.jpeg"/><Relationship Id="rId8" Type="http://schemas.openxmlformats.org/officeDocument/2006/relationships/slide" Target="slide18.xml"/><Relationship Id="rId9" Type="http://schemas.openxmlformats.org/officeDocument/2006/relationships/image" Target="../media/image7.jpeg"/><Relationship Id="rId10" Type="http://schemas.openxmlformats.org/officeDocument/2006/relationships/slide" Target="slide18.xml"/><Relationship Id="rId11" Type="http://schemas.openxmlformats.org/officeDocument/2006/relationships/image" Target="../media/image8.jpeg"/><Relationship Id="rId12" Type="http://schemas.openxmlformats.org/officeDocument/2006/relationships/image" Target="../media/image5.jpeg"/><Relationship Id="rId1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5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5.jpeg"/><Relationship Id="rId9" Type="http://schemas.openxmlformats.org/officeDocument/2006/relationships/slide" Target="slide20.xml"/><Relationship Id="rId10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5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slide" Target="slide17.xml"/><Relationship Id="rId9" Type="http://schemas.openxmlformats.org/officeDocument/2006/relationships/image" Target="../media/image5.jpeg"/><Relationship Id="rId10" Type="http://schemas.openxmlformats.org/officeDocument/2006/relationships/slide" Target="slide21.xml"/><Relationship Id="rId1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5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5.jpeg"/><Relationship Id="rId9" Type="http://schemas.openxmlformats.org/officeDocument/2006/relationships/slide" Target="slide21.xml"/><Relationship Id="rId10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5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5.jpeg"/><Relationship Id="rId9" Type="http://schemas.openxmlformats.org/officeDocument/2006/relationships/slide" Target="slide22.xml"/><Relationship Id="rId10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5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5.jpeg"/><Relationship Id="rId9" Type="http://schemas.openxmlformats.org/officeDocument/2006/relationships/slide" Target="slide22.xml"/><Relationship Id="rId10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5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5.jpeg"/><Relationship Id="rId9" Type="http://schemas.openxmlformats.org/officeDocument/2006/relationships/slide" Target="slide23.xml"/><Relationship Id="rId10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3.xml"/><Relationship Id="rId3" Type="http://schemas.openxmlformats.org/officeDocument/2006/relationships/image" Target="../media/image3.jpeg"/><Relationship Id="rId4" Type="http://schemas.openxmlformats.org/officeDocument/2006/relationships/slide" Target="slide4.xml"/><Relationship Id="rId5" Type="http://schemas.openxmlformats.org/officeDocument/2006/relationships/image" Target="../media/image4.jpeg"/><Relationship Id="rId6" Type="http://schemas.openxmlformats.org/officeDocument/2006/relationships/slide" Target="slide4.xml"/><Relationship Id="rId7" Type="http://schemas.openxmlformats.org/officeDocument/2006/relationships/image" Target="../media/image5.jpeg"/><Relationship Id="rId8" Type="http://schemas.openxmlformats.org/officeDocument/2006/relationships/slide" Target="slide4.xml"/><Relationship Id="rId9" Type="http://schemas.openxmlformats.org/officeDocument/2006/relationships/image" Target="../media/image6.jpeg"/><Relationship Id="rId10" Type="http://schemas.openxmlformats.org/officeDocument/2006/relationships/slide" Target="slide4.xml"/><Relationship Id="rId11" Type="http://schemas.openxmlformats.org/officeDocument/2006/relationships/image" Target="../media/image7.jpeg"/><Relationship Id="rId12" Type="http://schemas.openxmlformats.org/officeDocument/2006/relationships/slide" Target="slide4.xml"/><Relationship Id="rId13" Type="http://schemas.openxmlformats.org/officeDocument/2006/relationships/image" Target="../media/image8.jpeg"/><Relationship Id="rId1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" Target="slide25.xml"/><Relationship Id="rId3" Type="http://schemas.openxmlformats.org/officeDocument/2006/relationships/image" Target="../media/image6.jpeg"/><Relationship Id="rId4" Type="http://schemas.openxmlformats.org/officeDocument/2006/relationships/slide" Target="slide24.xml"/><Relationship Id="rId5" Type="http://schemas.openxmlformats.org/officeDocument/2006/relationships/image" Target="../media/image3.jpeg"/><Relationship Id="rId6" Type="http://schemas.openxmlformats.org/officeDocument/2006/relationships/slide" Target="slide24.xml"/><Relationship Id="rId7" Type="http://schemas.openxmlformats.org/officeDocument/2006/relationships/image" Target="../media/image4.jpeg"/><Relationship Id="rId8" Type="http://schemas.openxmlformats.org/officeDocument/2006/relationships/slide" Target="slide24.xml"/><Relationship Id="rId9" Type="http://schemas.openxmlformats.org/officeDocument/2006/relationships/image" Target="../media/image5.jpeg"/><Relationship Id="rId10" Type="http://schemas.openxmlformats.org/officeDocument/2006/relationships/slide" Target="slide24.xml"/><Relationship Id="rId11" Type="http://schemas.openxmlformats.org/officeDocument/2006/relationships/image" Target="../media/image7.jpeg"/><Relationship Id="rId12" Type="http://schemas.openxmlformats.org/officeDocument/2006/relationships/slide" Target="slide24.xml"/><Relationship Id="rId13" Type="http://schemas.openxmlformats.org/officeDocument/2006/relationships/image" Target="../media/image8.jpeg"/><Relationship Id="rId1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" Target="slide27.xml"/><Relationship Id="rId3" Type="http://schemas.openxmlformats.org/officeDocument/2006/relationships/image" Target="../media/image6.jpeg"/><Relationship Id="rId4" Type="http://schemas.openxmlformats.org/officeDocument/2006/relationships/slide" Target="slide26.xml"/><Relationship Id="rId5" Type="http://schemas.openxmlformats.org/officeDocument/2006/relationships/image" Target="../media/image3.jpeg"/><Relationship Id="rId6" Type="http://schemas.openxmlformats.org/officeDocument/2006/relationships/slide" Target="slide26.xml"/><Relationship Id="rId7" Type="http://schemas.openxmlformats.org/officeDocument/2006/relationships/image" Target="../media/image4.jpeg"/><Relationship Id="rId8" Type="http://schemas.openxmlformats.org/officeDocument/2006/relationships/slide" Target="slide26.xml"/><Relationship Id="rId9" Type="http://schemas.openxmlformats.org/officeDocument/2006/relationships/image" Target="../media/image5.jpeg"/><Relationship Id="rId10" Type="http://schemas.openxmlformats.org/officeDocument/2006/relationships/slide" Target="slide26.xml"/><Relationship Id="rId11" Type="http://schemas.openxmlformats.org/officeDocument/2006/relationships/image" Target="../media/image7.jpeg"/><Relationship Id="rId12" Type="http://schemas.openxmlformats.org/officeDocument/2006/relationships/slide" Target="slide26.xml"/><Relationship Id="rId13" Type="http://schemas.openxmlformats.org/officeDocument/2006/relationships/image" Target="../media/image8.jpeg"/><Relationship Id="rId1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" Target="slide29.xml"/><Relationship Id="rId3" Type="http://schemas.openxmlformats.org/officeDocument/2006/relationships/image" Target="../media/image6.jpeg"/><Relationship Id="rId4" Type="http://schemas.openxmlformats.org/officeDocument/2006/relationships/slide" Target="slide28.xml"/><Relationship Id="rId5" Type="http://schemas.openxmlformats.org/officeDocument/2006/relationships/image" Target="../media/image3.jpeg"/><Relationship Id="rId6" Type="http://schemas.openxmlformats.org/officeDocument/2006/relationships/slide" Target="slide28.xml"/><Relationship Id="rId7" Type="http://schemas.openxmlformats.org/officeDocument/2006/relationships/image" Target="../media/image4.jpeg"/><Relationship Id="rId8" Type="http://schemas.openxmlformats.org/officeDocument/2006/relationships/slide" Target="slide28.xml"/><Relationship Id="rId9" Type="http://schemas.openxmlformats.org/officeDocument/2006/relationships/image" Target="../media/image5.jpeg"/><Relationship Id="rId10" Type="http://schemas.openxmlformats.org/officeDocument/2006/relationships/slide" Target="slide28.xml"/><Relationship Id="rId11" Type="http://schemas.openxmlformats.org/officeDocument/2006/relationships/image" Target="../media/image7.jpeg"/><Relationship Id="rId12" Type="http://schemas.openxmlformats.org/officeDocument/2006/relationships/slide" Target="slide28.xml"/><Relationship Id="rId13" Type="http://schemas.openxmlformats.org/officeDocument/2006/relationships/image" Target="../media/image8.jpeg"/><Relationship Id="rId1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" Target="slide31.xml"/><Relationship Id="rId3" Type="http://schemas.openxmlformats.org/officeDocument/2006/relationships/image" Target="../media/image6.jpeg"/><Relationship Id="rId4" Type="http://schemas.openxmlformats.org/officeDocument/2006/relationships/slide" Target="slide30.xml"/><Relationship Id="rId5" Type="http://schemas.openxmlformats.org/officeDocument/2006/relationships/image" Target="../media/image3.jpeg"/><Relationship Id="rId6" Type="http://schemas.openxmlformats.org/officeDocument/2006/relationships/slide" Target="slide30.xml"/><Relationship Id="rId7" Type="http://schemas.openxmlformats.org/officeDocument/2006/relationships/image" Target="../media/image4.jpeg"/><Relationship Id="rId8" Type="http://schemas.openxmlformats.org/officeDocument/2006/relationships/slide" Target="slide30.xml"/><Relationship Id="rId9" Type="http://schemas.openxmlformats.org/officeDocument/2006/relationships/image" Target="../media/image5.jpeg"/><Relationship Id="rId10" Type="http://schemas.openxmlformats.org/officeDocument/2006/relationships/slide" Target="slide30.xml"/><Relationship Id="rId11" Type="http://schemas.openxmlformats.org/officeDocument/2006/relationships/image" Target="../media/image7.jpeg"/><Relationship Id="rId12" Type="http://schemas.openxmlformats.org/officeDocument/2006/relationships/slide" Target="slide30.xml"/><Relationship Id="rId13" Type="http://schemas.openxmlformats.org/officeDocument/2006/relationships/image" Target="../media/image8.jpeg"/><Relationship Id="rId1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6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6.jpeg"/><Relationship Id="rId9" Type="http://schemas.openxmlformats.org/officeDocument/2006/relationships/slide" Target="slide32.xml"/><Relationship Id="rId10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6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6.jpeg"/><Relationship Id="rId9" Type="http://schemas.openxmlformats.org/officeDocument/2006/relationships/slide" Target="slide33.xml"/><Relationship Id="rId10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6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6.jpeg"/><Relationship Id="rId9" Type="http://schemas.openxmlformats.org/officeDocument/2006/relationships/slide" Target="slide33.xml"/><Relationship Id="rId10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6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6.jpeg"/><Relationship Id="rId9" Type="http://schemas.openxmlformats.org/officeDocument/2006/relationships/slide" Target="slide34.xml"/><Relationship Id="rId10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6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6.jpeg"/><Relationship Id="rId9" Type="http://schemas.openxmlformats.org/officeDocument/2006/relationships/slide" Target="slide34.xml"/><Relationship Id="rId10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6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6.jpeg"/><Relationship Id="rId9" Type="http://schemas.openxmlformats.org/officeDocument/2006/relationships/slide" Target="slide35.xml"/><Relationship Id="rId10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slide" Target="slide6.xml"/><Relationship Id="rId9" Type="http://schemas.openxmlformats.org/officeDocument/2006/relationships/image" Target="../media/image3.jpeg"/><Relationship Id="rId10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6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6.jpeg"/><Relationship Id="rId9" Type="http://schemas.openxmlformats.org/officeDocument/2006/relationships/slide" Target="slide35.xml"/><Relationship Id="rId10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" Target="slide46.xml"/><Relationship Id="rId3" Type="http://schemas.openxmlformats.org/officeDocument/2006/relationships/image" Target="../media/image6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6.jpeg"/><Relationship Id="rId10" Type="http://schemas.openxmlformats.org/officeDocument/2006/relationships/slide" Target="slide36.xml"/><Relationship Id="rId1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" Target="slide37.xml"/><Relationship Id="rId3" Type="http://schemas.openxmlformats.org/officeDocument/2006/relationships/image" Target="../media/image3.jpeg"/><Relationship Id="rId4" Type="http://schemas.openxmlformats.org/officeDocument/2006/relationships/slide" Target="slide37.xml"/><Relationship Id="rId5" Type="http://schemas.openxmlformats.org/officeDocument/2006/relationships/image" Target="../media/image4.jpeg"/><Relationship Id="rId6" Type="http://schemas.openxmlformats.org/officeDocument/2006/relationships/slide" Target="slide37.xml"/><Relationship Id="rId7" Type="http://schemas.openxmlformats.org/officeDocument/2006/relationships/image" Target="../media/image5.jpeg"/><Relationship Id="rId8" Type="http://schemas.openxmlformats.org/officeDocument/2006/relationships/slide" Target="slide37.xml"/><Relationship Id="rId9" Type="http://schemas.openxmlformats.org/officeDocument/2006/relationships/image" Target="../media/image6.jpeg"/><Relationship Id="rId10" Type="http://schemas.openxmlformats.org/officeDocument/2006/relationships/slide" Target="slide37.xml"/><Relationship Id="rId11" Type="http://schemas.openxmlformats.org/officeDocument/2006/relationships/image" Target="../media/image8.jpeg"/><Relationship Id="rId12" Type="http://schemas.openxmlformats.org/officeDocument/2006/relationships/slide" Target="slide38.xml"/><Relationship Id="rId13" Type="http://schemas.openxmlformats.org/officeDocument/2006/relationships/image" Target="../media/image7.jpeg"/><Relationship Id="rId14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" Target="slide39.xml"/><Relationship Id="rId3" Type="http://schemas.openxmlformats.org/officeDocument/2006/relationships/image" Target="../media/image3.jpeg"/><Relationship Id="rId4" Type="http://schemas.openxmlformats.org/officeDocument/2006/relationships/slide" Target="slide39.xml"/><Relationship Id="rId5" Type="http://schemas.openxmlformats.org/officeDocument/2006/relationships/image" Target="../media/image4.jpeg"/><Relationship Id="rId6" Type="http://schemas.openxmlformats.org/officeDocument/2006/relationships/slide" Target="slide39.xml"/><Relationship Id="rId7" Type="http://schemas.openxmlformats.org/officeDocument/2006/relationships/image" Target="../media/image5.jpeg"/><Relationship Id="rId8" Type="http://schemas.openxmlformats.org/officeDocument/2006/relationships/slide" Target="slide39.xml"/><Relationship Id="rId9" Type="http://schemas.openxmlformats.org/officeDocument/2006/relationships/image" Target="../media/image6.jpeg"/><Relationship Id="rId10" Type="http://schemas.openxmlformats.org/officeDocument/2006/relationships/slide" Target="slide39.xml"/><Relationship Id="rId11" Type="http://schemas.openxmlformats.org/officeDocument/2006/relationships/image" Target="../media/image8.jpeg"/><Relationship Id="rId12" Type="http://schemas.openxmlformats.org/officeDocument/2006/relationships/slide" Target="slide40.xml"/><Relationship Id="rId13" Type="http://schemas.openxmlformats.org/officeDocument/2006/relationships/image" Target="../media/image7.jpeg"/><Relationship Id="rId14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" Target="slide41.xml"/><Relationship Id="rId3" Type="http://schemas.openxmlformats.org/officeDocument/2006/relationships/image" Target="../media/image3.jpeg"/><Relationship Id="rId4" Type="http://schemas.openxmlformats.org/officeDocument/2006/relationships/slide" Target="slide41.xml"/><Relationship Id="rId5" Type="http://schemas.openxmlformats.org/officeDocument/2006/relationships/image" Target="../media/image4.jpeg"/><Relationship Id="rId6" Type="http://schemas.openxmlformats.org/officeDocument/2006/relationships/slide" Target="slide41.xml"/><Relationship Id="rId7" Type="http://schemas.openxmlformats.org/officeDocument/2006/relationships/image" Target="../media/image5.jpeg"/><Relationship Id="rId8" Type="http://schemas.openxmlformats.org/officeDocument/2006/relationships/slide" Target="slide41.xml"/><Relationship Id="rId9" Type="http://schemas.openxmlformats.org/officeDocument/2006/relationships/image" Target="../media/image6.jpeg"/><Relationship Id="rId10" Type="http://schemas.openxmlformats.org/officeDocument/2006/relationships/slide" Target="slide41.xml"/><Relationship Id="rId11" Type="http://schemas.openxmlformats.org/officeDocument/2006/relationships/image" Target="../media/image8.jpeg"/><Relationship Id="rId12" Type="http://schemas.openxmlformats.org/officeDocument/2006/relationships/slide" Target="slide42.xml"/><Relationship Id="rId13" Type="http://schemas.openxmlformats.org/officeDocument/2006/relationships/image" Target="../media/image7.jpeg"/><Relationship Id="rId14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" Target="slide43.xml"/><Relationship Id="rId3" Type="http://schemas.openxmlformats.org/officeDocument/2006/relationships/image" Target="../media/image3.jpeg"/><Relationship Id="rId4" Type="http://schemas.openxmlformats.org/officeDocument/2006/relationships/slide" Target="slide43.xml"/><Relationship Id="rId5" Type="http://schemas.openxmlformats.org/officeDocument/2006/relationships/image" Target="../media/image4.jpeg"/><Relationship Id="rId6" Type="http://schemas.openxmlformats.org/officeDocument/2006/relationships/slide" Target="slide43.xml"/><Relationship Id="rId7" Type="http://schemas.openxmlformats.org/officeDocument/2006/relationships/image" Target="../media/image5.jpeg"/><Relationship Id="rId8" Type="http://schemas.openxmlformats.org/officeDocument/2006/relationships/slide" Target="slide43.xml"/><Relationship Id="rId9" Type="http://schemas.openxmlformats.org/officeDocument/2006/relationships/image" Target="../media/image6.jpeg"/><Relationship Id="rId10" Type="http://schemas.openxmlformats.org/officeDocument/2006/relationships/slide" Target="slide43.xml"/><Relationship Id="rId11" Type="http://schemas.openxmlformats.org/officeDocument/2006/relationships/image" Target="../media/image8.jpeg"/><Relationship Id="rId12" Type="http://schemas.openxmlformats.org/officeDocument/2006/relationships/slide" Target="slide44.xml"/><Relationship Id="rId13" Type="http://schemas.openxmlformats.org/officeDocument/2006/relationships/image" Target="../media/image7.jpeg"/><Relationship Id="rId1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" Target="slide45.xml"/><Relationship Id="rId3" Type="http://schemas.openxmlformats.org/officeDocument/2006/relationships/image" Target="../media/image3.jpeg"/><Relationship Id="rId4" Type="http://schemas.openxmlformats.org/officeDocument/2006/relationships/slide" Target="slide45.xml"/><Relationship Id="rId5" Type="http://schemas.openxmlformats.org/officeDocument/2006/relationships/image" Target="../media/image4.jpeg"/><Relationship Id="rId6" Type="http://schemas.openxmlformats.org/officeDocument/2006/relationships/slide" Target="slide45.xml"/><Relationship Id="rId7" Type="http://schemas.openxmlformats.org/officeDocument/2006/relationships/image" Target="../media/image5.jpeg"/><Relationship Id="rId8" Type="http://schemas.openxmlformats.org/officeDocument/2006/relationships/slide" Target="slide45.xml"/><Relationship Id="rId9" Type="http://schemas.openxmlformats.org/officeDocument/2006/relationships/image" Target="../media/image6.jpeg"/><Relationship Id="rId10" Type="http://schemas.openxmlformats.org/officeDocument/2006/relationships/slide" Target="slide45.xml"/><Relationship Id="rId11" Type="http://schemas.openxmlformats.org/officeDocument/2006/relationships/image" Target="../media/image8.jpeg"/><Relationship Id="rId12" Type="http://schemas.openxmlformats.org/officeDocument/2006/relationships/slide" Target="slide46.xml"/><Relationship Id="rId13" Type="http://schemas.openxmlformats.org/officeDocument/2006/relationships/image" Target="../media/image7.jpeg"/><Relationship Id="rId1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8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slide" Target="slide47.xml"/><Relationship Id="rId10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8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slide" Target="slide48.xml"/><Relationship Id="rId10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8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slide" Target="slide48.xml"/><Relationship Id="rId10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slide" Target="slide5.xml"/><Relationship Id="rId9" Type="http://schemas.openxmlformats.org/officeDocument/2006/relationships/image" Target="../media/image3.jpeg"/><Relationship Id="rId10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8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slide" Target="slide49.xml"/><Relationship Id="rId10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8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slide" Target="slide49.xml"/><Relationship Id="rId10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8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slide" Target="slide50.xml"/><Relationship Id="rId10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8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slide" Target="slide50.xml"/><Relationship Id="rId10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8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slide" Target="slide51.xml"/><Relationship Id="rId10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8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slide" Target="slide51.xml"/><Relationship Id="rId10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8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slide" Target="slide52.xml"/><Relationship Id="rId10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" Target="slide54.xml"/><Relationship Id="rId3" Type="http://schemas.openxmlformats.org/officeDocument/2006/relationships/image" Target="../media/image8.jpeg"/><Relationship Id="rId4" Type="http://schemas.openxmlformats.org/officeDocument/2006/relationships/slide" Target="slide53.xml"/><Relationship Id="rId5" Type="http://schemas.openxmlformats.org/officeDocument/2006/relationships/image" Target="../media/image4.jpeg"/><Relationship Id="rId6" Type="http://schemas.openxmlformats.org/officeDocument/2006/relationships/slide" Target="slide53.xml"/><Relationship Id="rId7" Type="http://schemas.openxmlformats.org/officeDocument/2006/relationships/image" Target="../media/image5.jpeg"/><Relationship Id="rId8" Type="http://schemas.openxmlformats.org/officeDocument/2006/relationships/slide" Target="slide53.xml"/><Relationship Id="rId9" Type="http://schemas.openxmlformats.org/officeDocument/2006/relationships/image" Target="../media/image6.jpeg"/><Relationship Id="rId10" Type="http://schemas.openxmlformats.org/officeDocument/2006/relationships/slide" Target="slide53.xml"/><Relationship Id="rId11" Type="http://schemas.openxmlformats.org/officeDocument/2006/relationships/image" Target="../media/image7.jpeg"/><Relationship Id="rId12" Type="http://schemas.openxmlformats.org/officeDocument/2006/relationships/slide" Target="slide53.xml"/><Relationship Id="rId13" Type="http://schemas.openxmlformats.org/officeDocument/2006/relationships/image" Target="../media/image3.jpeg"/><Relationship Id="rId14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" Target="slide56.xml"/><Relationship Id="rId3" Type="http://schemas.openxmlformats.org/officeDocument/2006/relationships/image" Target="../media/image8.jpeg"/><Relationship Id="rId4" Type="http://schemas.openxmlformats.org/officeDocument/2006/relationships/slide" Target="slide55.xml"/><Relationship Id="rId5" Type="http://schemas.openxmlformats.org/officeDocument/2006/relationships/image" Target="../media/image4.jpeg"/><Relationship Id="rId6" Type="http://schemas.openxmlformats.org/officeDocument/2006/relationships/slide" Target="slide55.xml"/><Relationship Id="rId7" Type="http://schemas.openxmlformats.org/officeDocument/2006/relationships/image" Target="../media/image5.jpeg"/><Relationship Id="rId8" Type="http://schemas.openxmlformats.org/officeDocument/2006/relationships/slide" Target="slide55.xml"/><Relationship Id="rId9" Type="http://schemas.openxmlformats.org/officeDocument/2006/relationships/image" Target="../media/image6.jpeg"/><Relationship Id="rId10" Type="http://schemas.openxmlformats.org/officeDocument/2006/relationships/slide" Target="slide55.xml"/><Relationship Id="rId11" Type="http://schemas.openxmlformats.org/officeDocument/2006/relationships/image" Target="../media/image7.jpeg"/><Relationship Id="rId12" Type="http://schemas.openxmlformats.org/officeDocument/2006/relationships/slide" Target="slide55.xml"/><Relationship Id="rId13" Type="http://schemas.openxmlformats.org/officeDocument/2006/relationships/image" Target="../media/image3.jpeg"/><Relationship Id="rId1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" Target="slide58.xml"/><Relationship Id="rId3" Type="http://schemas.openxmlformats.org/officeDocument/2006/relationships/image" Target="../media/image8.jpeg"/><Relationship Id="rId4" Type="http://schemas.openxmlformats.org/officeDocument/2006/relationships/slide" Target="slide57.xml"/><Relationship Id="rId5" Type="http://schemas.openxmlformats.org/officeDocument/2006/relationships/image" Target="../media/image4.jpeg"/><Relationship Id="rId6" Type="http://schemas.openxmlformats.org/officeDocument/2006/relationships/slide" Target="slide57.xml"/><Relationship Id="rId7" Type="http://schemas.openxmlformats.org/officeDocument/2006/relationships/image" Target="../media/image5.jpeg"/><Relationship Id="rId8" Type="http://schemas.openxmlformats.org/officeDocument/2006/relationships/slide" Target="slide57.xml"/><Relationship Id="rId9" Type="http://schemas.openxmlformats.org/officeDocument/2006/relationships/image" Target="../media/image6.jpeg"/><Relationship Id="rId10" Type="http://schemas.openxmlformats.org/officeDocument/2006/relationships/slide" Target="slide57.xml"/><Relationship Id="rId11" Type="http://schemas.openxmlformats.org/officeDocument/2006/relationships/image" Target="../media/image7.jpeg"/><Relationship Id="rId12" Type="http://schemas.openxmlformats.org/officeDocument/2006/relationships/slide" Target="slide57.xml"/><Relationship Id="rId13" Type="http://schemas.openxmlformats.org/officeDocument/2006/relationships/image" Target="../media/image3.jpeg"/><Relationship Id="rId1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" Target="slide8.xml"/><Relationship Id="rId3" Type="http://schemas.openxmlformats.org/officeDocument/2006/relationships/image" Target="../media/image4.jpeg"/><Relationship Id="rId4" Type="http://schemas.openxmlformats.org/officeDocument/2006/relationships/slide" Target="slide10.xml"/><Relationship Id="rId5" Type="http://schemas.openxmlformats.org/officeDocument/2006/relationships/image" Target="../media/image3.jpeg"/><Relationship Id="rId6" Type="http://schemas.openxmlformats.org/officeDocument/2006/relationships/slide" Target="slide10.xml"/><Relationship Id="rId7" Type="http://schemas.openxmlformats.org/officeDocument/2006/relationships/image" Target="../media/image5.jpeg"/><Relationship Id="rId8" Type="http://schemas.openxmlformats.org/officeDocument/2006/relationships/slide" Target="slide10.xml"/><Relationship Id="rId9" Type="http://schemas.openxmlformats.org/officeDocument/2006/relationships/image" Target="../media/image6.jpeg"/><Relationship Id="rId10" Type="http://schemas.openxmlformats.org/officeDocument/2006/relationships/slide" Target="slide10.xml"/><Relationship Id="rId11" Type="http://schemas.openxmlformats.org/officeDocument/2006/relationships/image" Target="../media/image7.jpeg"/><Relationship Id="rId12" Type="http://schemas.openxmlformats.org/officeDocument/2006/relationships/slide" Target="slide10.xml"/><Relationship Id="rId13" Type="http://schemas.openxmlformats.org/officeDocument/2006/relationships/image" Target="../media/image8.jpeg"/><Relationship Id="rId14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" Target="slide60.xml"/><Relationship Id="rId3" Type="http://schemas.openxmlformats.org/officeDocument/2006/relationships/image" Target="../media/image8.jpeg"/><Relationship Id="rId4" Type="http://schemas.openxmlformats.org/officeDocument/2006/relationships/slide" Target="slide59.xml"/><Relationship Id="rId5" Type="http://schemas.openxmlformats.org/officeDocument/2006/relationships/image" Target="../media/image4.jpeg"/><Relationship Id="rId6" Type="http://schemas.openxmlformats.org/officeDocument/2006/relationships/slide" Target="slide59.xml"/><Relationship Id="rId7" Type="http://schemas.openxmlformats.org/officeDocument/2006/relationships/image" Target="../media/image5.jpeg"/><Relationship Id="rId8" Type="http://schemas.openxmlformats.org/officeDocument/2006/relationships/slide" Target="slide59.xml"/><Relationship Id="rId9" Type="http://schemas.openxmlformats.org/officeDocument/2006/relationships/image" Target="../media/image6.jpeg"/><Relationship Id="rId10" Type="http://schemas.openxmlformats.org/officeDocument/2006/relationships/slide" Target="slide59.xml"/><Relationship Id="rId11" Type="http://schemas.openxmlformats.org/officeDocument/2006/relationships/image" Target="../media/image7.jpeg"/><Relationship Id="rId12" Type="http://schemas.openxmlformats.org/officeDocument/2006/relationships/slide" Target="slide59.xml"/><Relationship Id="rId13" Type="http://schemas.openxmlformats.org/officeDocument/2006/relationships/image" Target="../media/image3.jpeg"/><Relationship Id="rId14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8.jpeg"/><Relationship Id="rId3" Type="http://schemas.openxmlformats.org/officeDocument/2006/relationships/slide" Target="slide61.xml"/><Relationship Id="rId4" Type="http://schemas.openxmlformats.org/officeDocument/2006/relationships/image" Target="../media/image4.jpeg"/><Relationship Id="rId5" Type="http://schemas.openxmlformats.org/officeDocument/2006/relationships/slide" Target="slide61.xml"/><Relationship Id="rId6" Type="http://schemas.openxmlformats.org/officeDocument/2006/relationships/image" Target="../media/image5.jpeg"/><Relationship Id="rId7" Type="http://schemas.openxmlformats.org/officeDocument/2006/relationships/slide" Target="slide61.xml"/><Relationship Id="rId8" Type="http://schemas.openxmlformats.org/officeDocument/2006/relationships/image" Target="../media/image6.jpeg"/><Relationship Id="rId9" Type="http://schemas.openxmlformats.org/officeDocument/2006/relationships/slide" Target="slide61.xml"/><Relationship Id="rId10" Type="http://schemas.openxmlformats.org/officeDocument/2006/relationships/image" Target="../media/image7.jpeg"/><Relationship Id="rId11" Type="http://schemas.openxmlformats.org/officeDocument/2006/relationships/image" Target="../media/image3.jpeg"/><Relationship Id="rId1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8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3.jpe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8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3.jpeg"/><Relationship Id="rId8" Type="http://schemas.openxmlformats.org/officeDocument/2006/relationships/image" Target="../media/image8.jpeg"/><Relationship Id="rId9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8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3.jpeg"/><Relationship Id="rId8" Type="http://schemas.openxmlformats.org/officeDocument/2006/relationships/image" Target="../media/image8.jpeg"/><Relationship Id="rId9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8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3.jpeg"/><Relationship Id="rId8" Type="http://schemas.openxmlformats.org/officeDocument/2006/relationships/image" Target="../media/image8.jpeg"/><Relationship Id="rId9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8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3.jpeg"/><Relationship Id="rId8" Type="http://schemas.openxmlformats.org/officeDocument/2006/relationships/image" Target="../media/image8.jpeg"/><Relationship Id="rId9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8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3.jpeg"/><Relationship Id="rId8" Type="http://schemas.openxmlformats.org/officeDocument/2006/relationships/image" Target="../media/image8.jpeg"/><Relationship Id="rId9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8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3.jpeg"/><Relationship Id="rId8" Type="http://schemas.openxmlformats.org/officeDocument/2006/relationships/image" Target="../media/image8.jpeg"/><Relationship Id="rId9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8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3.jpeg"/><Relationship Id="rId8" Type="http://schemas.openxmlformats.org/officeDocument/2006/relationships/image" Target="../media/image8.jpeg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" Target="slide7.xml"/><Relationship Id="rId3" Type="http://schemas.openxmlformats.org/officeDocument/2006/relationships/image" Target="../media/image4.jpeg"/><Relationship Id="rId4" Type="http://schemas.openxmlformats.org/officeDocument/2006/relationships/slide" Target="slide9.xml"/><Relationship Id="rId5" Type="http://schemas.openxmlformats.org/officeDocument/2006/relationships/image" Target="../media/image3.jpeg"/><Relationship Id="rId6" Type="http://schemas.openxmlformats.org/officeDocument/2006/relationships/slide" Target="slide9.xml"/><Relationship Id="rId7" Type="http://schemas.openxmlformats.org/officeDocument/2006/relationships/image" Target="../media/image5.jpeg"/><Relationship Id="rId8" Type="http://schemas.openxmlformats.org/officeDocument/2006/relationships/slide" Target="slide9.xml"/><Relationship Id="rId9" Type="http://schemas.openxmlformats.org/officeDocument/2006/relationships/image" Target="../media/image6.jpeg"/><Relationship Id="rId10" Type="http://schemas.openxmlformats.org/officeDocument/2006/relationships/slide" Target="slide9.xml"/><Relationship Id="rId11" Type="http://schemas.openxmlformats.org/officeDocument/2006/relationships/image" Target="../media/image7.jpeg"/><Relationship Id="rId12" Type="http://schemas.openxmlformats.org/officeDocument/2006/relationships/slide" Target="slide9.xml"/><Relationship Id="rId13" Type="http://schemas.openxmlformats.org/officeDocument/2006/relationships/image" Target="../media/image8.jpeg"/><Relationship Id="rId14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8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3.jpeg"/><Relationship Id="rId8" Type="http://schemas.openxmlformats.org/officeDocument/2006/relationships/image" Target="../media/image8.jpeg"/><Relationship Id="rId9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8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3.jpeg"/><Relationship Id="rId8" Type="http://schemas.openxmlformats.org/officeDocument/2006/relationships/image" Target="../media/image8.jpeg"/><Relationship Id="rId9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8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3.jpeg"/><Relationship Id="rId8" Type="http://schemas.openxmlformats.org/officeDocument/2006/relationships/image" Target="../media/image8.jpeg"/><Relationship Id="rId9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8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3.jpeg"/><Relationship Id="rId8" Type="http://schemas.openxmlformats.org/officeDocument/2006/relationships/image" Target="../media/image8.jpeg"/><Relationship Id="rId9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8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3.jpeg"/><Relationship Id="rId8" Type="http://schemas.openxmlformats.org/officeDocument/2006/relationships/image" Target="../media/image8.jpeg"/><Relationship Id="rId9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4.jpeg"/><Relationship Id="rId3" Type="http://schemas.openxmlformats.org/officeDocument/2006/relationships/image" Target="../media/image3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4.jpeg"/><Relationship Id="rId9" Type="http://schemas.openxmlformats.org/officeDocument/2006/relationships/slide" Target="slide13.xml"/><Relationship Id="rId10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4.jpeg"/><Relationship Id="rId3" Type="http://schemas.openxmlformats.org/officeDocument/2006/relationships/image" Target="../media/image3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4.jpeg"/><Relationship Id="rId9" Type="http://schemas.openxmlformats.org/officeDocument/2006/relationships/slide" Target="slide12.xml"/><Relationship Id="rId10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4.jpeg"/><Relationship Id="rId3" Type="http://schemas.openxmlformats.org/officeDocument/2006/relationships/image" Target="../media/image3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4.jpeg"/><Relationship Id="rId9" Type="http://schemas.openxmlformats.org/officeDocument/2006/relationships/slide" Target="slide12.xm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5960" y="1979280"/>
            <a:ext cx="6553080" cy="25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Arial Black"/>
              </a:rPr>
              <a:t>A chacun son truc…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3300"/>
                </a:solidFill>
                <a:latin typeface="Milano LET"/>
              </a:rPr>
              <a:t>Diaporama exclusivement réservé aux femmes !!</a:t>
            </a:r>
            <a:endParaRPr b="0" lang="en-US" sz="40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G Production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4648320" y="4952880"/>
            <a:ext cx="326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Tu n’es vraiment pas très observatrice 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385920" y="380880"/>
            <a:ext cx="3900240" cy="604836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5181480" y="1219320"/>
            <a:ext cx="679680" cy="89532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3"/>
          <a:stretch/>
        </p:blipFill>
        <p:spPr>
          <a:xfrm>
            <a:off x="6858000" y="3352680"/>
            <a:ext cx="789120" cy="90036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4"/>
          <a:stretch/>
        </p:blipFill>
        <p:spPr>
          <a:xfrm>
            <a:off x="5181480" y="3352680"/>
            <a:ext cx="825480" cy="90036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5"/>
          <a:stretch/>
        </p:blipFill>
        <p:spPr>
          <a:xfrm>
            <a:off x="5181480" y="2274840"/>
            <a:ext cx="669960" cy="90000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6"/>
          <a:stretch/>
        </p:blipFill>
        <p:spPr>
          <a:xfrm>
            <a:off x="6857280" y="1219320"/>
            <a:ext cx="825480" cy="90000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7"/>
          <a:stretch/>
        </p:blipFill>
        <p:spPr>
          <a:xfrm>
            <a:off x="6858000" y="2286000"/>
            <a:ext cx="750960" cy="9000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8"/>
          <a:stretch/>
        </p:blipFill>
        <p:spPr>
          <a:xfrm>
            <a:off x="2133720" y="5181480"/>
            <a:ext cx="650880" cy="860400"/>
          </a:xfrm>
          <a:prstGeom prst="rect">
            <a:avLst/>
          </a:prstGeom>
          <a:ln w="0">
            <a:noFill/>
          </a:ln>
        </p:spPr>
      </p:pic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429000" y="73080"/>
            <a:ext cx="464832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 Black"/>
              </a:rPr>
              <a:t>Diapositive N° 2 - Résultat</a:t>
            </a:r>
            <a:br>
              <a:rPr sz="2400"/>
            </a:br>
            <a:r>
              <a:rPr b="0" lang="en-US" sz="2400" spc="-1" strike="noStrike">
                <a:solidFill>
                  <a:srgbClr val="0033cc"/>
                </a:solidFill>
                <a:latin typeface="Arial Black"/>
              </a:rPr>
              <a:t>Score actuel = 0 point</a:t>
            </a:r>
            <a:endParaRPr b="0" lang="en-US" sz="2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85" name=""/>
          <p:cNvSpPr/>
          <p:nvPr/>
        </p:nvSpPr>
        <p:spPr>
          <a:xfrm>
            <a:off x="6111720" y="83808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Lucida Handwriting"/>
              </a:rPr>
              <a:t>Perd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724280" y="1066680"/>
            <a:ext cx="1447920" cy="137160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>
            <a:hlinkClick r:id="rId9" action="ppaction://hlinksldjump"/>
          </p:cNvPr>
          <p:cNvSpPr/>
          <p:nvPr/>
        </p:nvSpPr>
        <p:spPr>
          <a:xfrm>
            <a:off x="4630680" y="6124680"/>
            <a:ext cx="1008000" cy="504720"/>
          </a:xfrm>
          <a:custGeom>
            <a:avLst/>
            <a:gdLst>
              <a:gd name="textAreaLeft" fmla="*/ 32400 w 1008000"/>
              <a:gd name="textAreaRight" fmla="*/ 975600 w 1008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43123" h="21600">
                <a:moveTo>
                  <a:pt x="0" y="0"/>
                </a:moveTo>
                <a:lnTo>
                  <a:pt x="43123" y="0"/>
                </a:lnTo>
                <a:lnTo>
                  <a:pt x="43123" y="21600"/>
                </a:lnTo>
                <a:lnTo>
                  <a:pt x="0" y="21600"/>
                </a:lnTo>
                <a:close/>
              </a:path>
              <a:path fill="lightenLess" w="43123" h="21600">
                <a:moveTo>
                  <a:pt x="0" y="0"/>
                </a:moveTo>
                <a:lnTo>
                  <a:pt x="43123" y="0"/>
                </a:lnTo>
                <a:lnTo>
                  <a:pt x="41723" y="1400"/>
                </a:lnTo>
                <a:lnTo>
                  <a:pt x="1400" y="1400"/>
                </a:lnTo>
                <a:close/>
              </a:path>
              <a:path fill="darken" w="43123" h="21600">
                <a:moveTo>
                  <a:pt x="43123" y="0"/>
                </a:moveTo>
                <a:lnTo>
                  <a:pt x="43123" y="21600"/>
                </a:lnTo>
                <a:lnTo>
                  <a:pt x="41723" y="20200"/>
                </a:lnTo>
                <a:lnTo>
                  <a:pt x="41723" y="1400"/>
                </a:lnTo>
                <a:close/>
              </a:path>
              <a:path fill="darkenLess" w="43123" h="21600">
                <a:moveTo>
                  <a:pt x="431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23" y="20200"/>
                </a:lnTo>
                <a:close/>
              </a:path>
              <a:path fill="lighten" w="431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23" h="21600">
                <a:moveTo>
                  <a:pt x="14555" y="3794"/>
                </a:moveTo>
                <a:lnTo>
                  <a:pt x="28568" y="10800"/>
                </a:lnTo>
                <a:lnTo>
                  <a:pt x="14555" y="17806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G Produc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4800600" y="5638680"/>
            <a:ext cx="326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lez !! Tu n’es pas si mauvaise que ça 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249800" cy="6553080"/>
          </a:xfrm>
          <a:prstGeom prst="rect">
            <a:avLst/>
          </a:prstGeom>
          <a:ln w="0">
            <a:noFill/>
          </a:ln>
        </p:spPr>
      </p:pic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38480" y="-63720"/>
            <a:ext cx="411480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 Black"/>
              </a:rPr>
              <a:t>Diapositive N° 3</a:t>
            </a:r>
            <a:br>
              <a:rPr sz="2400"/>
            </a:br>
            <a:r>
              <a:rPr b="0" lang="en-US" sz="2400" spc="-1" strike="noStrike">
                <a:solidFill>
                  <a:srgbClr val="0033cc"/>
                </a:solidFill>
                <a:latin typeface="Arial Black"/>
              </a:rPr>
              <a:t>Score actuel = 0 point</a:t>
            </a:r>
            <a:endParaRPr b="0" lang="en-US" sz="2400" spc="-1" strike="noStrike">
              <a:solidFill>
                <a:srgbClr val="003300"/>
              </a:solidFill>
              <a:latin typeface="Arial Black"/>
            </a:endParaRPr>
          </a:p>
        </p:txBody>
      </p:sp>
      <p:pic>
        <p:nvPicPr>
          <p:cNvPr id="191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181480" y="1523880"/>
            <a:ext cx="944640" cy="107964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6934320" y="1523880"/>
            <a:ext cx="817560" cy="10796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5181480" y="4102200"/>
            <a:ext cx="804960" cy="107928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934320" y="4114800"/>
            <a:ext cx="907920" cy="107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6934320" y="2819520"/>
            <a:ext cx="792000" cy="107928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12"/>
          <a:stretch/>
        </p:blipFill>
        <p:spPr>
          <a:xfrm>
            <a:off x="5181480" y="2819520"/>
            <a:ext cx="692280" cy="1079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G Produc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4800600" y="5638680"/>
            <a:ext cx="326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lez !! Un petit effort 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44280" y="0"/>
            <a:ext cx="4299120" cy="662940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114800" y="-63720"/>
            <a:ext cx="411480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 Black"/>
              </a:rPr>
              <a:t>Diapositive N° 3</a:t>
            </a:r>
            <a:br>
              <a:rPr sz="2400"/>
            </a:br>
            <a:r>
              <a:rPr b="0" lang="en-US" sz="2400" spc="-1" strike="noStrike">
                <a:solidFill>
                  <a:srgbClr val="0033cc"/>
                </a:solidFill>
                <a:latin typeface="Arial Black"/>
              </a:rPr>
              <a:t>Score actuel = 1 point</a:t>
            </a:r>
            <a:endParaRPr b="0" lang="en-US" sz="2400" spc="-1" strike="noStrike">
              <a:solidFill>
                <a:srgbClr val="003300"/>
              </a:solidFill>
              <a:latin typeface="Arial Black"/>
            </a:endParaRPr>
          </a:p>
        </p:txBody>
      </p:sp>
      <p:pic>
        <p:nvPicPr>
          <p:cNvPr id="200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181480" y="1523880"/>
            <a:ext cx="944640" cy="107964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6934320" y="1523880"/>
            <a:ext cx="817560" cy="107964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5181480" y="4102200"/>
            <a:ext cx="804960" cy="107928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934320" y="4114800"/>
            <a:ext cx="907920" cy="107964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6934320" y="2819520"/>
            <a:ext cx="792000" cy="107928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12"/>
          <a:stretch/>
        </p:blipFill>
        <p:spPr>
          <a:xfrm>
            <a:off x="5181480" y="2819520"/>
            <a:ext cx="692280" cy="1079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G Produc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4800600" y="5638680"/>
            <a:ext cx="326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cile, pour une championne comme toi 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299120" cy="6629400"/>
          </a:xfrm>
          <a:prstGeom prst="rect">
            <a:avLst/>
          </a:prstGeom>
          <a:ln w="0">
            <a:noFill/>
          </a:ln>
        </p:spPr>
      </p:pic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962520" y="-63720"/>
            <a:ext cx="411480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 Black"/>
              </a:rPr>
              <a:t>Diapositive N° 3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S</a:t>
            </a:r>
            <a:r>
              <a:rPr b="0" lang="en-US" sz="2400" spc="-1" strike="noStrike">
                <a:solidFill>
                  <a:srgbClr val="0033cc"/>
                </a:solidFill>
                <a:latin typeface="Arial Black"/>
              </a:rPr>
              <a:t>core actuel = 2 points</a:t>
            </a:r>
            <a:endParaRPr b="0" lang="en-US" sz="2400" spc="-1" strike="noStrike">
              <a:solidFill>
                <a:srgbClr val="003300"/>
              </a:solidFill>
              <a:latin typeface="Arial Black"/>
            </a:endParaRPr>
          </a:p>
        </p:txBody>
      </p:sp>
      <p:pic>
        <p:nvPicPr>
          <p:cNvPr id="209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181480" y="1523880"/>
            <a:ext cx="944640" cy="107964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6934320" y="1523880"/>
            <a:ext cx="817560" cy="107964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5181480" y="4102200"/>
            <a:ext cx="804960" cy="107928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934320" y="4114800"/>
            <a:ext cx="907920" cy="10796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6934320" y="2819520"/>
            <a:ext cx="792000" cy="107928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12"/>
          <a:stretch/>
        </p:blipFill>
        <p:spPr>
          <a:xfrm>
            <a:off x="5181480" y="2819520"/>
            <a:ext cx="692280" cy="1079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G Produc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4572000" y="5257800"/>
            <a:ext cx="34974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u le fais exprès 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gardes la bonne réponse 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348080" cy="670572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352680" y="88920"/>
            <a:ext cx="457200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Diapo</a:t>
            </a:r>
            <a:r>
              <a:rPr b="0" lang="en-US" sz="2400" spc="-1" strike="noStrike">
                <a:solidFill>
                  <a:srgbClr val="0033cc"/>
                </a:solidFill>
                <a:latin typeface="Arial Black"/>
              </a:rPr>
              <a:t>sitive N° 3 - Résultat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Sco</a:t>
            </a:r>
            <a:r>
              <a:rPr b="0" lang="en-US" sz="2400" spc="-1" strike="noStrike">
                <a:solidFill>
                  <a:srgbClr val="0033cc"/>
                </a:solidFill>
                <a:latin typeface="Arial Black"/>
              </a:rPr>
              <a:t>re actuel = 0 point</a:t>
            </a:r>
            <a:endParaRPr b="0" lang="en-US" sz="2400" spc="-1" strike="noStrike">
              <a:solidFill>
                <a:srgbClr val="003300"/>
              </a:solidFill>
              <a:latin typeface="Arial Black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>
            <a:off x="1600200" y="5334120"/>
            <a:ext cx="685800" cy="95868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3"/>
          <a:stretch/>
        </p:blipFill>
        <p:spPr>
          <a:xfrm>
            <a:off x="5181480" y="1523880"/>
            <a:ext cx="944640" cy="10796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4"/>
          <a:stretch/>
        </p:blipFill>
        <p:spPr>
          <a:xfrm>
            <a:off x="6934320" y="1523880"/>
            <a:ext cx="817560" cy="107964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5"/>
          <a:stretch/>
        </p:blipFill>
        <p:spPr>
          <a:xfrm>
            <a:off x="5181480" y="4102200"/>
            <a:ext cx="804960" cy="107928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6"/>
          <a:stretch/>
        </p:blipFill>
        <p:spPr>
          <a:xfrm>
            <a:off x="6934320" y="4114800"/>
            <a:ext cx="907920" cy="107964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7"/>
          <a:stretch/>
        </p:blipFill>
        <p:spPr>
          <a:xfrm>
            <a:off x="6934320" y="2819520"/>
            <a:ext cx="792000" cy="10792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8"/>
          <a:stretch/>
        </p:blipFill>
        <p:spPr>
          <a:xfrm>
            <a:off x="5181480" y="2819520"/>
            <a:ext cx="692280" cy="107928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6111720" y="83808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Lucida Handwriting"/>
              </a:rPr>
              <a:t>Perd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800600" y="2666880"/>
            <a:ext cx="1447920" cy="137160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>
            <a:hlinkClick r:id="rId9" action="ppaction://hlinksldjump"/>
          </p:cNvPr>
          <p:cNvSpPr/>
          <p:nvPr/>
        </p:nvSpPr>
        <p:spPr>
          <a:xfrm>
            <a:off x="4630680" y="6124680"/>
            <a:ext cx="1008000" cy="504720"/>
          </a:xfrm>
          <a:custGeom>
            <a:avLst/>
            <a:gdLst>
              <a:gd name="textAreaLeft" fmla="*/ 32400 w 1008000"/>
              <a:gd name="textAreaRight" fmla="*/ 975600 w 1008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43123" h="21600">
                <a:moveTo>
                  <a:pt x="0" y="0"/>
                </a:moveTo>
                <a:lnTo>
                  <a:pt x="43123" y="0"/>
                </a:lnTo>
                <a:lnTo>
                  <a:pt x="43123" y="21600"/>
                </a:lnTo>
                <a:lnTo>
                  <a:pt x="0" y="21600"/>
                </a:lnTo>
                <a:close/>
              </a:path>
              <a:path fill="lightenLess" w="43123" h="21600">
                <a:moveTo>
                  <a:pt x="0" y="0"/>
                </a:moveTo>
                <a:lnTo>
                  <a:pt x="43123" y="0"/>
                </a:lnTo>
                <a:lnTo>
                  <a:pt x="41723" y="1400"/>
                </a:lnTo>
                <a:lnTo>
                  <a:pt x="1400" y="1400"/>
                </a:lnTo>
                <a:close/>
              </a:path>
              <a:path fill="darken" w="43123" h="21600">
                <a:moveTo>
                  <a:pt x="43123" y="0"/>
                </a:moveTo>
                <a:lnTo>
                  <a:pt x="43123" y="21600"/>
                </a:lnTo>
                <a:lnTo>
                  <a:pt x="41723" y="20200"/>
                </a:lnTo>
                <a:lnTo>
                  <a:pt x="41723" y="1400"/>
                </a:lnTo>
                <a:close/>
              </a:path>
              <a:path fill="darkenLess" w="43123" h="21600">
                <a:moveTo>
                  <a:pt x="431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23" y="20200"/>
                </a:lnTo>
                <a:close/>
              </a:path>
              <a:path fill="lighten" w="431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23" h="21600">
                <a:moveTo>
                  <a:pt x="14555" y="3794"/>
                </a:moveTo>
                <a:lnTo>
                  <a:pt x="28568" y="10800"/>
                </a:lnTo>
                <a:lnTo>
                  <a:pt x="14555" y="17806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G Produc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4495680" y="5257800"/>
            <a:ext cx="36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 commençais à désespérer 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348080" cy="6705720"/>
          </a:xfrm>
          <a:prstGeom prst="rect">
            <a:avLst/>
          </a:prstGeom>
          <a:ln w="0">
            <a:noFill/>
          </a:ln>
        </p:spPr>
      </p:pic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352680" y="88920"/>
            <a:ext cx="457200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Diapo</a:t>
            </a:r>
            <a:r>
              <a:rPr b="0" lang="en-US" sz="2400" spc="-1" strike="noStrike">
                <a:solidFill>
                  <a:srgbClr val="0033cc"/>
                </a:solidFill>
                <a:latin typeface="Arial Black"/>
              </a:rPr>
              <a:t>sitive N° 3 - Résultat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Sco</a:t>
            </a:r>
            <a:r>
              <a:rPr b="0" lang="en-US" sz="2400" spc="-1" strike="noStrike">
                <a:solidFill>
                  <a:srgbClr val="0033cc"/>
                </a:solidFill>
                <a:latin typeface="Arial Black"/>
              </a:rPr>
              <a:t>re actuel = 1 point</a:t>
            </a:r>
            <a:endParaRPr b="0" lang="en-US" sz="2400" spc="-1" strike="noStrike">
              <a:solidFill>
                <a:srgbClr val="003300"/>
              </a:solidFill>
              <a:latin typeface="Arial Black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1600200" y="5257800"/>
            <a:ext cx="628560" cy="98100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3"/>
          <a:stretch/>
        </p:blipFill>
        <p:spPr>
          <a:xfrm>
            <a:off x="5181480" y="1523880"/>
            <a:ext cx="944640" cy="107964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4"/>
          <a:stretch/>
        </p:blipFill>
        <p:spPr>
          <a:xfrm>
            <a:off x="6934320" y="1523880"/>
            <a:ext cx="817560" cy="107964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5"/>
          <a:stretch/>
        </p:blipFill>
        <p:spPr>
          <a:xfrm>
            <a:off x="5181480" y="4102200"/>
            <a:ext cx="804960" cy="107928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6"/>
          <a:stretch/>
        </p:blipFill>
        <p:spPr>
          <a:xfrm>
            <a:off x="6934320" y="4114800"/>
            <a:ext cx="907920" cy="107964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7"/>
          <a:stretch/>
        </p:blipFill>
        <p:spPr>
          <a:xfrm>
            <a:off x="6934320" y="2819520"/>
            <a:ext cx="792000" cy="107928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5181480" y="2819520"/>
            <a:ext cx="692280" cy="107928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5029200" y="99072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Lucida Handwriting"/>
              </a:rPr>
              <a:t>Enfin! Gagn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>
            <a:hlinkClick r:id="rId10" action="ppaction://hlinksldjump"/>
          </p:cNvPr>
          <p:cNvSpPr/>
          <p:nvPr/>
        </p:nvSpPr>
        <p:spPr>
          <a:xfrm>
            <a:off x="4630680" y="6124680"/>
            <a:ext cx="1008000" cy="504720"/>
          </a:xfrm>
          <a:custGeom>
            <a:avLst/>
            <a:gdLst>
              <a:gd name="textAreaLeft" fmla="*/ 32400 w 1008000"/>
              <a:gd name="textAreaRight" fmla="*/ 975600 w 1008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43123" h="21600">
                <a:moveTo>
                  <a:pt x="0" y="0"/>
                </a:moveTo>
                <a:lnTo>
                  <a:pt x="43123" y="0"/>
                </a:lnTo>
                <a:lnTo>
                  <a:pt x="43123" y="21600"/>
                </a:lnTo>
                <a:lnTo>
                  <a:pt x="0" y="21600"/>
                </a:lnTo>
                <a:close/>
              </a:path>
              <a:path fill="lightenLess" w="43123" h="21600">
                <a:moveTo>
                  <a:pt x="0" y="0"/>
                </a:moveTo>
                <a:lnTo>
                  <a:pt x="43123" y="0"/>
                </a:lnTo>
                <a:lnTo>
                  <a:pt x="41723" y="1400"/>
                </a:lnTo>
                <a:lnTo>
                  <a:pt x="1400" y="1400"/>
                </a:lnTo>
                <a:close/>
              </a:path>
              <a:path fill="darken" w="43123" h="21600">
                <a:moveTo>
                  <a:pt x="43123" y="0"/>
                </a:moveTo>
                <a:lnTo>
                  <a:pt x="43123" y="21600"/>
                </a:lnTo>
                <a:lnTo>
                  <a:pt x="41723" y="20200"/>
                </a:lnTo>
                <a:lnTo>
                  <a:pt x="41723" y="1400"/>
                </a:lnTo>
                <a:close/>
              </a:path>
              <a:path fill="darkenLess" w="43123" h="21600">
                <a:moveTo>
                  <a:pt x="431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23" y="20200"/>
                </a:lnTo>
                <a:close/>
              </a:path>
              <a:path fill="lighten" w="431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23" h="21600">
                <a:moveTo>
                  <a:pt x="14555" y="3794"/>
                </a:moveTo>
                <a:lnTo>
                  <a:pt x="28568" y="10800"/>
                </a:lnTo>
                <a:lnTo>
                  <a:pt x="14555" y="17806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800600" y="2666880"/>
            <a:ext cx="1447920" cy="137160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G Produc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4572000" y="5257800"/>
            <a:ext cx="34974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u le fais exprès 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gardes la bonne réponse 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299120" cy="6629400"/>
          </a:xfrm>
          <a:prstGeom prst="rect">
            <a:avLst/>
          </a:prstGeom>
          <a:ln w="0">
            <a:noFill/>
          </a:ln>
        </p:spPr>
      </p:pic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352680" y="88920"/>
            <a:ext cx="457200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Diapo</a:t>
            </a:r>
            <a:r>
              <a:rPr b="0" lang="en-US" sz="2400" spc="-1" strike="noStrike">
                <a:solidFill>
                  <a:srgbClr val="0033cc"/>
                </a:solidFill>
                <a:latin typeface="Arial Black"/>
              </a:rPr>
              <a:t>sitive N° 3 - Résultat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Sco</a:t>
            </a:r>
            <a:r>
              <a:rPr b="0" lang="en-US" sz="2400" spc="-1" strike="noStrike">
                <a:solidFill>
                  <a:srgbClr val="0033cc"/>
                </a:solidFill>
                <a:latin typeface="Arial Black"/>
              </a:rPr>
              <a:t>re actuel = 1 point</a:t>
            </a:r>
            <a:endParaRPr b="0" lang="en-US" sz="2400" spc="-1" strike="noStrike">
              <a:solidFill>
                <a:srgbClr val="003300"/>
              </a:solidFill>
              <a:latin typeface="Arial Black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1600200" y="5257800"/>
            <a:ext cx="608040" cy="94788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5181480" y="1523880"/>
            <a:ext cx="944640" cy="107964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4"/>
          <a:stretch/>
        </p:blipFill>
        <p:spPr>
          <a:xfrm>
            <a:off x="6934320" y="1523880"/>
            <a:ext cx="817560" cy="107964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5"/>
          <a:stretch/>
        </p:blipFill>
        <p:spPr>
          <a:xfrm>
            <a:off x="5181480" y="4102200"/>
            <a:ext cx="804960" cy="107928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6"/>
          <a:stretch/>
        </p:blipFill>
        <p:spPr>
          <a:xfrm>
            <a:off x="6934320" y="4114800"/>
            <a:ext cx="907920" cy="107964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7"/>
          <a:stretch/>
        </p:blipFill>
        <p:spPr>
          <a:xfrm>
            <a:off x="6934320" y="2819520"/>
            <a:ext cx="792000" cy="107928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8"/>
          <a:stretch/>
        </p:blipFill>
        <p:spPr>
          <a:xfrm>
            <a:off x="5181480" y="2819520"/>
            <a:ext cx="692280" cy="107928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111720" y="83808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Lucida Handwriting"/>
              </a:rPr>
              <a:t>Perd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800600" y="2666880"/>
            <a:ext cx="1447920" cy="137160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>
            <a:hlinkClick r:id="rId9" action="ppaction://hlinksldjump"/>
          </p:cNvPr>
          <p:cNvSpPr/>
          <p:nvPr/>
        </p:nvSpPr>
        <p:spPr>
          <a:xfrm>
            <a:off x="4630680" y="6124680"/>
            <a:ext cx="1008000" cy="504720"/>
          </a:xfrm>
          <a:custGeom>
            <a:avLst/>
            <a:gdLst>
              <a:gd name="textAreaLeft" fmla="*/ 32400 w 1008000"/>
              <a:gd name="textAreaRight" fmla="*/ 975600 w 1008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43123" h="21600">
                <a:moveTo>
                  <a:pt x="0" y="0"/>
                </a:moveTo>
                <a:lnTo>
                  <a:pt x="43123" y="0"/>
                </a:lnTo>
                <a:lnTo>
                  <a:pt x="43123" y="21600"/>
                </a:lnTo>
                <a:lnTo>
                  <a:pt x="0" y="21600"/>
                </a:lnTo>
                <a:close/>
              </a:path>
              <a:path fill="lightenLess" w="43123" h="21600">
                <a:moveTo>
                  <a:pt x="0" y="0"/>
                </a:moveTo>
                <a:lnTo>
                  <a:pt x="43123" y="0"/>
                </a:lnTo>
                <a:lnTo>
                  <a:pt x="41723" y="1400"/>
                </a:lnTo>
                <a:lnTo>
                  <a:pt x="1400" y="1400"/>
                </a:lnTo>
                <a:close/>
              </a:path>
              <a:path fill="darken" w="43123" h="21600">
                <a:moveTo>
                  <a:pt x="43123" y="0"/>
                </a:moveTo>
                <a:lnTo>
                  <a:pt x="43123" y="21600"/>
                </a:lnTo>
                <a:lnTo>
                  <a:pt x="41723" y="20200"/>
                </a:lnTo>
                <a:lnTo>
                  <a:pt x="41723" y="1400"/>
                </a:lnTo>
                <a:close/>
              </a:path>
              <a:path fill="darkenLess" w="43123" h="21600">
                <a:moveTo>
                  <a:pt x="431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23" y="20200"/>
                </a:lnTo>
                <a:close/>
              </a:path>
              <a:path fill="lighten" w="431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23" h="21600">
                <a:moveTo>
                  <a:pt x="14555" y="3794"/>
                </a:moveTo>
                <a:lnTo>
                  <a:pt x="28568" y="10800"/>
                </a:lnTo>
                <a:lnTo>
                  <a:pt x="14555" y="17806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G Produc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4495680" y="5257800"/>
            <a:ext cx="36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’est pas mal 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348080" cy="6705720"/>
          </a:xfrm>
          <a:prstGeom prst="rect">
            <a:avLst/>
          </a:prstGeom>
          <a:ln w="0">
            <a:noFill/>
          </a:ln>
        </p:spPr>
      </p:pic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352680" y="88920"/>
            <a:ext cx="457200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Diapo</a:t>
            </a:r>
            <a:r>
              <a:rPr b="0" lang="en-US" sz="2400" spc="-1" strike="noStrike">
                <a:solidFill>
                  <a:srgbClr val="0033cc"/>
                </a:solidFill>
                <a:latin typeface="Arial Black"/>
              </a:rPr>
              <a:t>sitive N° 3 - Résultat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Sco</a:t>
            </a:r>
            <a:r>
              <a:rPr b="0" lang="en-US" sz="2400" spc="-1" strike="noStrike">
                <a:solidFill>
                  <a:srgbClr val="0033cc"/>
                </a:solidFill>
                <a:latin typeface="Arial Black"/>
              </a:rPr>
              <a:t>re actuel = 2 points</a:t>
            </a:r>
            <a:endParaRPr b="0" lang="en-US" sz="2400" spc="-1" strike="noStrike">
              <a:solidFill>
                <a:srgbClr val="003300"/>
              </a:solidFill>
              <a:latin typeface="Arial Black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1622520" y="5257800"/>
            <a:ext cx="663480" cy="1035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81480" y="1523880"/>
            <a:ext cx="944640" cy="107964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4"/>
          <a:stretch/>
        </p:blipFill>
        <p:spPr>
          <a:xfrm>
            <a:off x="6934320" y="1523880"/>
            <a:ext cx="817560" cy="107964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"/>
          <p:cNvPicPr/>
          <p:nvPr/>
        </p:nvPicPr>
        <p:blipFill>
          <a:blip r:embed="rId5"/>
          <a:stretch/>
        </p:blipFill>
        <p:spPr>
          <a:xfrm>
            <a:off x="5181480" y="4102200"/>
            <a:ext cx="804960" cy="107928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6"/>
          <a:stretch/>
        </p:blipFill>
        <p:spPr>
          <a:xfrm>
            <a:off x="6934320" y="4114800"/>
            <a:ext cx="907920" cy="107964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7"/>
          <a:stretch/>
        </p:blipFill>
        <p:spPr>
          <a:xfrm>
            <a:off x="6934320" y="2819520"/>
            <a:ext cx="792000" cy="107928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8"/>
          <a:stretch/>
        </p:blipFill>
        <p:spPr>
          <a:xfrm>
            <a:off x="5181480" y="2819520"/>
            <a:ext cx="692280" cy="107928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/>
          <p:nvPr/>
        </p:nvSpPr>
        <p:spPr>
          <a:xfrm>
            <a:off x="5029200" y="99072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Lucida Handwriting"/>
              </a:rPr>
              <a:t>Gagné 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>
            <a:hlinkClick r:id="rId9" action="ppaction://hlinksldjump"/>
          </p:cNvPr>
          <p:cNvSpPr/>
          <p:nvPr/>
        </p:nvSpPr>
        <p:spPr>
          <a:xfrm>
            <a:off x="4630680" y="6124680"/>
            <a:ext cx="1008000" cy="504720"/>
          </a:xfrm>
          <a:custGeom>
            <a:avLst/>
            <a:gdLst>
              <a:gd name="textAreaLeft" fmla="*/ 32400 w 1008000"/>
              <a:gd name="textAreaRight" fmla="*/ 975600 w 1008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43123" h="21600">
                <a:moveTo>
                  <a:pt x="0" y="0"/>
                </a:moveTo>
                <a:lnTo>
                  <a:pt x="43123" y="0"/>
                </a:lnTo>
                <a:lnTo>
                  <a:pt x="43123" y="21600"/>
                </a:lnTo>
                <a:lnTo>
                  <a:pt x="0" y="21600"/>
                </a:lnTo>
                <a:close/>
              </a:path>
              <a:path fill="lightenLess" w="43123" h="21600">
                <a:moveTo>
                  <a:pt x="0" y="0"/>
                </a:moveTo>
                <a:lnTo>
                  <a:pt x="43123" y="0"/>
                </a:lnTo>
                <a:lnTo>
                  <a:pt x="41723" y="1400"/>
                </a:lnTo>
                <a:lnTo>
                  <a:pt x="1400" y="1400"/>
                </a:lnTo>
                <a:close/>
              </a:path>
              <a:path fill="darken" w="43123" h="21600">
                <a:moveTo>
                  <a:pt x="43123" y="0"/>
                </a:moveTo>
                <a:lnTo>
                  <a:pt x="43123" y="21600"/>
                </a:lnTo>
                <a:lnTo>
                  <a:pt x="41723" y="20200"/>
                </a:lnTo>
                <a:lnTo>
                  <a:pt x="41723" y="1400"/>
                </a:lnTo>
                <a:close/>
              </a:path>
              <a:path fill="darkenLess" w="43123" h="21600">
                <a:moveTo>
                  <a:pt x="431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23" y="20200"/>
                </a:lnTo>
                <a:close/>
              </a:path>
              <a:path fill="lighten" w="431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23" h="21600">
                <a:moveTo>
                  <a:pt x="14555" y="3794"/>
                </a:moveTo>
                <a:lnTo>
                  <a:pt x="28568" y="10800"/>
                </a:lnTo>
                <a:lnTo>
                  <a:pt x="14555" y="17806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800600" y="2666880"/>
            <a:ext cx="1447920" cy="137160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G Produc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4572000" y="5257800"/>
            <a:ext cx="34974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 petit manque d’attention 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gardes la bonne réponse 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299120" cy="6629400"/>
          </a:xfrm>
          <a:prstGeom prst="rect">
            <a:avLst/>
          </a:prstGeom>
          <a:ln w="0">
            <a:noFill/>
          </a:ln>
        </p:spPr>
      </p:pic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352680" y="88920"/>
            <a:ext cx="457200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Diapo</a:t>
            </a:r>
            <a:r>
              <a:rPr b="0" lang="en-US" sz="2400" spc="-1" strike="noStrike">
                <a:solidFill>
                  <a:srgbClr val="0033cc"/>
                </a:solidFill>
                <a:latin typeface="Arial Black"/>
              </a:rPr>
              <a:t>sitive N° 3 - Résultat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Sco</a:t>
            </a:r>
            <a:r>
              <a:rPr b="0" lang="en-US" sz="2400" spc="-1" strike="noStrike">
                <a:solidFill>
                  <a:srgbClr val="0033cc"/>
                </a:solidFill>
                <a:latin typeface="Arial Black"/>
              </a:rPr>
              <a:t>re actuel = 2 points</a:t>
            </a:r>
            <a:endParaRPr b="0" lang="en-US" sz="2400" spc="-1" strike="noStrike">
              <a:solidFill>
                <a:srgbClr val="003300"/>
              </a:solidFill>
              <a:latin typeface="Arial Black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2"/>
          <a:stretch/>
        </p:blipFill>
        <p:spPr>
          <a:xfrm>
            <a:off x="1600200" y="5257800"/>
            <a:ext cx="608040" cy="94788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/>
          <p:cNvPicPr/>
          <p:nvPr/>
        </p:nvPicPr>
        <p:blipFill>
          <a:blip r:embed="rId3"/>
          <a:stretch/>
        </p:blipFill>
        <p:spPr>
          <a:xfrm>
            <a:off x="5181480" y="1523880"/>
            <a:ext cx="944640" cy="107964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4"/>
          <a:stretch/>
        </p:blipFill>
        <p:spPr>
          <a:xfrm>
            <a:off x="6934320" y="1523880"/>
            <a:ext cx="817560" cy="107964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/>
          <p:cNvPicPr/>
          <p:nvPr/>
        </p:nvPicPr>
        <p:blipFill>
          <a:blip r:embed="rId5"/>
          <a:stretch/>
        </p:blipFill>
        <p:spPr>
          <a:xfrm>
            <a:off x="5181480" y="4102200"/>
            <a:ext cx="804960" cy="107928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6"/>
          <a:stretch/>
        </p:blipFill>
        <p:spPr>
          <a:xfrm>
            <a:off x="6934320" y="4114800"/>
            <a:ext cx="907920" cy="107964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7"/>
          <a:stretch/>
        </p:blipFill>
        <p:spPr>
          <a:xfrm>
            <a:off x="6934320" y="2819520"/>
            <a:ext cx="792000" cy="107928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8"/>
          <a:stretch/>
        </p:blipFill>
        <p:spPr>
          <a:xfrm>
            <a:off x="5181480" y="2819520"/>
            <a:ext cx="692280" cy="107928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6111720" y="83808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Lucida Handwriting"/>
              </a:rPr>
              <a:t>Perd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4800600" y="2666880"/>
            <a:ext cx="1447920" cy="137160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>
            <a:hlinkClick r:id="rId9" action="ppaction://hlinksldjump"/>
          </p:cNvPr>
          <p:cNvSpPr/>
          <p:nvPr/>
        </p:nvSpPr>
        <p:spPr>
          <a:xfrm>
            <a:off x="4630680" y="6124680"/>
            <a:ext cx="1008000" cy="504720"/>
          </a:xfrm>
          <a:custGeom>
            <a:avLst/>
            <a:gdLst>
              <a:gd name="textAreaLeft" fmla="*/ 32400 w 1008000"/>
              <a:gd name="textAreaRight" fmla="*/ 975600 w 1008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43123" h="21600">
                <a:moveTo>
                  <a:pt x="0" y="0"/>
                </a:moveTo>
                <a:lnTo>
                  <a:pt x="43123" y="0"/>
                </a:lnTo>
                <a:lnTo>
                  <a:pt x="43123" y="21600"/>
                </a:lnTo>
                <a:lnTo>
                  <a:pt x="0" y="21600"/>
                </a:lnTo>
                <a:close/>
              </a:path>
              <a:path fill="lightenLess" w="43123" h="21600">
                <a:moveTo>
                  <a:pt x="0" y="0"/>
                </a:moveTo>
                <a:lnTo>
                  <a:pt x="43123" y="0"/>
                </a:lnTo>
                <a:lnTo>
                  <a:pt x="41723" y="1400"/>
                </a:lnTo>
                <a:lnTo>
                  <a:pt x="1400" y="1400"/>
                </a:lnTo>
                <a:close/>
              </a:path>
              <a:path fill="darken" w="43123" h="21600">
                <a:moveTo>
                  <a:pt x="43123" y="0"/>
                </a:moveTo>
                <a:lnTo>
                  <a:pt x="43123" y="21600"/>
                </a:lnTo>
                <a:lnTo>
                  <a:pt x="41723" y="20200"/>
                </a:lnTo>
                <a:lnTo>
                  <a:pt x="41723" y="1400"/>
                </a:lnTo>
                <a:close/>
              </a:path>
              <a:path fill="darkenLess" w="43123" h="21600">
                <a:moveTo>
                  <a:pt x="431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23" y="20200"/>
                </a:lnTo>
                <a:close/>
              </a:path>
              <a:path fill="lighten" w="431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23" h="21600">
                <a:moveTo>
                  <a:pt x="14555" y="3794"/>
                </a:moveTo>
                <a:lnTo>
                  <a:pt x="28568" y="10800"/>
                </a:lnTo>
                <a:lnTo>
                  <a:pt x="14555" y="17806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G Produc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4495680" y="5257800"/>
            <a:ext cx="36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u es experte 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299120" cy="6629400"/>
          </a:xfrm>
          <a:prstGeom prst="rect">
            <a:avLst/>
          </a:prstGeom>
          <a:ln w="0">
            <a:noFill/>
          </a:ln>
        </p:spPr>
      </p:pic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352680" y="88920"/>
            <a:ext cx="457200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Diapo</a:t>
            </a:r>
            <a:r>
              <a:rPr b="0" lang="en-US" sz="2400" spc="-1" strike="noStrike">
                <a:solidFill>
                  <a:srgbClr val="0033cc"/>
                </a:solidFill>
                <a:latin typeface="Arial Black"/>
              </a:rPr>
              <a:t>sitive N° 3 - Résultat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Sco</a:t>
            </a:r>
            <a:r>
              <a:rPr b="0" lang="en-US" sz="2400" spc="-1" strike="noStrike">
                <a:solidFill>
                  <a:srgbClr val="0033cc"/>
                </a:solidFill>
                <a:latin typeface="Arial Black"/>
              </a:rPr>
              <a:t>re actuel = 3 points</a:t>
            </a:r>
            <a:endParaRPr b="0" lang="en-US" sz="2400" spc="-1" strike="noStrike">
              <a:solidFill>
                <a:srgbClr val="003300"/>
              </a:solidFill>
              <a:latin typeface="Arial Black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1600200" y="5257800"/>
            <a:ext cx="608040" cy="94788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3"/>
          <a:stretch/>
        </p:blipFill>
        <p:spPr>
          <a:xfrm>
            <a:off x="5181480" y="1523880"/>
            <a:ext cx="944640" cy="1079640"/>
          </a:xfrm>
          <a:prstGeom prst="rect">
            <a:avLst/>
          </a:prstGeom>
          <a:ln w="0">
            <a:noFill/>
          </a:ln>
        </p:spPr>
      </p:pic>
      <p:pic>
        <p:nvPicPr>
          <p:cNvPr id="285" name="" descr=""/>
          <p:cNvPicPr/>
          <p:nvPr/>
        </p:nvPicPr>
        <p:blipFill>
          <a:blip r:embed="rId4"/>
          <a:stretch/>
        </p:blipFill>
        <p:spPr>
          <a:xfrm>
            <a:off x="6934320" y="1523880"/>
            <a:ext cx="817560" cy="1079640"/>
          </a:xfrm>
          <a:prstGeom prst="rect">
            <a:avLst/>
          </a:prstGeom>
          <a:ln w="0">
            <a:noFill/>
          </a:ln>
        </p:spPr>
      </p:pic>
      <p:pic>
        <p:nvPicPr>
          <p:cNvPr id="286" name="" descr=""/>
          <p:cNvPicPr/>
          <p:nvPr/>
        </p:nvPicPr>
        <p:blipFill>
          <a:blip r:embed="rId5"/>
          <a:stretch/>
        </p:blipFill>
        <p:spPr>
          <a:xfrm>
            <a:off x="5181480" y="4102200"/>
            <a:ext cx="804960" cy="1079280"/>
          </a:xfrm>
          <a:prstGeom prst="rect">
            <a:avLst/>
          </a:prstGeom>
          <a:ln w="0">
            <a:noFill/>
          </a:ln>
        </p:spPr>
      </p:pic>
      <p:pic>
        <p:nvPicPr>
          <p:cNvPr id="287" name="" descr=""/>
          <p:cNvPicPr/>
          <p:nvPr/>
        </p:nvPicPr>
        <p:blipFill>
          <a:blip r:embed="rId6"/>
          <a:stretch/>
        </p:blipFill>
        <p:spPr>
          <a:xfrm>
            <a:off x="6934320" y="4114800"/>
            <a:ext cx="907920" cy="1079640"/>
          </a:xfrm>
          <a:prstGeom prst="rect">
            <a:avLst/>
          </a:prstGeom>
          <a:ln w="0">
            <a:noFill/>
          </a:ln>
        </p:spPr>
      </p:pic>
      <p:pic>
        <p:nvPicPr>
          <p:cNvPr id="288" name="" descr=""/>
          <p:cNvPicPr/>
          <p:nvPr/>
        </p:nvPicPr>
        <p:blipFill>
          <a:blip r:embed="rId7"/>
          <a:stretch/>
        </p:blipFill>
        <p:spPr>
          <a:xfrm>
            <a:off x="6934320" y="2819520"/>
            <a:ext cx="792000" cy="107928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8"/>
          <a:stretch/>
        </p:blipFill>
        <p:spPr>
          <a:xfrm>
            <a:off x="5181480" y="2819520"/>
            <a:ext cx="692280" cy="107928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/>
          <p:nvPr/>
        </p:nvSpPr>
        <p:spPr>
          <a:xfrm>
            <a:off x="5029200" y="99072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Lucida Handwriting"/>
              </a:rPr>
              <a:t>Gagné 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>
            <a:hlinkClick r:id="rId9" action="ppaction://hlinksldjump"/>
          </p:cNvPr>
          <p:cNvSpPr/>
          <p:nvPr/>
        </p:nvSpPr>
        <p:spPr>
          <a:xfrm>
            <a:off x="4630680" y="6124680"/>
            <a:ext cx="1008000" cy="504720"/>
          </a:xfrm>
          <a:custGeom>
            <a:avLst/>
            <a:gdLst>
              <a:gd name="textAreaLeft" fmla="*/ 32400 w 1008000"/>
              <a:gd name="textAreaRight" fmla="*/ 975600 w 1008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43123" h="21600">
                <a:moveTo>
                  <a:pt x="0" y="0"/>
                </a:moveTo>
                <a:lnTo>
                  <a:pt x="43123" y="0"/>
                </a:lnTo>
                <a:lnTo>
                  <a:pt x="43123" y="21600"/>
                </a:lnTo>
                <a:lnTo>
                  <a:pt x="0" y="21600"/>
                </a:lnTo>
                <a:close/>
              </a:path>
              <a:path fill="lightenLess" w="43123" h="21600">
                <a:moveTo>
                  <a:pt x="0" y="0"/>
                </a:moveTo>
                <a:lnTo>
                  <a:pt x="43123" y="0"/>
                </a:lnTo>
                <a:lnTo>
                  <a:pt x="41723" y="1400"/>
                </a:lnTo>
                <a:lnTo>
                  <a:pt x="1400" y="1400"/>
                </a:lnTo>
                <a:close/>
              </a:path>
              <a:path fill="darken" w="43123" h="21600">
                <a:moveTo>
                  <a:pt x="43123" y="0"/>
                </a:moveTo>
                <a:lnTo>
                  <a:pt x="43123" y="21600"/>
                </a:lnTo>
                <a:lnTo>
                  <a:pt x="41723" y="20200"/>
                </a:lnTo>
                <a:lnTo>
                  <a:pt x="41723" y="1400"/>
                </a:lnTo>
                <a:close/>
              </a:path>
              <a:path fill="darkenLess" w="43123" h="21600">
                <a:moveTo>
                  <a:pt x="431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23" y="20200"/>
                </a:lnTo>
                <a:close/>
              </a:path>
              <a:path fill="lighten" w="431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23" h="21600">
                <a:moveTo>
                  <a:pt x="14555" y="3794"/>
                </a:moveTo>
                <a:lnTo>
                  <a:pt x="28568" y="10800"/>
                </a:lnTo>
                <a:lnTo>
                  <a:pt x="14555" y="17806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800600" y="2666880"/>
            <a:ext cx="1447920" cy="137160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G Produc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7467480" cy="8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Arial Black"/>
              </a:rPr>
              <a:t>Diapositive N° 1</a:t>
            </a:r>
            <a:br>
              <a:rPr sz="2600"/>
            </a:br>
            <a:r>
              <a:rPr b="0" lang="en-US" sz="2600" spc="-1" strike="noStrike">
                <a:solidFill>
                  <a:srgbClr val="0033cc"/>
                </a:solidFill>
                <a:latin typeface="Arial Black"/>
              </a:rPr>
              <a:t>Score actuel = 0 point</a:t>
            </a:r>
            <a:endParaRPr b="0" lang="en-US" sz="2600" spc="-1" strike="noStrike">
              <a:solidFill>
                <a:srgbClr val="003300"/>
              </a:solidFill>
              <a:latin typeface="Arial Black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638280" y="1052640"/>
            <a:ext cx="3390840" cy="51847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723000" y="1295280"/>
            <a:ext cx="920880" cy="9702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499000" y="1295280"/>
            <a:ext cx="870120" cy="9590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4419720" y="1295280"/>
            <a:ext cx="793800" cy="9907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5572080" y="2514600"/>
            <a:ext cx="750960" cy="10080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4419720" y="2514600"/>
            <a:ext cx="792000" cy="10080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>
            <a:hlinkClick r:id="rId12" action="ppaction://hlinksldjump"/>
          </p:cNvPr>
          <p:cNvPicPr/>
          <p:nvPr/>
        </p:nvPicPr>
        <p:blipFill>
          <a:blip r:embed="rId13"/>
          <a:stretch/>
        </p:blipFill>
        <p:spPr>
          <a:xfrm>
            <a:off x="6727680" y="2514600"/>
            <a:ext cx="968400" cy="10796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4635360" y="4005360"/>
            <a:ext cx="27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quez pour remettre la « chose » en pl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851360" y="4797360"/>
            <a:ext cx="23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e bonne réponse au 1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ssai:1 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G Produc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4800600" y="5638680"/>
            <a:ext cx="326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lez !! Tu n’es pas si mauvaise que ça 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267080" y="12600"/>
            <a:ext cx="411480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 Black"/>
              </a:rPr>
              <a:t>Diapositive N° 4</a:t>
            </a:r>
            <a:br>
              <a:rPr sz="2400"/>
            </a:br>
            <a:r>
              <a:rPr b="0" lang="en-US" sz="2400" spc="-1" strike="noStrike">
                <a:solidFill>
                  <a:srgbClr val="0033cc"/>
                </a:solidFill>
                <a:latin typeface="Arial Black"/>
              </a:rPr>
              <a:t>Score actuel = 0 point</a:t>
            </a:r>
            <a:endParaRPr b="0" lang="en-US" sz="2400" spc="-1" strike="noStrike">
              <a:solidFill>
                <a:srgbClr val="003300"/>
              </a:solidFill>
              <a:latin typeface="Arial Black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1"/>
          <a:srcRect l="0" t="11126" r="0" b="0"/>
          <a:stretch/>
        </p:blipFill>
        <p:spPr>
          <a:xfrm>
            <a:off x="0" y="304920"/>
            <a:ext cx="4448160" cy="609588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934320" y="2824200"/>
            <a:ext cx="877680" cy="122400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29200" y="1376280"/>
            <a:ext cx="1081080" cy="1224000"/>
          </a:xfrm>
          <a:prstGeom prst="rect">
            <a:avLst/>
          </a:prstGeom>
          <a:ln w="0">
            <a:noFill/>
          </a:ln>
        </p:spPr>
      </p:pic>
      <p:pic>
        <p:nvPicPr>
          <p:cNvPr id="298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6934320" y="4272120"/>
            <a:ext cx="927000" cy="122364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5141880" y="4272120"/>
            <a:ext cx="801720" cy="1223640"/>
          </a:xfrm>
          <a:prstGeom prst="rect">
            <a:avLst/>
          </a:prstGeom>
          <a:ln w="0">
            <a:noFill/>
          </a:ln>
        </p:spPr>
      </p:pic>
      <p:pic>
        <p:nvPicPr>
          <p:cNvPr id="300" name="" descr="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5029200" y="2824200"/>
            <a:ext cx="1030320" cy="1224000"/>
          </a:xfrm>
          <a:prstGeom prst="rect">
            <a:avLst/>
          </a:prstGeom>
          <a:ln w="0">
            <a:noFill/>
          </a:ln>
        </p:spPr>
      </p:pic>
      <p:pic>
        <p:nvPicPr>
          <p:cNvPr id="301" name="" descr="">
            <a:hlinkClick r:id="rId12" action="ppaction://hlinksldjump"/>
          </p:cNvPr>
          <p:cNvPicPr/>
          <p:nvPr/>
        </p:nvPicPr>
        <p:blipFill>
          <a:blip r:embed="rId13"/>
          <a:stretch/>
        </p:blipFill>
        <p:spPr>
          <a:xfrm>
            <a:off x="6934320" y="1371600"/>
            <a:ext cx="981000" cy="1224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G Produc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4800600" y="5638680"/>
            <a:ext cx="326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lez !! Un second petit effort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267080" y="12600"/>
            <a:ext cx="411480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 Black"/>
              </a:rPr>
              <a:t>Diapositive N° 4</a:t>
            </a:r>
            <a:br>
              <a:rPr sz="2400"/>
            </a:br>
            <a:r>
              <a:rPr b="0" lang="en-US" sz="2400" spc="-1" strike="noStrike">
                <a:solidFill>
                  <a:srgbClr val="0033cc"/>
                </a:solidFill>
                <a:latin typeface="Arial Black"/>
              </a:rPr>
              <a:t>Score actuel = 1 point</a:t>
            </a:r>
            <a:endParaRPr b="0" lang="en-US" sz="2400" spc="-1" strike="noStrike">
              <a:solidFill>
                <a:srgbClr val="003300"/>
              </a:solidFill>
              <a:latin typeface="Arial Black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1"/>
          <a:srcRect l="0" t="11126" r="0" b="0"/>
          <a:stretch/>
        </p:blipFill>
        <p:spPr>
          <a:xfrm>
            <a:off x="0" y="304920"/>
            <a:ext cx="4448160" cy="609588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934320" y="2824200"/>
            <a:ext cx="877680" cy="1224000"/>
          </a:xfrm>
          <a:prstGeom prst="rect">
            <a:avLst/>
          </a:prstGeom>
          <a:ln w="0">
            <a:noFill/>
          </a:ln>
        </p:spPr>
      </p:pic>
      <p:pic>
        <p:nvPicPr>
          <p:cNvPr id="306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29200" y="1376280"/>
            <a:ext cx="1081080" cy="122400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6934320" y="4272120"/>
            <a:ext cx="927000" cy="122364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5141880" y="4272120"/>
            <a:ext cx="801720" cy="122364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5029200" y="2824200"/>
            <a:ext cx="1030320" cy="122400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>
            <a:hlinkClick r:id="rId12" action="ppaction://hlinksldjump"/>
          </p:cNvPr>
          <p:cNvPicPr/>
          <p:nvPr/>
        </p:nvPicPr>
        <p:blipFill>
          <a:blip r:embed="rId13"/>
          <a:stretch/>
        </p:blipFill>
        <p:spPr>
          <a:xfrm>
            <a:off x="6934320" y="1371600"/>
            <a:ext cx="981000" cy="1224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G Produc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4800600" y="5638680"/>
            <a:ext cx="326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lez !! Pour l’instant une seule erreur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rcRect l="0" t="11126" r="0" b="0"/>
          <a:stretch/>
        </p:blipFill>
        <p:spPr>
          <a:xfrm>
            <a:off x="0" y="304920"/>
            <a:ext cx="4448160" cy="6095880"/>
          </a:xfrm>
          <a:prstGeom prst="rect">
            <a:avLst/>
          </a:prstGeom>
          <a:ln w="0">
            <a:noFill/>
          </a:ln>
        </p:spPr>
      </p:pic>
      <p:pic>
        <p:nvPicPr>
          <p:cNvPr id="313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934320" y="2824200"/>
            <a:ext cx="877680" cy="1224000"/>
          </a:xfrm>
          <a:prstGeom prst="rect">
            <a:avLst/>
          </a:prstGeom>
          <a:ln w="0">
            <a:noFill/>
          </a:ln>
        </p:spPr>
      </p:pic>
      <p:pic>
        <p:nvPicPr>
          <p:cNvPr id="314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29200" y="1376280"/>
            <a:ext cx="1081080" cy="1224000"/>
          </a:xfrm>
          <a:prstGeom prst="rect">
            <a:avLst/>
          </a:prstGeom>
          <a:ln w="0">
            <a:noFill/>
          </a:ln>
        </p:spPr>
      </p:pic>
      <p:pic>
        <p:nvPicPr>
          <p:cNvPr id="315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6934320" y="4272120"/>
            <a:ext cx="927000" cy="1223640"/>
          </a:xfrm>
          <a:prstGeom prst="rect">
            <a:avLst/>
          </a:prstGeom>
          <a:ln w="0">
            <a:noFill/>
          </a:ln>
        </p:spPr>
      </p:pic>
      <p:pic>
        <p:nvPicPr>
          <p:cNvPr id="316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5141880" y="4272120"/>
            <a:ext cx="801720" cy="1223640"/>
          </a:xfrm>
          <a:prstGeom prst="rect">
            <a:avLst/>
          </a:prstGeom>
          <a:ln w="0">
            <a:noFill/>
          </a:ln>
        </p:spPr>
      </p:pic>
      <p:pic>
        <p:nvPicPr>
          <p:cNvPr id="317" name="" descr="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5029200" y="2824200"/>
            <a:ext cx="1030320" cy="1224000"/>
          </a:xfrm>
          <a:prstGeom prst="rect">
            <a:avLst/>
          </a:prstGeom>
          <a:ln w="0">
            <a:noFill/>
          </a:ln>
        </p:spPr>
      </p:pic>
      <p:pic>
        <p:nvPicPr>
          <p:cNvPr id="318" name="" descr="">
            <a:hlinkClick r:id="rId12" action="ppaction://hlinksldjump"/>
          </p:cNvPr>
          <p:cNvPicPr/>
          <p:nvPr/>
        </p:nvPicPr>
        <p:blipFill>
          <a:blip r:embed="rId13"/>
          <a:stretch/>
        </p:blipFill>
        <p:spPr>
          <a:xfrm>
            <a:off x="6934320" y="1371600"/>
            <a:ext cx="981000" cy="1224000"/>
          </a:xfrm>
          <a:prstGeom prst="rect">
            <a:avLst/>
          </a:prstGeom>
          <a:ln w="0">
            <a:noFill/>
          </a:ln>
        </p:spPr>
      </p:pic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114800" y="225360"/>
            <a:ext cx="411480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 Black"/>
              </a:rPr>
              <a:t>Diapositive N° 4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S</a:t>
            </a:r>
            <a:r>
              <a:rPr b="0" lang="en-US" sz="2400" spc="-1" strike="noStrike">
                <a:solidFill>
                  <a:srgbClr val="0033cc"/>
                </a:solidFill>
                <a:latin typeface="Arial Black"/>
              </a:rPr>
              <a:t>core actuel = 2 points</a:t>
            </a:r>
            <a:endParaRPr b="0" lang="en-US" sz="2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G Produc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4800600" y="5638680"/>
            <a:ext cx="326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lez !! Pour l’instant tu as tout juste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rcRect l="0" t="11126" r="0" b="0"/>
          <a:stretch/>
        </p:blipFill>
        <p:spPr>
          <a:xfrm>
            <a:off x="0" y="304920"/>
            <a:ext cx="4448160" cy="6095880"/>
          </a:xfrm>
          <a:prstGeom prst="rect">
            <a:avLst/>
          </a:prstGeom>
          <a:ln w="0">
            <a:noFill/>
          </a:ln>
        </p:spPr>
      </p:pic>
      <p:pic>
        <p:nvPicPr>
          <p:cNvPr id="322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934320" y="2824200"/>
            <a:ext cx="877680" cy="1224000"/>
          </a:xfrm>
          <a:prstGeom prst="rect">
            <a:avLst/>
          </a:prstGeom>
          <a:ln w="0">
            <a:noFill/>
          </a:ln>
        </p:spPr>
      </p:pic>
      <p:pic>
        <p:nvPicPr>
          <p:cNvPr id="323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29200" y="1376280"/>
            <a:ext cx="1081080" cy="1224000"/>
          </a:xfrm>
          <a:prstGeom prst="rect">
            <a:avLst/>
          </a:prstGeom>
          <a:ln w="0">
            <a:noFill/>
          </a:ln>
        </p:spPr>
      </p:pic>
      <p:pic>
        <p:nvPicPr>
          <p:cNvPr id="324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6934320" y="4272120"/>
            <a:ext cx="927000" cy="1223640"/>
          </a:xfrm>
          <a:prstGeom prst="rect">
            <a:avLst/>
          </a:prstGeom>
          <a:ln w="0">
            <a:noFill/>
          </a:ln>
        </p:spPr>
      </p:pic>
      <p:pic>
        <p:nvPicPr>
          <p:cNvPr id="325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5141880" y="4272120"/>
            <a:ext cx="801720" cy="1223640"/>
          </a:xfrm>
          <a:prstGeom prst="rect">
            <a:avLst/>
          </a:prstGeom>
          <a:ln w="0">
            <a:noFill/>
          </a:ln>
        </p:spPr>
      </p:pic>
      <p:pic>
        <p:nvPicPr>
          <p:cNvPr id="326" name="" descr="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5029200" y="2824200"/>
            <a:ext cx="1030320" cy="1224000"/>
          </a:xfrm>
          <a:prstGeom prst="rect">
            <a:avLst/>
          </a:prstGeom>
          <a:ln w="0">
            <a:noFill/>
          </a:ln>
        </p:spPr>
      </p:pic>
      <p:pic>
        <p:nvPicPr>
          <p:cNvPr id="327" name="" descr="">
            <a:hlinkClick r:id="rId12" action="ppaction://hlinksldjump"/>
          </p:cNvPr>
          <p:cNvPicPr/>
          <p:nvPr/>
        </p:nvPicPr>
        <p:blipFill>
          <a:blip r:embed="rId13"/>
          <a:stretch/>
        </p:blipFill>
        <p:spPr>
          <a:xfrm>
            <a:off x="6934320" y="1371600"/>
            <a:ext cx="981000" cy="1224000"/>
          </a:xfrm>
          <a:prstGeom prst="rect">
            <a:avLst/>
          </a:prstGeom>
          <a:ln w="0">
            <a:noFill/>
          </a:ln>
        </p:spPr>
      </p:pic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114800" y="225360"/>
            <a:ext cx="411480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 Black"/>
              </a:rPr>
              <a:t>Diapositive N° 4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S</a:t>
            </a:r>
            <a:r>
              <a:rPr b="0" lang="en-US" sz="2400" spc="-1" strike="noStrike">
                <a:solidFill>
                  <a:srgbClr val="0033cc"/>
                </a:solidFill>
                <a:latin typeface="Arial Black"/>
              </a:rPr>
              <a:t>core actuel = 3 points</a:t>
            </a:r>
            <a:endParaRPr b="0" lang="en-US" sz="2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G Produc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4495680" y="5486400"/>
            <a:ext cx="3573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’est pas possible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gardes la bonne réponse 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0" name="" descr=""/>
          <p:cNvPicPr/>
          <p:nvPr/>
        </p:nvPicPr>
        <p:blipFill>
          <a:blip r:embed="rId1"/>
          <a:srcRect l="0" t="11126" r="0" b="0"/>
          <a:stretch/>
        </p:blipFill>
        <p:spPr>
          <a:xfrm>
            <a:off x="0" y="457200"/>
            <a:ext cx="4448160" cy="6095880"/>
          </a:xfrm>
          <a:prstGeom prst="rect">
            <a:avLst/>
          </a:prstGeom>
          <a:ln w="0">
            <a:noFill/>
          </a:ln>
        </p:spPr>
      </p:pic>
      <p:pic>
        <p:nvPicPr>
          <p:cNvPr id="331" name="" descr=""/>
          <p:cNvPicPr/>
          <p:nvPr/>
        </p:nvPicPr>
        <p:blipFill>
          <a:blip r:embed="rId2"/>
          <a:stretch/>
        </p:blipFill>
        <p:spPr>
          <a:xfrm>
            <a:off x="6934320" y="2824200"/>
            <a:ext cx="877680" cy="1224000"/>
          </a:xfrm>
          <a:prstGeom prst="rect">
            <a:avLst/>
          </a:prstGeom>
          <a:ln w="0">
            <a:noFill/>
          </a:ln>
        </p:spPr>
      </p:pic>
      <p:pic>
        <p:nvPicPr>
          <p:cNvPr id="332" name="" descr=""/>
          <p:cNvPicPr/>
          <p:nvPr/>
        </p:nvPicPr>
        <p:blipFill>
          <a:blip r:embed="rId3"/>
          <a:stretch/>
        </p:blipFill>
        <p:spPr>
          <a:xfrm>
            <a:off x="5029200" y="1376280"/>
            <a:ext cx="1081080" cy="1224000"/>
          </a:xfrm>
          <a:prstGeom prst="rect">
            <a:avLst/>
          </a:prstGeom>
          <a:ln w="0">
            <a:noFill/>
          </a:ln>
        </p:spPr>
      </p:pic>
      <p:pic>
        <p:nvPicPr>
          <p:cNvPr id="333" name="" descr=""/>
          <p:cNvPicPr/>
          <p:nvPr/>
        </p:nvPicPr>
        <p:blipFill>
          <a:blip r:embed="rId4"/>
          <a:stretch/>
        </p:blipFill>
        <p:spPr>
          <a:xfrm>
            <a:off x="6934320" y="4272120"/>
            <a:ext cx="927000" cy="1223640"/>
          </a:xfrm>
          <a:prstGeom prst="rect">
            <a:avLst/>
          </a:prstGeom>
          <a:ln w="0">
            <a:noFill/>
          </a:ln>
        </p:spPr>
      </p:pic>
      <p:pic>
        <p:nvPicPr>
          <p:cNvPr id="334" name="" descr=""/>
          <p:cNvPicPr/>
          <p:nvPr/>
        </p:nvPicPr>
        <p:blipFill>
          <a:blip r:embed="rId5"/>
          <a:stretch/>
        </p:blipFill>
        <p:spPr>
          <a:xfrm>
            <a:off x="5141880" y="4272120"/>
            <a:ext cx="801720" cy="1223640"/>
          </a:xfrm>
          <a:prstGeom prst="rect">
            <a:avLst/>
          </a:prstGeom>
          <a:ln w="0">
            <a:noFill/>
          </a:ln>
        </p:spPr>
      </p:pic>
      <p:pic>
        <p:nvPicPr>
          <p:cNvPr id="335" name="" descr=""/>
          <p:cNvPicPr/>
          <p:nvPr/>
        </p:nvPicPr>
        <p:blipFill>
          <a:blip r:embed="rId6"/>
          <a:stretch/>
        </p:blipFill>
        <p:spPr>
          <a:xfrm>
            <a:off x="5029200" y="2824200"/>
            <a:ext cx="1030320" cy="1224000"/>
          </a:xfrm>
          <a:prstGeom prst="rect">
            <a:avLst/>
          </a:prstGeom>
          <a:ln w="0">
            <a:noFill/>
          </a:ln>
        </p:spPr>
      </p:pic>
      <p:pic>
        <p:nvPicPr>
          <p:cNvPr id="336" name="" descr=""/>
          <p:cNvPicPr/>
          <p:nvPr/>
        </p:nvPicPr>
        <p:blipFill>
          <a:blip r:embed="rId7"/>
          <a:stretch/>
        </p:blipFill>
        <p:spPr>
          <a:xfrm>
            <a:off x="6934320" y="1371600"/>
            <a:ext cx="981000" cy="1224000"/>
          </a:xfrm>
          <a:prstGeom prst="rect">
            <a:avLst/>
          </a:prstGeom>
          <a:ln w="0">
            <a:noFill/>
          </a:ln>
        </p:spPr>
      </p:pic>
      <p:pic>
        <p:nvPicPr>
          <p:cNvPr id="337" name="" descr=""/>
          <p:cNvPicPr/>
          <p:nvPr/>
        </p:nvPicPr>
        <p:blipFill>
          <a:blip r:embed="rId8"/>
          <a:stretch/>
        </p:blipFill>
        <p:spPr>
          <a:xfrm>
            <a:off x="990720" y="4952880"/>
            <a:ext cx="874440" cy="1219320"/>
          </a:xfrm>
          <a:prstGeom prst="rect">
            <a:avLst/>
          </a:prstGeom>
          <a:ln w="0">
            <a:noFill/>
          </a:ln>
        </p:spPr>
      </p:pic>
      <p:sp>
        <p:nvSpPr>
          <p:cNvPr id="338" name=""/>
          <p:cNvSpPr/>
          <p:nvPr/>
        </p:nvSpPr>
        <p:spPr>
          <a:xfrm>
            <a:off x="6111720" y="83808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Lucida Handwriting"/>
              </a:rPr>
              <a:t>Perd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553080" y="2743200"/>
            <a:ext cx="1600200" cy="144792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>
            <a:hlinkClick r:id="rId9" action="ppaction://hlinksldjump"/>
          </p:cNvPr>
          <p:cNvSpPr/>
          <p:nvPr/>
        </p:nvSpPr>
        <p:spPr>
          <a:xfrm>
            <a:off x="5791320" y="6353280"/>
            <a:ext cx="1008000" cy="504720"/>
          </a:xfrm>
          <a:custGeom>
            <a:avLst/>
            <a:gdLst>
              <a:gd name="textAreaLeft" fmla="*/ 32400 w 1008000"/>
              <a:gd name="textAreaRight" fmla="*/ 975600 w 1008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43123" h="21600">
                <a:moveTo>
                  <a:pt x="0" y="0"/>
                </a:moveTo>
                <a:lnTo>
                  <a:pt x="43123" y="0"/>
                </a:lnTo>
                <a:lnTo>
                  <a:pt x="43123" y="21600"/>
                </a:lnTo>
                <a:lnTo>
                  <a:pt x="0" y="21600"/>
                </a:lnTo>
                <a:close/>
              </a:path>
              <a:path fill="lightenLess" w="43123" h="21600">
                <a:moveTo>
                  <a:pt x="0" y="0"/>
                </a:moveTo>
                <a:lnTo>
                  <a:pt x="43123" y="0"/>
                </a:lnTo>
                <a:lnTo>
                  <a:pt x="41723" y="1400"/>
                </a:lnTo>
                <a:lnTo>
                  <a:pt x="1400" y="1400"/>
                </a:lnTo>
                <a:close/>
              </a:path>
              <a:path fill="darken" w="43123" h="21600">
                <a:moveTo>
                  <a:pt x="43123" y="0"/>
                </a:moveTo>
                <a:lnTo>
                  <a:pt x="43123" y="21600"/>
                </a:lnTo>
                <a:lnTo>
                  <a:pt x="41723" y="20200"/>
                </a:lnTo>
                <a:lnTo>
                  <a:pt x="41723" y="1400"/>
                </a:lnTo>
                <a:close/>
              </a:path>
              <a:path fill="darkenLess" w="43123" h="21600">
                <a:moveTo>
                  <a:pt x="431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23" y="20200"/>
                </a:lnTo>
                <a:close/>
              </a:path>
              <a:path fill="lighten" w="431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23" h="21600">
                <a:moveTo>
                  <a:pt x="14555" y="3794"/>
                </a:moveTo>
                <a:lnTo>
                  <a:pt x="28568" y="10800"/>
                </a:lnTo>
                <a:lnTo>
                  <a:pt x="14555" y="17806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2133360" y="12600"/>
            <a:ext cx="47242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 Black"/>
              </a:rPr>
              <a:t>Diapositive N° 4 - Résultat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Score actu</a:t>
            </a:r>
            <a:r>
              <a:rPr b="0" lang="en-US" sz="2400" spc="-1" strike="noStrike">
                <a:solidFill>
                  <a:srgbClr val="0033cc"/>
                </a:solidFill>
                <a:latin typeface="Arial Black"/>
              </a:rPr>
              <a:t>el = 0 point</a:t>
            </a:r>
            <a:endParaRPr b="0" lang="en-US" sz="2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G Produc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/>
          <p:nvPr/>
        </p:nvSpPr>
        <p:spPr>
          <a:xfrm>
            <a:off x="4495680" y="5486400"/>
            <a:ext cx="357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u as mis tes lunettes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" descr=""/>
          <p:cNvPicPr/>
          <p:nvPr/>
        </p:nvPicPr>
        <p:blipFill>
          <a:blip r:embed="rId1"/>
          <a:srcRect l="0" t="11126" r="0" b="0"/>
          <a:stretch/>
        </p:blipFill>
        <p:spPr>
          <a:xfrm>
            <a:off x="0" y="457200"/>
            <a:ext cx="4448160" cy="6095880"/>
          </a:xfrm>
          <a:prstGeom prst="rect">
            <a:avLst/>
          </a:prstGeom>
          <a:ln w="0">
            <a:noFill/>
          </a:ln>
        </p:spPr>
      </p:pic>
      <p:pic>
        <p:nvPicPr>
          <p:cNvPr id="344" name="" descr=""/>
          <p:cNvPicPr/>
          <p:nvPr/>
        </p:nvPicPr>
        <p:blipFill>
          <a:blip r:embed="rId2"/>
          <a:stretch/>
        </p:blipFill>
        <p:spPr>
          <a:xfrm>
            <a:off x="6934320" y="2824200"/>
            <a:ext cx="877680" cy="1224000"/>
          </a:xfrm>
          <a:prstGeom prst="rect">
            <a:avLst/>
          </a:prstGeom>
          <a:ln w="0">
            <a:noFill/>
          </a:ln>
        </p:spPr>
      </p:pic>
      <p:pic>
        <p:nvPicPr>
          <p:cNvPr id="345" name="" descr=""/>
          <p:cNvPicPr/>
          <p:nvPr/>
        </p:nvPicPr>
        <p:blipFill>
          <a:blip r:embed="rId3"/>
          <a:stretch/>
        </p:blipFill>
        <p:spPr>
          <a:xfrm>
            <a:off x="5029200" y="1376280"/>
            <a:ext cx="1081080" cy="1224000"/>
          </a:xfrm>
          <a:prstGeom prst="rect">
            <a:avLst/>
          </a:prstGeom>
          <a:ln w="0">
            <a:noFill/>
          </a:ln>
        </p:spPr>
      </p:pic>
      <p:pic>
        <p:nvPicPr>
          <p:cNvPr id="346" name="" descr=""/>
          <p:cNvPicPr/>
          <p:nvPr/>
        </p:nvPicPr>
        <p:blipFill>
          <a:blip r:embed="rId4"/>
          <a:stretch/>
        </p:blipFill>
        <p:spPr>
          <a:xfrm>
            <a:off x="6934320" y="4272120"/>
            <a:ext cx="927000" cy="1223640"/>
          </a:xfrm>
          <a:prstGeom prst="rect">
            <a:avLst/>
          </a:prstGeom>
          <a:ln w="0">
            <a:noFill/>
          </a:ln>
        </p:spPr>
      </p:pic>
      <p:pic>
        <p:nvPicPr>
          <p:cNvPr id="347" name="" descr=""/>
          <p:cNvPicPr/>
          <p:nvPr/>
        </p:nvPicPr>
        <p:blipFill>
          <a:blip r:embed="rId5"/>
          <a:stretch/>
        </p:blipFill>
        <p:spPr>
          <a:xfrm>
            <a:off x="5141880" y="4272120"/>
            <a:ext cx="801720" cy="122364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6"/>
          <a:stretch/>
        </p:blipFill>
        <p:spPr>
          <a:xfrm>
            <a:off x="5029200" y="2824200"/>
            <a:ext cx="1030320" cy="1224000"/>
          </a:xfrm>
          <a:prstGeom prst="rect">
            <a:avLst/>
          </a:prstGeom>
          <a:ln w="0">
            <a:noFill/>
          </a:ln>
        </p:spPr>
      </p:pic>
      <p:pic>
        <p:nvPicPr>
          <p:cNvPr id="349" name="" descr=""/>
          <p:cNvPicPr/>
          <p:nvPr/>
        </p:nvPicPr>
        <p:blipFill>
          <a:blip r:embed="rId7"/>
          <a:stretch/>
        </p:blipFill>
        <p:spPr>
          <a:xfrm>
            <a:off x="6934320" y="1371600"/>
            <a:ext cx="981000" cy="1224000"/>
          </a:xfrm>
          <a:prstGeom prst="rect">
            <a:avLst/>
          </a:prstGeom>
          <a:ln w="0">
            <a:noFill/>
          </a:ln>
        </p:spPr>
      </p:pic>
      <p:pic>
        <p:nvPicPr>
          <p:cNvPr id="350" name="" descr=""/>
          <p:cNvPicPr/>
          <p:nvPr/>
        </p:nvPicPr>
        <p:blipFill>
          <a:blip r:embed="rId8"/>
          <a:stretch/>
        </p:blipFill>
        <p:spPr>
          <a:xfrm>
            <a:off x="990720" y="4952880"/>
            <a:ext cx="874440" cy="1219320"/>
          </a:xfrm>
          <a:prstGeom prst="rect">
            <a:avLst/>
          </a:prstGeom>
          <a:ln w="0">
            <a:noFill/>
          </a:ln>
        </p:spPr>
      </p:pic>
      <p:sp>
        <p:nvSpPr>
          <p:cNvPr id="351" name=""/>
          <p:cNvSpPr/>
          <p:nvPr/>
        </p:nvSpPr>
        <p:spPr>
          <a:xfrm>
            <a:off x="5029200" y="83808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Lucida Handwriting"/>
              </a:rPr>
              <a:t>Enfin !!  GAG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>
            <a:hlinkClick r:id="rId9" action="ppaction://hlinksldjump"/>
          </p:cNvPr>
          <p:cNvSpPr/>
          <p:nvPr/>
        </p:nvSpPr>
        <p:spPr>
          <a:xfrm>
            <a:off x="5791320" y="6353280"/>
            <a:ext cx="1008000" cy="504720"/>
          </a:xfrm>
          <a:custGeom>
            <a:avLst/>
            <a:gdLst>
              <a:gd name="textAreaLeft" fmla="*/ 32400 w 1008000"/>
              <a:gd name="textAreaRight" fmla="*/ 975600 w 1008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43123" h="21600">
                <a:moveTo>
                  <a:pt x="0" y="0"/>
                </a:moveTo>
                <a:lnTo>
                  <a:pt x="43123" y="0"/>
                </a:lnTo>
                <a:lnTo>
                  <a:pt x="43123" y="21600"/>
                </a:lnTo>
                <a:lnTo>
                  <a:pt x="0" y="21600"/>
                </a:lnTo>
                <a:close/>
              </a:path>
              <a:path fill="lightenLess" w="43123" h="21600">
                <a:moveTo>
                  <a:pt x="0" y="0"/>
                </a:moveTo>
                <a:lnTo>
                  <a:pt x="43123" y="0"/>
                </a:lnTo>
                <a:lnTo>
                  <a:pt x="41723" y="1400"/>
                </a:lnTo>
                <a:lnTo>
                  <a:pt x="1400" y="1400"/>
                </a:lnTo>
                <a:close/>
              </a:path>
              <a:path fill="darken" w="43123" h="21600">
                <a:moveTo>
                  <a:pt x="43123" y="0"/>
                </a:moveTo>
                <a:lnTo>
                  <a:pt x="43123" y="21600"/>
                </a:lnTo>
                <a:lnTo>
                  <a:pt x="41723" y="20200"/>
                </a:lnTo>
                <a:lnTo>
                  <a:pt x="41723" y="1400"/>
                </a:lnTo>
                <a:close/>
              </a:path>
              <a:path fill="darkenLess" w="43123" h="21600">
                <a:moveTo>
                  <a:pt x="431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23" y="20200"/>
                </a:lnTo>
                <a:close/>
              </a:path>
              <a:path fill="lighten" w="431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23" h="21600">
                <a:moveTo>
                  <a:pt x="14555" y="3794"/>
                </a:moveTo>
                <a:lnTo>
                  <a:pt x="28568" y="10800"/>
                </a:lnTo>
                <a:lnTo>
                  <a:pt x="14555" y="17806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2133360" y="12600"/>
            <a:ext cx="47242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 Black"/>
              </a:rPr>
              <a:t>Diapositive N° 4 - Résultat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Score actu</a:t>
            </a:r>
            <a:r>
              <a:rPr b="0" lang="en-US" sz="2400" spc="-1" strike="noStrike">
                <a:solidFill>
                  <a:srgbClr val="0033cc"/>
                </a:solidFill>
                <a:latin typeface="Arial Black"/>
              </a:rPr>
              <a:t>el = 1 point</a:t>
            </a:r>
            <a:endParaRPr b="0" lang="en-US" sz="2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54" name=""/>
          <p:cNvSpPr/>
          <p:nvPr/>
        </p:nvSpPr>
        <p:spPr>
          <a:xfrm>
            <a:off x="6553080" y="2743200"/>
            <a:ext cx="1600200" cy="144792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G Produc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4343400" y="5486400"/>
            <a:ext cx="3726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u pourrais mettre tes lunettes 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gardes la bonne réponse 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1"/>
          <a:srcRect l="0" t="11126" r="0" b="0"/>
          <a:stretch/>
        </p:blipFill>
        <p:spPr>
          <a:xfrm>
            <a:off x="0" y="380880"/>
            <a:ext cx="4448160" cy="6096240"/>
          </a:xfrm>
          <a:prstGeom prst="rect">
            <a:avLst/>
          </a:prstGeom>
          <a:ln w="0">
            <a:noFill/>
          </a:ln>
        </p:spPr>
      </p:pic>
      <p:pic>
        <p:nvPicPr>
          <p:cNvPr id="357" name="" descr=""/>
          <p:cNvPicPr/>
          <p:nvPr/>
        </p:nvPicPr>
        <p:blipFill>
          <a:blip r:embed="rId2"/>
          <a:stretch/>
        </p:blipFill>
        <p:spPr>
          <a:xfrm>
            <a:off x="6934320" y="2824200"/>
            <a:ext cx="877680" cy="1224000"/>
          </a:xfrm>
          <a:prstGeom prst="rect">
            <a:avLst/>
          </a:prstGeom>
          <a:ln w="0">
            <a:noFill/>
          </a:ln>
        </p:spPr>
      </p:pic>
      <p:pic>
        <p:nvPicPr>
          <p:cNvPr id="358" name="" descr=""/>
          <p:cNvPicPr/>
          <p:nvPr/>
        </p:nvPicPr>
        <p:blipFill>
          <a:blip r:embed="rId3"/>
          <a:stretch/>
        </p:blipFill>
        <p:spPr>
          <a:xfrm>
            <a:off x="5029200" y="1376280"/>
            <a:ext cx="1081080" cy="1224000"/>
          </a:xfrm>
          <a:prstGeom prst="rect">
            <a:avLst/>
          </a:prstGeom>
          <a:ln w="0">
            <a:noFill/>
          </a:ln>
        </p:spPr>
      </p:pic>
      <p:pic>
        <p:nvPicPr>
          <p:cNvPr id="359" name="" descr=""/>
          <p:cNvPicPr/>
          <p:nvPr/>
        </p:nvPicPr>
        <p:blipFill>
          <a:blip r:embed="rId4"/>
          <a:stretch/>
        </p:blipFill>
        <p:spPr>
          <a:xfrm>
            <a:off x="6934320" y="4272120"/>
            <a:ext cx="927000" cy="1223640"/>
          </a:xfrm>
          <a:prstGeom prst="rect">
            <a:avLst/>
          </a:prstGeom>
          <a:ln w="0">
            <a:noFill/>
          </a:ln>
        </p:spPr>
      </p:pic>
      <p:pic>
        <p:nvPicPr>
          <p:cNvPr id="360" name="" descr=""/>
          <p:cNvPicPr/>
          <p:nvPr/>
        </p:nvPicPr>
        <p:blipFill>
          <a:blip r:embed="rId5"/>
          <a:stretch/>
        </p:blipFill>
        <p:spPr>
          <a:xfrm>
            <a:off x="5141880" y="4272120"/>
            <a:ext cx="801720" cy="122364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6"/>
          <a:stretch/>
        </p:blipFill>
        <p:spPr>
          <a:xfrm>
            <a:off x="5029200" y="2824200"/>
            <a:ext cx="1030320" cy="122400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7"/>
          <a:stretch/>
        </p:blipFill>
        <p:spPr>
          <a:xfrm>
            <a:off x="6934320" y="1371600"/>
            <a:ext cx="981000" cy="1224000"/>
          </a:xfrm>
          <a:prstGeom prst="rect">
            <a:avLst/>
          </a:prstGeom>
          <a:ln w="0">
            <a:noFill/>
          </a:ln>
        </p:spPr>
      </p:pic>
      <p:pic>
        <p:nvPicPr>
          <p:cNvPr id="363" name="" descr=""/>
          <p:cNvPicPr/>
          <p:nvPr/>
        </p:nvPicPr>
        <p:blipFill>
          <a:blip r:embed="rId8"/>
          <a:stretch/>
        </p:blipFill>
        <p:spPr>
          <a:xfrm>
            <a:off x="990720" y="4876920"/>
            <a:ext cx="874440" cy="1218960"/>
          </a:xfrm>
          <a:prstGeom prst="rect">
            <a:avLst/>
          </a:prstGeom>
          <a:ln w="0">
            <a:noFill/>
          </a:ln>
        </p:spPr>
      </p:pic>
      <p:sp>
        <p:nvSpPr>
          <p:cNvPr id="364" name=""/>
          <p:cNvSpPr/>
          <p:nvPr/>
        </p:nvSpPr>
        <p:spPr>
          <a:xfrm>
            <a:off x="6111720" y="83808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Lucida Handwriting"/>
              </a:rPr>
              <a:t>Perd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553080" y="2743200"/>
            <a:ext cx="1600200" cy="144792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>
            <a:hlinkClick r:id="rId9" action="ppaction://hlinksldjump"/>
          </p:cNvPr>
          <p:cNvSpPr/>
          <p:nvPr/>
        </p:nvSpPr>
        <p:spPr>
          <a:xfrm>
            <a:off x="5791320" y="6348240"/>
            <a:ext cx="1008000" cy="505080"/>
          </a:xfrm>
          <a:custGeom>
            <a:avLst/>
            <a:gdLst>
              <a:gd name="textAreaLeft" fmla="*/ 32760 w 1008000"/>
              <a:gd name="textAreaRight" fmla="*/ 975600 w 1008000"/>
              <a:gd name="textAreaTop" fmla="*/ 32760 h 505080"/>
              <a:gd name="textAreaBottom" fmla="*/ 472680 h 505080"/>
            </a:gdLst>
            <a:ahLst/>
            <a:rect l="textAreaLeft" t="textAreaTop" r="textAreaRight" b="textAreaBottom"/>
            <a:pathLst>
              <a:path w="43092" h="21600">
                <a:moveTo>
                  <a:pt x="0" y="0"/>
                </a:moveTo>
                <a:lnTo>
                  <a:pt x="43092" y="0"/>
                </a:lnTo>
                <a:lnTo>
                  <a:pt x="43092" y="21600"/>
                </a:lnTo>
                <a:lnTo>
                  <a:pt x="0" y="21600"/>
                </a:lnTo>
                <a:close/>
              </a:path>
              <a:path fill="lightenLess" w="43092" h="21600">
                <a:moveTo>
                  <a:pt x="0" y="0"/>
                </a:moveTo>
                <a:lnTo>
                  <a:pt x="43092" y="0"/>
                </a:lnTo>
                <a:lnTo>
                  <a:pt x="41692" y="1400"/>
                </a:lnTo>
                <a:lnTo>
                  <a:pt x="1400" y="1400"/>
                </a:lnTo>
                <a:close/>
              </a:path>
              <a:path fill="darken" w="43092" h="21600">
                <a:moveTo>
                  <a:pt x="43092" y="0"/>
                </a:moveTo>
                <a:lnTo>
                  <a:pt x="43092" y="21600"/>
                </a:lnTo>
                <a:lnTo>
                  <a:pt x="41692" y="20200"/>
                </a:lnTo>
                <a:lnTo>
                  <a:pt x="41692" y="1400"/>
                </a:lnTo>
                <a:close/>
              </a:path>
              <a:path fill="darkenLess" w="43092" h="21600">
                <a:moveTo>
                  <a:pt x="430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92" y="20200"/>
                </a:lnTo>
                <a:close/>
              </a:path>
              <a:path fill="lighten" w="430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92" h="21600">
                <a:moveTo>
                  <a:pt x="14540" y="3794"/>
                </a:moveTo>
                <a:lnTo>
                  <a:pt x="28553" y="10800"/>
                </a:lnTo>
                <a:lnTo>
                  <a:pt x="14540" y="17806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133360" y="12600"/>
            <a:ext cx="47242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 Black"/>
              </a:rPr>
              <a:t>Diapositive N° 4 - Résultat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Score actu</a:t>
            </a:r>
            <a:r>
              <a:rPr b="0" lang="en-US" sz="2400" spc="-1" strike="noStrike">
                <a:solidFill>
                  <a:srgbClr val="0033cc"/>
                </a:solidFill>
                <a:latin typeface="Arial Black"/>
              </a:rPr>
              <a:t>el = 1 point</a:t>
            </a:r>
            <a:endParaRPr b="0" lang="en-US" sz="2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G Produc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4495680" y="5486400"/>
            <a:ext cx="357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ur l’instant 50% de réuss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1"/>
          <a:srcRect l="0" t="11126" r="0" b="0"/>
          <a:stretch/>
        </p:blipFill>
        <p:spPr>
          <a:xfrm>
            <a:off x="0" y="380880"/>
            <a:ext cx="4448160" cy="6096240"/>
          </a:xfrm>
          <a:prstGeom prst="rect">
            <a:avLst/>
          </a:prstGeom>
          <a:ln w="0">
            <a:noFill/>
          </a:ln>
        </p:spPr>
      </p:pic>
      <p:pic>
        <p:nvPicPr>
          <p:cNvPr id="370" name="" descr=""/>
          <p:cNvPicPr/>
          <p:nvPr/>
        </p:nvPicPr>
        <p:blipFill>
          <a:blip r:embed="rId2"/>
          <a:stretch/>
        </p:blipFill>
        <p:spPr>
          <a:xfrm>
            <a:off x="6934320" y="2824200"/>
            <a:ext cx="877680" cy="1224000"/>
          </a:xfrm>
          <a:prstGeom prst="rect">
            <a:avLst/>
          </a:prstGeom>
          <a:ln w="0">
            <a:noFill/>
          </a:ln>
        </p:spPr>
      </p:pic>
      <p:pic>
        <p:nvPicPr>
          <p:cNvPr id="371" name="" descr=""/>
          <p:cNvPicPr/>
          <p:nvPr/>
        </p:nvPicPr>
        <p:blipFill>
          <a:blip r:embed="rId3"/>
          <a:stretch/>
        </p:blipFill>
        <p:spPr>
          <a:xfrm>
            <a:off x="5029200" y="1376280"/>
            <a:ext cx="1081080" cy="1224000"/>
          </a:xfrm>
          <a:prstGeom prst="rect">
            <a:avLst/>
          </a:prstGeom>
          <a:ln w="0">
            <a:noFill/>
          </a:ln>
        </p:spPr>
      </p:pic>
      <p:pic>
        <p:nvPicPr>
          <p:cNvPr id="372" name="" descr=""/>
          <p:cNvPicPr/>
          <p:nvPr/>
        </p:nvPicPr>
        <p:blipFill>
          <a:blip r:embed="rId4"/>
          <a:stretch/>
        </p:blipFill>
        <p:spPr>
          <a:xfrm>
            <a:off x="6934320" y="4272120"/>
            <a:ext cx="927000" cy="1223640"/>
          </a:xfrm>
          <a:prstGeom prst="rect">
            <a:avLst/>
          </a:prstGeom>
          <a:ln w="0">
            <a:noFill/>
          </a:ln>
        </p:spPr>
      </p:pic>
      <p:pic>
        <p:nvPicPr>
          <p:cNvPr id="373" name="" descr=""/>
          <p:cNvPicPr/>
          <p:nvPr/>
        </p:nvPicPr>
        <p:blipFill>
          <a:blip r:embed="rId5"/>
          <a:stretch/>
        </p:blipFill>
        <p:spPr>
          <a:xfrm>
            <a:off x="5141880" y="4272120"/>
            <a:ext cx="801720" cy="1223640"/>
          </a:xfrm>
          <a:prstGeom prst="rect">
            <a:avLst/>
          </a:prstGeom>
          <a:ln w="0">
            <a:noFill/>
          </a:ln>
        </p:spPr>
      </p:pic>
      <p:pic>
        <p:nvPicPr>
          <p:cNvPr id="374" name="" descr=""/>
          <p:cNvPicPr/>
          <p:nvPr/>
        </p:nvPicPr>
        <p:blipFill>
          <a:blip r:embed="rId6"/>
          <a:stretch/>
        </p:blipFill>
        <p:spPr>
          <a:xfrm>
            <a:off x="5029200" y="2824200"/>
            <a:ext cx="1030320" cy="1224000"/>
          </a:xfrm>
          <a:prstGeom prst="rect">
            <a:avLst/>
          </a:prstGeom>
          <a:ln w="0">
            <a:noFill/>
          </a:ln>
        </p:spPr>
      </p:pic>
      <p:pic>
        <p:nvPicPr>
          <p:cNvPr id="375" name="" descr=""/>
          <p:cNvPicPr/>
          <p:nvPr/>
        </p:nvPicPr>
        <p:blipFill>
          <a:blip r:embed="rId7"/>
          <a:stretch/>
        </p:blipFill>
        <p:spPr>
          <a:xfrm>
            <a:off x="6934320" y="1371600"/>
            <a:ext cx="981000" cy="1224000"/>
          </a:xfrm>
          <a:prstGeom prst="rect">
            <a:avLst/>
          </a:prstGeom>
          <a:ln w="0">
            <a:noFill/>
          </a:ln>
        </p:spPr>
      </p:pic>
      <p:pic>
        <p:nvPicPr>
          <p:cNvPr id="376" name="" descr=""/>
          <p:cNvPicPr/>
          <p:nvPr/>
        </p:nvPicPr>
        <p:blipFill>
          <a:blip r:embed="rId8"/>
          <a:stretch/>
        </p:blipFill>
        <p:spPr>
          <a:xfrm>
            <a:off x="990720" y="4876920"/>
            <a:ext cx="874440" cy="1218960"/>
          </a:xfrm>
          <a:prstGeom prst="rect">
            <a:avLst/>
          </a:prstGeom>
          <a:ln w="0">
            <a:noFill/>
          </a:ln>
        </p:spPr>
      </p:pic>
      <p:sp>
        <p:nvSpPr>
          <p:cNvPr id="377" name=""/>
          <p:cNvSpPr/>
          <p:nvPr/>
        </p:nvSpPr>
        <p:spPr>
          <a:xfrm>
            <a:off x="5029200" y="83808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Lucida Handwriting"/>
              </a:rPr>
              <a:t>Ah!!  GAG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>
            <a:hlinkClick r:id="rId9" action="ppaction://hlinksldjump"/>
          </p:cNvPr>
          <p:cNvSpPr/>
          <p:nvPr/>
        </p:nvSpPr>
        <p:spPr>
          <a:xfrm>
            <a:off x="5791320" y="6353280"/>
            <a:ext cx="1008000" cy="504720"/>
          </a:xfrm>
          <a:custGeom>
            <a:avLst/>
            <a:gdLst>
              <a:gd name="textAreaLeft" fmla="*/ 32400 w 1008000"/>
              <a:gd name="textAreaRight" fmla="*/ 975600 w 1008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43123" h="21600">
                <a:moveTo>
                  <a:pt x="0" y="0"/>
                </a:moveTo>
                <a:lnTo>
                  <a:pt x="43123" y="0"/>
                </a:lnTo>
                <a:lnTo>
                  <a:pt x="43123" y="21600"/>
                </a:lnTo>
                <a:lnTo>
                  <a:pt x="0" y="21600"/>
                </a:lnTo>
                <a:close/>
              </a:path>
              <a:path fill="lightenLess" w="43123" h="21600">
                <a:moveTo>
                  <a:pt x="0" y="0"/>
                </a:moveTo>
                <a:lnTo>
                  <a:pt x="43123" y="0"/>
                </a:lnTo>
                <a:lnTo>
                  <a:pt x="41723" y="1400"/>
                </a:lnTo>
                <a:lnTo>
                  <a:pt x="1400" y="1400"/>
                </a:lnTo>
                <a:close/>
              </a:path>
              <a:path fill="darken" w="43123" h="21600">
                <a:moveTo>
                  <a:pt x="43123" y="0"/>
                </a:moveTo>
                <a:lnTo>
                  <a:pt x="43123" y="21600"/>
                </a:lnTo>
                <a:lnTo>
                  <a:pt x="41723" y="20200"/>
                </a:lnTo>
                <a:lnTo>
                  <a:pt x="41723" y="1400"/>
                </a:lnTo>
                <a:close/>
              </a:path>
              <a:path fill="darkenLess" w="43123" h="21600">
                <a:moveTo>
                  <a:pt x="431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23" y="20200"/>
                </a:lnTo>
                <a:close/>
              </a:path>
              <a:path fill="lighten" w="431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23" h="21600">
                <a:moveTo>
                  <a:pt x="14555" y="3794"/>
                </a:moveTo>
                <a:lnTo>
                  <a:pt x="28568" y="10800"/>
                </a:lnTo>
                <a:lnTo>
                  <a:pt x="14555" y="17806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2209680" y="12600"/>
            <a:ext cx="472464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 Black"/>
              </a:rPr>
              <a:t>Diapositive N° 4 - Résultat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Score actu</a:t>
            </a:r>
            <a:r>
              <a:rPr b="0" lang="en-US" sz="2400" spc="-1" strike="noStrike">
                <a:solidFill>
                  <a:srgbClr val="0033cc"/>
                </a:solidFill>
                <a:latin typeface="Arial Black"/>
              </a:rPr>
              <a:t>el = 2 points</a:t>
            </a:r>
            <a:endParaRPr b="0" lang="en-US" sz="2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80" name=""/>
          <p:cNvSpPr/>
          <p:nvPr/>
        </p:nvSpPr>
        <p:spPr>
          <a:xfrm>
            <a:off x="6553080" y="2743200"/>
            <a:ext cx="1600200" cy="144792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G Produc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4343400" y="5486400"/>
            <a:ext cx="3726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 ne t’intéresse pas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gardes la bonne réponse 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1"/>
          <a:srcRect l="0" t="11126" r="0" b="0"/>
          <a:stretch/>
        </p:blipFill>
        <p:spPr>
          <a:xfrm>
            <a:off x="0" y="380880"/>
            <a:ext cx="4448160" cy="6096240"/>
          </a:xfrm>
          <a:prstGeom prst="rect">
            <a:avLst/>
          </a:prstGeom>
          <a:ln w="0">
            <a:noFill/>
          </a:ln>
        </p:spPr>
      </p:pic>
      <p:pic>
        <p:nvPicPr>
          <p:cNvPr id="383" name="" descr=""/>
          <p:cNvPicPr/>
          <p:nvPr/>
        </p:nvPicPr>
        <p:blipFill>
          <a:blip r:embed="rId2"/>
          <a:stretch/>
        </p:blipFill>
        <p:spPr>
          <a:xfrm>
            <a:off x="6934320" y="2824200"/>
            <a:ext cx="877680" cy="1224000"/>
          </a:xfrm>
          <a:prstGeom prst="rect">
            <a:avLst/>
          </a:prstGeom>
          <a:ln w="0">
            <a:noFill/>
          </a:ln>
        </p:spPr>
      </p:pic>
      <p:pic>
        <p:nvPicPr>
          <p:cNvPr id="384" name="" descr=""/>
          <p:cNvPicPr/>
          <p:nvPr/>
        </p:nvPicPr>
        <p:blipFill>
          <a:blip r:embed="rId3"/>
          <a:stretch/>
        </p:blipFill>
        <p:spPr>
          <a:xfrm>
            <a:off x="5029200" y="1376280"/>
            <a:ext cx="1081080" cy="1224000"/>
          </a:xfrm>
          <a:prstGeom prst="rect">
            <a:avLst/>
          </a:prstGeom>
          <a:ln w="0">
            <a:noFill/>
          </a:ln>
        </p:spPr>
      </p:pic>
      <p:pic>
        <p:nvPicPr>
          <p:cNvPr id="385" name="" descr=""/>
          <p:cNvPicPr/>
          <p:nvPr/>
        </p:nvPicPr>
        <p:blipFill>
          <a:blip r:embed="rId4"/>
          <a:stretch/>
        </p:blipFill>
        <p:spPr>
          <a:xfrm>
            <a:off x="6934320" y="4272120"/>
            <a:ext cx="927000" cy="1223640"/>
          </a:xfrm>
          <a:prstGeom prst="rect">
            <a:avLst/>
          </a:prstGeom>
          <a:ln w="0">
            <a:noFill/>
          </a:ln>
        </p:spPr>
      </p:pic>
      <p:pic>
        <p:nvPicPr>
          <p:cNvPr id="386" name="" descr=""/>
          <p:cNvPicPr/>
          <p:nvPr/>
        </p:nvPicPr>
        <p:blipFill>
          <a:blip r:embed="rId5"/>
          <a:stretch/>
        </p:blipFill>
        <p:spPr>
          <a:xfrm>
            <a:off x="5141880" y="4272120"/>
            <a:ext cx="801720" cy="1223640"/>
          </a:xfrm>
          <a:prstGeom prst="rect">
            <a:avLst/>
          </a:prstGeom>
          <a:ln w="0">
            <a:noFill/>
          </a:ln>
        </p:spPr>
      </p:pic>
      <p:pic>
        <p:nvPicPr>
          <p:cNvPr id="387" name="" descr=""/>
          <p:cNvPicPr/>
          <p:nvPr/>
        </p:nvPicPr>
        <p:blipFill>
          <a:blip r:embed="rId6"/>
          <a:stretch/>
        </p:blipFill>
        <p:spPr>
          <a:xfrm>
            <a:off x="5029200" y="2824200"/>
            <a:ext cx="1030320" cy="1224000"/>
          </a:xfrm>
          <a:prstGeom prst="rect">
            <a:avLst/>
          </a:prstGeom>
          <a:ln w="0">
            <a:noFill/>
          </a:ln>
        </p:spPr>
      </p:pic>
      <p:pic>
        <p:nvPicPr>
          <p:cNvPr id="388" name="" descr=""/>
          <p:cNvPicPr/>
          <p:nvPr/>
        </p:nvPicPr>
        <p:blipFill>
          <a:blip r:embed="rId7"/>
          <a:stretch/>
        </p:blipFill>
        <p:spPr>
          <a:xfrm>
            <a:off x="6934320" y="1371600"/>
            <a:ext cx="981000" cy="1224000"/>
          </a:xfrm>
          <a:prstGeom prst="rect">
            <a:avLst/>
          </a:prstGeom>
          <a:ln w="0">
            <a:noFill/>
          </a:ln>
        </p:spPr>
      </p:pic>
      <p:pic>
        <p:nvPicPr>
          <p:cNvPr id="389" name="" descr=""/>
          <p:cNvPicPr/>
          <p:nvPr/>
        </p:nvPicPr>
        <p:blipFill>
          <a:blip r:embed="rId8"/>
          <a:stretch/>
        </p:blipFill>
        <p:spPr>
          <a:xfrm>
            <a:off x="990720" y="4876920"/>
            <a:ext cx="874440" cy="1218960"/>
          </a:xfrm>
          <a:prstGeom prst="rect">
            <a:avLst/>
          </a:prstGeom>
          <a:ln w="0">
            <a:noFill/>
          </a:ln>
        </p:spPr>
      </p:pic>
      <p:sp>
        <p:nvSpPr>
          <p:cNvPr id="390" name=""/>
          <p:cNvSpPr/>
          <p:nvPr/>
        </p:nvSpPr>
        <p:spPr>
          <a:xfrm>
            <a:off x="6111720" y="83808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Lucida Handwriting"/>
              </a:rPr>
              <a:t>Perd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553080" y="2743200"/>
            <a:ext cx="1600200" cy="144792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>
            <a:hlinkClick r:id="rId9" action="ppaction://hlinksldjump"/>
          </p:cNvPr>
          <p:cNvSpPr/>
          <p:nvPr/>
        </p:nvSpPr>
        <p:spPr>
          <a:xfrm>
            <a:off x="5791320" y="6348240"/>
            <a:ext cx="1008000" cy="505080"/>
          </a:xfrm>
          <a:custGeom>
            <a:avLst/>
            <a:gdLst>
              <a:gd name="textAreaLeft" fmla="*/ 32760 w 1008000"/>
              <a:gd name="textAreaRight" fmla="*/ 975600 w 1008000"/>
              <a:gd name="textAreaTop" fmla="*/ 32760 h 505080"/>
              <a:gd name="textAreaBottom" fmla="*/ 472680 h 505080"/>
            </a:gdLst>
            <a:ahLst/>
            <a:rect l="textAreaLeft" t="textAreaTop" r="textAreaRight" b="textAreaBottom"/>
            <a:pathLst>
              <a:path w="43092" h="21600">
                <a:moveTo>
                  <a:pt x="0" y="0"/>
                </a:moveTo>
                <a:lnTo>
                  <a:pt x="43092" y="0"/>
                </a:lnTo>
                <a:lnTo>
                  <a:pt x="43092" y="21600"/>
                </a:lnTo>
                <a:lnTo>
                  <a:pt x="0" y="21600"/>
                </a:lnTo>
                <a:close/>
              </a:path>
              <a:path fill="lightenLess" w="43092" h="21600">
                <a:moveTo>
                  <a:pt x="0" y="0"/>
                </a:moveTo>
                <a:lnTo>
                  <a:pt x="43092" y="0"/>
                </a:lnTo>
                <a:lnTo>
                  <a:pt x="41692" y="1400"/>
                </a:lnTo>
                <a:lnTo>
                  <a:pt x="1400" y="1400"/>
                </a:lnTo>
                <a:close/>
              </a:path>
              <a:path fill="darken" w="43092" h="21600">
                <a:moveTo>
                  <a:pt x="43092" y="0"/>
                </a:moveTo>
                <a:lnTo>
                  <a:pt x="43092" y="21600"/>
                </a:lnTo>
                <a:lnTo>
                  <a:pt x="41692" y="20200"/>
                </a:lnTo>
                <a:lnTo>
                  <a:pt x="41692" y="1400"/>
                </a:lnTo>
                <a:close/>
              </a:path>
              <a:path fill="darkenLess" w="43092" h="21600">
                <a:moveTo>
                  <a:pt x="430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92" y="20200"/>
                </a:lnTo>
                <a:close/>
              </a:path>
              <a:path fill="lighten" w="430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92" h="21600">
                <a:moveTo>
                  <a:pt x="14540" y="3794"/>
                </a:moveTo>
                <a:lnTo>
                  <a:pt x="28553" y="10800"/>
                </a:lnTo>
                <a:lnTo>
                  <a:pt x="14540" y="17806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2209680" y="12600"/>
            <a:ext cx="472464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 Black"/>
              </a:rPr>
              <a:t>Diapositive N° 4 - Résultat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Score actu</a:t>
            </a:r>
            <a:r>
              <a:rPr b="0" lang="en-US" sz="2400" spc="-1" strike="noStrike">
                <a:solidFill>
                  <a:srgbClr val="0033cc"/>
                </a:solidFill>
                <a:latin typeface="Arial Black"/>
              </a:rPr>
              <a:t>el = 2 points</a:t>
            </a:r>
            <a:endParaRPr b="0" lang="en-US" sz="2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G Produc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4495680" y="5486400"/>
            <a:ext cx="357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ur l’instant 75% de réuss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5" name="" descr=""/>
          <p:cNvPicPr/>
          <p:nvPr/>
        </p:nvPicPr>
        <p:blipFill>
          <a:blip r:embed="rId1"/>
          <a:srcRect l="0" t="11126" r="0" b="0"/>
          <a:stretch/>
        </p:blipFill>
        <p:spPr>
          <a:xfrm>
            <a:off x="0" y="380880"/>
            <a:ext cx="4448160" cy="6096240"/>
          </a:xfrm>
          <a:prstGeom prst="rect">
            <a:avLst/>
          </a:prstGeom>
          <a:ln w="0">
            <a:noFill/>
          </a:ln>
        </p:spPr>
      </p:pic>
      <p:pic>
        <p:nvPicPr>
          <p:cNvPr id="396" name="" descr=""/>
          <p:cNvPicPr/>
          <p:nvPr/>
        </p:nvPicPr>
        <p:blipFill>
          <a:blip r:embed="rId2"/>
          <a:stretch/>
        </p:blipFill>
        <p:spPr>
          <a:xfrm>
            <a:off x="6934320" y="2824200"/>
            <a:ext cx="877680" cy="1224000"/>
          </a:xfrm>
          <a:prstGeom prst="rect">
            <a:avLst/>
          </a:prstGeom>
          <a:ln w="0">
            <a:noFill/>
          </a:ln>
        </p:spPr>
      </p:pic>
      <p:pic>
        <p:nvPicPr>
          <p:cNvPr id="397" name="" descr=""/>
          <p:cNvPicPr/>
          <p:nvPr/>
        </p:nvPicPr>
        <p:blipFill>
          <a:blip r:embed="rId3"/>
          <a:stretch/>
        </p:blipFill>
        <p:spPr>
          <a:xfrm>
            <a:off x="5029200" y="1376280"/>
            <a:ext cx="1081080" cy="1224000"/>
          </a:xfrm>
          <a:prstGeom prst="rect">
            <a:avLst/>
          </a:prstGeom>
          <a:ln w="0">
            <a:noFill/>
          </a:ln>
        </p:spPr>
      </p:pic>
      <p:pic>
        <p:nvPicPr>
          <p:cNvPr id="398" name="" descr=""/>
          <p:cNvPicPr/>
          <p:nvPr/>
        </p:nvPicPr>
        <p:blipFill>
          <a:blip r:embed="rId4"/>
          <a:stretch/>
        </p:blipFill>
        <p:spPr>
          <a:xfrm>
            <a:off x="6934320" y="4272120"/>
            <a:ext cx="927000" cy="1223640"/>
          </a:xfrm>
          <a:prstGeom prst="rect">
            <a:avLst/>
          </a:prstGeom>
          <a:ln w="0">
            <a:noFill/>
          </a:ln>
        </p:spPr>
      </p:pic>
      <p:pic>
        <p:nvPicPr>
          <p:cNvPr id="399" name="" descr=""/>
          <p:cNvPicPr/>
          <p:nvPr/>
        </p:nvPicPr>
        <p:blipFill>
          <a:blip r:embed="rId5"/>
          <a:stretch/>
        </p:blipFill>
        <p:spPr>
          <a:xfrm>
            <a:off x="5141880" y="4272120"/>
            <a:ext cx="801720" cy="1223640"/>
          </a:xfrm>
          <a:prstGeom prst="rect">
            <a:avLst/>
          </a:prstGeom>
          <a:ln w="0">
            <a:noFill/>
          </a:ln>
        </p:spPr>
      </p:pic>
      <p:pic>
        <p:nvPicPr>
          <p:cNvPr id="400" name="" descr=""/>
          <p:cNvPicPr/>
          <p:nvPr/>
        </p:nvPicPr>
        <p:blipFill>
          <a:blip r:embed="rId6"/>
          <a:stretch/>
        </p:blipFill>
        <p:spPr>
          <a:xfrm>
            <a:off x="5029200" y="2824200"/>
            <a:ext cx="1030320" cy="1224000"/>
          </a:xfrm>
          <a:prstGeom prst="rect">
            <a:avLst/>
          </a:prstGeom>
          <a:ln w="0">
            <a:noFill/>
          </a:ln>
        </p:spPr>
      </p:pic>
      <p:pic>
        <p:nvPicPr>
          <p:cNvPr id="401" name="" descr=""/>
          <p:cNvPicPr/>
          <p:nvPr/>
        </p:nvPicPr>
        <p:blipFill>
          <a:blip r:embed="rId7"/>
          <a:stretch/>
        </p:blipFill>
        <p:spPr>
          <a:xfrm>
            <a:off x="6934320" y="1371600"/>
            <a:ext cx="981000" cy="1224000"/>
          </a:xfrm>
          <a:prstGeom prst="rect">
            <a:avLst/>
          </a:prstGeom>
          <a:ln w="0">
            <a:noFill/>
          </a:ln>
        </p:spPr>
      </p:pic>
      <p:pic>
        <p:nvPicPr>
          <p:cNvPr id="402" name="" descr=""/>
          <p:cNvPicPr/>
          <p:nvPr/>
        </p:nvPicPr>
        <p:blipFill>
          <a:blip r:embed="rId8"/>
          <a:stretch/>
        </p:blipFill>
        <p:spPr>
          <a:xfrm>
            <a:off x="990720" y="4876920"/>
            <a:ext cx="874440" cy="1218960"/>
          </a:xfrm>
          <a:prstGeom prst="rect">
            <a:avLst/>
          </a:prstGeom>
          <a:ln w="0">
            <a:noFill/>
          </a:ln>
        </p:spPr>
      </p:pic>
      <p:sp>
        <p:nvSpPr>
          <p:cNvPr id="403" name=""/>
          <p:cNvSpPr/>
          <p:nvPr/>
        </p:nvSpPr>
        <p:spPr>
          <a:xfrm>
            <a:off x="5029200" y="83808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Lucida Handwriting"/>
              </a:rPr>
              <a:t>GAG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>
            <a:hlinkClick r:id="rId9" action="ppaction://hlinksldjump"/>
          </p:cNvPr>
          <p:cNvSpPr/>
          <p:nvPr/>
        </p:nvSpPr>
        <p:spPr>
          <a:xfrm>
            <a:off x="5791320" y="6353280"/>
            <a:ext cx="1008000" cy="504720"/>
          </a:xfrm>
          <a:custGeom>
            <a:avLst/>
            <a:gdLst>
              <a:gd name="textAreaLeft" fmla="*/ 32400 w 1008000"/>
              <a:gd name="textAreaRight" fmla="*/ 975600 w 1008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43123" h="21600">
                <a:moveTo>
                  <a:pt x="0" y="0"/>
                </a:moveTo>
                <a:lnTo>
                  <a:pt x="43123" y="0"/>
                </a:lnTo>
                <a:lnTo>
                  <a:pt x="43123" y="21600"/>
                </a:lnTo>
                <a:lnTo>
                  <a:pt x="0" y="21600"/>
                </a:lnTo>
                <a:close/>
              </a:path>
              <a:path fill="lightenLess" w="43123" h="21600">
                <a:moveTo>
                  <a:pt x="0" y="0"/>
                </a:moveTo>
                <a:lnTo>
                  <a:pt x="43123" y="0"/>
                </a:lnTo>
                <a:lnTo>
                  <a:pt x="41723" y="1400"/>
                </a:lnTo>
                <a:lnTo>
                  <a:pt x="1400" y="1400"/>
                </a:lnTo>
                <a:close/>
              </a:path>
              <a:path fill="darken" w="43123" h="21600">
                <a:moveTo>
                  <a:pt x="43123" y="0"/>
                </a:moveTo>
                <a:lnTo>
                  <a:pt x="43123" y="21600"/>
                </a:lnTo>
                <a:lnTo>
                  <a:pt x="41723" y="20200"/>
                </a:lnTo>
                <a:lnTo>
                  <a:pt x="41723" y="1400"/>
                </a:lnTo>
                <a:close/>
              </a:path>
              <a:path fill="darkenLess" w="43123" h="21600">
                <a:moveTo>
                  <a:pt x="431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23" y="20200"/>
                </a:lnTo>
                <a:close/>
              </a:path>
              <a:path fill="lighten" w="431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23" h="21600">
                <a:moveTo>
                  <a:pt x="14555" y="3794"/>
                </a:moveTo>
                <a:lnTo>
                  <a:pt x="28568" y="10800"/>
                </a:lnTo>
                <a:lnTo>
                  <a:pt x="14555" y="17806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2209680" y="12600"/>
            <a:ext cx="472464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 Black"/>
              </a:rPr>
              <a:t>Diapositive N° 4 - Résultat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Score actu</a:t>
            </a:r>
            <a:r>
              <a:rPr b="0" lang="en-US" sz="2400" spc="-1" strike="noStrike">
                <a:solidFill>
                  <a:srgbClr val="0033cc"/>
                </a:solidFill>
                <a:latin typeface="Arial Black"/>
              </a:rPr>
              <a:t>el = 3 points</a:t>
            </a:r>
            <a:endParaRPr b="0" lang="en-US" sz="2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06" name=""/>
          <p:cNvSpPr/>
          <p:nvPr/>
        </p:nvSpPr>
        <p:spPr>
          <a:xfrm>
            <a:off x="6553080" y="2743200"/>
            <a:ext cx="1600200" cy="144792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G Produc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240" y="-47880"/>
            <a:ext cx="7467480" cy="8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Arial Black"/>
              </a:rPr>
              <a:t>Diapositive N° 1 - Résultat</a:t>
            </a:r>
            <a:br>
              <a:rPr sz="2600"/>
            </a:br>
            <a:r>
              <a:rPr b="0" lang="en-US" sz="2600" spc="-1" strike="noStrike">
                <a:solidFill>
                  <a:srgbClr val="0033cc"/>
                </a:solidFill>
                <a:latin typeface="Arial Black"/>
              </a:rPr>
              <a:t>Score actuel = 1 point</a:t>
            </a:r>
            <a:endParaRPr b="0" lang="en-US" sz="2600" spc="-1" strike="noStrike">
              <a:solidFill>
                <a:srgbClr val="0033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638280" y="1052640"/>
            <a:ext cx="3390840" cy="51847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6723000" y="1295280"/>
            <a:ext cx="920880" cy="9702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5499000" y="1295280"/>
            <a:ext cx="870120" cy="95904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4"/>
          <a:stretch/>
        </p:blipFill>
        <p:spPr>
          <a:xfrm>
            <a:off x="4419720" y="1295280"/>
            <a:ext cx="793800" cy="9907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5"/>
          <a:stretch/>
        </p:blipFill>
        <p:spPr>
          <a:xfrm>
            <a:off x="5572080" y="2514600"/>
            <a:ext cx="750960" cy="10080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6"/>
          <a:stretch/>
        </p:blipFill>
        <p:spPr>
          <a:xfrm>
            <a:off x="4419720" y="2514600"/>
            <a:ext cx="792000" cy="10080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7"/>
          <a:stretch/>
        </p:blipFill>
        <p:spPr>
          <a:xfrm>
            <a:off x="6727680" y="2514600"/>
            <a:ext cx="968400" cy="1079640"/>
          </a:xfrm>
          <a:prstGeom prst="rect">
            <a:avLst/>
          </a:prstGeom>
          <a:ln w="0">
            <a:noFill/>
          </a:ln>
        </p:spPr>
      </p:pic>
      <p:sp>
        <p:nvSpPr>
          <p:cNvPr id="100" name="">
            <a:hlinkClick r:id="rId8" action="ppaction://hlinksldjump"/>
          </p:cNvPr>
          <p:cNvSpPr/>
          <p:nvPr/>
        </p:nvSpPr>
        <p:spPr>
          <a:xfrm>
            <a:off x="4267080" y="5791320"/>
            <a:ext cx="1008360" cy="504720"/>
          </a:xfrm>
          <a:custGeom>
            <a:avLst/>
            <a:gdLst>
              <a:gd name="textAreaLeft" fmla="*/ 32400 w 1008360"/>
              <a:gd name="textAreaRight" fmla="*/ 975960 w 100836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43138" h="21600">
                <a:moveTo>
                  <a:pt x="0" y="0"/>
                </a:moveTo>
                <a:lnTo>
                  <a:pt x="43138" y="0"/>
                </a:lnTo>
                <a:lnTo>
                  <a:pt x="43138" y="21600"/>
                </a:lnTo>
                <a:lnTo>
                  <a:pt x="0" y="21600"/>
                </a:lnTo>
                <a:close/>
              </a:path>
              <a:path fill="lightenLess" w="43138" h="21600">
                <a:moveTo>
                  <a:pt x="0" y="0"/>
                </a:moveTo>
                <a:lnTo>
                  <a:pt x="43138" y="0"/>
                </a:lnTo>
                <a:lnTo>
                  <a:pt x="41738" y="1400"/>
                </a:lnTo>
                <a:lnTo>
                  <a:pt x="1400" y="1400"/>
                </a:lnTo>
                <a:close/>
              </a:path>
              <a:path fill="darken" w="43138" h="21600">
                <a:moveTo>
                  <a:pt x="43138" y="0"/>
                </a:moveTo>
                <a:lnTo>
                  <a:pt x="43138" y="21600"/>
                </a:lnTo>
                <a:lnTo>
                  <a:pt x="41738" y="20200"/>
                </a:lnTo>
                <a:lnTo>
                  <a:pt x="41738" y="1400"/>
                </a:lnTo>
                <a:close/>
              </a:path>
              <a:path fill="darkenLess" w="43138" h="21600">
                <a:moveTo>
                  <a:pt x="431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38" y="20200"/>
                </a:lnTo>
                <a:close/>
              </a:path>
              <a:path fill="lighten" w="431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38" h="21600">
                <a:moveTo>
                  <a:pt x="14563" y="3794"/>
                </a:moveTo>
                <a:lnTo>
                  <a:pt x="28576" y="10800"/>
                </a:lnTo>
                <a:lnTo>
                  <a:pt x="14563" y="17806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9"/>
          <a:stretch/>
        </p:blipFill>
        <p:spPr>
          <a:xfrm>
            <a:off x="1066680" y="4746600"/>
            <a:ext cx="920880" cy="89856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5257800" y="83808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Lucida Handwriting"/>
              </a:rPr>
              <a:t>BRAVO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635360" y="4005360"/>
            <a:ext cx="27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n coup d’œil 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477120" y="1066680"/>
            <a:ext cx="1447560" cy="137160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G Produc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/>
          <p:nvPr/>
        </p:nvSpPr>
        <p:spPr>
          <a:xfrm>
            <a:off x="4343400" y="5486400"/>
            <a:ext cx="3726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mière erreur 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gardes la bonne réponse 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8" name="" descr=""/>
          <p:cNvPicPr/>
          <p:nvPr/>
        </p:nvPicPr>
        <p:blipFill>
          <a:blip r:embed="rId1"/>
          <a:srcRect l="0" t="11126" r="0" b="0"/>
          <a:stretch/>
        </p:blipFill>
        <p:spPr>
          <a:xfrm>
            <a:off x="0" y="380880"/>
            <a:ext cx="4448160" cy="6096240"/>
          </a:xfrm>
          <a:prstGeom prst="rect">
            <a:avLst/>
          </a:prstGeom>
          <a:ln w="0">
            <a:noFill/>
          </a:ln>
        </p:spPr>
      </p:pic>
      <p:pic>
        <p:nvPicPr>
          <p:cNvPr id="409" name="" descr=""/>
          <p:cNvPicPr/>
          <p:nvPr/>
        </p:nvPicPr>
        <p:blipFill>
          <a:blip r:embed="rId2"/>
          <a:stretch/>
        </p:blipFill>
        <p:spPr>
          <a:xfrm>
            <a:off x="6934320" y="2824200"/>
            <a:ext cx="877680" cy="1224000"/>
          </a:xfrm>
          <a:prstGeom prst="rect">
            <a:avLst/>
          </a:prstGeom>
          <a:ln w="0">
            <a:noFill/>
          </a:ln>
        </p:spPr>
      </p:pic>
      <p:pic>
        <p:nvPicPr>
          <p:cNvPr id="410" name="" descr=""/>
          <p:cNvPicPr/>
          <p:nvPr/>
        </p:nvPicPr>
        <p:blipFill>
          <a:blip r:embed="rId3"/>
          <a:stretch/>
        </p:blipFill>
        <p:spPr>
          <a:xfrm>
            <a:off x="5029200" y="1376280"/>
            <a:ext cx="1081080" cy="1224000"/>
          </a:xfrm>
          <a:prstGeom prst="rect">
            <a:avLst/>
          </a:prstGeom>
          <a:ln w="0">
            <a:noFill/>
          </a:ln>
        </p:spPr>
      </p:pic>
      <p:pic>
        <p:nvPicPr>
          <p:cNvPr id="411" name="" descr=""/>
          <p:cNvPicPr/>
          <p:nvPr/>
        </p:nvPicPr>
        <p:blipFill>
          <a:blip r:embed="rId4"/>
          <a:stretch/>
        </p:blipFill>
        <p:spPr>
          <a:xfrm>
            <a:off x="6934320" y="4272120"/>
            <a:ext cx="927000" cy="1223640"/>
          </a:xfrm>
          <a:prstGeom prst="rect">
            <a:avLst/>
          </a:prstGeom>
          <a:ln w="0">
            <a:noFill/>
          </a:ln>
        </p:spPr>
      </p:pic>
      <p:pic>
        <p:nvPicPr>
          <p:cNvPr id="412" name="" descr=""/>
          <p:cNvPicPr/>
          <p:nvPr/>
        </p:nvPicPr>
        <p:blipFill>
          <a:blip r:embed="rId5"/>
          <a:stretch/>
        </p:blipFill>
        <p:spPr>
          <a:xfrm>
            <a:off x="5141880" y="4272120"/>
            <a:ext cx="801720" cy="1223640"/>
          </a:xfrm>
          <a:prstGeom prst="rect">
            <a:avLst/>
          </a:prstGeom>
          <a:ln w="0">
            <a:noFill/>
          </a:ln>
        </p:spPr>
      </p:pic>
      <p:pic>
        <p:nvPicPr>
          <p:cNvPr id="413" name="" descr=""/>
          <p:cNvPicPr/>
          <p:nvPr/>
        </p:nvPicPr>
        <p:blipFill>
          <a:blip r:embed="rId6"/>
          <a:stretch/>
        </p:blipFill>
        <p:spPr>
          <a:xfrm>
            <a:off x="5029200" y="2824200"/>
            <a:ext cx="1030320" cy="1224000"/>
          </a:xfrm>
          <a:prstGeom prst="rect">
            <a:avLst/>
          </a:prstGeom>
          <a:ln w="0">
            <a:noFill/>
          </a:ln>
        </p:spPr>
      </p:pic>
      <p:pic>
        <p:nvPicPr>
          <p:cNvPr id="414" name="" descr=""/>
          <p:cNvPicPr/>
          <p:nvPr/>
        </p:nvPicPr>
        <p:blipFill>
          <a:blip r:embed="rId7"/>
          <a:stretch/>
        </p:blipFill>
        <p:spPr>
          <a:xfrm>
            <a:off x="6934320" y="1371600"/>
            <a:ext cx="981000" cy="1224000"/>
          </a:xfrm>
          <a:prstGeom prst="rect">
            <a:avLst/>
          </a:prstGeom>
          <a:ln w="0">
            <a:noFill/>
          </a:ln>
        </p:spPr>
      </p:pic>
      <p:pic>
        <p:nvPicPr>
          <p:cNvPr id="415" name="" descr=""/>
          <p:cNvPicPr/>
          <p:nvPr/>
        </p:nvPicPr>
        <p:blipFill>
          <a:blip r:embed="rId8"/>
          <a:stretch/>
        </p:blipFill>
        <p:spPr>
          <a:xfrm>
            <a:off x="990720" y="4876920"/>
            <a:ext cx="874440" cy="121896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/>
          <p:nvPr/>
        </p:nvSpPr>
        <p:spPr>
          <a:xfrm>
            <a:off x="6111720" y="83808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Lucida Handwriting"/>
              </a:rPr>
              <a:t>Perd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6553080" y="2743200"/>
            <a:ext cx="1600200" cy="144792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>
            <a:hlinkClick r:id="rId9" action="ppaction://hlinksldjump"/>
          </p:cNvPr>
          <p:cNvSpPr/>
          <p:nvPr/>
        </p:nvSpPr>
        <p:spPr>
          <a:xfrm>
            <a:off x="5638680" y="6348240"/>
            <a:ext cx="1008360" cy="505080"/>
          </a:xfrm>
          <a:custGeom>
            <a:avLst/>
            <a:gdLst>
              <a:gd name="textAreaLeft" fmla="*/ 32400 w 1008360"/>
              <a:gd name="textAreaRight" fmla="*/ 975600 w 1008360"/>
              <a:gd name="textAreaTop" fmla="*/ 32760 h 505080"/>
              <a:gd name="textAreaBottom" fmla="*/ 472680 h 505080"/>
            </a:gdLst>
            <a:ahLst/>
            <a:rect l="textAreaLeft" t="textAreaTop" r="textAreaRight" b="textAreaBottom"/>
            <a:pathLst>
              <a:path w="43108" h="21600">
                <a:moveTo>
                  <a:pt x="0" y="0"/>
                </a:moveTo>
                <a:lnTo>
                  <a:pt x="43108" y="0"/>
                </a:lnTo>
                <a:lnTo>
                  <a:pt x="43108" y="21600"/>
                </a:lnTo>
                <a:lnTo>
                  <a:pt x="0" y="21600"/>
                </a:lnTo>
                <a:close/>
              </a:path>
              <a:path fill="lightenLess" w="43108" h="21600">
                <a:moveTo>
                  <a:pt x="0" y="0"/>
                </a:moveTo>
                <a:lnTo>
                  <a:pt x="43108" y="0"/>
                </a:lnTo>
                <a:lnTo>
                  <a:pt x="41708" y="1400"/>
                </a:lnTo>
                <a:lnTo>
                  <a:pt x="1400" y="1400"/>
                </a:lnTo>
                <a:close/>
              </a:path>
              <a:path fill="darken" w="43108" h="21600">
                <a:moveTo>
                  <a:pt x="43108" y="0"/>
                </a:moveTo>
                <a:lnTo>
                  <a:pt x="43108" y="21600"/>
                </a:lnTo>
                <a:lnTo>
                  <a:pt x="41708" y="20200"/>
                </a:lnTo>
                <a:lnTo>
                  <a:pt x="41708" y="1400"/>
                </a:lnTo>
                <a:close/>
              </a:path>
              <a:path fill="darkenLess" w="43108" h="21600">
                <a:moveTo>
                  <a:pt x="431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08" y="20200"/>
                </a:lnTo>
                <a:close/>
              </a:path>
              <a:path fill="lighten" w="431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08" h="21600">
                <a:moveTo>
                  <a:pt x="14547" y="3794"/>
                </a:moveTo>
                <a:lnTo>
                  <a:pt x="28560" y="10800"/>
                </a:lnTo>
                <a:lnTo>
                  <a:pt x="14547" y="17806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2209680" y="12600"/>
            <a:ext cx="472464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 Black"/>
              </a:rPr>
              <a:t>Diapositive N° 4 - Résultat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Score actu</a:t>
            </a:r>
            <a:r>
              <a:rPr b="0" lang="en-US" sz="2400" spc="-1" strike="noStrike">
                <a:solidFill>
                  <a:srgbClr val="0033cc"/>
                </a:solidFill>
                <a:latin typeface="Arial Black"/>
              </a:rPr>
              <a:t>el = 3 points</a:t>
            </a:r>
            <a:endParaRPr b="0" lang="en-US" sz="2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G Produc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4495680" y="5486400"/>
            <a:ext cx="3573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s de doute 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u es une spécialiste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1" name="" descr=""/>
          <p:cNvPicPr/>
          <p:nvPr/>
        </p:nvPicPr>
        <p:blipFill>
          <a:blip r:embed="rId1"/>
          <a:srcRect l="0" t="11126" r="0" b="0"/>
          <a:stretch/>
        </p:blipFill>
        <p:spPr>
          <a:xfrm>
            <a:off x="0" y="380880"/>
            <a:ext cx="4448160" cy="6096240"/>
          </a:xfrm>
          <a:prstGeom prst="rect">
            <a:avLst/>
          </a:prstGeom>
          <a:ln w="0">
            <a:noFill/>
          </a:ln>
        </p:spPr>
      </p:pic>
      <p:pic>
        <p:nvPicPr>
          <p:cNvPr id="422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934320" y="2824200"/>
            <a:ext cx="877680" cy="1224000"/>
          </a:xfrm>
          <a:prstGeom prst="rect">
            <a:avLst/>
          </a:prstGeom>
          <a:ln w="0">
            <a:noFill/>
          </a:ln>
        </p:spPr>
      </p:pic>
      <p:pic>
        <p:nvPicPr>
          <p:cNvPr id="423" name="" descr=""/>
          <p:cNvPicPr/>
          <p:nvPr/>
        </p:nvPicPr>
        <p:blipFill>
          <a:blip r:embed="rId4"/>
          <a:stretch/>
        </p:blipFill>
        <p:spPr>
          <a:xfrm>
            <a:off x="5029200" y="1376280"/>
            <a:ext cx="1081080" cy="1224000"/>
          </a:xfrm>
          <a:prstGeom prst="rect">
            <a:avLst/>
          </a:prstGeom>
          <a:ln w="0">
            <a:noFill/>
          </a:ln>
        </p:spPr>
      </p:pic>
      <p:pic>
        <p:nvPicPr>
          <p:cNvPr id="424" name="" descr=""/>
          <p:cNvPicPr/>
          <p:nvPr/>
        </p:nvPicPr>
        <p:blipFill>
          <a:blip r:embed="rId5"/>
          <a:stretch/>
        </p:blipFill>
        <p:spPr>
          <a:xfrm>
            <a:off x="6934320" y="4272120"/>
            <a:ext cx="927000" cy="1223640"/>
          </a:xfrm>
          <a:prstGeom prst="rect">
            <a:avLst/>
          </a:prstGeom>
          <a:ln w="0">
            <a:noFill/>
          </a:ln>
        </p:spPr>
      </p:pic>
      <p:pic>
        <p:nvPicPr>
          <p:cNvPr id="425" name="" descr=""/>
          <p:cNvPicPr/>
          <p:nvPr/>
        </p:nvPicPr>
        <p:blipFill>
          <a:blip r:embed="rId6"/>
          <a:stretch/>
        </p:blipFill>
        <p:spPr>
          <a:xfrm>
            <a:off x="5141880" y="4272120"/>
            <a:ext cx="801720" cy="1223640"/>
          </a:xfrm>
          <a:prstGeom prst="rect">
            <a:avLst/>
          </a:prstGeom>
          <a:ln w="0">
            <a:noFill/>
          </a:ln>
        </p:spPr>
      </p:pic>
      <p:pic>
        <p:nvPicPr>
          <p:cNvPr id="426" name="" descr=""/>
          <p:cNvPicPr/>
          <p:nvPr/>
        </p:nvPicPr>
        <p:blipFill>
          <a:blip r:embed="rId7"/>
          <a:stretch/>
        </p:blipFill>
        <p:spPr>
          <a:xfrm>
            <a:off x="5029200" y="2824200"/>
            <a:ext cx="1030320" cy="1224000"/>
          </a:xfrm>
          <a:prstGeom prst="rect">
            <a:avLst/>
          </a:prstGeom>
          <a:ln w="0">
            <a:noFill/>
          </a:ln>
        </p:spPr>
      </p:pic>
      <p:pic>
        <p:nvPicPr>
          <p:cNvPr id="427" name="" descr=""/>
          <p:cNvPicPr/>
          <p:nvPr/>
        </p:nvPicPr>
        <p:blipFill>
          <a:blip r:embed="rId8"/>
          <a:stretch/>
        </p:blipFill>
        <p:spPr>
          <a:xfrm>
            <a:off x="6934320" y="1371600"/>
            <a:ext cx="981000" cy="1224000"/>
          </a:xfrm>
          <a:prstGeom prst="rect">
            <a:avLst/>
          </a:prstGeom>
          <a:ln w="0">
            <a:noFill/>
          </a:ln>
        </p:spPr>
      </p:pic>
      <p:pic>
        <p:nvPicPr>
          <p:cNvPr id="428" name="" descr=""/>
          <p:cNvPicPr/>
          <p:nvPr/>
        </p:nvPicPr>
        <p:blipFill>
          <a:blip r:embed="rId9"/>
          <a:stretch/>
        </p:blipFill>
        <p:spPr>
          <a:xfrm>
            <a:off x="990720" y="4876920"/>
            <a:ext cx="874440" cy="1218960"/>
          </a:xfrm>
          <a:prstGeom prst="rect">
            <a:avLst/>
          </a:prstGeom>
          <a:ln w="0">
            <a:noFill/>
          </a:ln>
        </p:spPr>
      </p:pic>
      <p:sp>
        <p:nvSpPr>
          <p:cNvPr id="429" name=""/>
          <p:cNvSpPr/>
          <p:nvPr/>
        </p:nvSpPr>
        <p:spPr>
          <a:xfrm>
            <a:off x="5029200" y="83808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Lucida Handwriting"/>
              </a:rPr>
              <a:t>GAG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>
            <a:hlinkClick r:id="rId10" action="ppaction://hlinksldjump"/>
          </p:cNvPr>
          <p:cNvSpPr/>
          <p:nvPr/>
        </p:nvSpPr>
        <p:spPr>
          <a:xfrm>
            <a:off x="5791320" y="6353280"/>
            <a:ext cx="1008000" cy="504720"/>
          </a:xfrm>
          <a:custGeom>
            <a:avLst/>
            <a:gdLst>
              <a:gd name="textAreaLeft" fmla="*/ 32400 w 1008000"/>
              <a:gd name="textAreaRight" fmla="*/ 975600 w 1008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43123" h="21600">
                <a:moveTo>
                  <a:pt x="0" y="0"/>
                </a:moveTo>
                <a:lnTo>
                  <a:pt x="43123" y="0"/>
                </a:lnTo>
                <a:lnTo>
                  <a:pt x="43123" y="21600"/>
                </a:lnTo>
                <a:lnTo>
                  <a:pt x="0" y="21600"/>
                </a:lnTo>
                <a:close/>
              </a:path>
              <a:path fill="lightenLess" w="43123" h="21600">
                <a:moveTo>
                  <a:pt x="0" y="0"/>
                </a:moveTo>
                <a:lnTo>
                  <a:pt x="43123" y="0"/>
                </a:lnTo>
                <a:lnTo>
                  <a:pt x="41723" y="1400"/>
                </a:lnTo>
                <a:lnTo>
                  <a:pt x="1400" y="1400"/>
                </a:lnTo>
                <a:close/>
              </a:path>
              <a:path fill="darken" w="43123" h="21600">
                <a:moveTo>
                  <a:pt x="43123" y="0"/>
                </a:moveTo>
                <a:lnTo>
                  <a:pt x="43123" y="21600"/>
                </a:lnTo>
                <a:lnTo>
                  <a:pt x="41723" y="20200"/>
                </a:lnTo>
                <a:lnTo>
                  <a:pt x="41723" y="1400"/>
                </a:lnTo>
                <a:close/>
              </a:path>
              <a:path fill="darkenLess" w="43123" h="21600">
                <a:moveTo>
                  <a:pt x="431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23" y="20200"/>
                </a:lnTo>
                <a:close/>
              </a:path>
              <a:path fill="lighten" w="431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23" h="21600">
                <a:moveTo>
                  <a:pt x="14555" y="3794"/>
                </a:moveTo>
                <a:lnTo>
                  <a:pt x="28568" y="10800"/>
                </a:lnTo>
                <a:lnTo>
                  <a:pt x="14555" y="17806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09680" y="12600"/>
            <a:ext cx="472464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 Black"/>
              </a:rPr>
              <a:t>Diapositive N° 4 - Résultat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Score actu</a:t>
            </a:r>
            <a:r>
              <a:rPr b="0" lang="en-US" sz="2400" spc="-1" strike="noStrike">
                <a:solidFill>
                  <a:srgbClr val="0033cc"/>
                </a:solidFill>
                <a:latin typeface="Arial Black"/>
              </a:rPr>
              <a:t>el = 4 points</a:t>
            </a:r>
            <a:endParaRPr b="0" lang="en-US" sz="2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32" name=""/>
          <p:cNvSpPr/>
          <p:nvPr/>
        </p:nvSpPr>
        <p:spPr>
          <a:xfrm>
            <a:off x="6553080" y="2743200"/>
            <a:ext cx="1600200" cy="144792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G Produc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422600" cy="6629400"/>
          </a:xfrm>
          <a:prstGeom prst="rect">
            <a:avLst/>
          </a:prstGeom>
          <a:ln w="0">
            <a:noFill/>
          </a:ln>
        </p:spPr>
      </p:pic>
      <p:pic>
        <p:nvPicPr>
          <p:cNvPr id="434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858000" y="3692520"/>
            <a:ext cx="976320" cy="1112760"/>
          </a:xfrm>
          <a:prstGeom prst="rect">
            <a:avLst/>
          </a:prstGeom>
          <a:ln w="0">
            <a:noFill/>
          </a:ln>
        </p:spPr>
      </p:pic>
      <p:pic>
        <p:nvPicPr>
          <p:cNvPr id="435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105520" y="1101600"/>
            <a:ext cx="903240" cy="1113120"/>
          </a:xfrm>
          <a:prstGeom prst="rect">
            <a:avLst/>
          </a:prstGeom>
          <a:ln w="0">
            <a:noFill/>
          </a:ln>
        </p:spPr>
      </p:pic>
      <p:pic>
        <p:nvPicPr>
          <p:cNvPr id="436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6829560" y="1066680"/>
            <a:ext cx="963360" cy="1113120"/>
          </a:xfrm>
          <a:prstGeom prst="rect">
            <a:avLst/>
          </a:prstGeom>
          <a:ln w="0">
            <a:noFill/>
          </a:ln>
        </p:spPr>
      </p:pic>
      <p:pic>
        <p:nvPicPr>
          <p:cNvPr id="437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5116680" y="2397240"/>
            <a:ext cx="903240" cy="1112760"/>
          </a:xfrm>
          <a:prstGeom prst="rect">
            <a:avLst/>
          </a:prstGeom>
          <a:ln w="0">
            <a:noFill/>
          </a:ln>
        </p:spPr>
      </p:pic>
      <p:pic>
        <p:nvPicPr>
          <p:cNvPr id="438" name="" descr="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6858000" y="2397240"/>
            <a:ext cx="903240" cy="1112760"/>
          </a:xfrm>
          <a:prstGeom prst="rect">
            <a:avLst/>
          </a:prstGeom>
          <a:ln w="0">
            <a:noFill/>
          </a:ln>
        </p:spPr>
      </p:pic>
      <p:sp>
        <p:nvSpPr>
          <p:cNvPr id="439" name=""/>
          <p:cNvSpPr/>
          <p:nvPr/>
        </p:nvSpPr>
        <p:spPr>
          <a:xfrm>
            <a:off x="4800600" y="5638680"/>
            <a:ext cx="326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lez !! Observes bien, et mets tes lunettes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133720" y="12600"/>
            <a:ext cx="411480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 Black"/>
              </a:rPr>
              <a:t>Diapositive N° 5</a:t>
            </a:r>
            <a:br>
              <a:rPr sz="2400"/>
            </a:br>
            <a:r>
              <a:rPr b="0" lang="en-US" sz="2400" spc="-1" strike="noStrike">
                <a:solidFill>
                  <a:srgbClr val="0033cc"/>
                </a:solidFill>
                <a:latin typeface="Arial Black"/>
              </a:rPr>
              <a:t>Score actuel = 0 point</a:t>
            </a:r>
            <a:endParaRPr b="0" lang="en-US" sz="2400" spc="-1" strike="noStrike">
              <a:solidFill>
                <a:srgbClr val="003300"/>
              </a:solidFill>
              <a:latin typeface="Arial Black"/>
            </a:endParaRPr>
          </a:p>
        </p:txBody>
      </p:sp>
      <p:pic>
        <p:nvPicPr>
          <p:cNvPr id="441" name="" descr="">
            <a:hlinkClick r:id="rId12" action="ppaction://hlinksldjump"/>
          </p:cNvPr>
          <p:cNvPicPr/>
          <p:nvPr/>
        </p:nvPicPr>
        <p:blipFill>
          <a:blip r:embed="rId13"/>
          <a:stretch/>
        </p:blipFill>
        <p:spPr>
          <a:xfrm>
            <a:off x="5105520" y="3692520"/>
            <a:ext cx="1066680" cy="1112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G Produc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35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35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2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38 0 0.069 0.04133 0.069 0.092 C 0.069 0.12533 0.056 0.15467 0.037 0.172 L 0.036 0.172 C 0.029 0.17867 0.025 0.18933 0.025 0.20133 C 0.025 0.212 0.029 0.22133 0.034 0.228 C 0.042 0.23867 0.047 0.25467 0.047 0.27067 C 0.047 0.30533 0.026 0.33333 0 0.33333 C -0.026 0.33333 -0.047 0.30533 -0.047 0.27067 C -0.047 0.25467 -0.042 0.23867 -0.034 0.228 C -0.029 0.22133 -0.026 0.212 -0.026 0.20133 C -0.026 0.18933 -0.03 0.17867 -0.036 0.172 L -0.037 0.172 C -0.057 0.15467 -0.07 0.12533 -0.07 0.092 C -0.07 0.04133 -0.039 0 0 0 Z">
                                      <p:cBhvr>
                                        <p:cTn id="6" dur="2000" fill="hold"/>
                                        <p:tgtEl>
                                          <p:spTgt spid="4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436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436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path" presetID="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14 -0.00667 -0.029 -0.012 -0.044 -0.012 C -0.114 -0.012 -0.169 0.064 -0.169 0.156 C -0.169 0.24667 -0.114 0.32133 -0.044 0.32133 C -0.029 0.32133 -0.014 0.31733 0 0.31067 C -0.047 0.28667 -0.08 0.22667 -0.08 0.156 C -0.08 0.084 -0.047 0.024 0 0 Z">
                                      <p:cBhvr>
                                        <p:cTn id="11" dur="2000" fill="hold"/>
                                        <p:tgtEl>
                                          <p:spTgt spid="4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" restart="whenNotActive" nodeType="interactiveSeq" fill="hold">
                <p:stCondLst>
                  <p:cond evt="onClick">
                    <p:tgtEl>
                      <p:spTgt spid="437"/>
                    </p:tgtEl>
                  </p:cond>
                </p:stCondLst>
                <p:childTnLst>
                  <p:par>
                    <p:cTn id="13" fill="hold">
                      <p:stCondLst>
                        <p:cond evt="onClick">
                          <p:tgtEl>
                            <p:spTgt spid="437"/>
                          </p:tgtEl>
                        </p:cond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path" presetID="5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07407E-006 C -0.0007 0.05092 0.04305 0.09583 0.09809 0.09745 C 0.14184 0.10185 0.1776 0.07731 0.17847 0.04676 C 0.17847 0.01643 0.14323 -0.01227 0.09896 -0.01389 C 0.07656 -0.01389 0.05659 -0.01019 0.04218 4.07407E-006 C 0.02153 0.01412 0.00937 0.0368 0.00937 0.06319 C 0.00937 0.07731 0.01284 0.09143 0.01944 0.10393 C 0.03437 0.13032 0.06371 0.14838 0.09739 0.15046 C 0.1368 0.15463 0.16909 0.13217 0.16909 0.10601 C 0.16979 0.07731 0.1375 0.05301 0.09809 0.04884 C 0.07812 0.04884 0.06024 0.05301 0.04653 0.06111 C 0.02864 0.07523 0.01718 0.09745 0.01718 0.12013 C 0.01718 0.13217 0.02066 0.14444 0.02639 0.15671 C 0.0401 0.17916 0.06597 0.19745 0.0967 0.19907 C 0.13264 0.20138 0.16128 0.18125 0.16128 0.15671 C 0.16198 0.13217 0.13316 0.10995 0.09739 0.10787 C 0.07951 0.10601 0.06302 0.10995 0.05087 0.11805 C 0.03437 0.13032 0.02517 0.14838 0.02517 0.17083 C 0.02517 0.18125 0.02795 0.19305 0.03298 0.20347 C 0.04514 0.22384 0.06875 0.24004 0.096 0.24189 C 0.1283 0.24189 0.15399 0.22569 0.15399 0.20347 C 0.15399 0.18125 0.12899 0.16064 0.0967 0.15856 C 0.0809 0.15856 0.06597 0.16273 0.05521 0.16875 C 0.0401 0.17916 0.03142 0.19745 0.0309 0.21574 C 0.0309 0.22569 0.03437 0.23588 0.03871 0.24398 C 0.0493 0.26435 0.07083 0.27847 0.09531 0.27847 C 0.12396 0.28078 0.14757 0.26666 0.14757 0.24606 C 0.14826 0.22569 0.12465 0.20763 0.096 0.20555 C 0.08177 0.20555 0.06805 0.20763 0.05868 0.21574 C 0.04514 0.22384 0.03732 0.24004 0.03732 0.25625 C 0.03732 0.26666 0.03941 0.27476 0.04357 0.28287 C 0.05364 0.30092 0.07239 0.31319 0.09444 0.31527 C 0.121 0.31527 0.14184 0.30301 0.14184 0.28449 C 0.14253 0.26666 0.1217 0.25 0.09531 0.24814 C 0.08229 0.24814 0.07083 0.25 0.06232 0.25625 C 0.05017 0.26435 0.04305 0.27847 0.04305 0.2949 C 0.04305 0.30301 0.04514 0.30926 0.04878 0.31736 C 0.05729 0.33356 0.07448 0.34351 0.09444 0.3456 C 0.11823 0.34768 0.1368 0.33541 0.1368 0.31736 C 0.1368 0.30301 0.11892 0.2868 0.09531 0.2868 C 0.08316 0.28449 0.07239 0.28888 0.06441 0.29259 C 0.05364 0.30092 0.04722 0.31319 0.04722 0.32731 C 0.04722 0.33541 0.0493 0.34166 0.05295 0.34768 C 0.06093 0.3618 0.07656 0.37222 0.09392 0.3743 C 0.11528 0.37638 0.13264 0.36388 0.13264 0.34976 C 0.13264 0.33356 0.11528 0.32129 0.09444 0.31921 C 0.08455 0.31921 0.07448 0.32129 0.06736 0.32731 C 0.05729 0.33356 0.05156 0.34351 0.05156 0.3581 C 0.05156 0.36388 0.05364 0.3699 0.05659 0.37638 C 0.06371 0.38842 0.07743 0.39861 0.09392 0.39861 C 0.1125 0.40069 0.1283 0.39051 0.1283 0.37638 C 0.1283 0.36388 0.11319 0.35162 0.09392 0.35162 C 0.08524 0.34976 0.07604 0.35162 0.06944 0.35578 C 0.06093 0.36388 0.0559 0.3743 0.0559 0.38449 C 0.0559 0.39051 0.05729 0.39652 0.06024 0.40069 C 0.06666 0.41273 0.07882 0.42083 0.09392 0.42291 C 0.11111 0.42291 0.12465 0.41273 0.12465 0.40254 C 0.12465 0.39051 0.11111 0.37801 0.09392 0.37801 C 0.08524 0.37801 0.07743 0.38032 0.07239 0.38449 C 0.06371 0.38842 0.05937 0.39861 0.05937 0.40879 C 0.05937 0.41273 0.06093 0.41898 0.06302 0.42291 C 0.06875 0.43518 0.08021 0.4412 0.09323 0.44351 C 0.10903 0.44351 0.121 0.43518 0.121 0.425 C 0.121 0.41273 0.10903 0.40463 0.09392 0.40254 C 0.08593 0.40254 0.07882 0.40463 0.07378 0.40879 C 0.06666 0.41273 0.06232 0.42083 0.06232 0.43101 C 0.06232 0.43518 0.06371 0.43912 0.06597 0.44351 E">
                                      <p:cBhvr>
                                        <p:cTn id="16" dur="2000" fill="hold"/>
                                        <p:tgtEl>
                                          <p:spTgt spid="4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" restart="whenNotActive" nodeType="interactiveSeq" fill="hold">
                <p:stCondLst>
                  <p:cond evt="onClick">
                    <p:tgtEl>
                      <p:spTgt spid="438"/>
                    </p:tgtEl>
                  </p:cond>
                </p:stCondLst>
                <p:childTnLst>
                  <p:par>
                    <p:cTn id="18" fill="hold">
                      <p:stCondLst>
                        <p:cond evt="onClick">
                          <p:tgtEl>
                            <p:spTgt spid="438"/>
                          </p:tgtEl>
                        </p:cond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82 0.03148 L -0.00382 0.40949 E">
                                      <p:cBhvr>
                                        <p:cTn id="21" dur="2000" fill="hold"/>
                                        <p:tgtEl>
                                          <p:spTgt spid="4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" restart="whenNotActive" nodeType="interactiveSeq" fill="hold">
                <p:stCondLst>
                  <p:cond evt="onClick">
                    <p:tgtEl>
                      <p:spTgt spid="434"/>
                    </p:tgtEl>
                  </p:cond>
                </p:stCondLst>
                <p:childTnLst>
                  <p:par>
                    <p:cTn id="23" fill="hold">
                      <p:stCondLst>
                        <p:cond evt="onClick">
                          <p:tgtEl>
                            <p:spTgt spid="434"/>
                          </p:tgtEl>
                        </p:cond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3.7037E-006 L -0.34635 -0.01041 E">
                                      <p:cBhvr>
                                        <p:cTn id="26" dur="2000" fill="hold"/>
                                        <p:tgtEl>
                                          <p:spTgt spid="4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422600" cy="6629400"/>
          </a:xfrm>
          <a:prstGeom prst="rect">
            <a:avLst/>
          </a:prstGeom>
          <a:ln w="0">
            <a:noFill/>
          </a:ln>
        </p:spPr>
      </p:pic>
      <p:pic>
        <p:nvPicPr>
          <p:cNvPr id="443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858000" y="3692520"/>
            <a:ext cx="976320" cy="1112760"/>
          </a:xfrm>
          <a:prstGeom prst="rect">
            <a:avLst/>
          </a:prstGeom>
          <a:ln w="0">
            <a:noFill/>
          </a:ln>
        </p:spPr>
      </p:pic>
      <p:pic>
        <p:nvPicPr>
          <p:cNvPr id="444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105520" y="1101600"/>
            <a:ext cx="903240" cy="1113120"/>
          </a:xfrm>
          <a:prstGeom prst="rect">
            <a:avLst/>
          </a:prstGeom>
          <a:ln w="0">
            <a:noFill/>
          </a:ln>
        </p:spPr>
      </p:pic>
      <p:pic>
        <p:nvPicPr>
          <p:cNvPr id="445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6829560" y="1066680"/>
            <a:ext cx="963360" cy="1113120"/>
          </a:xfrm>
          <a:prstGeom prst="rect">
            <a:avLst/>
          </a:prstGeom>
          <a:ln w="0">
            <a:noFill/>
          </a:ln>
        </p:spPr>
      </p:pic>
      <p:pic>
        <p:nvPicPr>
          <p:cNvPr id="446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5116680" y="2397240"/>
            <a:ext cx="903240" cy="1112760"/>
          </a:xfrm>
          <a:prstGeom prst="rect">
            <a:avLst/>
          </a:prstGeom>
          <a:ln w="0">
            <a:noFill/>
          </a:ln>
        </p:spPr>
      </p:pic>
      <p:pic>
        <p:nvPicPr>
          <p:cNvPr id="447" name="" descr="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6858000" y="2397240"/>
            <a:ext cx="903240" cy="1112760"/>
          </a:xfrm>
          <a:prstGeom prst="rect">
            <a:avLst/>
          </a:prstGeom>
          <a:ln w="0">
            <a:noFill/>
          </a:ln>
        </p:spPr>
      </p:pic>
      <p:sp>
        <p:nvSpPr>
          <p:cNvPr id="448" name=""/>
          <p:cNvSpPr/>
          <p:nvPr/>
        </p:nvSpPr>
        <p:spPr>
          <a:xfrm>
            <a:off x="4800600" y="5638680"/>
            <a:ext cx="326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lez !! Observes bien, tu en as déjà trouvé une 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2133720" y="12600"/>
            <a:ext cx="411480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 Black"/>
              </a:rPr>
              <a:t>Diapositive N° 5</a:t>
            </a:r>
            <a:br>
              <a:rPr sz="2400"/>
            </a:br>
            <a:r>
              <a:rPr b="0" lang="en-US" sz="2400" spc="-1" strike="noStrike">
                <a:solidFill>
                  <a:srgbClr val="0033cc"/>
                </a:solidFill>
                <a:latin typeface="Arial Black"/>
              </a:rPr>
              <a:t>Score actuel = 1 point</a:t>
            </a:r>
            <a:endParaRPr b="0" lang="en-US" sz="2400" spc="-1" strike="noStrike">
              <a:solidFill>
                <a:srgbClr val="003300"/>
              </a:solidFill>
              <a:latin typeface="Arial Black"/>
            </a:endParaRPr>
          </a:p>
        </p:txBody>
      </p:sp>
      <p:pic>
        <p:nvPicPr>
          <p:cNvPr id="450" name="" descr="">
            <a:hlinkClick r:id="rId12" action="ppaction://hlinksldjump"/>
          </p:cNvPr>
          <p:cNvPicPr/>
          <p:nvPr/>
        </p:nvPicPr>
        <p:blipFill>
          <a:blip r:embed="rId13"/>
          <a:stretch/>
        </p:blipFill>
        <p:spPr>
          <a:xfrm>
            <a:off x="5105520" y="3692520"/>
            <a:ext cx="1066680" cy="1112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G Produc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restart="whenNotActive" nodeType="interactiveSeq" fill="hold">
                <p:stCondLst>
                  <p:cond evt="onClick">
                    <p:tgtEl>
                      <p:spTgt spid="435"/>
                    </p:tgtEl>
                  </p:cond>
                </p:stCondLst>
                <p:childTnLst>
                  <p:par>
                    <p:cTn id="29" fill="hold">
                      <p:stCondLst>
                        <p:cond evt="onClick">
                          <p:tgtEl>
                            <p:spTgt spid="435"/>
                          </p:tgtEl>
                        </p:cond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path" presetID="2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38 0 0.069 0.04133 0.069 0.092 C 0.069 0.12533 0.056 0.15467 0.037 0.172 L 0.036 0.172 C 0.029 0.17867 0.025 0.18933 0.025 0.20133 C 0.025 0.212 0.029 0.22133 0.034 0.228 C 0.042 0.23867 0.047 0.25467 0.047 0.27067 C 0.047 0.30533 0.026 0.33333 0 0.33333 C -0.026 0.33333 -0.047 0.30533 -0.047 0.27067 C -0.047 0.25467 -0.042 0.23867 -0.034 0.228 C -0.029 0.22133 -0.026 0.212 -0.026 0.20133 C -0.026 0.18933 -0.03 0.17867 -0.036 0.172 L -0.037 0.172 C -0.057 0.15467 -0.07 0.12533 -0.07 0.092 C -0.07 0.04133 -0.039 0 0 0 Z">
                                      <p:cBhvr>
                                        <p:cTn id="32" dur="2000" fill="hold"/>
                                        <p:tgtEl>
                                          <p:spTgt spid="4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" restart="whenNotActive" nodeType="interactiveSeq" fill="hold">
                <p:stCondLst>
                  <p:cond evt="onClick">
                    <p:tgtEl>
                      <p:spTgt spid="436"/>
                    </p:tgtEl>
                  </p:cond>
                </p:stCondLst>
                <p:childTnLst>
                  <p:par>
                    <p:cTn id="34" fill="hold">
                      <p:stCondLst>
                        <p:cond evt="onClick">
                          <p:tgtEl>
                            <p:spTgt spid="436"/>
                          </p:tgtEl>
                        </p:cond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path" presetID="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14 -0.00667 -0.029 -0.012 -0.044 -0.012 C -0.114 -0.012 -0.169 0.064 -0.169 0.156 C -0.169 0.24667 -0.114 0.32133 -0.044 0.32133 C -0.029 0.32133 -0.014 0.31733 0 0.31067 C -0.047 0.28667 -0.08 0.22667 -0.08 0.156 C -0.08 0.084 -0.047 0.024 0 0 Z">
                                      <p:cBhvr>
                                        <p:cTn id="37" dur="2000" fill="hold"/>
                                        <p:tgtEl>
                                          <p:spTgt spid="4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" restart="whenNotActive" nodeType="interactiveSeq" fill="hold">
                <p:stCondLst>
                  <p:cond evt="onClick">
                    <p:tgtEl>
                      <p:spTgt spid="437"/>
                    </p:tgtEl>
                  </p:cond>
                </p:stCondLst>
                <p:childTnLst>
                  <p:par>
                    <p:cTn id="39" fill="hold">
                      <p:stCondLst>
                        <p:cond evt="onClick">
                          <p:tgtEl>
                            <p:spTgt spid="437"/>
                          </p:tgtEl>
                        </p:cond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path" presetID="5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07407E-006 C -0.0007 0.05092 0.04305 0.09583 0.09809 0.09745 C 0.14184 0.10185 0.1776 0.07731 0.17847 0.04676 C 0.17847 0.01643 0.14323 -0.01227 0.09896 -0.01389 C 0.07656 -0.01389 0.05659 -0.01019 0.04218 4.07407E-006 C 0.02153 0.01412 0.00937 0.0368 0.00937 0.06319 C 0.00937 0.07731 0.01284 0.09143 0.01944 0.10393 C 0.03437 0.13032 0.06371 0.14838 0.09739 0.15046 C 0.1368 0.15463 0.16909 0.13217 0.16909 0.10601 C 0.16979 0.07731 0.1375 0.05301 0.09809 0.04884 C 0.07812 0.04884 0.06024 0.05301 0.04653 0.06111 C 0.02864 0.07523 0.01718 0.09745 0.01718 0.12013 C 0.01718 0.13217 0.02066 0.14444 0.02639 0.15671 C 0.0401 0.17916 0.06597 0.19745 0.0967 0.19907 C 0.13264 0.20138 0.16128 0.18125 0.16128 0.15671 C 0.16198 0.13217 0.13316 0.10995 0.09739 0.10787 C 0.07951 0.10601 0.06302 0.10995 0.05087 0.11805 C 0.03437 0.13032 0.02517 0.14838 0.02517 0.17083 C 0.02517 0.18125 0.02795 0.19305 0.03298 0.20347 C 0.04514 0.22384 0.06875 0.24004 0.096 0.24189 C 0.1283 0.24189 0.15399 0.22569 0.15399 0.20347 C 0.15399 0.18125 0.12899 0.16064 0.0967 0.15856 C 0.0809 0.15856 0.06597 0.16273 0.05521 0.16875 C 0.0401 0.17916 0.03142 0.19745 0.0309 0.21574 C 0.0309 0.22569 0.03437 0.23588 0.03871 0.24398 C 0.0493 0.26435 0.07083 0.27847 0.09531 0.27847 C 0.12396 0.28078 0.14757 0.26666 0.14757 0.24606 C 0.14826 0.22569 0.12465 0.20763 0.096 0.20555 C 0.08177 0.20555 0.06805 0.20763 0.05868 0.21574 C 0.04514 0.22384 0.03732 0.24004 0.03732 0.25625 C 0.03732 0.26666 0.03941 0.27476 0.04357 0.28287 C 0.05364 0.30092 0.07239 0.31319 0.09444 0.31527 C 0.121 0.31527 0.14184 0.30301 0.14184 0.28449 C 0.14253 0.26666 0.1217 0.25 0.09531 0.24814 C 0.08229 0.24814 0.07083 0.25 0.06232 0.25625 C 0.05017 0.26435 0.04305 0.27847 0.04305 0.2949 C 0.04305 0.30301 0.04514 0.30926 0.04878 0.31736 C 0.05729 0.33356 0.07448 0.34351 0.09444 0.3456 C 0.11823 0.34768 0.1368 0.33541 0.1368 0.31736 C 0.1368 0.30301 0.11892 0.2868 0.09531 0.2868 C 0.08316 0.28449 0.07239 0.28888 0.06441 0.29259 C 0.05364 0.30092 0.04722 0.31319 0.04722 0.32731 C 0.04722 0.33541 0.0493 0.34166 0.05295 0.34768 C 0.06093 0.3618 0.07656 0.37222 0.09392 0.3743 C 0.11528 0.37638 0.13264 0.36388 0.13264 0.34976 C 0.13264 0.33356 0.11528 0.32129 0.09444 0.31921 C 0.08455 0.31921 0.07448 0.32129 0.06736 0.32731 C 0.05729 0.33356 0.05156 0.34351 0.05156 0.3581 C 0.05156 0.36388 0.05364 0.3699 0.05659 0.37638 C 0.06371 0.38842 0.07743 0.39861 0.09392 0.39861 C 0.1125 0.40069 0.1283 0.39051 0.1283 0.37638 C 0.1283 0.36388 0.11319 0.35162 0.09392 0.35162 C 0.08524 0.34976 0.07604 0.35162 0.06944 0.35578 C 0.06093 0.36388 0.0559 0.3743 0.0559 0.38449 C 0.0559 0.39051 0.05729 0.39652 0.06024 0.40069 C 0.06666 0.41273 0.07882 0.42083 0.09392 0.42291 C 0.11111 0.42291 0.12465 0.41273 0.12465 0.40254 C 0.12465 0.39051 0.11111 0.37801 0.09392 0.37801 C 0.08524 0.37801 0.07743 0.38032 0.07239 0.38449 C 0.06371 0.38842 0.05937 0.39861 0.05937 0.40879 C 0.05937 0.41273 0.06093 0.41898 0.06302 0.42291 C 0.06875 0.43518 0.08021 0.4412 0.09323 0.44351 C 0.10903 0.44351 0.121 0.43518 0.121 0.425 C 0.121 0.41273 0.10903 0.40463 0.09392 0.40254 C 0.08593 0.40254 0.07882 0.40463 0.07378 0.40879 C 0.06666 0.41273 0.06232 0.42083 0.06232 0.43101 C 0.06232 0.43518 0.06371 0.43912 0.06597 0.44351 E">
                                      <p:cBhvr>
                                        <p:cTn id="42" dur="2000" fill="hold"/>
                                        <p:tgtEl>
                                          <p:spTgt spid="4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" restart="whenNotActive" nodeType="interactiveSeq" fill="hold">
                <p:stCondLst>
                  <p:cond evt="onClick">
                    <p:tgtEl>
                      <p:spTgt spid="438"/>
                    </p:tgtEl>
                  </p:cond>
                </p:stCondLst>
                <p:childTnLst>
                  <p:par>
                    <p:cTn id="44" fill="hold">
                      <p:stCondLst>
                        <p:cond evt="onClick">
                          <p:tgtEl>
                            <p:spTgt spid="438"/>
                          </p:tgtEl>
                        </p:cond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82 0.03148 L -0.00382 0.40949 E">
                                      <p:cBhvr>
                                        <p:cTn id="47" dur="2000" fill="hold"/>
                                        <p:tgtEl>
                                          <p:spTgt spid="4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" restart="whenNotActive" nodeType="interactiveSeq" fill="hold">
                <p:stCondLst>
                  <p:cond evt="onClick">
                    <p:tgtEl>
                      <p:spTgt spid="434"/>
                    </p:tgtEl>
                  </p:cond>
                </p:stCondLst>
                <p:childTnLst>
                  <p:par>
                    <p:cTn id="49" fill="hold">
                      <p:stCondLst>
                        <p:cond evt="onClick">
                          <p:tgtEl>
                            <p:spTgt spid="434"/>
                          </p:tgtEl>
                        </p:cond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3.7037E-006 L -0.34635 -0.01041 E">
                                      <p:cBhvr>
                                        <p:cTn id="52" dur="2000" fill="hold"/>
                                        <p:tgtEl>
                                          <p:spTgt spid="4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422600" cy="6629400"/>
          </a:xfrm>
          <a:prstGeom prst="rect">
            <a:avLst/>
          </a:prstGeom>
          <a:ln w="0">
            <a:noFill/>
          </a:ln>
        </p:spPr>
      </p:pic>
      <p:pic>
        <p:nvPicPr>
          <p:cNvPr id="452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858000" y="3692520"/>
            <a:ext cx="976320" cy="1112760"/>
          </a:xfrm>
          <a:prstGeom prst="rect">
            <a:avLst/>
          </a:prstGeom>
          <a:ln w="0">
            <a:noFill/>
          </a:ln>
        </p:spPr>
      </p:pic>
      <p:pic>
        <p:nvPicPr>
          <p:cNvPr id="453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105520" y="1101600"/>
            <a:ext cx="903240" cy="1113120"/>
          </a:xfrm>
          <a:prstGeom prst="rect">
            <a:avLst/>
          </a:prstGeom>
          <a:ln w="0">
            <a:noFill/>
          </a:ln>
        </p:spPr>
      </p:pic>
      <p:pic>
        <p:nvPicPr>
          <p:cNvPr id="454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6829560" y="1066680"/>
            <a:ext cx="963360" cy="1113120"/>
          </a:xfrm>
          <a:prstGeom prst="rect">
            <a:avLst/>
          </a:prstGeom>
          <a:ln w="0">
            <a:noFill/>
          </a:ln>
        </p:spPr>
      </p:pic>
      <p:pic>
        <p:nvPicPr>
          <p:cNvPr id="455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5116680" y="2397240"/>
            <a:ext cx="903240" cy="1112760"/>
          </a:xfrm>
          <a:prstGeom prst="rect">
            <a:avLst/>
          </a:prstGeom>
          <a:ln w="0">
            <a:noFill/>
          </a:ln>
        </p:spPr>
      </p:pic>
      <p:pic>
        <p:nvPicPr>
          <p:cNvPr id="456" name="" descr="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6858000" y="2397240"/>
            <a:ext cx="903240" cy="1112760"/>
          </a:xfrm>
          <a:prstGeom prst="rect">
            <a:avLst/>
          </a:prstGeom>
          <a:ln w="0">
            <a:noFill/>
          </a:ln>
        </p:spPr>
      </p:pic>
      <p:sp>
        <p:nvSpPr>
          <p:cNvPr id="457" name=""/>
          <p:cNvSpPr/>
          <p:nvPr/>
        </p:nvSpPr>
        <p:spPr>
          <a:xfrm>
            <a:off x="4800600" y="5638680"/>
            <a:ext cx="326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lez !! Tu devrais trouver 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133720" y="12600"/>
            <a:ext cx="411480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 Black"/>
              </a:rPr>
              <a:t>Diapositive N° 5</a:t>
            </a:r>
            <a:br>
              <a:rPr sz="2400"/>
            </a:br>
            <a:r>
              <a:rPr b="0" lang="en-US" sz="2400" spc="-1" strike="noStrike">
                <a:solidFill>
                  <a:srgbClr val="0033cc"/>
                </a:solidFill>
                <a:latin typeface="Arial Black"/>
              </a:rPr>
              <a:t>Score actuel = 2 points</a:t>
            </a:r>
            <a:endParaRPr b="0" lang="en-US" sz="2400" spc="-1" strike="noStrike">
              <a:solidFill>
                <a:srgbClr val="003300"/>
              </a:solidFill>
              <a:latin typeface="Arial Black"/>
            </a:endParaRPr>
          </a:p>
        </p:txBody>
      </p:sp>
      <p:pic>
        <p:nvPicPr>
          <p:cNvPr id="459" name="" descr="">
            <a:hlinkClick r:id="rId12" action="ppaction://hlinksldjump"/>
          </p:cNvPr>
          <p:cNvPicPr/>
          <p:nvPr/>
        </p:nvPicPr>
        <p:blipFill>
          <a:blip r:embed="rId13"/>
          <a:stretch/>
        </p:blipFill>
        <p:spPr>
          <a:xfrm>
            <a:off x="5105520" y="3692520"/>
            <a:ext cx="1066680" cy="1112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G Produc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restart="whenNotActive" nodeType="interactiveSeq" fill="hold">
                <p:stCondLst>
                  <p:cond evt="onClick">
                    <p:tgtEl>
                      <p:spTgt spid="435"/>
                    </p:tgtEl>
                  </p:cond>
                </p:stCondLst>
                <p:childTnLst>
                  <p:par>
                    <p:cTn id="55" fill="hold">
                      <p:stCondLst>
                        <p:cond evt="onClick">
                          <p:tgtEl>
                            <p:spTgt spid="435"/>
                          </p:tgtEl>
                        </p:cond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path" presetID="2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38 0 0.069 0.04133 0.069 0.092 C 0.069 0.12533 0.056 0.15467 0.037 0.172 L 0.036 0.172 C 0.029 0.17867 0.025 0.18933 0.025 0.20133 C 0.025 0.212 0.029 0.22133 0.034 0.228 C 0.042 0.23867 0.047 0.25467 0.047 0.27067 C 0.047 0.30533 0.026 0.33333 0 0.33333 C -0.026 0.33333 -0.047 0.30533 -0.047 0.27067 C -0.047 0.25467 -0.042 0.23867 -0.034 0.228 C -0.029 0.22133 -0.026 0.212 -0.026 0.20133 C -0.026 0.18933 -0.03 0.17867 -0.036 0.172 L -0.037 0.172 C -0.057 0.15467 -0.07 0.12533 -0.07 0.092 C -0.07 0.04133 -0.039 0 0 0 Z">
                                      <p:cBhvr>
                                        <p:cTn id="58" dur="2000" fill="hold"/>
                                        <p:tgtEl>
                                          <p:spTgt spid="4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" restart="whenNotActive" nodeType="interactiveSeq" fill="hold">
                <p:stCondLst>
                  <p:cond evt="onClick">
                    <p:tgtEl>
                      <p:spTgt spid="436"/>
                    </p:tgtEl>
                  </p:cond>
                </p:stCondLst>
                <p:childTnLst>
                  <p:par>
                    <p:cTn id="60" fill="hold">
                      <p:stCondLst>
                        <p:cond evt="onClick">
                          <p:tgtEl>
                            <p:spTgt spid="436"/>
                          </p:tgtEl>
                        </p:cond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path" presetID="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14 -0.00667 -0.029 -0.012 -0.044 -0.012 C -0.114 -0.012 -0.169 0.064 -0.169 0.156 C -0.169 0.24667 -0.114 0.32133 -0.044 0.32133 C -0.029 0.32133 -0.014 0.31733 0 0.31067 C -0.047 0.28667 -0.08 0.22667 -0.08 0.156 C -0.08 0.084 -0.047 0.024 0 0 Z">
                                      <p:cBhvr>
                                        <p:cTn id="63" dur="2000" fill="hold"/>
                                        <p:tgtEl>
                                          <p:spTgt spid="4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4" restart="whenNotActive" nodeType="interactiveSeq" fill="hold">
                <p:stCondLst>
                  <p:cond evt="onClick">
                    <p:tgtEl>
                      <p:spTgt spid="437"/>
                    </p:tgtEl>
                  </p:cond>
                </p:stCondLst>
                <p:childTnLst>
                  <p:par>
                    <p:cTn id="65" fill="hold">
                      <p:stCondLst>
                        <p:cond evt="onClick">
                          <p:tgtEl>
                            <p:spTgt spid="437"/>
                          </p:tgtEl>
                        </p:cond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path" presetID="5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07407E-006 C -0.0007 0.05092 0.04305 0.09583 0.09809 0.09745 C 0.14184 0.10185 0.1776 0.07731 0.17847 0.04676 C 0.17847 0.01643 0.14323 -0.01227 0.09896 -0.01389 C 0.07656 -0.01389 0.05659 -0.01019 0.04218 4.07407E-006 C 0.02153 0.01412 0.00937 0.0368 0.00937 0.06319 C 0.00937 0.07731 0.01284 0.09143 0.01944 0.10393 C 0.03437 0.13032 0.06371 0.14838 0.09739 0.15046 C 0.1368 0.15463 0.16909 0.13217 0.16909 0.10601 C 0.16979 0.07731 0.1375 0.05301 0.09809 0.04884 C 0.07812 0.04884 0.06024 0.05301 0.04653 0.06111 C 0.02864 0.07523 0.01718 0.09745 0.01718 0.12013 C 0.01718 0.13217 0.02066 0.14444 0.02639 0.15671 C 0.0401 0.17916 0.06597 0.19745 0.0967 0.19907 C 0.13264 0.20138 0.16128 0.18125 0.16128 0.15671 C 0.16198 0.13217 0.13316 0.10995 0.09739 0.10787 C 0.07951 0.10601 0.06302 0.10995 0.05087 0.11805 C 0.03437 0.13032 0.02517 0.14838 0.02517 0.17083 C 0.02517 0.18125 0.02795 0.19305 0.03298 0.20347 C 0.04514 0.22384 0.06875 0.24004 0.096 0.24189 C 0.1283 0.24189 0.15399 0.22569 0.15399 0.20347 C 0.15399 0.18125 0.12899 0.16064 0.0967 0.15856 C 0.0809 0.15856 0.06597 0.16273 0.05521 0.16875 C 0.0401 0.17916 0.03142 0.19745 0.0309 0.21574 C 0.0309 0.22569 0.03437 0.23588 0.03871 0.24398 C 0.0493 0.26435 0.07083 0.27847 0.09531 0.27847 C 0.12396 0.28078 0.14757 0.26666 0.14757 0.24606 C 0.14826 0.22569 0.12465 0.20763 0.096 0.20555 C 0.08177 0.20555 0.06805 0.20763 0.05868 0.21574 C 0.04514 0.22384 0.03732 0.24004 0.03732 0.25625 C 0.03732 0.26666 0.03941 0.27476 0.04357 0.28287 C 0.05364 0.30092 0.07239 0.31319 0.09444 0.31527 C 0.121 0.31527 0.14184 0.30301 0.14184 0.28449 C 0.14253 0.26666 0.1217 0.25 0.09531 0.24814 C 0.08229 0.24814 0.07083 0.25 0.06232 0.25625 C 0.05017 0.26435 0.04305 0.27847 0.04305 0.2949 C 0.04305 0.30301 0.04514 0.30926 0.04878 0.31736 C 0.05729 0.33356 0.07448 0.34351 0.09444 0.3456 C 0.11823 0.34768 0.1368 0.33541 0.1368 0.31736 C 0.1368 0.30301 0.11892 0.2868 0.09531 0.2868 C 0.08316 0.28449 0.07239 0.28888 0.06441 0.29259 C 0.05364 0.30092 0.04722 0.31319 0.04722 0.32731 C 0.04722 0.33541 0.0493 0.34166 0.05295 0.34768 C 0.06093 0.3618 0.07656 0.37222 0.09392 0.3743 C 0.11528 0.37638 0.13264 0.36388 0.13264 0.34976 C 0.13264 0.33356 0.11528 0.32129 0.09444 0.31921 C 0.08455 0.31921 0.07448 0.32129 0.06736 0.32731 C 0.05729 0.33356 0.05156 0.34351 0.05156 0.3581 C 0.05156 0.36388 0.05364 0.3699 0.05659 0.37638 C 0.06371 0.38842 0.07743 0.39861 0.09392 0.39861 C 0.1125 0.40069 0.1283 0.39051 0.1283 0.37638 C 0.1283 0.36388 0.11319 0.35162 0.09392 0.35162 C 0.08524 0.34976 0.07604 0.35162 0.06944 0.35578 C 0.06093 0.36388 0.0559 0.3743 0.0559 0.38449 C 0.0559 0.39051 0.05729 0.39652 0.06024 0.40069 C 0.06666 0.41273 0.07882 0.42083 0.09392 0.42291 C 0.11111 0.42291 0.12465 0.41273 0.12465 0.40254 C 0.12465 0.39051 0.11111 0.37801 0.09392 0.37801 C 0.08524 0.37801 0.07743 0.38032 0.07239 0.38449 C 0.06371 0.38842 0.05937 0.39861 0.05937 0.40879 C 0.05937 0.41273 0.06093 0.41898 0.06302 0.42291 C 0.06875 0.43518 0.08021 0.4412 0.09323 0.44351 C 0.10903 0.44351 0.121 0.43518 0.121 0.425 C 0.121 0.41273 0.10903 0.40463 0.09392 0.40254 C 0.08593 0.40254 0.07882 0.40463 0.07378 0.40879 C 0.06666 0.41273 0.06232 0.42083 0.06232 0.43101 C 0.06232 0.43518 0.06371 0.43912 0.06597 0.44351 E">
                                      <p:cBhvr>
                                        <p:cTn id="68" dur="2000" fill="hold"/>
                                        <p:tgtEl>
                                          <p:spTgt spid="4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" restart="whenNotActive" nodeType="interactiveSeq" fill="hold">
                <p:stCondLst>
                  <p:cond evt="onClick">
                    <p:tgtEl>
                      <p:spTgt spid="438"/>
                    </p:tgtEl>
                  </p:cond>
                </p:stCondLst>
                <p:childTnLst>
                  <p:par>
                    <p:cTn id="70" fill="hold">
                      <p:stCondLst>
                        <p:cond evt="onClick">
                          <p:tgtEl>
                            <p:spTgt spid="438"/>
                          </p:tgtEl>
                        </p:cond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82 0.03148 L -0.00382 0.40949 E">
                                      <p:cBhvr>
                                        <p:cTn id="73" dur="2000" fill="hold"/>
                                        <p:tgtEl>
                                          <p:spTgt spid="4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" restart="whenNotActive" nodeType="interactiveSeq" fill="hold">
                <p:stCondLst>
                  <p:cond evt="onClick">
                    <p:tgtEl>
                      <p:spTgt spid="434"/>
                    </p:tgtEl>
                  </p:cond>
                </p:stCondLst>
                <p:childTnLst>
                  <p:par>
                    <p:cTn id="75" fill="hold">
                      <p:stCondLst>
                        <p:cond evt="onClick">
                          <p:tgtEl>
                            <p:spTgt spid="434"/>
                          </p:tgtEl>
                        </p:cond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3.7037E-006 L -0.34635 -0.01041 E">
                                      <p:cBhvr>
                                        <p:cTn id="78" dur="2000" fill="hold"/>
                                        <p:tgtEl>
                                          <p:spTgt spid="4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422600" cy="6629400"/>
          </a:xfrm>
          <a:prstGeom prst="rect">
            <a:avLst/>
          </a:prstGeom>
          <a:ln w="0">
            <a:noFill/>
          </a:ln>
        </p:spPr>
      </p:pic>
      <p:pic>
        <p:nvPicPr>
          <p:cNvPr id="461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858000" y="3692520"/>
            <a:ext cx="976320" cy="1112760"/>
          </a:xfrm>
          <a:prstGeom prst="rect">
            <a:avLst/>
          </a:prstGeom>
          <a:ln w="0">
            <a:noFill/>
          </a:ln>
        </p:spPr>
      </p:pic>
      <p:pic>
        <p:nvPicPr>
          <p:cNvPr id="462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105520" y="1101600"/>
            <a:ext cx="903240" cy="1113120"/>
          </a:xfrm>
          <a:prstGeom prst="rect">
            <a:avLst/>
          </a:prstGeom>
          <a:ln w="0">
            <a:noFill/>
          </a:ln>
        </p:spPr>
      </p:pic>
      <p:pic>
        <p:nvPicPr>
          <p:cNvPr id="463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6829560" y="1066680"/>
            <a:ext cx="963360" cy="1113120"/>
          </a:xfrm>
          <a:prstGeom prst="rect">
            <a:avLst/>
          </a:prstGeom>
          <a:ln w="0">
            <a:noFill/>
          </a:ln>
        </p:spPr>
      </p:pic>
      <p:pic>
        <p:nvPicPr>
          <p:cNvPr id="464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5116680" y="2397240"/>
            <a:ext cx="903240" cy="1112760"/>
          </a:xfrm>
          <a:prstGeom prst="rect">
            <a:avLst/>
          </a:prstGeom>
          <a:ln w="0">
            <a:noFill/>
          </a:ln>
        </p:spPr>
      </p:pic>
      <p:pic>
        <p:nvPicPr>
          <p:cNvPr id="465" name="" descr="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6858000" y="2397240"/>
            <a:ext cx="903240" cy="1112760"/>
          </a:xfrm>
          <a:prstGeom prst="rect">
            <a:avLst/>
          </a:prstGeom>
          <a:ln w="0">
            <a:noFill/>
          </a:ln>
        </p:spPr>
      </p:pic>
      <p:sp>
        <p:nvSpPr>
          <p:cNvPr id="466" name=""/>
          <p:cNvSpPr/>
          <p:nvPr/>
        </p:nvSpPr>
        <p:spPr>
          <a:xfrm>
            <a:off x="4800600" y="5638680"/>
            <a:ext cx="326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lez !! Facile pour toi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2133720" y="12600"/>
            <a:ext cx="411480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 Black"/>
              </a:rPr>
              <a:t>Diapositive N° 5</a:t>
            </a:r>
            <a:br>
              <a:rPr sz="2400"/>
            </a:br>
            <a:r>
              <a:rPr b="0" lang="en-US" sz="2400" spc="-1" strike="noStrike">
                <a:solidFill>
                  <a:srgbClr val="0033cc"/>
                </a:solidFill>
                <a:latin typeface="Arial Black"/>
              </a:rPr>
              <a:t>Score actuel = 3 points</a:t>
            </a:r>
            <a:endParaRPr b="0" lang="en-US" sz="2400" spc="-1" strike="noStrike">
              <a:solidFill>
                <a:srgbClr val="003300"/>
              </a:solidFill>
              <a:latin typeface="Arial Black"/>
            </a:endParaRPr>
          </a:p>
        </p:txBody>
      </p:sp>
      <p:pic>
        <p:nvPicPr>
          <p:cNvPr id="468" name="" descr="">
            <a:hlinkClick r:id="rId12" action="ppaction://hlinksldjump"/>
          </p:cNvPr>
          <p:cNvPicPr/>
          <p:nvPr/>
        </p:nvPicPr>
        <p:blipFill>
          <a:blip r:embed="rId13"/>
          <a:stretch/>
        </p:blipFill>
        <p:spPr>
          <a:xfrm>
            <a:off x="5105520" y="3692520"/>
            <a:ext cx="1066680" cy="1112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G Produc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restart="whenNotActive" nodeType="interactiveSeq" fill="hold">
                <p:stCondLst>
                  <p:cond evt="onClick">
                    <p:tgtEl>
                      <p:spTgt spid="435"/>
                    </p:tgtEl>
                  </p:cond>
                </p:stCondLst>
                <p:childTnLst>
                  <p:par>
                    <p:cTn id="81" fill="hold">
                      <p:stCondLst>
                        <p:cond evt="onClick">
                          <p:tgtEl>
                            <p:spTgt spid="435"/>
                          </p:tgtEl>
                        </p:cond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path" presetID="2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38 0 0.069 0.04133 0.069 0.092 C 0.069 0.12533 0.056 0.15467 0.037 0.172 L 0.036 0.172 C 0.029 0.17867 0.025 0.18933 0.025 0.20133 C 0.025 0.212 0.029 0.22133 0.034 0.228 C 0.042 0.23867 0.047 0.25467 0.047 0.27067 C 0.047 0.30533 0.026 0.33333 0 0.33333 C -0.026 0.33333 -0.047 0.30533 -0.047 0.27067 C -0.047 0.25467 -0.042 0.23867 -0.034 0.228 C -0.029 0.22133 -0.026 0.212 -0.026 0.20133 C -0.026 0.18933 -0.03 0.17867 -0.036 0.172 L -0.037 0.172 C -0.057 0.15467 -0.07 0.12533 -0.07 0.092 C -0.07 0.04133 -0.039 0 0 0 Z">
                                      <p:cBhvr>
                                        <p:cTn id="84" dur="2000" fill="hold"/>
                                        <p:tgtEl>
                                          <p:spTgt spid="4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5" restart="whenNotActive" nodeType="interactiveSeq" fill="hold">
                <p:stCondLst>
                  <p:cond evt="onClick">
                    <p:tgtEl>
                      <p:spTgt spid="436"/>
                    </p:tgtEl>
                  </p:cond>
                </p:stCondLst>
                <p:childTnLst>
                  <p:par>
                    <p:cTn id="86" fill="hold">
                      <p:stCondLst>
                        <p:cond evt="onClick">
                          <p:tgtEl>
                            <p:spTgt spid="436"/>
                          </p:tgtEl>
                        </p:cond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path" presetID="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14 -0.00667 -0.029 -0.012 -0.044 -0.012 C -0.114 -0.012 -0.169 0.064 -0.169 0.156 C -0.169 0.24667 -0.114 0.32133 -0.044 0.32133 C -0.029 0.32133 -0.014 0.31733 0 0.31067 C -0.047 0.28667 -0.08 0.22667 -0.08 0.156 C -0.08 0.084 -0.047 0.024 0 0 Z">
                                      <p:cBhvr>
                                        <p:cTn id="89" dur="2000" fill="hold"/>
                                        <p:tgtEl>
                                          <p:spTgt spid="4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0" restart="whenNotActive" nodeType="interactiveSeq" fill="hold">
                <p:stCondLst>
                  <p:cond evt="onClick">
                    <p:tgtEl>
                      <p:spTgt spid="437"/>
                    </p:tgtEl>
                  </p:cond>
                </p:stCondLst>
                <p:childTnLst>
                  <p:par>
                    <p:cTn id="91" fill="hold">
                      <p:stCondLst>
                        <p:cond evt="onClick">
                          <p:tgtEl>
                            <p:spTgt spid="437"/>
                          </p:tgtEl>
                        </p:cond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path" presetID="5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07407E-006 C -0.0007 0.05092 0.04305 0.09583 0.09809 0.09745 C 0.14184 0.10185 0.1776 0.07731 0.17847 0.04676 C 0.17847 0.01643 0.14323 -0.01227 0.09896 -0.01389 C 0.07656 -0.01389 0.05659 -0.01019 0.04218 4.07407E-006 C 0.02153 0.01412 0.00937 0.0368 0.00937 0.06319 C 0.00937 0.07731 0.01284 0.09143 0.01944 0.10393 C 0.03437 0.13032 0.06371 0.14838 0.09739 0.15046 C 0.1368 0.15463 0.16909 0.13217 0.16909 0.10601 C 0.16979 0.07731 0.1375 0.05301 0.09809 0.04884 C 0.07812 0.04884 0.06024 0.05301 0.04653 0.06111 C 0.02864 0.07523 0.01718 0.09745 0.01718 0.12013 C 0.01718 0.13217 0.02066 0.14444 0.02639 0.15671 C 0.0401 0.17916 0.06597 0.19745 0.0967 0.19907 C 0.13264 0.20138 0.16128 0.18125 0.16128 0.15671 C 0.16198 0.13217 0.13316 0.10995 0.09739 0.10787 C 0.07951 0.10601 0.06302 0.10995 0.05087 0.11805 C 0.03437 0.13032 0.02517 0.14838 0.02517 0.17083 C 0.02517 0.18125 0.02795 0.19305 0.03298 0.20347 C 0.04514 0.22384 0.06875 0.24004 0.096 0.24189 C 0.1283 0.24189 0.15399 0.22569 0.15399 0.20347 C 0.15399 0.18125 0.12899 0.16064 0.0967 0.15856 C 0.0809 0.15856 0.06597 0.16273 0.05521 0.16875 C 0.0401 0.17916 0.03142 0.19745 0.0309 0.21574 C 0.0309 0.22569 0.03437 0.23588 0.03871 0.24398 C 0.0493 0.26435 0.07083 0.27847 0.09531 0.27847 C 0.12396 0.28078 0.14757 0.26666 0.14757 0.24606 C 0.14826 0.22569 0.12465 0.20763 0.096 0.20555 C 0.08177 0.20555 0.06805 0.20763 0.05868 0.21574 C 0.04514 0.22384 0.03732 0.24004 0.03732 0.25625 C 0.03732 0.26666 0.03941 0.27476 0.04357 0.28287 C 0.05364 0.30092 0.07239 0.31319 0.09444 0.31527 C 0.121 0.31527 0.14184 0.30301 0.14184 0.28449 C 0.14253 0.26666 0.1217 0.25 0.09531 0.24814 C 0.08229 0.24814 0.07083 0.25 0.06232 0.25625 C 0.05017 0.26435 0.04305 0.27847 0.04305 0.2949 C 0.04305 0.30301 0.04514 0.30926 0.04878 0.31736 C 0.05729 0.33356 0.07448 0.34351 0.09444 0.3456 C 0.11823 0.34768 0.1368 0.33541 0.1368 0.31736 C 0.1368 0.30301 0.11892 0.2868 0.09531 0.2868 C 0.08316 0.28449 0.07239 0.28888 0.06441 0.29259 C 0.05364 0.30092 0.04722 0.31319 0.04722 0.32731 C 0.04722 0.33541 0.0493 0.34166 0.05295 0.34768 C 0.06093 0.3618 0.07656 0.37222 0.09392 0.3743 C 0.11528 0.37638 0.13264 0.36388 0.13264 0.34976 C 0.13264 0.33356 0.11528 0.32129 0.09444 0.31921 C 0.08455 0.31921 0.07448 0.32129 0.06736 0.32731 C 0.05729 0.33356 0.05156 0.34351 0.05156 0.3581 C 0.05156 0.36388 0.05364 0.3699 0.05659 0.37638 C 0.06371 0.38842 0.07743 0.39861 0.09392 0.39861 C 0.1125 0.40069 0.1283 0.39051 0.1283 0.37638 C 0.1283 0.36388 0.11319 0.35162 0.09392 0.35162 C 0.08524 0.34976 0.07604 0.35162 0.06944 0.35578 C 0.06093 0.36388 0.0559 0.3743 0.0559 0.38449 C 0.0559 0.39051 0.05729 0.39652 0.06024 0.40069 C 0.06666 0.41273 0.07882 0.42083 0.09392 0.42291 C 0.11111 0.42291 0.12465 0.41273 0.12465 0.40254 C 0.12465 0.39051 0.11111 0.37801 0.09392 0.37801 C 0.08524 0.37801 0.07743 0.38032 0.07239 0.38449 C 0.06371 0.38842 0.05937 0.39861 0.05937 0.40879 C 0.05937 0.41273 0.06093 0.41898 0.06302 0.42291 C 0.06875 0.43518 0.08021 0.4412 0.09323 0.44351 C 0.10903 0.44351 0.121 0.43518 0.121 0.425 C 0.121 0.41273 0.10903 0.40463 0.09392 0.40254 C 0.08593 0.40254 0.07882 0.40463 0.07378 0.40879 C 0.06666 0.41273 0.06232 0.42083 0.06232 0.43101 C 0.06232 0.43518 0.06371 0.43912 0.06597 0.44351 E">
                                      <p:cBhvr>
                                        <p:cTn id="94" dur="2000" fill="hold"/>
                                        <p:tgtEl>
                                          <p:spTgt spid="4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5" restart="whenNotActive" nodeType="interactiveSeq" fill="hold">
                <p:stCondLst>
                  <p:cond evt="onClick">
                    <p:tgtEl>
                      <p:spTgt spid="438"/>
                    </p:tgtEl>
                  </p:cond>
                </p:stCondLst>
                <p:childTnLst>
                  <p:par>
                    <p:cTn id="96" fill="hold">
                      <p:stCondLst>
                        <p:cond evt="onClick">
                          <p:tgtEl>
                            <p:spTgt spid="438"/>
                          </p:tgtEl>
                        </p:cond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82 0.03148 L -0.00382 0.40949 E">
                                      <p:cBhvr>
                                        <p:cTn id="99" dur="2000" fill="hold"/>
                                        <p:tgtEl>
                                          <p:spTgt spid="4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0" restart="whenNotActive" nodeType="interactiveSeq" fill="hold">
                <p:stCondLst>
                  <p:cond evt="onClick">
                    <p:tgtEl>
                      <p:spTgt spid="434"/>
                    </p:tgtEl>
                  </p:cond>
                </p:stCondLst>
                <p:childTnLst>
                  <p:par>
                    <p:cTn id="101" fill="hold">
                      <p:stCondLst>
                        <p:cond evt="onClick">
                          <p:tgtEl>
                            <p:spTgt spid="434"/>
                          </p:tgtEl>
                        </p:cond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3.7037E-006 L -0.34635 -0.01041 E">
                                      <p:cBhvr>
                                        <p:cTn id="104" dur="2000" fill="hold"/>
                                        <p:tgtEl>
                                          <p:spTgt spid="4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422600" cy="6629400"/>
          </a:xfrm>
          <a:prstGeom prst="rect">
            <a:avLst/>
          </a:prstGeom>
          <a:ln w="0">
            <a:noFill/>
          </a:ln>
        </p:spPr>
      </p:pic>
      <p:pic>
        <p:nvPicPr>
          <p:cNvPr id="470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858000" y="3692520"/>
            <a:ext cx="976320" cy="1112760"/>
          </a:xfrm>
          <a:prstGeom prst="rect">
            <a:avLst/>
          </a:prstGeom>
          <a:ln w="0">
            <a:noFill/>
          </a:ln>
        </p:spPr>
      </p:pic>
      <p:pic>
        <p:nvPicPr>
          <p:cNvPr id="471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105520" y="1101600"/>
            <a:ext cx="903240" cy="1113120"/>
          </a:xfrm>
          <a:prstGeom prst="rect">
            <a:avLst/>
          </a:prstGeom>
          <a:ln w="0">
            <a:noFill/>
          </a:ln>
        </p:spPr>
      </p:pic>
      <p:pic>
        <p:nvPicPr>
          <p:cNvPr id="472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6829560" y="1066680"/>
            <a:ext cx="963360" cy="1113120"/>
          </a:xfrm>
          <a:prstGeom prst="rect">
            <a:avLst/>
          </a:prstGeom>
          <a:ln w="0">
            <a:noFill/>
          </a:ln>
        </p:spPr>
      </p:pic>
      <p:pic>
        <p:nvPicPr>
          <p:cNvPr id="473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5116680" y="2397240"/>
            <a:ext cx="903240" cy="1112760"/>
          </a:xfrm>
          <a:prstGeom prst="rect">
            <a:avLst/>
          </a:prstGeom>
          <a:ln w="0">
            <a:noFill/>
          </a:ln>
        </p:spPr>
      </p:pic>
      <p:pic>
        <p:nvPicPr>
          <p:cNvPr id="474" name="" descr="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6858000" y="2397240"/>
            <a:ext cx="903240" cy="1112760"/>
          </a:xfrm>
          <a:prstGeom prst="rect">
            <a:avLst/>
          </a:prstGeom>
          <a:ln w="0">
            <a:noFill/>
          </a:ln>
        </p:spPr>
      </p:pic>
      <p:sp>
        <p:nvSpPr>
          <p:cNvPr id="475" name=""/>
          <p:cNvSpPr/>
          <p:nvPr/>
        </p:nvSpPr>
        <p:spPr>
          <a:xfrm>
            <a:off x="4572000" y="5638680"/>
            <a:ext cx="358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lez !! Avec aucune erreur, cela devrait être facile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133720" y="12600"/>
            <a:ext cx="411480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 Black"/>
              </a:rPr>
              <a:t>Diapositive N° 5</a:t>
            </a:r>
            <a:br>
              <a:rPr sz="2400"/>
            </a:br>
            <a:r>
              <a:rPr b="0" lang="en-US" sz="2400" spc="-1" strike="noStrike">
                <a:solidFill>
                  <a:srgbClr val="0033cc"/>
                </a:solidFill>
                <a:latin typeface="Arial Black"/>
              </a:rPr>
              <a:t>Score actuel = 4 points</a:t>
            </a:r>
            <a:endParaRPr b="0" lang="en-US" sz="2400" spc="-1" strike="noStrike">
              <a:solidFill>
                <a:srgbClr val="003300"/>
              </a:solidFill>
              <a:latin typeface="Arial Black"/>
            </a:endParaRPr>
          </a:p>
        </p:txBody>
      </p:sp>
      <p:pic>
        <p:nvPicPr>
          <p:cNvPr id="477" name="" descr="">
            <a:hlinkClick r:id="rId12" action="ppaction://hlinksldjump"/>
          </p:cNvPr>
          <p:cNvPicPr/>
          <p:nvPr/>
        </p:nvPicPr>
        <p:blipFill>
          <a:blip r:embed="rId13"/>
          <a:stretch/>
        </p:blipFill>
        <p:spPr>
          <a:xfrm>
            <a:off x="5105520" y="3692520"/>
            <a:ext cx="1066680" cy="1112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G Produc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restart="whenNotActive" nodeType="interactiveSeq" fill="hold">
                <p:stCondLst>
                  <p:cond evt="onClick">
                    <p:tgtEl>
                      <p:spTgt spid="435"/>
                    </p:tgtEl>
                  </p:cond>
                </p:stCondLst>
                <p:childTnLst>
                  <p:par>
                    <p:cTn id="107" fill="hold">
                      <p:stCondLst>
                        <p:cond evt="onClick">
                          <p:tgtEl>
                            <p:spTgt spid="435"/>
                          </p:tgtEl>
                        </p:cond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path" presetID="2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38 0 0.069 0.04133 0.069 0.092 C 0.069 0.12533 0.056 0.15467 0.037 0.172 L 0.036 0.172 C 0.029 0.17867 0.025 0.18933 0.025 0.20133 C 0.025 0.212 0.029 0.22133 0.034 0.228 C 0.042 0.23867 0.047 0.25467 0.047 0.27067 C 0.047 0.30533 0.026 0.33333 0 0.33333 C -0.026 0.33333 -0.047 0.30533 -0.047 0.27067 C -0.047 0.25467 -0.042 0.23867 -0.034 0.228 C -0.029 0.22133 -0.026 0.212 -0.026 0.20133 C -0.026 0.18933 -0.03 0.17867 -0.036 0.172 L -0.037 0.172 C -0.057 0.15467 -0.07 0.12533 -0.07 0.092 C -0.07 0.04133 -0.039 0 0 0 Z">
                                      <p:cBhvr>
                                        <p:cTn id="110" dur="2000" fill="hold"/>
                                        <p:tgtEl>
                                          <p:spTgt spid="4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1" restart="whenNotActive" nodeType="interactiveSeq" fill="hold">
                <p:stCondLst>
                  <p:cond evt="onClick">
                    <p:tgtEl>
                      <p:spTgt spid="436"/>
                    </p:tgtEl>
                  </p:cond>
                </p:stCondLst>
                <p:childTnLst>
                  <p:par>
                    <p:cTn id="112" fill="hold">
                      <p:stCondLst>
                        <p:cond evt="onClick">
                          <p:tgtEl>
                            <p:spTgt spid="436"/>
                          </p:tgtEl>
                        </p:cond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path" presetID="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14 -0.00667 -0.029 -0.012 -0.044 -0.012 C -0.114 -0.012 -0.169 0.064 -0.169 0.156 C -0.169 0.24667 -0.114 0.32133 -0.044 0.32133 C -0.029 0.32133 -0.014 0.31733 0 0.31067 C -0.047 0.28667 -0.08 0.22667 -0.08 0.156 C -0.08 0.084 -0.047 0.024 0 0 Z">
                                      <p:cBhvr>
                                        <p:cTn id="115" dur="2000" fill="hold"/>
                                        <p:tgtEl>
                                          <p:spTgt spid="4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6" restart="whenNotActive" nodeType="interactiveSeq" fill="hold">
                <p:stCondLst>
                  <p:cond evt="onClick">
                    <p:tgtEl>
                      <p:spTgt spid="437"/>
                    </p:tgtEl>
                  </p:cond>
                </p:stCondLst>
                <p:childTnLst>
                  <p:par>
                    <p:cTn id="117" fill="hold">
                      <p:stCondLst>
                        <p:cond evt="onClick">
                          <p:tgtEl>
                            <p:spTgt spid="437"/>
                          </p:tgtEl>
                        </p:cond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path" presetID="5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07407E-006 C -0.0007 0.05092 0.04305 0.09583 0.09809 0.09745 C 0.14184 0.10185 0.1776 0.07731 0.17847 0.04676 C 0.17847 0.01643 0.14323 -0.01227 0.09896 -0.01389 C 0.07656 -0.01389 0.05659 -0.01019 0.04218 4.07407E-006 C 0.02153 0.01412 0.00937 0.0368 0.00937 0.06319 C 0.00937 0.07731 0.01284 0.09143 0.01944 0.10393 C 0.03437 0.13032 0.06371 0.14838 0.09739 0.15046 C 0.1368 0.15463 0.16909 0.13217 0.16909 0.10601 C 0.16979 0.07731 0.1375 0.05301 0.09809 0.04884 C 0.07812 0.04884 0.06024 0.05301 0.04653 0.06111 C 0.02864 0.07523 0.01718 0.09745 0.01718 0.12013 C 0.01718 0.13217 0.02066 0.14444 0.02639 0.15671 C 0.0401 0.17916 0.06597 0.19745 0.0967 0.19907 C 0.13264 0.20138 0.16128 0.18125 0.16128 0.15671 C 0.16198 0.13217 0.13316 0.10995 0.09739 0.10787 C 0.07951 0.10601 0.06302 0.10995 0.05087 0.11805 C 0.03437 0.13032 0.02517 0.14838 0.02517 0.17083 C 0.02517 0.18125 0.02795 0.19305 0.03298 0.20347 C 0.04514 0.22384 0.06875 0.24004 0.096 0.24189 C 0.1283 0.24189 0.15399 0.22569 0.15399 0.20347 C 0.15399 0.18125 0.12899 0.16064 0.0967 0.15856 C 0.0809 0.15856 0.06597 0.16273 0.05521 0.16875 C 0.0401 0.17916 0.03142 0.19745 0.0309 0.21574 C 0.0309 0.22569 0.03437 0.23588 0.03871 0.24398 C 0.0493 0.26435 0.07083 0.27847 0.09531 0.27847 C 0.12396 0.28078 0.14757 0.26666 0.14757 0.24606 C 0.14826 0.22569 0.12465 0.20763 0.096 0.20555 C 0.08177 0.20555 0.06805 0.20763 0.05868 0.21574 C 0.04514 0.22384 0.03732 0.24004 0.03732 0.25625 C 0.03732 0.26666 0.03941 0.27476 0.04357 0.28287 C 0.05364 0.30092 0.07239 0.31319 0.09444 0.31527 C 0.121 0.31527 0.14184 0.30301 0.14184 0.28449 C 0.14253 0.26666 0.1217 0.25 0.09531 0.24814 C 0.08229 0.24814 0.07083 0.25 0.06232 0.25625 C 0.05017 0.26435 0.04305 0.27847 0.04305 0.2949 C 0.04305 0.30301 0.04514 0.30926 0.04878 0.31736 C 0.05729 0.33356 0.07448 0.34351 0.09444 0.3456 C 0.11823 0.34768 0.1368 0.33541 0.1368 0.31736 C 0.1368 0.30301 0.11892 0.2868 0.09531 0.2868 C 0.08316 0.28449 0.07239 0.28888 0.06441 0.29259 C 0.05364 0.30092 0.04722 0.31319 0.04722 0.32731 C 0.04722 0.33541 0.0493 0.34166 0.05295 0.34768 C 0.06093 0.3618 0.07656 0.37222 0.09392 0.3743 C 0.11528 0.37638 0.13264 0.36388 0.13264 0.34976 C 0.13264 0.33356 0.11528 0.32129 0.09444 0.31921 C 0.08455 0.31921 0.07448 0.32129 0.06736 0.32731 C 0.05729 0.33356 0.05156 0.34351 0.05156 0.3581 C 0.05156 0.36388 0.05364 0.3699 0.05659 0.37638 C 0.06371 0.38842 0.07743 0.39861 0.09392 0.39861 C 0.1125 0.40069 0.1283 0.39051 0.1283 0.37638 C 0.1283 0.36388 0.11319 0.35162 0.09392 0.35162 C 0.08524 0.34976 0.07604 0.35162 0.06944 0.35578 C 0.06093 0.36388 0.0559 0.3743 0.0559 0.38449 C 0.0559 0.39051 0.05729 0.39652 0.06024 0.40069 C 0.06666 0.41273 0.07882 0.42083 0.09392 0.42291 C 0.11111 0.42291 0.12465 0.41273 0.12465 0.40254 C 0.12465 0.39051 0.11111 0.37801 0.09392 0.37801 C 0.08524 0.37801 0.07743 0.38032 0.07239 0.38449 C 0.06371 0.38842 0.05937 0.39861 0.05937 0.40879 C 0.05937 0.41273 0.06093 0.41898 0.06302 0.42291 C 0.06875 0.43518 0.08021 0.4412 0.09323 0.44351 C 0.10903 0.44351 0.121 0.43518 0.121 0.425 C 0.121 0.41273 0.10903 0.40463 0.09392 0.40254 C 0.08593 0.40254 0.07882 0.40463 0.07378 0.40879 C 0.06666 0.41273 0.06232 0.42083 0.06232 0.43101 C 0.06232 0.43518 0.06371 0.43912 0.06597 0.44351 E">
                                      <p:cBhvr>
                                        <p:cTn id="120" dur="2000" fill="hold"/>
                                        <p:tgtEl>
                                          <p:spTgt spid="4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1" restart="whenNotActive" nodeType="interactiveSeq" fill="hold">
                <p:stCondLst>
                  <p:cond evt="onClick">
                    <p:tgtEl>
                      <p:spTgt spid="438"/>
                    </p:tgtEl>
                  </p:cond>
                </p:stCondLst>
                <p:childTnLst>
                  <p:par>
                    <p:cTn id="122" fill="hold">
                      <p:stCondLst>
                        <p:cond evt="onClick">
                          <p:tgtEl>
                            <p:spTgt spid="438"/>
                          </p:tgtEl>
                        </p:cond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82 0.03148 L -0.00382 0.40949 E">
                                      <p:cBhvr>
                                        <p:cTn id="125" dur="2000" fill="hold"/>
                                        <p:tgtEl>
                                          <p:spTgt spid="4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6" restart="whenNotActive" nodeType="interactiveSeq" fill="hold">
                <p:stCondLst>
                  <p:cond evt="onClick">
                    <p:tgtEl>
                      <p:spTgt spid="434"/>
                    </p:tgtEl>
                  </p:cond>
                </p:stCondLst>
                <p:childTnLst>
                  <p:par>
                    <p:cTn id="127" fill="hold">
                      <p:stCondLst>
                        <p:cond evt="onClick">
                          <p:tgtEl>
                            <p:spTgt spid="434"/>
                          </p:tgtEl>
                        </p:cond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3.7037E-006 L -0.34635 -0.01041 E">
                                      <p:cBhvr>
                                        <p:cTn id="130" dur="2000" fill="hold"/>
                                        <p:tgtEl>
                                          <p:spTgt spid="4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422600" cy="6629400"/>
          </a:xfrm>
          <a:prstGeom prst="rect">
            <a:avLst/>
          </a:prstGeom>
          <a:ln w="0">
            <a:noFill/>
          </a:ln>
        </p:spPr>
      </p:pic>
      <p:pic>
        <p:nvPicPr>
          <p:cNvPr id="479" name="" descr=""/>
          <p:cNvPicPr/>
          <p:nvPr/>
        </p:nvPicPr>
        <p:blipFill>
          <a:blip r:embed="rId2"/>
          <a:stretch/>
        </p:blipFill>
        <p:spPr>
          <a:xfrm>
            <a:off x="6858000" y="3692520"/>
            <a:ext cx="976320" cy="1112760"/>
          </a:xfrm>
          <a:prstGeom prst="rect">
            <a:avLst/>
          </a:prstGeom>
          <a:ln w="0">
            <a:noFill/>
          </a:ln>
        </p:spPr>
      </p:pic>
      <p:pic>
        <p:nvPicPr>
          <p:cNvPr id="480" name="" descr=""/>
          <p:cNvPicPr/>
          <p:nvPr/>
        </p:nvPicPr>
        <p:blipFill>
          <a:blip r:embed="rId3"/>
          <a:stretch/>
        </p:blipFill>
        <p:spPr>
          <a:xfrm>
            <a:off x="5105520" y="1101600"/>
            <a:ext cx="903240" cy="1113120"/>
          </a:xfrm>
          <a:prstGeom prst="rect">
            <a:avLst/>
          </a:prstGeom>
          <a:ln w="0">
            <a:noFill/>
          </a:ln>
        </p:spPr>
      </p:pic>
      <p:pic>
        <p:nvPicPr>
          <p:cNvPr id="481" name="" descr=""/>
          <p:cNvPicPr/>
          <p:nvPr/>
        </p:nvPicPr>
        <p:blipFill>
          <a:blip r:embed="rId4"/>
          <a:stretch/>
        </p:blipFill>
        <p:spPr>
          <a:xfrm>
            <a:off x="6829560" y="1066680"/>
            <a:ext cx="963360" cy="1113120"/>
          </a:xfrm>
          <a:prstGeom prst="rect">
            <a:avLst/>
          </a:prstGeom>
          <a:ln w="0">
            <a:noFill/>
          </a:ln>
        </p:spPr>
      </p:pic>
      <p:pic>
        <p:nvPicPr>
          <p:cNvPr id="482" name="" descr=""/>
          <p:cNvPicPr/>
          <p:nvPr/>
        </p:nvPicPr>
        <p:blipFill>
          <a:blip r:embed="rId5"/>
          <a:stretch/>
        </p:blipFill>
        <p:spPr>
          <a:xfrm>
            <a:off x="5116680" y="2397240"/>
            <a:ext cx="903240" cy="1112760"/>
          </a:xfrm>
          <a:prstGeom prst="rect">
            <a:avLst/>
          </a:prstGeom>
          <a:ln w="0">
            <a:noFill/>
          </a:ln>
        </p:spPr>
      </p:pic>
      <p:pic>
        <p:nvPicPr>
          <p:cNvPr id="483" name="" descr=""/>
          <p:cNvPicPr/>
          <p:nvPr/>
        </p:nvPicPr>
        <p:blipFill>
          <a:blip r:embed="rId6"/>
          <a:stretch/>
        </p:blipFill>
        <p:spPr>
          <a:xfrm>
            <a:off x="6858000" y="2397240"/>
            <a:ext cx="903240" cy="1112760"/>
          </a:xfrm>
          <a:prstGeom prst="rect">
            <a:avLst/>
          </a:prstGeom>
          <a:ln w="0">
            <a:noFill/>
          </a:ln>
        </p:spPr>
      </p:pic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133720" y="-76680"/>
            <a:ext cx="4114800" cy="11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 Black"/>
              </a:rPr>
              <a:t>Diapositive N° 5 - Résultat</a:t>
            </a:r>
            <a:br>
              <a:rPr sz="2400"/>
            </a:br>
            <a:r>
              <a:rPr b="0" lang="en-US" sz="2400" spc="-1" strike="noStrike">
                <a:solidFill>
                  <a:srgbClr val="0033cc"/>
                </a:solidFill>
                <a:latin typeface="Arial Black"/>
              </a:rPr>
              <a:t>Score actuel = 0 point</a:t>
            </a:r>
            <a:endParaRPr b="0" lang="en-US" sz="2400" spc="-1" strike="noStrike">
              <a:solidFill>
                <a:srgbClr val="003300"/>
              </a:solidFill>
              <a:latin typeface="Arial Black"/>
            </a:endParaRPr>
          </a:p>
        </p:txBody>
      </p:sp>
      <p:pic>
        <p:nvPicPr>
          <p:cNvPr id="485" name="" descr=""/>
          <p:cNvPicPr/>
          <p:nvPr/>
        </p:nvPicPr>
        <p:blipFill>
          <a:blip r:embed="rId7"/>
          <a:stretch/>
        </p:blipFill>
        <p:spPr>
          <a:xfrm>
            <a:off x="1600200" y="5257800"/>
            <a:ext cx="1031760" cy="1076400"/>
          </a:xfrm>
          <a:prstGeom prst="rect">
            <a:avLst/>
          </a:prstGeom>
          <a:ln w="0">
            <a:noFill/>
          </a:ln>
        </p:spPr>
      </p:pic>
      <p:pic>
        <p:nvPicPr>
          <p:cNvPr id="486" name="" descr=""/>
          <p:cNvPicPr/>
          <p:nvPr/>
        </p:nvPicPr>
        <p:blipFill>
          <a:blip r:embed="rId8"/>
          <a:stretch/>
        </p:blipFill>
        <p:spPr>
          <a:xfrm>
            <a:off x="5105520" y="3692520"/>
            <a:ext cx="1066680" cy="1112760"/>
          </a:xfrm>
          <a:prstGeom prst="rect">
            <a:avLst/>
          </a:prstGeom>
          <a:ln w="0">
            <a:noFill/>
          </a:ln>
        </p:spPr>
      </p:pic>
      <p:sp>
        <p:nvSpPr>
          <p:cNvPr id="487" name=""/>
          <p:cNvSpPr/>
          <p:nvPr/>
        </p:nvSpPr>
        <p:spPr>
          <a:xfrm>
            <a:off x="4495680" y="5481720"/>
            <a:ext cx="3573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’est pas possible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 ne t’intéresse pas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6188040" y="38088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Lucida Handwriting"/>
              </a:rPr>
              <a:t>Perd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4800600" y="3581280"/>
            <a:ext cx="1600200" cy="144792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>
            <a:hlinkClick r:id="rId9" action="ppaction://hlinksldjump"/>
          </p:cNvPr>
          <p:cNvSpPr/>
          <p:nvPr/>
        </p:nvSpPr>
        <p:spPr>
          <a:xfrm>
            <a:off x="5791320" y="6348240"/>
            <a:ext cx="1008000" cy="505080"/>
          </a:xfrm>
          <a:custGeom>
            <a:avLst/>
            <a:gdLst>
              <a:gd name="textAreaLeft" fmla="*/ 32760 w 1008000"/>
              <a:gd name="textAreaRight" fmla="*/ 975600 w 1008000"/>
              <a:gd name="textAreaTop" fmla="*/ 32760 h 505080"/>
              <a:gd name="textAreaBottom" fmla="*/ 472680 h 505080"/>
            </a:gdLst>
            <a:ahLst/>
            <a:rect l="textAreaLeft" t="textAreaTop" r="textAreaRight" b="textAreaBottom"/>
            <a:pathLst>
              <a:path w="43092" h="21600">
                <a:moveTo>
                  <a:pt x="0" y="0"/>
                </a:moveTo>
                <a:lnTo>
                  <a:pt x="43092" y="0"/>
                </a:lnTo>
                <a:lnTo>
                  <a:pt x="43092" y="21600"/>
                </a:lnTo>
                <a:lnTo>
                  <a:pt x="0" y="21600"/>
                </a:lnTo>
                <a:close/>
              </a:path>
              <a:path fill="lightenLess" w="43092" h="21600">
                <a:moveTo>
                  <a:pt x="0" y="0"/>
                </a:moveTo>
                <a:lnTo>
                  <a:pt x="43092" y="0"/>
                </a:lnTo>
                <a:lnTo>
                  <a:pt x="41692" y="1400"/>
                </a:lnTo>
                <a:lnTo>
                  <a:pt x="1400" y="1400"/>
                </a:lnTo>
                <a:close/>
              </a:path>
              <a:path fill="darken" w="43092" h="21600">
                <a:moveTo>
                  <a:pt x="43092" y="0"/>
                </a:moveTo>
                <a:lnTo>
                  <a:pt x="43092" y="21600"/>
                </a:lnTo>
                <a:lnTo>
                  <a:pt x="41692" y="20200"/>
                </a:lnTo>
                <a:lnTo>
                  <a:pt x="41692" y="1400"/>
                </a:lnTo>
                <a:close/>
              </a:path>
              <a:path fill="darkenLess" w="43092" h="21600">
                <a:moveTo>
                  <a:pt x="430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92" y="20200"/>
                </a:lnTo>
                <a:close/>
              </a:path>
              <a:path fill="lighten" w="430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92" h="21600">
                <a:moveTo>
                  <a:pt x="14540" y="3794"/>
                </a:moveTo>
                <a:lnTo>
                  <a:pt x="28553" y="10800"/>
                </a:lnTo>
                <a:lnTo>
                  <a:pt x="14540" y="17806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G Produc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restart="whenNotActive" nodeType="interactiveSeq" fill="hold">
                <p:stCondLst>
                  <p:cond evt="onClick">
                    <p:tgtEl>
                      <p:spTgt spid="435"/>
                    </p:tgtEl>
                  </p:cond>
                </p:stCondLst>
                <p:childTnLst>
                  <p:par>
                    <p:cTn id="133" fill="hold">
                      <p:stCondLst>
                        <p:cond evt="onClick">
                          <p:tgtEl>
                            <p:spTgt spid="435"/>
                          </p:tgtEl>
                        </p:cond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path" presetID="2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38 0 0.069 0.04133 0.069 0.092 C 0.069 0.12533 0.056 0.15467 0.037 0.172 L 0.036 0.172 C 0.029 0.17867 0.025 0.18933 0.025 0.20133 C 0.025 0.212 0.029 0.22133 0.034 0.228 C 0.042 0.23867 0.047 0.25467 0.047 0.27067 C 0.047 0.30533 0.026 0.33333 0 0.33333 C -0.026 0.33333 -0.047 0.30533 -0.047 0.27067 C -0.047 0.25467 -0.042 0.23867 -0.034 0.228 C -0.029 0.22133 -0.026 0.212 -0.026 0.20133 C -0.026 0.18933 -0.03 0.17867 -0.036 0.172 L -0.037 0.172 C -0.057 0.15467 -0.07 0.12533 -0.07 0.092 C -0.07 0.04133 -0.039 0 0 0 Z">
                                      <p:cBhvr>
                                        <p:cTn id="136" dur="2000" fill="hold"/>
                                        <p:tgtEl>
                                          <p:spTgt spid="4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7" restart="whenNotActive" nodeType="interactiveSeq" fill="hold">
                <p:stCondLst>
                  <p:cond evt="onClick">
                    <p:tgtEl>
                      <p:spTgt spid="436"/>
                    </p:tgtEl>
                  </p:cond>
                </p:stCondLst>
                <p:childTnLst>
                  <p:par>
                    <p:cTn id="138" fill="hold">
                      <p:stCondLst>
                        <p:cond evt="onClick">
                          <p:tgtEl>
                            <p:spTgt spid="436"/>
                          </p:tgtEl>
                        </p:cond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path" presetID="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14 -0.00667 -0.029 -0.012 -0.044 -0.012 C -0.114 -0.012 -0.169 0.064 -0.169 0.156 C -0.169 0.24667 -0.114 0.32133 -0.044 0.32133 C -0.029 0.32133 -0.014 0.31733 0 0.31067 C -0.047 0.28667 -0.08 0.22667 -0.08 0.156 C -0.08 0.084 -0.047 0.024 0 0 Z">
                                      <p:cBhvr>
                                        <p:cTn id="141" dur="2000" fill="hold"/>
                                        <p:tgtEl>
                                          <p:spTgt spid="4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2" restart="whenNotActive" nodeType="interactiveSeq" fill="hold">
                <p:stCondLst>
                  <p:cond evt="onClick">
                    <p:tgtEl>
                      <p:spTgt spid="437"/>
                    </p:tgtEl>
                  </p:cond>
                </p:stCondLst>
                <p:childTnLst>
                  <p:par>
                    <p:cTn id="143" fill="hold">
                      <p:stCondLst>
                        <p:cond evt="onClick">
                          <p:tgtEl>
                            <p:spTgt spid="437"/>
                          </p:tgtEl>
                        </p:cond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path" presetID="5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07407E-006 C -0.0007 0.05092 0.04305 0.09583 0.09809 0.09745 C 0.14184 0.10185 0.1776 0.07731 0.17847 0.04676 C 0.17847 0.01643 0.14323 -0.01227 0.09896 -0.01389 C 0.07656 -0.01389 0.05659 -0.01019 0.04218 4.07407E-006 C 0.02153 0.01412 0.00937 0.0368 0.00937 0.06319 C 0.00937 0.07731 0.01284 0.09143 0.01944 0.10393 C 0.03437 0.13032 0.06371 0.14838 0.09739 0.15046 C 0.1368 0.15463 0.16909 0.13217 0.16909 0.10601 C 0.16979 0.07731 0.1375 0.05301 0.09809 0.04884 C 0.07812 0.04884 0.06024 0.05301 0.04653 0.06111 C 0.02864 0.07523 0.01718 0.09745 0.01718 0.12013 C 0.01718 0.13217 0.02066 0.14444 0.02639 0.15671 C 0.0401 0.17916 0.06597 0.19745 0.0967 0.19907 C 0.13264 0.20138 0.16128 0.18125 0.16128 0.15671 C 0.16198 0.13217 0.13316 0.10995 0.09739 0.10787 C 0.07951 0.10601 0.06302 0.10995 0.05087 0.11805 C 0.03437 0.13032 0.02517 0.14838 0.02517 0.17083 C 0.02517 0.18125 0.02795 0.19305 0.03298 0.20347 C 0.04514 0.22384 0.06875 0.24004 0.096 0.24189 C 0.1283 0.24189 0.15399 0.22569 0.15399 0.20347 C 0.15399 0.18125 0.12899 0.16064 0.0967 0.15856 C 0.0809 0.15856 0.06597 0.16273 0.05521 0.16875 C 0.0401 0.17916 0.03142 0.19745 0.0309 0.21574 C 0.0309 0.22569 0.03437 0.23588 0.03871 0.24398 C 0.0493 0.26435 0.07083 0.27847 0.09531 0.27847 C 0.12396 0.28078 0.14757 0.26666 0.14757 0.24606 C 0.14826 0.22569 0.12465 0.20763 0.096 0.20555 C 0.08177 0.20555 0.06805 0.20763 0.05868 0.21574 C 0.04514 0.22384 0.03732 0.24004 0.03732 0.25625 C 0.03732 0.26666 0.03941 0.27476 0.04357 0.28287 C 0.05364 0.30092 0.07239 0.31319 0.09444 0.31527 C 0.121 0.31527 0.14184 0.30301 0.14184 0.28449 C 0.14253 0.26666 0.1217 0.25 0.09531 0.24814 C 0.08229 0.24814 0.07083 0.25 0.06232 0.25625 C 0.05017 0.26435 0.04305 0.27847 0.04305 0.2949 C 0.04305 0.30301 0.04514 0.30926 0.04878 0.31736 C 0.05729 0.33356 0.07448 0.34351 0.09444 0.3456 C 0.11823 0.34768 0.1368 0.33541 0.1368 0.31736 C 0.1368 0.30301 0.11892 0.2868 0.09531 0.2868 C 0.08316 0.28449 0.07239 0.28888 0.06441 0.29259 C 0.05364 0.30092 0.04722 0.31319 0.04722 0.32731 C 0.04722 0.33541 0.0493 0.34166 0.05295 0.34768 C 0.06093 0.3618 0.07656 0.37222 0.09392 0.3743 C 0.11528 0.37638 0.13264 0.36388 0.13264 0.34976 C 0.13264 0.33356 0.11528 0.32129 0.09444 0.31921 C 0.08455 0.31921 0.07448 0.32129 0.06736 0.32731 C 0.05729 0.33356 0.05156 0.34351 0.05156 0.3581 C 0.05156 0.36388 0.05364 0.3699 0.05659 0.37638 C 0.06371 0.38842 0.07743 0.39861 0.09392 0.39861 C 0.1125 0.40069 0.1283 0.39051 0.1283 0.37638 C 0.1283 0.36388 0.11319 0.35162 0.09392 0.35162 C 0.08524 0.34976 0.07604 0.35162 0.06944 0.35578 C 0.06093 0.36388 0.0559 0.3743 0.0559 0.38449 C 0.0559 0.39051 0.05729 0.39652 0.06024 0.40069 C 0.06666 0.41273 0.07882 0.42083 0.09392 0.42291 C 0.11111 0.42291 0.12465 0.41273 0.12465 0.40254 C 0.12465 0.39051 0.11111 0.37801 0.09392 0.37801 C 0.08524 0.37801 0.07743 0.38032 0.07239 0.38449 C 0.06371 0.38842 0.05937 0.39861 0.05937 0.40879 C 0.05937 0.41273 0.06093 0.41898 0.06302 0.42291 C 0.06875 0.43518 0.08021 0.4412 0.09323 0.44351 C 0.10903 0.44351 0.121 0.43518 0.121 0.425 C 0.121 0.41273 0.10903 0.40463 0.09392 0.40254 C 0.08593 0.40254 0.07882 0.40463 0.07378 0.40879 C 0.06666 0.41273 0.06232 0.42083 0.06232 0.43101 C 0.06232 0.43518 0.06371 0.43912 0.06597 0.44351 E">
                                      <p:cBhvr>
                                        <p:cTn id="146" dur="2000" fill="hold"/>
                                        <p:tgtEl>
                                          <p:spTgt spid="4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7" restart="whenNotActive" nodeType="interactiveSeq" fill="hold">
                <p:stCondLst>
                  <p:cond evt="onClick">
                    <p:tgtEl>
                      <p:spTgt spid="438"/>
                    </p:tgtEl>
                  </p:cond>
                </p:stCondLst>
                <p:childTnLst>
                  <p:par>
                    <p:cTn id="148" fill="hold">
                      <p:stCondLst>
                        <p:cond evt="onClick">
                          <p:tgtEl>
                            <p:spTgt spid="438"/>
                          </p:tgtEl>
                        </p:cond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82 0.03148 L -0.00382 0.40949 E">
                                      <p:cBhvr>
                                        <p:cTn id="151" dur="2000" fill="hold"/>
                                        <p:tgtEl>
                                          <p:spTgt spid="4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2" restart="whenNotActive" nodeType="interactiveSeq" fill="hold">
                <p:stCondLst>
                  <p:cond evt="onClick">
                    <p:tgtEl>
                      <p:spTgt spid="434"/>
                    </p:tgtEl>
                  </p:cond>
                </p:stCondLst>
                <p:childTnLst>
                  <p:par>
                    <p:cTn id="153" fill="hold">
                      <p:stCondLst>
                        <p:cond evt="onClick">
                          <p:tgtEl>
                            <p:spTgt spid="434"/>
                          </p:tgtEl>
                        </p:cond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3.7037E-006 L -0.34635 -0.01041 E">
                                      <p:cBhvr>
                                        <p:cTn id="156" dur="2000" fill="hold"/>
                                        <p:tgtEl>
                                          <p:spTgt spid="4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422600" cy="6629400"/>
          </a:xfrm>
          <a:prstGeom prst="rect">
            <a:avLst/>
          </a:prstGeom>
          <a:ln w="0">
            <a:noFill/>
          </a:ln>
        </p:spPr>
      </p:pic>
      <p:pic>
        <p:nvPicPr>
          <p:cNvPr id="492" name="" descr=""/>
          <p:cNvPicPr/>
          <p:nvPr/>
        </p:nvPicPr>
        <p:blipFill>
          <a:blip r:embed="rId2"/>
          <a:stretch/>
        </p:blipFill>
        <p:spPr>
          <a:xfrm>
            <a:off x="6858000" y="3692520"/>
            <a:ext cx="976320" cy="1112760"/>
          </a:xfrm>
          <a:prstGeom prst="rect">
            <a:avLst/>
          </a:prstGeom>
          <a:ln w="0">
            <a:noFill/>
          </a:ln>
        </p:spPr>
      </p:pic>
      <p:pic>
        <p:nvPicPr>
          <p:cNvPr id="493" name="" descr=""/>
          <p:cNvPicPr/>
          <p:nvPr/>
        </p:nvPicPr>
        <p:blipFill>
          <a:blip r:embed="rId3"/>
          <a:stretch/>
        </p:blipFill>
        <p:spPr>
          <a:xfrm>
            <a:off x="5105520" y="1101600"/>
            <a:ext cx="903240" cy="1113120"/>
          </a:xfrm>
          <a:prstGeom prst="rect">
            <a:avLst/>
          </a:prstGeom>
          <a:ln w="0">
            <a:noFill/>
          </a:ln>
        </p:spPr>
      </p:pic>
      <p:pic>
        <p:nvPicPr>
          <p:cNvPr id="494" name="" descr=""/>
          <p:cNvPicPr/>
          <p:nvPr/>
        </p:nvPicPr>
        <p:blipFill>
          <a:blip r:embed="rId4"/>
          <a:stretch/>
        </p:blipFill>
        <p:spPr>
          <a:xfrm>
            <a:off x="6829560" y="1066680"/>
            <a:ext cx="963360" cy="1113120"/>
          </a:xfrm>
          <a:prstGeom prst="rect">
            <a:avLst/>
          </a:prstGeom>
          <a:ln w="0">
            <a:noFill/>
          </a:ln>
        </p:spPr>
      </p:pic>
      <p:pic>
        <p:nvPicPr>
          <p:cNvPr id="495" name="" descr=""/>
          <p:cNvPicPr/>
          <p:nvPr/>
        </p:nvPicPr>
        <p:blipFill>
          <a:blip r:embed="rId5"/>
          <a:stretch/>
        </p:blipFill>
        <p:spPr>
          <a:xfrm>
            <a:off x="5116680" y="2397240"/>
            <a:ext cx="903240" cy="1112760"/>
          </a:xfrm>
          <a:prstGeom prst="rect">
            <a:avLst/>
          </a:prstGeom>
          <a:ln w="0">
            <a:noFill/>
          </a:ln>
        </p:spPr>
      </p:pic>
      <p:pic>
        <p:nvPicPr>
          <p:cNvPr id="496" name="" descr=""/>
          <p:cNvPicPr/>
          <p:nvPr/>
        </p:nvPicPr>
        <p:blipFill>
          <a:blip r:embed="rId6"/>
          <a:stretch/>
        </p:blipFill>
        <p:spPr>
          <a:xfrm>
            <a:off x="6858000" y="2397240"/>
            <a:ext cx="903240" cy="1112760"/>
          </a:xfrm>
          <a:prstGeom prst="rect">
            <a:avLst/>
          </a:prstGeom>
          <a:ln w="0">
            <a:noFill/>
          </a:ln>
        </p:spPr>
      </p:pic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2133720" y="-76680"/>
            <a:ext cx="4114800" cy="11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 Black"/>
              </a:rPr>
              <a:t>Diapositive N° 5 - Résultat</a:t>
            </a:r>
            <a:br>
              <a:rPr sz="2400"/>
            </a:br>
            <a:r>
              <a:rPr b="0" lang="en-US" sz="2400" spc="-1" strike="noStrike">
                <a:solidFill>
                  <a:srgbClr val="0033cc"/>
                </a:solidFill>
                <a:latin typeface="Arial Black"/>
              </a:rPr>
              <a:t>Score actuel = 1 point</a:t>
            </a:r>
            <a:endParaRPr b="0" lang="en-US" sz="2400" spc="-1" strike="noStrike">
              <a:solidFill>
                <a:srgbClr val="003300"/>
              </a:solidFill>
              <a:latin typeface="Arial Black"/>
            </a:endParaRPr>
          </a:p>
        </p:txBody>
      </p:sp>
      <p:pic>
        <p:nvPicPr>
          <p:cNvPr id="498" name="" descr=""/>
          <p:cNvPicPr/>
          <p:nvPr/>
        </p:nvPicPr>
        <p:blipFill>
          <a:blip r:embed="rId7"/>
          <a:stretch/>
        </p:blipFill>
        <p:spPr>
          <a:xfrm>
            <a:off x="1600200" y="5257800"/>
            <a:ext cx="1031760" cy="1076400"/>
          </a:xfrm>
          <a:prstGeom prst="rect">
            <a:avLst/>
          </a:prstGeom>
          <a:ln w="0">
            <a:noFill/>
          </a:ln>
        </p:spPr>
      </p:pic>
      <p:pic>
        <p:nvPicPr>
          <p:cNvPr id="499" name="" descr=""/>
          <p:cNvPicPr/>
          <p:nvPr/>
        </p:nvPicPr>
        <p:blipFill>
          <a:blip r:embed="rId8"/>
          <a:stretch/>
        </p:blipFill>
        <p:spPr>
          <a:xfrm>
            <a:off x="5105520" y="3692520"/>
            <a:ext cx="1066680" cy="1112760"/>
          </a:xfrm>
          <a:prstGeom prst="rect">
            <a:avLst/>
          </a:prstGeom>
          <a:ln w="0">
            <a:noFill/>
          </a:ln>
        </p:spPr>
      </p:pic>
      <p:sp>
        <p:nvSpPr>
          <p:cNvPr id="500" name=""/>
          <p:cNvSpPr/>
          <p:nvPr/>
        </p:nvSpPr>
        <p:spPr>
          <a:xfrm>
            <a:off x="4495680" y="5181480"/>
            <a:ext cx="3573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vec des lunettes 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 va mieux 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6188040" y="304920"/>
            <a:ext cx="158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Lucida Handwriting"/>
              </a:rPr>
              <a:t>Enfin ! GAG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>
            <a:hlinkClick r:id="rId9" action="ppaction://hlinksldjump"/>
          </p:cNvPr>
          <p:cNvSpPr/>
          <p:nvPr/>
        </p:nvSpPr>
        <p:spPr>
          <a:xfrm>
            <a:off x="5791320" y="6348240"/>
            <a:ext cx="1008000" cy="505080"/>
          </a:xfrm>
          <a:custGeom>
            <a:avLst/>
            <a:gdLst>
              <a:gd name="textAreaLeft" fmla="*/ 32760 w 1008000"/>
              <a:gd name="textAreaRight" fmla="*/ 975600 w 1008000"/>
              <a:gd name="textAreaTop" fmla="*/ 32760 h 505080"/>
              <a:gd name="textAreaBottom" fmla="*/ 472680 h 505080"/>
            </a:gdLst>
            <a:ahLst/>
            <a:rect l="textAreaLeft" t="textAreaTop" r="textAreaRight" b="textAreaBottom"/>
            <a:pathLst>
              <a:path w="43092" h="21600">
                <a:moveTo>
                  <a:pt x="0" y="0"/>
                </a:moveTo>
                <a:lnTo>
                  <a:pt x="43092" y="0"/>
                </a:lnTo>
                <a:lnTo>
                  <a:pt x="43092" y="21600"/>
                </a:lnTo>
                <a:lnTo>
                  <a:pt x="0" y="21600"/>
                </a:lnTo>
                <a:close/>
              </a:path>
              <a:path fill="lightenLess" w="43092" h="21600">
                <a:moveTo>
                  <a:pt x="0" y="0"/>
                </a:moveTo>
                <a:lnTo>
                  <a:pt x="43092" y="0"/>
                </a:lnTo>
                <a:lnTo>
                  <a:pt x="41692" y="1400"/>
                </a:lnTo>
                <a:lnTo>
                  <a:pt x="1400" y="1400"/>
                </a:lnTo>
                <a:close/>
              </a:path>
              <a:path fill="darken" w="43092" h="21600">
                <a:moveTo>
                  <a:pt x="43092" y="0"/>
                </a:moveTo>
                <a:lnTo>
                  <a:pt x="43092" y="21600"/>
                </a:lnTo>
                <a:lnTo>
                  <a:pt x="41692" y="20200"/>
                </a:lnTo>
                <a:lnTo>
                  <a:pt x="41692" y="1400"/>
                </a:lnTo>
                <a:close/>
              </a:path>
              <a:path fill="darkenLess" w="43092" h="21600">
                <a:moveTo>
                  <a:pt x="430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92" y="20200"/>
                </a:lnTo>
                <a:close/>
              </a:path>
              <a:path fill="lighten" w="430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92" h="21600">
                <a:moveTo>
                  <a:pt x="14540" y="3794"/>
                </a:moveTo>
                <a:lnTo>
                  <a:pt x="28553" y="10800"/>
                </a:lnTo>
                <a:lnTo>
                  <a:pt x="14540" y="17806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4800600" y="3581280"/>
            <a:ext cx="1600200" cy="144792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G Produc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restart="whenNotActive" nodeType="interactiveSeq" fill="hold">
                <p:stCondLst>
                  <p:cond evt="onClick">
                    <p:tgtEl>
                      <p:spTgt spid="435"/>
                    </p:tgtEl>
                  </p:cond>
                </p:stCondLst>
                <p:childTnLst>
                  <p:par>
                    <p:cTn id="159" fill="hold">
                      <p:stCondLst>
                        <p:cond evt="onClick">
                          <p:tgtEl>
                            <p:spTgt spid="435"/>
                          </p:tgtEl>
                        </p:cond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path" presetID="2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38 0 0.069 0.04133 0.069 0.092 C 0.069 0.12533 0.056 0.15467 0.037 0.172 L 0.036 0.172 C 0.029 0.17867 0.025 0.18933 0.025 0.20133 C 0.025 0.212 0.029 0.22133 0.034 0.228 C 0.042 0.23867 0.047 0.25467 0.047 0.27067 C 0.047 0.30533 0.026 0.33333 0 0.33333 C -0.026 0.33333 -0.047 0.30533 -0.047 0.27067 C -0.047 0.25467 -0.042 0.23867 -0.034 0.228 C -0.029 0.22133 -0.026 0.212 -0.026 0.20133 C -0.026 0.18933 -0.03 0.17867 -0.036 0.172 L -0.037 0.172 C -0.057 0.15467 -0.07 0.12533 -0.07 0.092 C -0.07 0.04133 -0.039 0 0 0 Z">
                                      <p:cBhvr>
                                        <p:cTn id="162" dur="2000" fill="hold"/>
                                        <p:tgtEl>
                                          <p:spTgt spid="4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3" restart="whenNotActive" nodeType="interactiveSeq" fill="hold">
                <p:stCondLst>
                  <p:cond evt="onClick">
                    <p:tgtEl>
                      <p:spTgt spid="436"/>
                    </p:tgtEl>
                  </p:cond>
                </p:stCondLst>
                <p:childTnLst>
                  <p:par>
                    <p:cTn id="164" fill="hold">
                      <p:stCondLst>
                        <p:cond evt="onClick">
                          <p:tgtEl>
                            <p:spTgt spid="436"/>
                          </p:tgtEl>
                        </p:cond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path" presetID="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14 -0.00667 -0.029 -0.012 -0.044 -0.012 C -0.114 -0.012 -0.169 0.064 -0.169 0.156 C -0.169 0.24667 -0.114 0.32133 -0.044 0.32133 C -0.029 0.32133 -0.014 0.31733 0 0.31067 C -0.047 0.28667 -0.08 0.22667 -0.08 0.156 C -0.08 0.084 -0.047 0.024 0 0 Z">
                                      <p:cBhvr>
                                        <p:cTn id="167" dur="2000" fill="hold"/>
                                        <p:tgtEl>
                                          <p:spTgt spid="4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8" restart="whenNotActive" nodeType="interactiveSeq" fill="hold">
                <p:stCondLst>
                  <p:cond evt="onClick">
                    <p:tgtEl>
                      <p:spTgt spid="437"/>
                    </p:tgtEl>
                  </p:cond>
                </p:stCondLst>
                <p:childTnLst>
                  <p:par>
                    <p:cTn id="169" fill="hold">
                      <p:stCondLst>
                        <p:cond evt="onClick">
                          <p:tgtEl>
                            <p:spTgt spid="437"/>
                          </p:tgtEl>
                        </p:cond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path" presetID="5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07407E-006 C -0.0007 0.05092 0.04305 0.09583 0.09809 0.09745 C 0.14184 0.10185 0.1776 0.07731 0.17847 0.04676 C 0.17847 0.01643 0.14323 -0.01227 0.09896 -0.01389 C 0.07656 -0.01389 0.05659 -0.01019 0.04218 4.07407E-006 C 0.02153 0.01412 0.00937 0.0368 0.00937 0.06319 C 0.00937 0.07731 0.01284 0.09143 0.01944 0.10393 C 0.03437 0.13032 0.06371 0.14838 0.09739 0.15046 C 0.1368 0.15463 0.16909 0.13217 0.16909 0.10601 C 0.16979 0.07731 0.1375 0.05301 0.09809 0.04884 C 0.07812 0.04884 0.06024 0.05301 0.04653 0.06111 C 0.02864 0.07523 0.01718 0.09745 0.01718 0.12013 C 0.01718 0.13217 0.02066 0.14444 0.02639 0.15671 C 0.0401 0.17916 0.06597 0.19745 0.0967 0.19907 C 0.13264 0.20138 0.16128 0.18125 0.16128 0.15671 C 0.16198 0.13217 0.13316 0.10995 0.09739 0.10787 C 0.07951 0.10601 0.06302 0.10995 0.05087 0.11805 C 0.03437 0.13032 0.02517 0.14838 0.02517 0.17083 C 0.02517 0.18125 0.02795 0.19305 0.03298 0.20347 C 0.04514 0.22384 0.06875 0.24004 0.096 0.24189 C 0.1283 0.24189 0.15399 0.22569 0.15399 0.20347 C 0.15399 0.18125 0.12899 0.16064 0.0967 0.15856 C 0.0809 0.15856 0.06597 0.16273 0.05521 0.16875 C 0.0401 0.17916 0.03142 0.19745 0.0309 0.21574 C 0.0309 0.22569 0.03437 0.23588 0.03871 0.24398 C 0.0493 0.26435 0.07083 0.27847 0.09531 0.27847 C 0.12396 0.28078 0.14757 0.26666 0.14757 0.24606 C 0.14826 0.22569 0.12465 0.20763 0.096 0.20555 C 0.08177 0.20555 0.06805 0.20763 0.05868 0.21574 C 0.04514 0.22384 0.03732 0.24004 0.03732 0.25625 C 0.03732 0.26666 0.03941 0.27476 0.04357 0.28287 C 0.05364 0.30092 0.07239 0.31319 0.09444 0.31527 C 0.121 0.31527 0.14184 0.30301 0.14184 0.28449 C 0.14253 0.26666 0.1217 0.25 0.09531 0.24814 C 0.08229 0.24814 0.07083 0.25 0.06232 0.25625 C 0.05017 0.26435 0.04305 0.27847 0.04305 0.2949 C 0.04305 0.30301 0.04514 0.30926 0.04878 0.31736 C 0.05729 0.33356 0.07448 0.34351 0.09444 0.3456 C 0.11823 0.34768 0.1368 0.33541 0.1368 0.31736 C 0.1368 0.30301 0.11892 0.2868 0.09531 0.2868 C 0.08316 0.28449 0.07239 0.28888 0.06441 0.29259 C 0.05364 0.30092 0.04722 0.31319 0.04722 0.32731 C 0.04722 0.33541 0.0493 0.34166 0.05295 0.34768 C 0.06093 0.3618 0.07656 0.37222 0.09392 0.3743 C 0.11528 0.37638 0.13264 0.36388 0.13264 0.34976 C 0.13264 0.33356 0.11528 0.32129 0.09444 0.31921 C 0.08455 0.31921 0.07448 0.32129 0.06736 0.32731 C 0.05729 0.33356 0.05156 0.34351 0.05156 0.3581 C 0.05156 0.36388 0.05364 0.3699 0.05659 0.37638 C 0.06371 0.38842 0.07743 0.39861 0.09392 0.39861 C 0.1125 0.40069 0.1283 0.39051 0.1283 0.37638 C 0.1283 0.36388 0.11319 0.35162 0.09392 0.35162 C 0.08524 0.34976 0.07604 0.35162 0.06944 0.35578 C 0.06093 0.36388 0.0559 0.3743 0.0559 0.38449 C 0.0559 0.39051 0.05729 0.39652 0.06024 0.40069 C 0.06666 0.41273 0.07882 0.42083 0.09392 0.42291 C 0.11111 0.42291 0.12465 0.41273 0.12465 0.40254 C 0.12465 0.39051 0.11111 0.37801 0.09392 0.37801 C 0.08524 0.37801 0.07743 0.38032 0.07239 0.38449 C 0.06371 0.38842 0.05937 0.39861 0.05937 0.40879 C 0.05937 0.41273 0.06093 0.41898 0.06302 0.42291 C 0.06875 0.43518 0.08021 0.4412 0.09323 0.44351 C 0.10903 0.44351 0.121 0.43518 0.121 0.425 C 0.121 0.41273 0.10903 0.40463 0.09392 0.40254 C 0.08593 0.40254 0.07882 0.40463 0.07378 0.40879 C 0.06666 0.41273 0.06232 0.42083 0.06232 0.43101 C 0.06232 0.43518 0.06371 0.43912 0.06597 0.44351 E">
                                      <p:cBhvr>
                                        <p:cTn id="172" dur="2000" fill="hold"/>
                                        <p:tgtEl>
                                          <p:spTgt spid="4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3" restart="whenNotActive" nodeType="interactiveSeq" fill="hold">
                <p:stCondLst>
                  <p:cond evt="onClick">
                    <p:tgtEl>
                      <p:spTgt spid="438"/>
                    </p:tgtEl>
                  </p:cond>
                </p:stCondLst>
                <p:childTnLst>
                  <p:par>
                    <p:cTn id="174" fill="hold">
                      <p:stCondLst>
                        <p:cond evt="onClick">
                          <p:tgtEl>
                            <p:spTgt spid="438"/>
                          </p:tgtEl>
                        </p:cond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82 0.03148 L -0.00382 0.40949 E">
                                      <p:cBhvr>
                                        <p:cTn id="177" dur="2000" fill="hold"/>
                                        <p:tgtEl>
                                          <p:spTgt spid="4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8" restart="whenNotActive" nodeType="interactiveSeq" fill="hold">
                <p:stCondLst>
                  <p:cond evt="onClick">
                    <p:tgtEl>
                      <p:spTgt spid="434"/>
                    </p:tgtEl>
                  </p:cond>
                </p:stCondLst>
                <p:childTnLst>
                  <p:par>
                    <p:cTn id="179" fill="hold">
                      <p:stCondLst>
                        <p:cond evt="onClick">
                          <p:tgtEl>
                            <p:spTgt spid="434"/>
                          </p:tgtEl>
                        </p:cond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3.7037E-006 L -0.34635 -0.01041 E">
                                      <p:cBhvr>
                                        <p:cTn id="182" dur="2000" fill="hold"/>
                                        <p:tgtEl>
                                          <p:spTgt spid="4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422600" cy="6629400"/>
          </a:xfrm>
          <a:prstGeom prst="rect">
            <a:avLst/>
          </a:prstGeom>
          <a:ln w="0">
            <a:noFill/>
          </a:ln>
        </p:spPr>
      </p:pic>
      <p:pic>
        <p:nvPicPr>
          <p:cNvPr id="505" name="" descr=""/>
          <p:cNvPicPr/>
          <p:nvPr/>
        </p:nvPicPr>
        <p:blipFill>
          <a:blip r:embed="rId2"/>
          <a:stretch/>
        </p:blipFill>
        <p:spPr>
          <a:xfrm>
            <a:off x="6858000" y="3692520"/>
            <a:ext cx="976320" cy="1112760"/>
          </a:xfrm>
          <a:prstGeom prst="rect">
            <a:avLst/>
          </a:prstGeom>
          <a:ln w="0">
            <a:noFill/>
          </a:ln>
        </p:spPr>
      </p:pic>
      <p:pic>
        <p:nvPicPr>
          <p:cNvPr id="506" name="" descr=""/>
          <p:cNvPicPr/>
          <p:nvPr/>
        </p:nvPicPr>
        <p:blipFill>
          <a:blip r:embed="rId3"/>
          <a:stretch/>
        </p:blipFill>
        <p:spPr>
          <a:xfrm>
            <a:off x="5105520" y="1101600"/>
            <a:ext cx="903240" cy="1113120"/>
          </a:xfrm>
          <a:prstGeom prst="rect">
            <a:avLst/>
          </a:prstGeom>
          <a:ln w="0">
            <a:noFill/>
          </a:ln>
        </p:spPr>
      </p:pic>
      <p:pic>
        <p:nvPicPr>
          <p:cNvPr id="507" name="" descr=""/>
          <p:cNvPicPr/>
          <p:nvPr/>
        </p:nvPicPr>
        <p:blipFill>
          <a:blip r:embed="rId4"/>
          <a:stretch/>
        </p:blipFill>
        <p:spPr>
          <a:xfrm>
            <a:off x="6829560" y="1066680"/>
            <a:ext cx="963360" cy="1113120"/>
          </a:xfrm>
          <a:prstGeom prst="rect">
            <a:avLst/>
          </a:prstGeom>
          <a:ln w="0">
            <a:noFill/>
          </a:ln>
        </p:spPr>
      </p:pic>
      <p:pic>
        <p:nvPicPr>
          <p:cNvPr id="508" name="" descr=""/>
          <p:cNvPicPr/>
          <p:nvPr/>
        </p:nvPicPr>
        <p:blipFill>
          <a:blip r:embed="rId5"/>
          <a:stretch/>
        </p:blipFill>
        <p:spPr>
          <a:xfrm>
            <a:off x="5116680" y="2397240"/>
            <a:ext cx="903240" cy="1112760"/>
          </a:xfrm>
          <a:prstGeom prst="rect">
            <a:avLst/>
          </a:prstGeom>
          <a:ln w="0">
            <a:noFill/>
          </a:ln>
        </p:spPr>
      </p:pic>
      <p:pic>
        <p:nvPicPr>
          <p:cNvPr id="509" name="" descr=""/>
          <p:cNvPicPr/>
          <p:nvPr/>
        </p:nvPicPr>
        <p:blipFill>
          <a:blip r:embed="rId6"/>
          <a:stretch/>
        </p:blipFill>
        <p:spPr>
          <a:xfrm>
            <a:off x="6858000" y="2397240"/>
            <a:ext cx="903240" cy="1112760"/>
          </a:xfrm>
          <a:prstGeom prst="rect">
            <a:avLst/>
          </a:prstGeom>
          <a:ln w="0">
            <a:noFill/>
          </a:ln>
        </p:spPr>
      </p:pic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2133720" y="-76680"/>
            <a:ext cx="4114800" cy="11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 Black"/>
              </a:rPr>
              <a:t>Diapositive N° 5 - Résultat</a:t>
            </a:r>
            <a:br>
              <a:rPr sz="2400"/>
            </a:br>
            <a:r>
              <a:rPr b="0" lang="en-US" sz="2400" spc="-1" strike="noStrike">
                <a:solidFill>
                  <a:srgbClr val="0033cc"/>
                </a:solidFill>
                <a:latin typeface="Arial Black"/>
              </a:rPr>
              <a:t>Score actuel = 1 point</a:t>
            </a:r>
            <a:endParaRPr b="0" lang="en-US" sz="2400" spc="-1" strike="noStrike">
              <a:solidFill>
                <a:srgbClr val="003300"/>
              </a:solidFill>
              <a:latin typeface="Arial Black"/>
            </a:endParaRPr>
          </a:p>
        </p:txBody>
      </p:sp>
      <p:pic>
        <p:nvPicPr>
          <p:cNvPr id="511" name="" descr=""/>
          <p:cNvPicPr/>
          <p:nvPr/>
        </p:nvPicPr>
        <p:blipFill>
          <a:blip r:embed="rId7"/>
          <a:stretch/>
        </p:blipFill>
        <p:spPr>
          <a:xfrm>
            <a:off x="1600200" y="5257800"/>
            <a:ext cx="1031760" cy="1076400"/>
          </a:xfrm>
          <a:prstGeom prst="rect">
            <a:avLst/>
          </a:prstGeom>
          <a:ln w="0">
            <a:noFill/>
          </a:ln>
        </p:spPr>
      </p:pic>
      <p:pic>
        <p:nvPicPr>
          <p:cNvPr id="512" name="" descr=""/>
          <p:cNvPicPr/>
          <p:nvPr/>
        </p:nvPicPr>
        <p:blipFill>
          <a:blip r:embed="rId8"/>
          <a:stretch/>
        </p:blipFill>
        <p:spPr>
          <a:xfrm>
            <a:off x="5105520" y="3692520"/>
            <a:ext cx="1066680" cy="1112760"/>
          </a:xfrm>
          <a:prstGeom prst="rect">
            <a:avLst/>
          </a:prstGeom>
          <a:ln w="0">
            <a:noFill/>
          </a:ln>
        </p:spPr>
      </p:pic>
      <p:sp>
        <p:nvSpPr>
          <p:cNvPr id="513" name=""/>
          <p:cNvSpPr/>
          <p:nvPr/>
        </p:nvSpPr>
        <p:spPr>
          <a:xfrm>
            <a:off x="4343400" y="5105520"/>
            <a:ext cx="3726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core une erreur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 ne t’intéresses pas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is enfin, regardes la répon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6188040" y="38088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Lucida Handwriting"/>
              </a:rPr>
              <a:t>Perd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4800600" y="3581280"/>
            <a:ext cx="1600200" cy="144792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>
            <a:hlinkClick r:id="rId9" action="ppaction://hlinksldjump"/>
          </p:cNvPr>
          <p:cNvSpPr/>
          <p:nvPr/>
        </p:nvSpPr>
        <p:spPr>
          <a:xfrm>
            <a:off x="5791320" y="6348240"/>
            <a:ext cx="1008000" cy="505080"/>
          </a:xfrm>
          <a:custGeom>
            <a:avLst/>
            <a:gdLst>
              <a:gd name="textAreaLeft" fmla="*/ 32760 w 1008000"/>
              <a:gd name="textAreaRight" fmla="*/ 975600 w 1008000"/>
              <a:gd name="textAreaTop" fmla="*/ 32760 h 505080"/>
              <a:gd name="textAreaBottom" fmla="*/ 472680 h 505080"/>
            </a:gdLst>
            <a:ahLst/>
            <a:rect l="textAreaLeft" t="textAreaTop" r="textAreaRight" b="textAreaBottom"/>
            <a:pathLst>
              <a:path w="43092" h="21600">
                <a:moveTo>
                  <a:pt x="0" y="0"/>
                </a:moveTo>
                <a:lnTo>
                  <a:pt x="43092" y="0"/>
                </a:lnTo>
                <a:lnTo>
                  <a:pt x="43092" y="21600"/>
                </a:lnTo>
                <a:lnTo>
                  <a:pt x="0" y="21600"/>
                </a:lnTo>
                <a:close/>
              </a:path>
              <a:path fill="lightenLess" w="43092" h="21600">
                <a:moveTo>
                  <a:pt x="0" y="0"/>
                </a:moveTo>
                <a:lnTo>
                  <a:pt x="43092" y="0"/>
                </a:lnTo>
                <a:lnTo>
                  <a:pt x="41692" y="1400"/>
                </a:lnTo>
                <a:lnTo>
                  <a:pt x="1400" y="1400"/>
                </a:lnTo>
                <a:close/>
              </a:path>
              <a:path fill="darken" w="43092" h="21600">
                <a:moveTo>
                  <a:pt x="43092" y="0"/>
                </a:moveTo>
                <a:lnTo>
                  <a:pt x="43092" y="21600"/>
                </a:lnTo>
                <a:lnTo>
                  <a:pt x="41692" y="20200"/>
                </a:lnTo>
                <a:lnTo>
                  <a:pt x="41692" y="1400"/>
                </a:lnTo>
                <a:close/>
              </a:path>
              <a:path fill="darkenLess" w="43092" h="21600">
                <a:moveTo>
                  <a:pt x="430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92" y="20200"/>
                </a:lnTo>
                <a:close/>
              </a:path>
              <a:path fill="lighten" w="430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92" h="21600">
                <a:moveTo>
                  <a:pt x="14540" y="3794"/>
                </a:moveTo>
                <a:lnTo>
                  <a:pt x="28553" y="10800"/>
                </a:lnTo>
                <a:lnTo>
                  <a:pt x="14540" y="17806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G Produc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restart="whenNotActive" nodeType="interactiveSeq" fill="hold">
                <p:stCondLst>
                  <p:cond evt="onClick">
                    <p:tgtEl>
                      <p:spTgt spid="435"/>
                    </p:tgtEl>
                  </p:cond>
                </p:stCondLst>
                <p:childTnLst>
                  <p:par>
                    <p:cTn id="185" fill="hold">
                      <p:stCondLst>
                        <p:cond evt="onClick">
                          <p:tgtEl>
                            <p:spTgt spid="435"/>
                          </p:tgtEl>
                        </p:cond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path" presetID="2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38 0 0.069 0.04133 0.069 0.092 C 0.069 0.12533 0.056 0.15467 0.037 0.172 L 0.036 0.172 C 0.029 0.17867 0.025 0.18933 0.025 0.20133 C 0.025 0.212 0.029 0.22133 0.034 0.228 C 0.042 0.23867 0.047 0.25467 0.047 0.27067 C 0.047 0.30533 0.026 0.33333 0 0.33333 C -0.026 0.33333 -0.047 0.30533 -0.047 0.27067 C -0.047 0.25467 -0.042 0.23867 -0.034 0.228 C -0.029 0.22133 -0.026 0.212 -0.026 0.20133 C -0.026 0.18933 -0.03 0.17867 -0.036 0.172 L -0.037 0.172 C -0.057 0.15467 -0.07 0.12533 -0.07 0.092 C -0.07 0.04133 -0.039 0 0 0 Z">
                                      <p:cBhvr>
                                        <p:cTn id="188" dur="2000" fill="hold"/>
                                        <p:tgtEl>
                                          <p:spTgt spid="4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9" restart="whenNotActive" nodeType="interactiveSeq" fill="hold">
                <p:stCondLst>
                  <p:cond evt="onClick">
                    <p:tgtEl>
                      <p:spTgt spid="436"/>
                    </p:tgtEl>
                  </p:cond>
                </p:stCondLst>
                <p:childTnLst>
                  <p:par>
                    <p:cTn id="190" fill="hold">
                      <p:stCondLst>
                        <p:cond evt="onClick">
                          <p:tgtEl>
                            <p:spTgt spid="436"/>
                          </p:tgtEl>
                        </p:cond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path" presetID="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14 -0.00667 -0.029 -0.012 -0.044 -0.012 C -0.114 -0.012 -0.169 0.064 -0.169 0.156 C -0.169 0.24667 -0.114 0.32133 -0.044 0.32133 C -0.029 0.32133 -0.014 0.31733 0 0.31067 C -0.047 0.28667 -0.08 0.22667 -0.08 0.156 C -0.08 0.084 -0.047 0.024 0 0 Z">
                                      <p:cBhvr>
                                        <p:cTn id="193" dur="2000" fill="hold"/>
                                        <p:tgtEl>
                                          <p:spTgt spid="4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4" restart="whenNotActive" nodeType="interactiveSeq" fill="hold">
                <p:stCondLst>
                  <p:cond evt="onClick">
                    <p:tgtEl>
                      <p:spTgt spid="437"/>
                    </p:tgtEl>
                  </p:cond>
                </p:stCondLst>
                <p:childTnLst>
                  <p:par>
                    <p:cTn id="195" fill="hold">
                      <p:stCondLst>
                        <p:cond evt="onClick">
                          <p:tgtEl>
                            <p:spTgt spid="437"/>
                          </p:tgtEl>
                        </p:cond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path" presetID="5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07407E-006 C -0.0007 0.05092 0.04305 0.09583 0.09809 0.09745 C 0.14184 0.10185 0.1776 0.07731 0.17847 0.04676 C 0.17847 0.01643 0.14323 -0.01227 0.09896 -0.01389 C 0.07656 -0.01389 0.05659 -0.01019 0.04218 4.07407E-006 C 0.02153 0.01412 0.00937 0.0368 0.00937 0.06319 C 0.00937 0.07731 0.01284 0.09143 0.01944 0.10393 C 0.03437 0.13032 0.06371 0.14838 0.09739 0.15046 C 0.1368 0.15463 0.16909 0.13217 0.16909 0.10601 C 0.16979 0.07731 0.1375 0.05301 0.09809 0.04884 C 0.07812 0.04884 0.06024 0.05301 0.04653 0.06111 C 0.02864 0.07523 0.01718 0.09745 0.01718 0.12013 C 0.01718 0.13217 0.02066 0.14444 0.02639 0.15671 C 0.0401 0.17916 0.06597 0.19745 0.0967 0.19907 C 0.13264 0.20138 0.16128 0.18125 0.16128 0.15671 C 0.16198 0.13217 0.13316 0.10995 0.09739 0.10787 C 0.07951 0.10601 0.06302 0.10995 0.05087 0.11805 C 0.03437 0.13032 0.02517 0.14838 0.02517 0.17083 C 0.02517 0.18125 0.02795 0.19305 0.03298 0.20347 C 0.04514 0.22384 0.06875 0.24004 0.096 0.24189 C 0.1283 0.24189 0.15399 0.22569 0.15399 0.20347 C 0.15399 0.18125 0.12899 0.16064 0.0967 0.15856 C 0.0809 0.15856 0.06597 0.16273 0.05521 0.16875 C 0.0401 0.17916 0.03142 0.19745 0.0309 0.21574 C 0.0309 0.22569 0.03437 0.23588 0.03871 0.24398 C 0.0493 0.26435 0.07083 0.27847 0.09531 0.27847 C 0.12396 0.28078 0.14757 0.26666 0.14757 0.24606 C 0.14826 0.22569 0.12465 0.20763 0.096 0.20555 C 0.08177 0.20555 0.06805 0.20763 0.05868 0.21574 C 0.04514 0.22384 0.03732 0.24004 0.03732 0.25625 C 0.03732 0.26666 0.03941 0.27476 0.04357 0.28287 C 0.05364 0.30092 0.07239 0.31319 0.09444 0.31527 C 0.121 0.31527 0.14184 0.30301 0.14184 0.28449 C 0.14253 0.26666 0.1217 0.25 0.09531 0.24814 C 0.08229 0.24814 0.07083 0.25 0.06232 0.25625 C 0.05017 0.26435 0.04305 0.27847 0.04305 0.2949 C 0.04305 0.30301 0.04514 0.30926 0.04878 0.31736 C 0.05729 0.33356 0.07448 0.34351 0.09444 0.3456 C 0.11823 0.34768 0.1368 0.33541 0.1368 0.31736 C 0.1368 0.30301 0.11892 0.2868 0.09531 0.2868 C 0.08316 0.28449 0.07239 0.28888 0.06441 0.29259 C 0.05364 0.30092 0.04722 0.31319 0.04722 0.32731 C 0.04722 0.33541 0.0493 0.34166 0.05295 0.34768 C 0.06093 0.3618 0.07656 0.37222 0.09392 0.3743 C 0.11528 0.37638 0.13264 0.36388 0.13264 0.34976 C 0.13264 0.33356 0.11528 0.32129 0.09444 0.31921 C 0.08455 0.31921 0.07448 0.32129 0.06736 0.32731 C 0.05729 0.33356 0.05156 0.34351 0.05156 0.3581 C 0.05156 0.36388 0.05364 0.3699 0.05659 0.37638 C 0.06371 0.38842 0.07743 0.39861 0.09392 0.39861 C 0.1125 0.40069 0.1283 0.39051 0.1283 0.37638 C 0.1283 0.36388 0.11319 0.35162 0.09392 0.35162 C 0.08524 0.34976 0.07604 0.35162 0.06944 0.35578 C 0.06093 0.36388 0.0559 0.3743 0.0559 0.38449 C 0.0559 0.39051 0.05729 0.39652 0.06024 0.40069 C 0.06666 0.41273 0.07882 0.42083 0.09392 0.42291 C 0.11111 0.42291 0.12465 0.41273 0.12465 0.40254 C 0.12465 0.39051 0.11111 0.37801 0.09392 0.37801 C 0.08524 0.37801 0.07743 0.38032 0.07239 0.38449 C 0.06371 0.38842 0.05937 0.39861 0.05937 0.40879 C 0.05937 0.41273 0.06093 0.41898 0.06302 0.42291 C 0.06875 0.43518 0.08021 0.4412 0.09323 0.44351 C 0.10903 0.44351 0.121 0.43518 0.121 0.425 C 0.121 0.41273 0.10903 0.40463 0.09392 0.40254 C 0.08593 0.40254 0.07882 0.40463 0.07378 0.40879 C 0.06666 0.41273 0.06232 0.42083 0.06232 0.43101 C 0.06232 0.43518 0.06371 0.43912 0.06597 0.44351 E">
                                      <p:cBhvr>
                                        <p:cTn id="198" dur="2000" fill="hold"/>
                                        <p:tgtEl>
                                          <p:spTgt spid="4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9" restart="whenNotActive" nodeType="interactiveSeq" fill="hold">
                <p:stCondLst>
                  <p:cond evt="onClick">
                    <p:tgtEl>
                      <p:spTgt spid="438"/>
                    </p:tgtEl>
                  </p:cond>
                </p:stCondLst>
                <p:childTnLst>
                  <p:par>
                    <p:cTn id="200" fill="hold">
                      <p:stCondLst>
                        <p:cond evt="onClick">
                          <p:tgtEl>
                            <p:spTgt spid="438"/>
                          </p:tgtEl>
                        </p:cond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82 0.03148 L -0.00382 0.40949 E">
                                      <p:cBhvr>
                                        <p:cTn id="203" dur="2000" fill="hold"/>
                                        <p:tgtEl>
                                          <p:spTgt spid="4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4" restart="whenNotActive" nodeType="interactiveSeq" fill="hold">
                <p:stCondLst>
                  <p:cond evt="onClick">
                    <p:tgtEl>
                      <p:spTgt spid="434"/>
                    </p:tgtEl>
                  </p:cond>
                </p:stCondLst>
                <p:childTnLst>
                  <p:par>
                    <p:cTn id="205" fill="hold">
                      <p:stCondLst>
                        <p:cond evt="onClick">
                          <p:tgtEl>
                            <p:spTgt spid="434"/>
                          </p:tgtEl>
                        </p:cond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3.7037E-006 L -0.34635 -0.01041 E">
                                      <p:cBhvr>
                                        <p:cTn id="208" dur="2000" fill="hold"/>
                                        <p:tgtEl>
                                          <p:spTgt spid="4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240" y="28080"/>
            <a:ext cx="7467480" cy="8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Arial Black"/>
              </a:rPr>
              <a:t>Diapositive N° 1 - Résultat</a:t>
            </a:r>
            <a:br>
              <a:rPr sz="2600"/>
            </a:br>
            <a:r>
              <a:rPr b="0" lang="en-US" sz="2600" spc="-1" strike="noStrike">
                <a:solidFill>
                  <a:srgbClr val="0033cc"/>
                </a:solidFill>
                <a:latin typeface="Arial Black"/>
              </a:rPr>
              <a:t>Score actuel = 0 point</a:t>
            </a:r>
            <a:endParaRPr b="0" lang="en-US" sz="2600" spc="-1" strike="noStrike">
              <a:solidFill>
                <a:srgbClr val="003300"/>
              </a:solidFill>
              <a:latin typeface="Arial Black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638280" y="1052640"/>
            <a:ext cx="3390840" cy="51847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6723000" y="1295280"/>
            <a:ext cx="920880" cy="9702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5499000" y="1295280"/>
            <a:ext cx="870120" cy="95904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4419720" y="1295280"/>
            <a:ext cx="793800" cy="9907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5"/>
          <a:stretch/>
        </p:blipFill>
        <p:spPr>
          <a:xfrm>
            <a:off x="5572080" y="2514600"/>
            <a:ext cx="750960" cy="10080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6"/>
          <a:stretch/>
        </p:blipFill>
        <p:spPr>
          <a:xfrm>
            <a:off x="4419720" y="2514600"/>
            <a:ext cx="792000" cy="10080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7"/>
          <a:stretch/>
        </p:blipFill>
        <p:spPr>
          <a:xfrm>
            <a:off x="6727680" y="2514600"/>
            <a:ext cx="968400" cy="1079640"/>
          </a:xfrm>
          <a:prstGeom prst="rect">
            <a:avLst/>
          </a:prstGeom>
          <a:ln w="0">
            <a:noFill/>
          </a:ln>
        </p:spPr>
      </p:pic>
      <p:sp>
        <p:nvSpPr>
          <p:cNvPr id="113" name="">
            <a:hlinkClick r:id="rId8" action="ppaction://hlinksldjump"/>
          </p:cNvPr>
          <p:cNvSpPr/>
          <p:nvPr/>
        </p:nvSpPr>
        <p:spPr>
          <a:xfrm>
            <a:off x="4267080" y="5791320"/>
            <a:ext cx="1008360" cy="504720"/>
          </a:xfrm>
          <a:custGeom>
            <a:avLst/>
            <a:gdLst>
              <a:gd name="textAreaLeft" fmla="*/ 32400 w 1008360"/>
              <a:gd name="textAreaRight" fmla="*/ 975960 w 100836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43138" h="21600">
                <a:moveTo>
                  <a:pt x="0" y="0"/>
                </a:moveTo>
                <a:lnTo>
                  <a:pt x="43138" y="0"/>
                </a:lnTo>
                <a:lnTo>
                  <a:pt x="43138" y="21600"/>
                </a:lnTo>
                <a:lnTo>
                  <a:pt x="0" y="21600"/>
                </a:lnTo>
                <a:close/>
              </a:path>
              <a:path fill="lightenLess" w="43138" h="21600">
                <a:moveTo>
                  <a:pt x="0" y="0"/>
                </a:moveTo>
                <a:lnTo>
                  <a:pt x="43138" y="0"/>
                </a:lnTo>
                <a:lnTo>
                  <a:pt x="41738" y="1400"/>
                </a:lnTo>
                <a:lnTo>
                  <a:pt x="1400" y="1400"/>
                </a:lnTo>
                <a:close/>
              </a:path>
              <a:path fill="darken" w="43138" h="21600">
                <a:moveTo>
                  <a:pt x="43138" y="0"/>
                </a:moveTo>
                <a:lnTo>
                  <a:pt x="43138" y="21600"/>
                </a:lnTo>
                <a:lnTo>
                  <a:pt x="41738" y="20200"/>
                </a:lnTo>
                <a:lnTo>
                  <a:pt x="41738" y="1400"/>
                </a:lnTo>
                <a:close/>
              </a:path>
              <a:path fill="darkenLess" w="43138" h="21600">
                <a:moveTo>
                  <a:pt x="431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38" y="20200"/>
                </a:lnTo>
                <a:close/>
              </a:path>
              <a:path fill="lighten" w="431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38" h="21600">
                <a:moveTo>
                  <a:pt x="14563" y="3794"/>
                </a:moveTo>
                <a:lnTo>
                  <a:pt x="28576" y="10800"/>
                </a:lnTo>
                <a:lnTo>
                  <a:pt x="14563" y="17806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9"/>
          <a:stretch/>
        </p:blipFill>
        <p:spPr>
          <a:xfrm>
            <a:off x="1066680" y="4746600"/>
            <a:ext cx="914400" cy="89208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5257800" y="83808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Lucida Handwriting"/>
              </a:rPr>
              <a:t>Perd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419720" y="4005360"/>
            <a:ext cx="2950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rreur 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ilà la bonne réponse 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1066680"/>
            <a:ext cx="1447560" cy="137160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G Produc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422600" cy="6629400"/>
          </a:xfrm>
          <a:prstGeom prst="rect">
            <a:avLst/>
          </a:prstGeom>
          <a:ln w="0">
            <a:noFill/>
          </a:ln>
        </p:spPr>
      </p:pic>
      <p:pic>
        <p:nvPicPr>
          <p:cNvPr id="518" name="" descr=""/>
          <p:cNvPicPr/>
          <p:nvPr/>
        </p:nvPicPr>
        <p:blipFill>
          <a:blip r:embed="rId2"/>
          <a:stretch/>
        </p:blipFill>
        <p:spPr>
          <a:xfrm>
            <a:off x="6858000" y="3692520"/>
            <a:ext cx="976320" cy="1112760"/>
          </a:xfrm>
          <a:prstGeom prst="rect">
            <a:avLst/>
          </a:prstGeom>
          <a:ln w="0">
            <a:noFill/>
          </a:ln>
        </p:spPr>
      </p:pic>
      <p:pic>
        <p:nvPicPr>
          <p:cNvPr id="519" name="" descr=""/>
          <p:cNvPicPr/>
          <p:nvPr/>
        </p:nvPicPr>
        <p:blipFill>
          <a:blip r:embed="rId3"/>
          <a:stretch/>
        </p:blipFill>
        <p:spPr>
          <a:xfrm>
            <a:off x="5105520" y="1101600"/>
            <a:ext cx="903240" cy="1113120"/>
          </a:xfrm>
          <a:prstGeom prst="rect">
            <a:avLst/>
          </a:prstGeom>
          <a:ln w="0">
            <a:noFill/>
          </a:ln>
        </p:spPr>
      </p:pic>
      <p:pic>
        <p:nvPicPr>
          <p:cNvPr id="520" name="" descr=""/>
          <p:cNvPicPr/>
          <p:nvPr/>
        </p:nvPicPr>
        <p:blipFill>
          <a:blip r:embed="rId4"/>
          <a:stretch/>
        </p:blipFill>
        <p:spPr>
          <a:xfrm>
            <a:off x="6829560" y="1066680"/>
            <a:ext cx="963360" cy="1113120"/>
          </a:xfrm>
          <a:prstGeom prst="rect">
            <a:avLst/>
          </a:prstGeom>
          <a:ln w="0">
            <a:noFill/>
          </a:ln>
        </p:spPr>
      </p:pic>
      <p:pic>
        <p:nvPicPr>
          <p:cNvPr id="521" name="" descr=""/>
          <p:cNvPicPr/>
          <p:nvPr/>
        </p:nvPicPr>
        <p:blipFill>
          <a:blip r:embed="rId5"/>
          <a:stretch/>
        </p:blipFill>
        <p:spPr>
          <a:xfrm>
            <a:off x="5116680" y="2397240"/>
            <a:ext cx="903240" cy="1112760"/>
          </a:xfrm>
          <a:prstGeom prst="rect">
            <a:avLst/>
          </a:prstGeom>
          <a:ln w="0">
            <a:noFill/>
          </a:ln>
        </p:spPr>
      </p:pic>
      <p:pic>
        <p:nvPicPr>
          <p:cNvPr id="522" name="" descr=""/>
          <p:cNvPicPr/>
          <p:nvPr/>
        </p:nvPicPr>
        <p:blipFill>
          <a:blip r:embed="rId6"/>
          <a:stretch/>
        </p:blipFill>
        <p:spPr>
          <a:xfrm>
            <a:off x="6858000" y="2397240"/>
            <a:ext cx="903240" cy="11127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2133720" y="-76680"/>
            <a:ext cx="4114800" cy="11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 Black"/>
              </a:rPr>
              <a:t>Diapositive N° 5 - Résultat</a:t>
            </a:r>
            <a:br>
              <a:rPr sz="2400"/>
            </a:br>
            <a:r>
              <a:rPr b="0" lang="en-US" sz="2400" spc="-1" strike="noStrike">
                <a:solidFill>
                  <a:srgbClr val="0033cc"/>
                </a:solidFill>
                <a:latin typeface="Arial Black"/>
              </a:rPr>
              <a:t>Score actuel = 2 points</a:t>
            </a:r>
            <a:endParaRPr b="0" lang="en-US" sz="2400" spc="-1" strike="noStrike">
              <a:solidFill>
                <a:srgbClr val="003300"/>
              </a:solidFill>
              <a:latin typeface="Arial Black"/>
            </a:endParaRPr>
          </a:p>
        </p:txBody>
      </p:sp>
      <p:pic>
        <p:nvPicPr>
          <p:cNvPr id="524" name="" descr=""/>
          <p:cNvPicPr/>
          <p:nvPr/>
        </p:nvPicPr>
        <p:blipFill>
          <a:blip r:embed="rId7"/>
          <a:stretch/>
        </p:blipFill>
        <p:spPr>
          <a:xfrm>
            <a:off x="1600200" y="5257800"/>
            <a:ext cx="1031760" cy="1076400"/>
          </a:xfrm>
          <a:prstGeom prst="rect">
            <a:avLst/>
          </a:prstGeom>
          <a:ln w="0">
            <a:noFill/>
          </a:ln>
        </p:spPr>
      </p:pic>
      <p:pic>
        <p:nvPicPr>
          <p:cNvPr id="525" name="" descr=""/>
          <p:cNvPicPr/>
          <p:nvPr/>
        </p:nvPicPr>
        <p:blipFill>
          <a:blip r:embed="rId8"/>
          <a:stretch/>
        </p:blipFill>
        <p:spPr>
          <a:xfrm>
            <a:off x="5105520" y="3692520"/>
            <a:ext cx="1066680" cy="1112760"/>
          </a:xfrm>
          <a:prstGeom prst="rect">
            <a:avLst/>
          </a:prstGeom>
          <a:ln w="0">
            <a:noFill/>
          </a:ln>
        </p:spPr>
      </p:pic>
      <p:sp>
        <p:nvSpPr>
          <p:cNvPr id="526" name=""/>
          <p:cNvSpPr/>
          <p:nvPr/>
        </p:nvSpPr>
        <p:spPr>
          <a:xfrm>
            <a:off x="4495680" y="5181480"/>
            <a:ext cx="3573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h 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u commences à t’intéresser 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6188040" y="45720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Lucida Handwriting"/>
              </a:rPr>
              <a:t>GAG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>
            <a:hlinkClick r:id="rId9" action="ppaction://hlinksldjump"/>
          </p:cNvPr>
          <p:cNvSpPr/>
          <p:nvPr/>
        </p:nvSpPr>
        <p:spPr>
          <a:xfrm>
            <a:off x="5791320" y="6348240"/>
            <a:ext cx="1008000" cy="505080"/>
          </a:xfrm>
          <a:custGeom>
            <a:avLst/>
            <a:gdLst>
              <a:gd name="textAreaLeft" fmla="*/ 32760 w 1008000"/>
              <a:gd name="textAreaRight" fmla="*/ 975600 w 1008000"/>
              <a:gd name="textAreaTop" fmla="*/ 32760 h 505080"/>
              <a:gd name="textAreaBottom" fmla="*/ 472680 h 505080"/>
            </a:gdLst>
            <a:ahLst/>
            <a:rect l="textAreaLeft" t="textAreaTop" r="textAreaRight" b="textAreaBottom"/>
            <a:pathLst>
              <a:path w="43092" h="21600">
                <a:moveTo>
                  <a:pt x="0" y="0"/>
                </a:moveTo>
                <a:lnTo>
                  <a:pt x="43092" y="0"/>
                </a:lnTo>
                <a:lnTo>
                  <a:pt x="43092" y="21600"/>
                </a:lnTo>
                <a:lnTo>
                  <a:pt x="0" y="21600"/>
                </a:lnTo>
                <a:close/>
              </a:path>
              <a:path fill="lightenLess" w="43092" h="21600">
                <a:moveTo>
                  <a:pt x="0" y="0"/>
                </a:moveTo>
                <a:lnTo>
                  <a:pt x="43092" y="0"/>
                </a:lnTo>
                <a:lnTo>
                  <a:pt x="41692" y="1400"/>
                </a:lnTo>
                <a:lnTo>
                  <a:pt x="1400" y="1400"/>
                </a:lnTo>
                <a:close/>
              </a:path>
              <a:path fill="darken" w="43092" h="21600">
                <a:moveTo>
                  <a:pt x="43092" y="0"/>
                </a:moveTo>
                <a:lnTo>
                  <a:pt x="43092" y="21600"/>
                </a:lnTo>
                <a:lnTo>
                  <a:pt x="41692" y="20200"/>
                </a:lnTo>
                <a:lnTo>
                  <a:pt x="41692" y="1400"/>
                </a:lnTo>
                <a:close/>
              </a:path>
              <a:path fill="darkenLess" w="43092" h="21600">
                <a:moveTo>
                  <a:pt x="430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92" y="20200"/>
                </a:lnTo>
                <a:close/>
              </a:path>
              <a:path fill="lighten" w="430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92" h="21600">
                <a:moveTo>
                  <a:pt x="14540" y="3794"/>
                </a:moveTo>
                <a:lnTo>
                  <a:pt x="28553" y="10800"/>
                </a:lnTo>
                <a:lnTo>
                  <a:pt x="14540" y="17806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4800600" y="3581280"/>
            <a:ext cx="1600200" cy="144792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G Produc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restart="whenNotActive" nodeType="interactiveSeq" fill="hold">
                <p:stCondLst>
                  <p:cond evt="onClick">
                    <p:tgtEl>
                      <p:spTgt spid="435"/>
                    </p:tgtEl>
                  </p:cond>
                </p:stCondLst>
                <p:childTnLst>
                  <p:par>
                    <p:cTn id="211" fill="hold">
                      <p:stCondLst>
                        <p:cond evt="onClick">
                          <p:tgtEl>
                            <p:spTgt spid="435"/>
                          </p:tgtEl>
                        </p:cond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path" presetID="2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38 0 0.069 0.04133 0.069 0.092 C 0.069 0.12533 0.056 0.15467 0.037 0.172 L 0.036 0.172 C 0.029 0.17867 0.025 0.18933 0.025 0.20133 C 0.025 0.212 0.029 0.22133 0.034 0.228 C 0.042 0.23867 0.047 0.25467 0.047 0.27067 C 0.047 0.30533 0.026 0.33333 0 0.33333 C -0.026 0.33333 -0.047 0.30533 -0.047 0.27067 C -0.047 0.25467 -0.042 0.23867 -0.034 0.228 C -0.029 0.22133 -0.026 0.212 -0.026 0.20133 C -0.026 0.18933 -0.03 0.17867 -0.036 0.172 L -0.037 0.172 C -0.057 0.15467 -0.07 0.12533 -0.07 0.092 C -0.07 0.04133 -0.039 0 0 0 Z">
                                      <p:cBhvr>
                                        <p:cTn id="214" dur="2000" fill="hold"/>
                                        <p:tgtEl>
                                          <p:spTgt spid="4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5" restart="whenNotActive" nodeType="interactiveSeq" fill="hold">
                <p:stCondLst>
                  <p:cond evt="onClick">
                    <p:tgtEl>
                      <p:spTgt spid="436"/>
                    </p:tgtEl>
                  </p:cond>
                </p:stCondLst>
                <p:childTnLst>
                  <p:par>
                    <p:cTn id="216" fill="hold">
                      <p:stCondLst>
                        <p:cond evt="onClick">
                          <p:tgtEl>
                            <p:spTgt spid="436"/>
                          </p:tgtEl>
                        </p:cond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path" presetID="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14 -0.00667 -0.029 -0.012 -0.044 -0.012 C -0.114 -0.012 -0.169 0.064 -0.169 0.156 C -0.169 0.24667 -0.114 0.32133 -0.044 0.32133 C -0.029 0.32133 -0.014 0.31733 0 0.31067 C -0.047 0.28667 -0.08 0.22667 -0.08 0.156 C -0.08 0.084 -0.047 0.024 0 0 Z">
                                      <p:cBhvr>
                                        <p:cTn id="219" dur="2000" fill="hold"/>
                                        <p:tgtEl>
                                          <p:spTgt spid="4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0" restart="whenNotActive" nodeType="interactiveSeq" fill="hold">
                <p:stCondLst>
                  <p:cond evt="onClick">
                    <p:tgtEl>
                      <p:spTgt spid="437"/>
                    </p:tgtEl>
                  </p:cond>
                </p:stCondLst>
                <p:childTnLst>
                  <p:par>
                    <p:cTn id="221" fill="hold">
                      <p:stCondLst>
                        <p:cond evt="onClick">
                          <p:tgtEl>
                            <p:spTgt spid="437"/>
                          </p:tgtEl>
                        </p:cond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path" presetID="5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07407E-006 C -0.0007 0.05092 0.04305 0.09583 0.09809 0.09745 C 0.14184 0.10185 0.1776 0.07731 0.17847 0.04676 C 0.17847 0.01643 0.14323 -0.01227 0.09896 -0.01389 C 0.07656 -0.01389 0.05659 -0.01019 0.04218 4.07407E-006 C 0.02153 0.01412 0.00937 0.0368 0.00937 0.06319 C 0.00937 0.07731 0.01284 0.09143 0.01944 0.10393 C 0.03437 0.13032 0.06371 0.14838 0.09739 0.15046 C 0.1368 0.15463 0.16909 0.13217 0.16909 0.10601 C 0.16979 0.07731 0.1375 0.05301 0.09809 0.04884 C 0.07812 0.04884 0.06024 0.05301 0.04653 0.06111 C 0.02864 0.07523 0.01718 0.09745 0.01718 0.12013 C 0.01718 0.13217 0.02066 0.14444 0.02639 0.15671 C 0.0401 0.17916 0.06597 0.19745 0.0967 0.19907 C 0.13264 0.20138 0.16128 0.18125 0.16128 0.15671 C 0.16198 0.13217 0.13316 0.10995 0.09739 0.10787 C 0.07951 0.10601 0.06302 0.10995 0.05087 0.11805 C 0.03437 0.13032 0.02517 0.14838 0.02517 0.17083 C 0.02517 0.18125 0.02795 0.19305 0.03298 0.20347 C 0.04514 0.22384 0.06875 0.24004 0.096 0.24189 C 0.1283 0.24189 0.15399 0.22569 0.15399 0.20347 C 0.15399 0.18125 0.12899 0.16064 0.0967 0.15856 C 0.0809 0.15856 0.06597 0.16273 0.05521 0.16875 C 0.0401 0.17916 0.03142 0.19745 0.0309 0.21574 C 0.0309 0.22569 0.03437 0.23588 0.03871 0.24398 C 0.0493 0.26435 0.07083 0.27847 0.09531 0.27847 C 0.12396 0.28078 0.14757 0.26666 0.14757 0.24606 C 0.14826 0.22569 0.12465 0.20763 0.096 0.20555 C 0.08177 0.20555 0.06805 0.20763 0.05868 0.21574 C 0.04514 0.22384 0.03732 0.24004 0.03732 0.25625 C 0.03732 0.26666 0.03941 0.27476 0.04357 0.28287 C 0.05364 0.30092 0.07239 0.31319 0.09444 0.31527 C 0.121 0.31527 0.14184 0.30301 0.14184 0.28449 C 0.14253 0.26666 0.1217 0.25 0.09531 0.24814 C 0.08229 0.24814 0.07083 0.25 0.06232 0.25625 C 0.05017 0.26435 0.04305 0.27847 0.04305 0.2949 C 0.04305 0.30301 0.04514 0.30926 0.04878 0.31736 C 0.05729 0.33356 0.07448 0.34351 0.09444 0.3456 C 0.11823 0.34768 0.1368 0.33541 0.1368 0.31736 C 0.1368 0.30301 0.11892 0.2868 0.09531 0.2868 C 0.08316 0.28449 0.07239 0.28888 0.06441 0.29259 C 0.05364 0.30092 0.04722 0.31319 0.04722 0.32731 C 0.04722 0.33541 0.0493 0.34166 0.05295 0.34768 C 0.06093 0.3618 0.07656 0.37222 0.09392 0.3743 C 0.11528 0.37638 0.13264 0.36388 0.13264 0.34976 C 0.13264 0.33356 0.11528 0.32129 0.09444 0.31921 C 0.08455 0.31921 0.07448 0.32129 0.06736 0.32731 C 0.05729 0.33356 0.05156 0.34351 0.05156 0.3581 C 0.05156 0.36388 0.05364 0.3699 0.05659 0.37638 C 0.06371 0.38842 0.07743 0.39861 0.09392 0.39861 C 0.1125 0.40069 0.1283 0.39051 0.1283 0.37638 C 0.1283 0.36388 0.11319 0.35162 0.09392 0.35162 C 0.08524 0.34976 0.07604 0.35162 0.06944 0.35578 C 0.06093 0.36388 0.0559 0.3743 0.0559 0.38449 C 0.0559 0.39051 0.05729 0.39652 0.06024 0.40069 C 0.06666 0.41273 0.07882 0.42083 0.09392 0.42291 C 0.11111 0.42291 0.12465 0.41273 0.12465 0.40254 C 0.12465 0.39051 0.11111 0.37801 0.09392 0.37801 C 0.08524 0.37801 0.07743 0.38032 0.07239 0.38449 C 0.06371 0.38842 0.05937 0.39861 0.05937 0.40879 C 0.05937 0.41273 0.06093 0.41898 0.06302 0.42291 C 0.06875 0.43518 0.08021 0.4412 0.09323 0.44351 C 0.10903 0.44351 0.121 0.43518 0.121 0.425 C 0.121 0.41273 0.10903 0.40463 0.09392 0.40254 C 0.08593 0.40254 0.07882 0.40463 0.07378 0.40879 C 0.06666 0.41273 0.06232 0.42083 0.06232 0.43101 C 0.06232 0.43518 0.06371 0.43912 0.06597 0.44351 E">
                                      <p:cBhvr>
                                        <p:cTn id="224" dur="2000" fill="hold"/>
                                        <p:tgtEl>
                                          <p:spTgt spid="4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5" restart="whenNotActive" nodeType="interactiveSeq" fill="hold">
                <p:stCondLst>
                  <p:cond evt="onClick">
                    <p:tgtEl>
                      <p:spTgt spid="438"/>
                    </p:tgtEl>
                  </p:cond>
                </p:stCondLst>
                <p:childTnLst>
                  <p:par>
                    <p:cTn id="226" fill="hold">
                      <p:stCondLst>
                        <p:cond evt="onClick">
                          <p:tgtEl>
                            <p:spTgt spid="438"/>
                          </p:tgtEl>
                        </p:cond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82 0.03148 L -0.00382 0.40949 E">
                                      <p:cBhvr>
                                        <p:cTn id="229" dur="2000" fill="hold"/>
                                        <p:tgtEl>
                                          <p:spTgt spid="4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0" restart="whenNotActive" nodeType="interactiveSeq" fill="hold">
                <p:stCondLst>
                  <p:cond evt="onClick">
                    <p:tgtEl>
                      <p:spTgt spid="434"/>
                    </p:tgtEl>
                  </p:cond>
                </p:stCondLst>
                <p:childTnLst>
                  <p:par>
                    <p:cTn id="231" fill="hold">
                      <p:stCondLst>
                        <p:cond evt="onClick">
                          <p:tgtEl>
                            <p:spTgt spid="434"/>
                          </p:tgtEl>
                        </p:cond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3.7037E-006 L -0.34635 -0.01041 E">
                                      <p:cBhvr>
                                        <p:cTn id="234" dur="2000" fill="hold"/>
                                        <p:tgtEl>
                                          <p:spTgt spid="4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422600" cy="6629400"/>
          </a:xfrm>
          <a:prstGeom prst="rect">
            <a:avLst/>
          </a:prstGeom>
          <a:ln w="0">
            <a:noFill/>
          </a:ln>
        </p:spPr>
      </p:pic>
      <p:pic>
        <p:nvPicPr>
          <p:cNvPr id="531" name="" descr=""/>
          <p:cNvPicPr/>
          <p:nvPr/>
        </p:nvPicPr>
        <p:blipFill>
          <a:blip r:embed="rId2"/>
          <a:stretch/>
        </p:blipFill>
        <p:spPr>
          <a:xfrm>
            <a:off x="6858000" y="3692520"/>
            <a:ext cx="976320" cy="1112760"/>
          </a:xfrm>
          <a:prstGeom prst="rect">
            <a:avLst/>
          </a:prstGeom>
          <a:ln w="0">
            <a:noFill/>
          </a:ln>
        </p:spPr>
      </p:pic>
      <p:pic>
        <p:nvPicPr>
          <p:cNvPr id="532" name="" descr=""/>
          <p:cNvPicPr/>
          <p:nvPr/>
        </p:nvPicPr>
        <p:blipFill>
          <a:blip r:embed="rId3"/>
          <a:stretch/>
        </p:blipFill>
        <p:spPr>
          <a:xfrm>
            <a:off x="5105520" y="1101600"/>
            <a:ext cx="903240" cy="1113120"/>
          </a:xfrm>
          <a:prstGeom prst="rect">
            <a:avLst/>
          </a:prstGeom>
          <a:ln w="0">
            <a:noFill/>
          </a:ln>
        </p:spPr>
      </p:pic>
      <p:pic>
        <p:nvPicPr>
          <p:cNvPr id="533" name="" descr=""/>
          <p:cNvPicPr/>
          <p:nvPr/>
        </p:nvPicPr>
        <p:blipFill>
          <a:blip r:embed="rId4"/>
          <a:stretch/>
        </p:blipFill>
        <p:spPr>
          <a:xfrm>
            <a:off x="6829560" y="1066680"/>
            <a:ext cx="963360" cy="1113120"/>
          </a:xfrm>
          <a:prstGeom prst="rect">
            <a:avLst/>
          </a:prstGeom>
          <a:ln w="0">
            <a:noFill/>
          </a:ln>
        </p:spPr>
      </p:pic>
      <p:pic>
        <p:nvPicPr>
          <p:cNvPr id="534" name="" descr=""/>
          <p:cNvPicPr/>
          <p:nvPr/>
        </p:nvPicPr>
        <p:blipFill>
          <a:blip r:embed="rId5"/>
          <a:stretch/>
        </p:blipFill>
        <p:spPr>
          <a:xfrm>
            <a:off x="5116680" y="2397240"/>
            <a:ext cx="903240" cy="1112760"/>
          </a:xfrm>
          <a:prstGeom prst="rect">
            <a:avLst/>
          </a:prstGeom>
          <a:ln w="0">
            <a:noFill/>
          </a:ln>
        </p:spPr>
      </p:pic>
      <p:pic>
        <p:nvPicPr>
          <p:cNvPr id="535" name="" descr=""/>
          <p:cNvPicPr/>
          <p:nvPr/>
        </p:nvPicPr>
        <p:blipFill>
          <a:blip r:embed="rId6"/>
          <a:stretch/>
        </p:blipFill>
        <p:spPr>
          <a:xfrm>
            <a:off x="6858000" y="2397240"/>
            <a:ext cx="903240" cy="1112760"/>
          </a:xfrm>
          <a:prstGeom prst="rect">
            <a:avLst/>
          </a:prstGeom>
          <a:ln w="0">
            <a:noFill/>
          </a:ln>
        </p:spPr>
      </p:pic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2133720" y="-76680"/>
            <a:ext cx="4114800" cy="11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 Black"/>
              </a:rPr>
              <a:t>Diapositive N° 5 - Résultat</a:t>
            </a:r>
            <a:br>
              <a:rPr sz="2400"/>
            </a:br>
            <a:r>
              <a:rPr b="0" lang="en-US" sz="2400" spc="-1" strike="noStrike">
                <a:solidFill>
                  <a:srgbClr val="0033cc"/>
                </a:solidFill>
                <a:latin typeface="Arial Black"/>
              </a:rPr>
              <a:t>Score actuel = 2 points</a:t>
            </a:r>
            <a:endParaRPr b="0" lang="en-US" sz="2400" spc="-1" strike="noStrike">
              <a:solidFill>
                <a:srgbClr val="003300"/>
              </a:solidFill>
              <a:latin typeface="Arial Black"/>
            </a:endParaRPr>
          </a:p>
        </p:txBody>
      </p:sp>
      <p:pic>
        <p:nvPicPr>
          <p:cNvPr id="537" name="" descr=""/>
          <p:cNvPicPr/>
          <p:nvPr/>
        </p:nvPicPr>
        <p:blipFill>
          <a:blip r:embed="rId7"/>
          <a:stretch/>
        </p:blipFill>
        <p:spPr>
          <a:xfrm>
            <a:off x="1600200" y="5257800"/>
            <a:ext cx="1030320" cy="1074600"/>
          </a:xfrm>
          <a:prstGeom prst="rect">
            <a:avLst/>
          </a:prstGeom>
          <a:ln w="0">
            <a:noFill/>
          </a:ln>
        </p:spPr>
      </p:pic>
      <p:pic>
        <p:nvPicPr>
          <p:cNvPr id="538" name="" descr=""/>
          <p:cNvPicPr/>
          <p:nvPr/>
        </p:nvPicPr>
        <p:blipFill>
          <a:blip r:embed="rId8"/>
          <a:stretch/>
        </p:blipFill>
        <p:spPr>
          <a:xfrm>
            <a:off x="5105520" y="3692520"/>
            <a:ext cx="1066680" cy="1112760"/>
          </a:xfrm>
          <a:prstGeom prst="rect">
            <a:avLst/>
          </a:prstGeom>
          <a:ln w="0">
            <a:noFill/>
          </a:ln>
        </p:spPr>
      </p:pic>
      <p:sp>
        <p:nvSpPr>
          <p:cNvPr id="539" name=""/>
          <p:cNvSpPr/>
          <p:nvPr/>
        </p:nvSpPr>
        <p:spPr>
          <a:xfrm>
            <a:off x="4495680" y="5105520"/>
            <a:ext cx="35737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core une erreur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 ne t’intéresses pas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gardes la réponse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6188040" y="38088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Lucida Handwriting"/>
              </a:rPr>
              <a:t>Perd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4800600" y="3581280"/>
            <a:ext cx="1600200" cy="144792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>
            <a:hlinkClick r:id="rId9" action="ppaction://hlinksldjump"/>
          </p:cNvPr>
          <p:cNvSpPr/>
          <p:nvPr/>
        </p:nvSpPr>
        <p:spPr>
          <a:xfrm>
            <a:off x="5791320" y="6348240"/>
            <a:ext cx="1008000" cy="505080"/>
          </a:xfrm>
          <a:custGeom>
            <a:avLst/>
            <a:gdLst>
              <a:gd name="textAreaLeft" fmla="*/ 32760 w 1008000"/>
              <a:gd name="textAreaRight" fmla="*/ 975600 w 1008000"/>
              <a:gd name="textAreaTop" fmla="*/ 32760 h 505080"/>
              <a:gd name="textAreaBottom" fmla="*/ 472680 h 505080"/>
            </a:gdLst>
            <a:ahLst/>
            <a:rect l="textAreaLeft" t="textAreaTop" r="textAreaRight" b="textAreaBottom"/>
            <a:pathLst>
              <a:path w="43092" h="21600">
                <a:moveTo>
                  <a:pt x="0" y="0"/>
                </a:moveTo>
                <a:lnTo>
                  <a:pt x="43092" y="0"/>
                </a:lnTo>
                <a:lnTo>
                  <a:pt x="43092" y="21600"/>
                </a:lnTo>
                <a:lnTo>
                  <a:pt x="0" y="21600"/>
                </a:lnTo>
                <a:close/>
              </a:path>
              <a:path fill="lightenLess" w="43092" h="21600">
                <a:moveTo>
                  <a:pt x="0" y="0"/>
                </a:moveTo>
                <a:lnTo>
                  <a:pt x="43092" y="0"/>
                </a:lnTo>
                <a:lnTo>
                  <a:pt x="41692" y="1400"/>
                </a:lnTo>
                <a:lnTo>
                  <a:pt x="1400" y="1400"/>
                </a:lnTo>
                <a:close/>
              </a:path>
              <a:path fill="darken" w="43092" h="21600">
                <a:moveTo>
                  <a:pt x="43092" y="0"/>
                </a:moveTo>
                <a:lnTo>
                  <a:pt x="43092" y="21600"/>
                </a:lnTo>
                <a:lnTo>
                  <a:pt x="41692" y="20200"/>
                </a:lnTo>
                <a:lnTo>
                  <a:pt x="41692" y="1400"/>
                </a:lnTo>
                <a:close/>
              </a:path>
              <a:path fill="darkenLess" w="43092" h="21600">
                <a:moveTo>
                  <a:pt x="430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92" y="20200"/>
                </a:lnTo>
                <a:close/>
              </a:path>
              <a:path fill="lighten" w="430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92" h="21600">
                <a:moveTo>
                  <a:pt x="14540" y="3794"/>
                </a:moveTo>
                <a:lnTo>
                  <a:pt x="28553" y="10800"/>
                </a:lnTo>
                <a:lnTo>
                  <a:pt x="14540" y="17806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G Produc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restart="whenNotActive" nodeType="interactiveSeq" fill="hold">
                <p:stCondLst>
                  <p:cond evt="onClick">
                    <p:tgtEl>
                      <p:spTgt spid="435"/>
                    </p:tgtEl>
                  </p:cond>
                </p:stCondLst>
                <p:childTnLst>
                  <p:par>
                    <p:cTn id="237" fill="hold">
                      <p:stCondLst>
                        <p:cond evt="onClick">
                          <p:tgtEl>
                            <p:spTgt spid="435"/>
                          </p:tgtEl>
                        </p:cond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path" presetID="2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38 0 0.069 0.04133 0.069 0.092 C 0.069 0.12533 0.056 0.15467 0.037 0.172 L 0.036 0.172 C 0.029 0.17867 0.025 0.18933 0.025 0.20133 C 0.025 0.212 0.029 0.22133 0.034 0.228 C 0.042 0.23867 0.047 0.25467 0.047 0.27067 C 0.047 0.30533 0.026 0.33333 0 0.33333 C -0.026 0.33333 -0.047 0.30533 -0.047 0.27067 C -0.047 0.25467 -0.042 0.23867 -0.034 0.228 C -0.029 0.22133 -0.026 0.212 -0.026 0.20133 C -0.026 0.18933 -0.03 0.17867 -0.036 0.172 L -0.037 0.172 C -0.057 0.15467 -0.07 0.12533 -0.07 0.092 C -0.07 0.04133 -0.039 0 0 0 Z">
                                      <p:cBhvr>
                                        <p:cTn id="240" dur="2000" fill="hold"/>
                                        <p:tgtEl>
                                          <p:spTgt spid="4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1" restart="whenNotActive" nodeType="interactiveSeq" fill="hold">
                <p:stCondLst>
                  <p:cond evt="onClick">
                    <p:tgtEl>
                      <p:spTgt spid="436"/>
                    </p:tgtEl>
                  </p:cond>
                </p:stCondLst>
                <p:childTnLst>
                  <p:par>
                    <p:cTn id="242" fill="hold">
                      <p:stCondLst>
                        <p:cond evt="onClick">
                          <p:tgtEl>
                            <p:spTgt spid="436"/>
                          </p:tgtEl>
                        </p:cond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path" presetID="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14 -0.00667 -0.029 -0.012 -0.044 -0.012 C -0.114 -0.012 -0.169 0.064 -0.169 0.156 C -0.169 0.24667 -0.114 0.32133 -0.044 0.32133 C -0.029 0.32133 -0.014 0.31733 0 0.31067 C -0.047 0.28667 -0.08 0.22667 -0.08 0.156 C -0.08 0.084 -0.047 0.024 0 0 Z">
                                      <p:cBhvr>
                                        <p:cTn id="245" dur="2000" fill="hold"/>
                                        <p:tgtEl>
                                          <p:spTgt spid="4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6" restart="whenNotActive" nodeType="interactiveSeq" fill="hold">
                <p:stCondLst>
                  <p:cond evt="onClick">
                    <p:tgtEl>
                      <p:spTgt spid="437"/>
                    </p:tgtEl>
                  </p:cond>
                </p:stCondLst>
                <p:childTnLst>
                  <p:par>
                    <p:cTn id="247" fill="hold">
                      <p:stCondLst>
                        <p:cond evt="onClick">
                          <p:tgtEl>
                            <p:spTgt spid="437"/>
                          </p:tgtEl>
                        </p:cond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path" presetID="5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07407E-006 C -0.0007 0.05092 0.04305 0.09583 0.09809 0.09745 C 0.14184 0.10185 0.1776 0.07731 0.17847 0.04676 C 0.17847 0.01643 0.14323 -0.01227 0.09896 -0.01389 C 0.07656 -0.01389 0.05659 -0.01019 0.04218 4.07407E-006 C 0.02153 0.01412 0.00937 0.0368 0.00937 0.06319 C 0.00937 0.07731 0.01284 0.09143 0.01944 0.10393 C 0.03437 0.13032 0.06371 0.14838 0.09739 0.15046 C 0.1368 0.15463 0.16909 0.13217 0.16909 0.10601 C 0.16979 0.07731 0.1375 0.05301 0.09809 0.04884 C 0.07812 0.04884 0.06024 0.05301 0.04653 0.06111 C 0.02864 0.07523 0.01718 0.09745 0.01718 0.12013 C 0.01718 0.13217 0.02066 0.14444 0.02639 0.15671 C 0.0401 0.17916 0.06597 0.19745 0.0967 0.19907 C 0.13264 0.20138 0.16128 0.18125 0.16128 0.15671 C 0.16198 0.13217 0.13316 0.10995 0.09739 0.10787 C 0.07951 0.10601 0.06302 0.10995 0.05087 0.11805 C 0.03437 0.13032 0.02517 0.14838 0.02517 0.17083 C 0.02517 0.18125 0.02795 0.19305 0.03298 0.20347 C 0.04514 0.22384 0.06875 0.24004 0.096 0.24189 C 0.1283 0.24189 0.15399 0.22569 0.15399 0.20347 C 0.15399 0.18125 0.12899 0.16064 0.0967 0.15856 C 0.0809 0.15856 0.06597 0.16273 0.05521 0.16875 C 0.0401 0.17916 0.03142 0.19745 0.0309 0.21574 C 0.0309 0.22569 0.03437 0.23588 0.03871 0.24398 C 0.0493 0.26435 0.07083 0.27847 0.09531 0.27847 C 0.12396 0.28078 0.14757 0.26666 0.14757 0.24606 C 0.14826 0.22569 0.12465 0.20763 0.096 0.20555 C 0.08177 0.20555 0.06805 0.20763 0.05868 0.21574 C 0.04514 0.22384 0.03732 0.24004 0.03732 0.25625 C 0.03732 0.26666 0.03941 0.27476 0.04357 0.28287 C 0.05364 0.30092 0.07239 0.31319 0.09444 0.31527 C 0.121 0.31527 0.14184 0.30301 0.14184 0.28449 C 0.14253 0.26666 0.1217 0.25 0.09531 0.24814 C 0.08229 0.24814 0.07083 0.25 0.06232 0.25625 C 0.05017 0.26435 0.04305 0.27847 0.04305 0.2949 C 0.04305 0.30301 0.04514 0.30926 0.04878 0.31736 C 0.05729 0.33356 0.07448 0.34351 0.09444 0.3456 C 0.11823 0.34768 0.1368 0.33541 0.1368 0.31736 C 0.1368 0.30301 0.11892 0.2868 0.09531 0.2868 C 0.08316 0.28449 0.07239 0.28888 0.06441 0.29259 C 0.05364 0.30092 0.04722 0.31319 0.04722 0.32731 C 0.04722 0.33541 0.0493 0.34166 0.05295 0.34768 C 0.06093 0.3618 0.07656 0.37222 0.09392 0.3743 C 0.11528 0.37638 0.13264 0.36388 0.13264 0.34976 C 0.13264 0.33356 0.11528 0.32129 0.09444 0.31921 C 0.08455 0.31921 0.07448 0.32129 0.06736 0.32731 C 0.05729 0.33356 0.05156 0.34351 0.05156 0.3581 C 0.05156 0.36388 0.05364 0.3699 0.05659 0.37638 C 0.06371 0.38842 0.07743 0.39861 0.09392 0.39861 C 0.1125 0.40069 0.1283 0.39051 0.1283 0.37638 C 0.1283 0.36388 0.11319 0.35162 0.09392 0.35162 C 0.08524 0.34976 0.07604 0.35162 0.06944 0.35578 C 0.06093 0.36388 0.0559 0.3743 0.0559 0.38449 C 0.0559 0.39051 0.05729 0.39652 0.06024 0.40069 C 0.06666 0.41273 0.07882 0.42083 0.09392 0.42291 C 0.11111 0.42291 0.12465 0.41273 0.12465 0.40254 C 0.12465 0.39051 0.11111 0.37801 0.09392 0.37801 C 0.08524 0.37801 0.07743 0.38032 0.07239 0.38449 C 0.06371 0.38842 0.05937 0.39861 0.05937 0.40879 C 0.05937 0.41273 0.06093 0.41898 0.06302 0.42291 C 0.06875 0.43518 0.08021 0.4412 0.09323 0.44351 C 0.10903 0.44351 0.121 0.43518 0.121 0.425 C 0.121 0.41273 0.10903 0.40463 0.09392 0.40254 C 0.08593 0.40254 0.07882 0.40463 0.07378 0.40879 C 0.06666 0.41273 0.06232 0.42083 0.06232 0.43101 C 0.06232 0.43518 0.06371 0.43912 0.06597 0.44351 E">
                                      <p:cBhvr>
                                        <p:cTn id="250" dur="2000" fill="hold"/>
                                        <p:tgtEl>
                                          <p:spTgt spid="4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1" restart="whenNotActive" nodeType="interactiveSeq" fill="hold">
                <p:stCondLst>
                  <p:cond evt="onClick">
                    <p:tgtEl>
                      <p:spTgt spid="438"/>
                    </p:tgtEl>
                  </p:cond>
                </p:stCondLst>
                <p:childTnLst>
                  <p:par>
                    <p:cTn id="252" fill="hold">
                      <p:stCondLst>
                        <p:cond evt="onClick">
                          <p:tgtEl>
                            <p:spTgt spid="438"/>
                          </p:tgtEl>
                        </p:cond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82 0.03148 L -0.00382 0.40949 E">
                                      <p:cBhvr>
                                        <p:cTn id="255" dur="2000" fill="hold"/>
                                        <p:tgtEl>
                                          <p:spTgt spid="4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6" restart="whenNotActive" nodeType="interactiveSeq" fill="hold">
                <p:stCondLst>
                  <p:cond evt="onClick">
                    <p:tgtEl>
                      <p:spTgt spid="434"/>
                    </p:tgtEl>
                  </p:cond>
                </p:stCondLst>
                <p:childTnLst>
                  <p:par>
                    <p:cTn id="257" fill="hold">
                      <p:stCondLst>
                        <p:cond evt="onClick">
                          <p:tgtEl>
                            <p:spTgt spid="434"/>
                          </p:tgtEl>
                        </p:cond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3.7037E-006 L -0.34635 -0.01041 E">
                                      <p:cBhvr>
                                        <p:cTn id="260" dur="2000" fill="hold"/>
                                        <p:tgtEl>
                                          <p:spTgt spid="4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422600" cy="6629400"/>
          </a:xfrm>
          <a:prstGeom prst="rect">
            <a:avLst/>
          </a:prstGeom>
          <a:ln w="0">
            <a:noFill/>
          </a:ln>
        </p:spPr>
      </p:pic>
      <p:pic>
        <p:nvPicPr>
          <p:cNvPr id="544" name="" descr=""/>
          <p:cNvPicPr/>
          <p:nvPr/>
        </p:nvPicPr>
        <p:blipFill>
          <a:blip r:embed="rId2"/>
          <a:stretch/>
        </p:blipFill>
        <p:spPr>
          <a:xfrm>
            <a:off x="6858000" y="3692520"/>
            <a:ext cx="976320" cy="1112760"/>
          </a:xfrm>
          <a:prstGeom prst="rect">
            <a:avLst/>
          </a:prstGeom>
          <a:ln w="0">
            <a:noFill/>
          </a:ln>
        </p:spPr>
      </p:pic>
      <p:pic>
        <p:nvPicPr>
          <p:cNvPr id="545" name="" descr=""/>
          <p:cNvPicPr/>
          <p:nvPr/>
        </p:nvPicPr>
        <p:blipFill>
          <a:blip r:embed="rId3"/>
          <a:stretch/>
        </p:blipFill>
        <p:spPr>
          <a:xfrm>
            <a:off x="5105520" y="1101600"/>
            <a:ext cx="903240" cy="1113120"/>
          </a:xfrm>
          <a:prstGeom prst="rect">
            <a:avLst/>
          </a:prstGeom>
          <a:ln w="0">
            <a:noFill/>
          </a:ln>
        </p:spPr>
      </p:pic>
      <p:pic>
        <p:nvPicPr>
          <p:cNvPr id="546" name="" descr=""/>
          <p:cNvPicPr/>
          <p:nvPr/>
        </p:nvPicPr>
        <p:blipFill>
          <a:blip r:embed="rId4"/>
          <a:stretch/>
        </p:blipFill>
        <p:spPr>
          <a:xfrm>
            <a:off x="6829560" y="1066680"/>
            <a:ext cx="963360" cy="1113120"/>
          </a:xfrm>
          <a:prstGeom prst="rect">
            <a:avLst/>
          </a:prstGeom>
          <a:ln w="0">
            <a:noFill/>
          </a:ln>
        </p:spPr>
      </p:pic>
      <p:pic>
        <p:nvPicPr>
          <p:cNvPr id="547" name="" descr=""/>
          <p:cNvPicPr/>
          <p:nvPr/>
        </p:nvPicPr>
        <p:blipFill>
          <a:blip r:embed="rId5"/>
          <a:stretch/>
        </p:blipFill>
        <p:spPr>
          <a:xfrm>
            <a:off x="5116680" y="2397240"/>
            <a:ext cx="903240" cy="1112760"/>
          </a:xfrm>
          <a:prstGeom prst="rect">
            <a:avLst/>
          </a:prstGeom>
          <a:ln w="0">
            <a:noFill/>
          </a:ln>
        </p:spPr>
      </p:pic>
      <p:pic>
        <p:nvPicPr>
          <p:cNvPr id="548" name="" descr=""/>
          <p:cNvPicPr/>
          <p:nvPr/>
        </p:nvPicPr>
        <p:blipFill>
          <a:blip r:embed="rId6"/>
          <a:stretch/>
        </p:blipFill>
        <p:spPr>
          <a:xfrm>
            <a:off x="6858000" y="2397240"/>
            <a:ext cx="903240" cy="1112760"/>
          </a:xfrm>
          <a:prstGeom prst="rect">
            <a:avLst/>
          </a:prstGeom>
          <a:ln w="0">
            <a:noFill/>
          </a:ln>
        </p:spPr>
      </p:pic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2133720" y="-76680"/>
            <a:ext cx="4114800" cy="11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 Black"/>
              </a:rPr>
              <a:t>Diapositive N° 5 - Résultat</a:t>
            </a:r>
            <a:br>
              <a:rPr sz="2400"/>
            </a:br>
            <a:r>
              <a:rPr b="0" lang="en-US" sz="2400" spc="-1" strike="noStrike">
                <a:solidFill>
                  <a:srgbClr val="0033cc"/>
                </a:solidFill>
                <a:latin typeface="Arial Black"/>
              </a:rPr>
              <a:t>Score actuel = 3 points</a:t>
            </a:r>
            <a:endParaRPr b="0" lang="en-US" sz="2400" spc="-1" strike="noStrike">
              <a:solidFill>
                <a:srgbClr val="003300"/>
              </a:solidFill>
              <a:latin typeface="Arial Black"/>
            </a:endParaRPr>
          </a:p>
        </p:txBody>
      </p:sp>
      <p:pic>
        <p:nvPicPr>
          <p:cNvPr id="550" name="" descr=""/>
          <p:cNvPicPr/>
          <p:nvPr/>
        </p:nvPicPr>
        <p:blipFill>
          <a:blip r:embed="rId7"/>
          <a:stretch/>
        </p:blipFill>
        <p:spPr>
          <a:xfrm>
            <a:off x="1600200" y="5257800"/>
            <a:ext cx="1031760" cy="1076400"/>
          </a:xfrm>
          <a:prstGeom prst="rect">
            <a:avLst/>
          </a:prstGeom>
          <a:ln w="0">
            <a:noFill/>
          </a:ln>
        </p:spPr>
      </p:pic>
      <p:pic>
        <p:nvPicPr>
          <p:cNvPr id="551" name="" descr=""/>
          <p:cNvPicPr/>
          <p:nvPr/>
        </p:nvPicPr>
        <p:blipFill>
          <a:blip r:embed="rId8"/>
          <a:stretch/>
        </p:blipFill>
        <p:spPr>
          <a:xfrm>
            <a:off x="5105520" y="3692520"/>
            <a:ext cx="1066680" cy="1112760"/>
          </a:xfrm>
          <a:prstGeom prst="rect">
            <a:avLst/>
          </a:prstGeom>
          <a:ln w="0">
            <a:noFill/>
          </a:ln>
        </p:spPr>
      </p:pic>
      <p:sp>
        <p:nvSpPr>
          <p:cNvPr id="552" name=""/>
          <p:cNvSpPr/>
          <p:nvPr/>
        </p:nvSpPr>
        <p:spPr>
          <a:xfrm>
            <a:off x="4495680" y="5181480"/>
            <a:ext cx="3573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h 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u commences à t’intéresser 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6188040" y="45720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Lucida Handwriting"/>
              </a:rPr>
              <a:t>GAG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>
            <a:hlinkClick r:id="rId9" action="ppaction://hlinksldjump"/>
          </p:cNvPr>
          <p:cNvSpPr/>
          <p:nvPr/>
        </p:nvSpPr>
        <p:spPr>
          <a:xfrm>
            <a:off x="5791320" y="6348240"/>
            <a:ext cx="1008000" cy="505080"/>
          </a:xfrm>
          <a:custGeom>
            <a:avLst/>
            <a:gdLst>
              <a:gd name="textAreaLeft" fmla="*/ 32760 w 1008000"/>
              <a:gd name="textAreaRight" fmla="*/ 975600 w 1008000"/>
              <a:gd name="textAreaTop" fmla="*/ 32760 h 505080"/>
              <a:gd name="textAreaBottom" fmla="*/ 472680 h 505080"/>
            </a:gdLst>
            <a:ahLst/>
            <a:rect l="textAreaLeft" t="textAreaTop" r="textAreaRight" b="textAreaBottom"/>
            <a:pathLst>
              <a:path w="43092" h="21600">
                <a:moveTo>
                  <a:pt x="0" y="0"/>
                </a:moveTo>
                <a:lnTo>
                  <a:pt x="43092" y="0"/>
                </a:lnTo>
                <a:lnTo>
                  <a:pt x="43092" y="21600"/>
                </a:lnTo>
                <a:lnTo>
                  <a:pt x="0" y="21600"/>
                </a:lnTo>
                <a:close/>
              </a:path>
              <a:path fill="lightenLess" w="43092" h="21600">
                <a:moveTo>
                  <a:pt x="0" y="0"/>
                </a:moveTo>
                <a:lnTo>
                  <a:pt x="43092" y="0"/>
                </a:lnTo>
                <a:lnTo>
                  <a:pt x="41692" y="1400"/>
                </a:lnTo>
                <a:lnTo>
                  <a:pt x="1400" y="1400"/>
                </a:lnTo>
                <a:close/>
              </a:path>
              <a:path fill="darken" w="43092" h="21600">
                <a:moveTo>
                  <a:pt x="43092" y="0"/>
                </a:moveTo>
                <a:lnTo>
                  <a:pt x="43092" y="21600"/>
                </a:lnTo>
                <a:lnTo>
                  <a:pt x="41692" y="20200"/>
                </a:lnTo>
                <a:lnTo>
                  <a:pt x="41692" y="1400"/>
                </a:lnTo>
                <a:close/>
              </a:path>
              <a:path fill="darkenLess" w="43092" h="21600">
                <a:moveTo>
                  <a:pt x="430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92" y="20200"/>
                </a:lnTo>
                <a:close/>
              </a:path>
              <a:path fill="lighten" w="430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92" h="21600">
                <a:moveTo>
                  <a:pt x="14540" y="3794"/>
                </a:moveTo>
                <a:lnTo>
                  <a:pt x="28553" y="10800"/>
                </a:lnTo>
                <a:lnTo>
                  <a:pt x="14540" y="17806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4800600" y="3581280"/>
            <a:ext cx="1600200" cy="144792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G Produc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restart="whenNotActive" nodeType="interactiveSeq" fill="hold">
                <p:stCondLst>
                  <p:cond evt="onClick">
                    <p:tgtEl>
                      <p:spTgt spid="435"/>
                    </p:tgtEl>
                  </p:cond>
                </p:stCondLst>
                <p:childTnLst>
                  <p:par>
                    <p:cTn id="263" fill="hold">
                      <p:stCondLst>
                        <p:cond evt="onClick">
                          <p:tgtEl>
                            <p:spTgt spid="435"/>
                          </p:tgtEl>
                        </p:cond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path" presetID="2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38 0 0.069 0.04133 0.069 0.092 C 0.069 0.12533 0.056 0.15467 0.037 0.172 L 0.036 0.172 C 0.029 0.17867 0.025 0.18933 0.025 0.20133 C 0.025 0.212 0.029 0.22133 0.034 0.228 C 0.042 0.23867 0.047 0.25467 0.047 0.27067 C 0.047 0.30533 0.026 0.33333 0 0.33333 C -0.026 0.33333 -0.047 0.30533 -0.047 0.27067 C -0.047 0.25467 -0.042 0.23867 -0.034 0.228 C -0.029 0.22133 -0.026 0.212 -0.026 0.20133 C -0.026 0.18933 -0.03 0.17867 -0.036 0.172 L -0.037 0.172 C -0.057 0.15467 -0.07 0.12533 -0.07 0.092 C -0.07 0.04133 -0.039 0 0 0 Z">
                                      <p:cBhvr>
                                        <p:cTn id="266" dur="2000" fill="hold"/>
                                        <p:tgtEl>
                                          <p:spTgt spid="4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7" restart="whenNotActive" nodeType="interactiveSeq" fill="hold">
                <p:stCondLst>
                  <p:cond evt="onClick">
                    <p:tgtEl>
                      <p:spTgt spid="436"/>
                    </p:tgtEl>
                  </p:cond>
                </p:stCondLst>
                <p:childTnLst>
                  <p:par>
                    <p:cTn id="268" fill="hold">
                      <p:stCondLst>
                        <p:cond evt="onClick">
                          <p:tgtEl>
                            <p:spTgt spid="436"/>
                          </p:tgtEl>
                        </p:cond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path" presetID="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14 -0.00667 -0.029 -0.012 -0.044 -0.012 C -0.114 -0.012 -0.169 0.064 -0.169 0.156 C -0.169 0.24667 -0.114 0.32133 -0.044 0.32133 C -0.029 0.32133 -0.014 0.31733 0 0.31067 C -0.047 0.28667 -0.08 0.22667 -0.08 0.156 C -0.08 0.084 -0.047 0.024 0 0 Z">
                                      <p:cBhvr>
                                        <p:cTn id="271" dur="2000" fill="hold"/>
                                        <p:tgtEl>
                                          <p:spTgt spid="4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2" restart="whenNotActive" nodeType="interactiveSeq" fill="hold">
                <p:stCondLst>
                  <p:cond evt="onClick">
                    <p:tgtEl>
                      <p:spTgt spid="437"/>
                    </p:tgtEl>
                  </p:cond>
                </p:stCondLst>
                <p:childTnLst>
                  <p:par>
                    <p:cTn id="273" fill="hold">
                      <p:stCondLst>
                        <p:cond evt="onClick">
                          <p:tgtEl>
                            <p:spTgt spid="437"/>
                          </p:tgtEl>
                        </p:cond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path" presetID="5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07407E-006 C -0.0007 0.05092 0.04305 0.09583 0.09809 0.09745 C 0.14184 0.10185 0.1776 0.07731 0.17847 0.04676 C 0.17847 0.01643 0.14323 -0.01227 0.09896 -0.01389 C 0.07656 -0.01389 0.05659 -0.01019 0.04218 4.07407E-006 C 0.02153 0.01412 0.00937 0.0368 0.00937 0.06319 C 0.00937 0.07731 0.01284 0.09143 0.01944 0.10393 C 0.03437 0.13032 0.06371 0.14838 0.09739 0.15046 C 0.1368 0.15463 0.16909 0.13217 0.16909 0.10601 C 0.16979 0.07731 0.1375 0.05301 0.09809 0.04884 C 0.07812 0.04884 0.06024 0.05301 0.04653 0.06111 C 0.02864 0.07523 0.01718 0.09745 0.01718 0.12013 C 0.01718 0.13217 0.02066 0.14444 0.02639 0.15671 C 0.0401 0.17916 0.06597 0.19745 0.0967 0.19907 C 0.13264 0.20138 0.16128 0.18125 0.16128 0.15671 C 0.16198 0.13217 0.13316 0.10995 0.09739 0.10787 C 0.07951 0.10601 0.06302 0.10995 0.05087 0.11805 C 0.03437 0.13032 0.02517 0.14838 0.02517 0.17083 C 0.02517 0.18125 0.02795 0.19305 0.03298 0.20347 C 0.04514 0.22384 0.06875 0.24004 0.096 0.24189 C 0.1283 0.24189 0.15399 0.22569 0.15399 0.20347 C 0.15399 0.18125 0.12899 0.16064 0.0967 0.15856 C 0.0809 0.15856 0.06597 0.16273 0.05521 0.16875 C 0.0401 0.17916 0.03142 0.19745 0.0309 0.21574 C 0.0309 0.22569 0.03437 0.23588 0.03871 0.24398 C 0.0493 0.26435 0.07083 0.27847 0.09531 0.27847 C 0.12396 0.28078 0.14757 0.26666 0.14757 0.24606 C 0.14826 0.22569 0.12465 0.20763 0.096 0.20555 C 0.08177 0.20555 0.06805 0.20763 0.05868 0.21574 C 0.04514 0.22384 0.03732 0.24004 0.03732 0.25625 C 0.03732 0.26666 0.03941 0.27476 0.04357 0.28287 C 0.05364 0.30092 0.07239 0.31319 0.09444 0.31527 C 0.121 0.31527 0.14184 0.30301 0.14184 0.28449 C 0.14253 0.26666 0.1217 0.25 0.09531 0.24814 C 0.08229 0.24814 0.07083 0.25 0.06232 0.25625 C 0.05017 0.26435 0.04305 0.27847 0.04305 0.2949 C 0.04305 0.30301 0.04514 0.30926 0.04878 0.31736 C 0.05729 0.33356 0.07448 0.34351 0.09444 0.3456 C 0.11823 0.34768 0.1368 0.33541 0.1368 0.31736 C 0.1368 0.30301 0.11892 0.2868 0.09531 0.2868 C 0.08316 0.28449 0.07239 0.28888 0.06441 0.29259 C 0.05364 0.30092 0.04722 0.31319 0.04722 0.32731 C 0.04722 0.33541 0.0493 0.34166 0.05295 0.34768 C 0.06093 0.3618 0.07656 0.37222 0.09392 0.3743 C 0.11528 0.37638 0.13264 0.36388 0.13264 0.34976 C 0.13264 0.33356 0.11528 0.32129 0.09444 0.31921 C 0.08455 0.31921 0.07448 0.32129 0.06736 0.32731 C 0.05729 0.33356 0.05156 0.34351 0.05156 0.3581 C 0.05156 0.36388 0.05364 0.3699 0.05659 0.37638 C 0.06371 0.38842 0.07743 0.39861 0.09392 0.39861 C 0.1125 0.40069 0.1283 0.39051 0.1283 0.37638 C 0.1283 0.36388 0.11319 0.35162 0.09392 0.35162 C 0.08524 0.34976 0.07604 0.35162 0.06944 0.35578 C 0.06093 0.36388 0.0559 0.3743 0.0559 0.38449 C 0.0559 0.39051 0.05729 0.39652 0.06024 0.40069 C 0.06666 0.41273 0.07882 0.42083 0.09392 0.42291 C 0.11111 0.42291 0.12465 0.41273 0.12465 0.40254 C 0.12465 0.39051 0.11111 0.37801 0.09392 0.37801 C 0.08524 0.37801 0.07743 0.38032 0.07239 0.38449 C 0.06371 0.38842 0.05937 0.39861 0.05937 0.40879 C 0.05937 0.41273 0.06093 0.41898 0.06302 0.42291 C 0.06875 0.43518 0.08021 0.4412 0.09323 0.44351 C 0.10903 0.44351 0.121 0.43518 0.121 0.425 C 0.121 0.41273 0.10903 0.40463 0.09392 0.40254 C 0.08593 0.40254 0.07882 0.40463 0.07378 0.40879 C 0.06666 0.41273 0.06232 0.42083 0.06232 0.43101 C 0.06232 0.43518 0.06371 0.43912 0.06597 0.44351 E">
                                      <p:cBhvr>
                                        <p:cTn id="276" dur="2000" fill="hold"/>
                                        <p:tgtEl>
                                          <p:spTgt spid="4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7" restart="whenNotActive" nodeType="interactiveSeq" fill="hold">
                <p:stCondLst>
                  <p:cond evt="onClick">
                    <p:tgtEl>
                      <p:spTgt spid="438"/>
                    </p:tgtEl>
                  </p:cond>
                </p:stCondLst>
                <p:childTnLst>
                  <p:par>
                    <p:cTn id="278" fill="hold">
                      <p:stCondLst>
                        <p:cond evt="onClick">
                          <p:tgtEl>
                            <p:spTgt spid="438"/>
                          </p:tgtEl>
                        </p:cond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82 0.03148 L -0.00382 0.40949 E">
                                      <p:cBhvr>
                                        <p:cTn id="281" dur="2000" fill="hold"/>
                                        <p:tgtEl>
                                          <p:spTgt spid="4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2" restart="whenNotActive" nodeType="interactiveSeq" fill="hold">
                <p:stCondLst>
                  <p:cond evt="onClick">
                    <p:tgtEl>
                      <p:spTgt spid="434"/>
                    </p:tgtEl>
                  </p:cond>
                </p:stCondLst>
                <p:childTnLst>
                  <p:par>
                    <p:cTn id="283" fill="hold">
                      <p:stCondLst>
                        <p:cond evt="onClick">
                          <p:tgtEl>
                            <p:spTgt spid="434"/>
                          </p:tgtEl>
                        </p:cond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3.7037E-006 L -0.34635 -0.01041 E">
                                      <p:cBhvr>
                                        <p:cTn id="286" dur="2000" fill="hold"/>
                                        <p:tgtEl>
                                          <p:spTgt spid="4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422600" cy="6629400"/>
          </a:xfrm>
          <a:prstGeom prst="rect">
            <a:avLst/>
          </a:prstGeom>
          <a:ln w="0">
            <a:noFill/>
          </a:ln>
        </p:spPr>
      </p:pic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6858000" y="3692520"/>
            <a:ext cx="976320" cy="1112760"/>
          </a:xfrm>
          <a:prstGeom prst="rect">
            <a:avLst/>
          </a:prstGeom>
          <a:ln w="0">
            <a:noFill/>
          </a:ln>
        </p:spPr>
      </p:pic>
      <p:pic>
        <p:nvPicPr>
          <p:cNvPr id="558" name="" descr=""/>
          <p:cNvPicPr/>
          <p:nvPr/>
        </p:nvPicPr>
        <p:blipFill>
          <a:blip r:embed="rId3"/>
          <a:stretch/>
        </p:blipFill>
        <p:spPr>
          <a:xfrm>
            <a:off x="5105520" y="1101600"/>
            <a:ext cx="903240" cy="1113120"/>
          </a:xfrm>
          <a:prstGeom prst="rect">
            <a:avLst/>
          </a:prstGeom>
          <a:ln w="0">
            <a:noFill/>
          </a:ln>
        </p:spPr>
      </p:pic>
      <p:pic>
        <p:nvPicPr>
          <p:cNvPr id="559" name="" descr=""/>
          <p:cNvPicPr/>
          <p:nvPr/>
        </p:nvPicPr>
        <p:blipFill>
          <a:blip r:embed="rId4"/>
          <a:stretch/>
        </p:blipFill>
        <p:spPr>
          <a:xfrm>
            <a:off x="6829560" y="1066680"/>
            <a:ext cx="963360" cy="1113120"/>
          </a:xfrm>
          <a:prstGeom prst="rect">
            <a:avLst/>
          </a:prstGeom>
          <a:ln w="0">
            <a:noFill/>
          </a:ln>
        </p:spPr>
      </p:pic>
      <p:pic>
        <p:nvPicPr>
          <p:cNvPr id="560" name="" descr=""/>
          <p:cNvPicPr/>
          <p:nvPr/>
        </p:nvPicPr>
        <p:blipFill>
          <a:blip r:embed="rId5"/>
          <a:stretch/>
        </p:blipFill>
        <p:spPr>
          <a:xfrm>
            <a:off x="5116680" y="2397240"/>
            <a:ext cx="903240" cy="1112760"/>
          </a:xfrm>
          <a:prstGeom prst="rect">
            <a:avLst/>
          </a:prstGeom>
          <a:ln w="0">
            <a:noFill/>
          </a:ln>
        </p:spPr>
      </p:pic>
      <p:pic>
        <p:nvPicPr>
          <p:cNvPr id="561" name="" descr=""/>
          <p:cNvPicPr/>
          <p:nvPr/>
        </p:nvPicPr>
        <p:blipFill>
          <a:blip r:embed="rId6"/>
          <a:stretch/>
        </p:blipFill>
        <p:spPr>
          <a:xfrm>
            <a:off x="6858000" y="2397240"/>
            <a:ext cx="903240" cy="1112760"/>
          </a:xfrm>
          <a:prstGeom prst="rect">
            <a:avLst/>
          </a:prstGeom>
          <a:ln w="0">
            <a:noFill/>
          </a:ln>
        </p:spPr>
      </p:pic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2133720" y="-76680"/>
            <a:ext cx="4114800" cy="11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 Black"/>
              </a:rPr>
              <a:t>Diapositive N° 5 - Résultat</a:t>
            </a:r>
            <a:br>
              <a:rPr sz="2400"/>
            </a:br>
            <a:r>
              <a:rPr b="0" lang="en-US" sz="2400" spc="-1" strike="noStrike">
                <a:solidFill>
                  <a:srgbClr val="0033cc"/>
                </a:solidFill>
                <a:latin typeface="Arial Black"/>
              </a:rPr>
              <a:t>Score actuel = 3 points</a:t>
            </a:r>
            <a:endParaRPr b="0" lang="en-US" sz="2400" spc="-1" strike="noStrike">
              <a:solidFill>
                <a:srgbClr val="003300"/>
              </a:solidFill>
              <a:latin typeface="Arial Black"/>
            </a:endParaRPr>
          </a:p>
        </p:txBody>
      </p:sp>
      <p:pic>
        <p:nvPicPr>
          <p:cNvPr id="563" name="" descr=""/>
          <p:cNvPicPr/>
          <p:nvPr/>
        </p:nvPicPr>
        <p:blipFill>
          <a:blip r:embed="rId7"/>
          <a:stretch/>
        </p:blipFill>
        <p:spPr>
          <a:xfrm>
            <a:off x="1600200" y="5257800"/>
            <a:ext cx="1031760" cy="1076400"/>
          </a:xfrm>
          <a:prstGeom prst="rect">
            <a:avLst/>
          </a:prstGeom>
          <a:ln w="0">
            <a:noFill/>
          </a:ln>
        </p:spPr>
      </p:pic>
      <p:pic>
        <p:nvPicPr>
          <p:cNvPr id="564" name="" descr=""/>
          <p:cNvPicPr/>
          <p:nvPr/>
        </p:nvPicPr>
        <p:blipFill>
          <a:blip r:embed="rId8"/>
          <a:stretch/>
        </p:blipFill>
        <p:spPr>
          <a:xfrm>
            <a:off x="5105520" y="3692520"/>
            <a:ext cx="1066680" cy="1112760"/>
          </a:xfrm>
          <a:prstGeom prst="rect">
            <a:avLst/>
          </a:prstGeom>
          <a:ln w="0">
            <a:noFill/>
          </a:ln>
        </p:spPr>
      </p:pic>
      <p:sp>
        <p:nvSpPr>
          <p:cNvPr id="565" name=""/>
          <p:cNvSpPr/>
          <p:nvPr/>
        </p:nvSpPr>
        <p:spPr>
          <a:xfrm>
            <a:off x="4495680" y="5481720"/>
            <a:ext cx="3573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e erreur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bserves bien 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6188040" y="38088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Lucida Handwriting"/>
              </a:rPr>
              <a:t>Perd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4800600" y="3581280"/>
            <a:ext cx="1600200" cy="144792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>
            <a:hlinkClick r:id="rId9" action="ppaction://hlinksldjump"/>
          </p:cNvPr>
          <p:cNvSpPr/>
          <p:nvPr/>
        </p:nvSpPr>
        <p:spPr>
          <a:xfrm>
            <a:off x="5791320" y="6348240"/>
            <a:ext cx="1008000" cy="505080"/>
          </a:xfrm>
          <a:custGeom>
            <a:avLst/>
            <a:gdLst>
              <a:gd name="textAreaLeft" fmla="*/ 32760 w 1008000"/>
              <a:gd name="textAreaRight" fmla="*/ 975600 w 1008000"/>
              <a:gd name="textAreaTop" fmla="*/ 32760 h 505080"/>
              <a:gd name="textAreaBottom" fmla="*/ 472680 h 505080"/>
            </a:gdLst>
            <a:ahLst/>
            <a:rect l="textAreaLeft" t="textAreaTop" r="textAreaRight" b="textAreaBottom"/>
            <a:pathLst>
              <a:path w="43092" h="21600">
                <a:moveTo>
                  <a:pt x="0" y="0"/>
                </a:moveTo>
                <a:lnTo>
                  <a:pt x="43092" y="0"/>
                </a:lnTo>
                <a:lnTo>
                  <a:pt x="43092" y="21600"/>
                </a:lnTo>
                <a:lnTo>
                  <a:pt x="0" y="21600"/>
                </a:lnTo>
                <a:close/>
              </a:path>
              <a:path fill="lightenLess" w="43092" h="21600">
                <a:moveTo>
                  <a:pt x="0" y="0"/>
                </a:moveTo>
                <a:lnTo>
                  <a:pt x="43092" y="0"/>
                </a:lnTo>
                <a:lnTo>
                  <a:pt x="41692" y="1400"/>
                </a:lnTo>
                <a:lnTo>
                  <a:pt x="1400" y="1400"/>
                </a:lnTo>
                <a:close/>
              </a:path>
              <a:path fill="darken" w="43092" h="21600">
                <a:moveTo>
                  <a:pt x="43092" y="0"/>
                </a:moveTo>
                <a:lnTo>
                  <a:pt x="43092" y="21600"/>
                </a:lnTo>
                <a:lnTo>
                  <a:pt x="41692" y="20200"/>
                </a:lnTo>
                <a:lnTo>
                  <a:pt x="41692" y="1400"/>
                </a:lnTo>
                <a:close/>
              </a:path>
              <a:path fill="darkenLess" w="43092" h="21600">
                <a:moveTo>
                  <a:pt x="430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92" y="20200"/>
                </a:lnTo>
                <a:close/>
              </a:path>
              <a:path fill="lighten" w="430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92" h="21600">
                <a:moveTo>
                  <a:pt x="14540" y="3794"/>
                </a:moveTo>
                <a:lnTo>
                  <a:pt x="28553" y="10800"/>
                </a:lnTo>
                <a:lnTo>
                  <a:pt x="14540" y="17806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G Produc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restart="whenNotActive" nodeType="interactiveSeq" fill="hold">
                <p:stCondLst>
                  <p:cond evt="onClick">
                    <p:tgtEl>
                      <p:spTgt spid="435"/>
                    </p:tgtEl>
                  </p:cond>
                </p:stCondLst>
                <p:childTnLst>
                  <p:par>
                    <p:cTn id="289" fill="hold">
                      <p:stCondLst>
                        <p:cond evt="onClick">
                          <p:tgtEl>
                            <p:spTgt spid="435"/>
                          </p:tgtEl>
                        </p:cond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path" presetID="2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38 0 0.069 0.04133 0.069 0.092 C 0.069 0.12533 0.056 0.15467 0.037 0.172 L 0.036 0.172 C 0.029 0.17867 0.025 0.18933 0.025 0.20133 C 0.025 0.212 0.029 0.22133 0.034 0.228 C 0.042 0.23867 0.047 0.25467 0.047 0.27067 C 0.047 0.30533 0.026 0.33333 0 0.33333 C -0.026 0.33333 -0.047 0.30533 -0.047 0.27067 C -0.047 0.25467 -0.042 0.23867 -0.034 0.228 C -0.029 0.22133 -0.026 0.212 -0.026 0.20133 C -0.026 0.18933 -0.03 0.17867 -0.036 0.172 L -0.037 0.172 C -0.057 0.15467 -0.07 0.12533 -0.07 0.092 C -0.07 0.04133 -0.039 0 0 0 Z">
                                      <p:cBhvr>
                                        <p:cTn id="292" dur="2000" fill="hold"/>
                                        <p:tgtEl>
                                          <p:spTgt spid="4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3" restart="whenNotActive" nodeType="interactiveSeq" fill="hold">
                <p:stCondLst>
                  <p:cond evt="onClick">
                    <p:tgtEl>
                      <p:spTgt spid="436"/>
                    </p:tgtEl>
                  </p:cond>
                </p:stCondLst>
                <p:childTnLst>
                  <p:par>
                    <p:cTn id="294" fill="hold">
                      <p:stCondLst>
                        <p:cond evt="onClick">
                          <p:tgtEl>
                            <p:spTgt spid="436"/>
                          </p:tgtEl>
                        </p:cond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path" presetID="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14 -0.00667 -0.029 -0.012 -0.044 -0.012 C -0.114 -0.012 -0.169 0.064 -0.169 0.156 C -0.169 0.24667 -0.114 0.32133 -0.044 0.32133 C -0.029 0.32133 -0.014 0.31733 0 0.31067 C -0.047 0.28667 -0.08 0.22667 -0.08 0.156 C -0.08 0.084 -0.047 0.024 0 0 Z">
                                      <p:cBhvr>
                                        <p:cTn id="297" dur="2000" fill="hold"/>
                                        <p:tgtEl>
                                          <p:spTgt spid="4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8" restart="whenNotActive" nodeType="interactiveSeq" fill="hold">
                <p:stCondLst>
                  <p:cond evt="onClick">
                    <p:tgtEl>
                      <p:spTgt spid="437"/>
                    </p:tgtEl>
                  </p:cond>
                </p:stCondLst>
                <p:childTnLst>
                  <p:par>
                    <p:cTn id="299" fill="hold">
                      <p:stCondLst>
                        <p:cond evt="onClick">
                          <p:tgtEl>
                            <p:spTgt spid="437"/>
                          </p:tgtEl>
                        </p:cond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path" presetID="5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07407E-006 C -0.0007 0.05092 0.04305 0.09583 0.09809 0.09745 C 0.14184 0.10185 0.1776 0.07731 0.17847 0.04676 C 0.17847 0.01643 0.14323 -0.01227 0.09896 -0.01389 C 0.07656 -0.01389 0.05659 -0.01019 0.04218 4.07407E-006 C 0.02153 0.01412 0.00937 0.0368 0.00937 0.06319 C 0.00937 0.07731 0.01284 0.09143 0.01944 0.10393 C 0.03437 0.13032 0.06371 0.14838 0.09739 0.15046 C 0.1368 0.15463 0.16909 0.13217 0.16909 0.10601 C 0.16979 0.07731 0.1375 0.05301 0.09809 0.04884 C 0.07812 0.04884 0.06024 0.05301 0.04653 0.06111 C 0.02864 0.07523 0.01718 0.09745 0.01718 0.12013 C 0.01718 0.13217 0.02066 0.14444 0.02639 0.15671 C 0.0401 0.17916 0.06597 0.19745 0.0967 0.19907 C 0.13264 0.20138 0.16128 0.18125 0.16128 0.15671 C 0.16198 0.13217 0.13316 0.10995 0.09739 0.10787 C 0.07951 0.10601 0.06302 0.10995 0.05087 0.11805 C 0.03437 0.13032 0.02517 0.14838 0.02517 0.17083 C 0.02517 0.18125 0.02795 0.19305 0.03298 0.20347 C 0.04514 0.22384 0.06875 0.24004 0.096 0.24189 C 0.1283 0.24189 0.15399 0.22569 0.15399 0.20347 C 0.15399 0.18125 0.12899 0.16064 0.0967 0.15856 C 0.0809 0.15856 0.06597 0.16273 0.05521 0.16875 C 0.0401 0.17916 0.03142 0.19745 0.0309 0.21574 C 0.0309 0.22569 0.03437 0.23588 0.03871 0.24398 C 0.0493 0.26435 0.07083 0.27847 0.09531 0.27847 C 0.12396 0.28078 0.14757 0.26666 0.14757 0.24606 C 0.14826 0.22569 0.12465 0.20763 0.096 0.20555 C 0.08177 0.20555 0.06805 0.20763 0.05868 0.21574 C 0.04514 0.22384 0.03732 0.24004 0.03732 0.25625 C 0.03732 0.26666 0.03941 0.27476 0.04357 0.28287 C 0.05364 0.30092 0.07239 0.31319 0.09444 0.31527 C 0.121 0.31527 0.14184 0.30301 0.14184 0.28449 C 0.14253 0.26666 0.1217 0.25 0.09531 0.24814 C 0.08229 0.24814 0.07083 0.25 0.06232 0.25625 C 0.05017 0.26435 0.04305 0.27847 0.04305 0.2949 C 0.04305 0.30301 0.04514 0.30926 0.04878 0.31736 C 0.05729 0.33356 0.07448 0.34351 0.09444 0.3456 C 0.11823 0.34768 0.1368 0.33541 0.1368 0.31736 C 0.1368 0.30301 0.11892 0.2868 0.09531 0.2868 C 0.08316 0.28449 0.07239 0.28888 0.06441 0.29259 C 0.05364 0.30092 0.04722 0.31319 0.04722 0.32731 C 0.04722 0.33541 0.0493 0.34166 0.05295 0.34768 C 0.06093 0.3618 0.07656 0.37222 0.09392 0.3743 C 0.11528 0.37638 0.13264 0.36388 0.13264 0.34976 C 0.13264 0.33356 0.11528 0.32129 0.09444 0.31921 C 0.08455 0.31921 0.07448 0.32129 0.06736 0.32731 C 0.05729 0.33356 0.05156 0.34351 0.05156 0.3581 C 0.05156 0.36388 0.05364 0.3699 0.05659 0.37638 C 0.06371 0.38842 0.07743 0.39861 0.09392 0.39861 C 0.1125 0.40069 0.1283 0.39051 0.1283 0.37638 C 0.1283 0.36388 0.11319 0.35162 0.09392 0.35162 C 0.08524 0.34976 0.07604 0.35162 0.06944 0.35578 C 0.06093 0.36388 0.0559 0.3743 0.0559 0.38449 C 0.0559 0.39051 0.05729 0.39652 0.06024 0.40069 C 0.06666 0.41273 0.07882 0.42083 0.09392 0.42291 C 0.11111 0.42291 0.12465 0.41273 0.12465 0.40254 C 0.12465 0.39051 0.11111 0.37801 0.09392 0.37801 C 0.08524 0.37801 0.07743 0.38032 0.07239 0.38449 C 0.06371 0.38842 0.05937 0.39861 0.05937 0.40879 C 0.05937 0.41273 0.06093 0.41898 0.06302 0.42291 C 0.06875 0.43518 0.08021 0.4412 0.09323 0.44351 C 0.10903 0.44351 0.121 0.43518 0.121 0.425 C 0.121 0.41273 0.10903 0.40463 0.09392 0.40254 C 0.08593 0.40254 0.07882 0.40463 0.07378 0.40879 C 0.06666 0.41273 0.06232 0.42083 0.06232 0.43101 C 0.06232 0.43518 0.06371 0.43912 0.06597 0.44351 E">
                                      <p:cBhvr>
                                        <p:cTn id="302" dur="2000" fill="hold"/>
                                        <p:tgtEl>
                                          <p:spTgt spid="4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3" restart="whenNotActive" nodeType="interactiveSeq" fill="hold">
                <p:stCondLst>
                  <p:cond evt="onClick">
                    <p:tgtEl>
                      <p:spTgt spid="438"/>
                    </p:tgtEl>
                  </p:cond>
                </p:stCondLst>
                <p:childTnLst>
                  <p:par>
                    <p:cTn id="304" fill="hold">
                      <p:stCondLst>
                        <p:cond evt="onClick">
                          <p:tgtEl>
                            <p:spTgt spid="438"/>
                          </p:tgtEl>
                        </p:cond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82 0.03148 L -0.00382 0.40949 E">
                                      <p:cBhvr>
                                        <p:cTn id="307" dur="2000" fill="hold"/>
                                        <p:tgtEl>
                                          <p:spTgt spid="4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8" restart="whenNotActive" nodeType="interactiveSeq" fill="hold">
                <p:stCondLst>
                  <p:cond evt="onClick">
                    <p:tgtEl>
                      <p:spTgt spid="434"/>
                    </p:tgtEl>
                  </p:cond>
                </p:stCondLst>
                <p:childTnLst>
                  <p:par>
                    <p:cTn id="309" fill="hold">
                      <p:stCondLst>
                        <p:cond evt="onClick">
                          <p:tgtEl>
                            <p:spTgt spid="434"/>
                          </p:tgtEl>
                        </p:cond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3.7037E-006 L -0.34635 -0.01041 E">
                                      <p:cBhvr>
                                        <p:cTn id="312" dur="2000" fill="hold"/>
                                        <p:tgtEl>
                                          <p:spTgt spid="4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422600" cy="6629400"/>
          </a:xfrm>
          <a:prstGeom prst="rect">
            <a:avLst/>
          </a:prstGeom>
          <a:ln w="0">
            <a:noFill/>
          </a:ln>
        </p:spPr>
      </p:pic>
      <p:pic>
        <p:nvPicPr>
          <p:cNvPr id="570" name="" descr=""/>
          <p:cNvPicPr/>
          <p:nvPr/>
        </p:nvPicPr>
        <p:blipFill>
          <a:blip r:embed="rId2"/>
          <a:stretch/>
        </p:blipFill>
        <p:spPr>
          <a:xfrm>
            <a:off x="6858000" y="3692520"/>
            <a:ext cx="976320" cy="1112760"/>
          </a:xfrm>
          <a:prstGeom prst="rect">
            <a:avLst/>
          </a:prstGeom>
          <a:ln w="0">
            <a:noFill/>
          </a:ln>
        </p:spPr>
      </p:pic>
      <p:pic>
        <p:nvPicPr>
          <p:cNvPr id="571" name="" descr=""/>
          <p:cNvPicPr/>
          <p:nvPr/>
        </p:nvPicPr>
        <p:blipFill>
          <a:blip r:embed="rId3"/>
          <a:stretch/>
        </p:blipFill>
        <p:spPr>
          <a:xfrm>
            <a:off x="5105520" y="1101600"/>
            <a:ext cx="903240" cy="1113120"/>
          </a:xfrm>
          <a:prstGeom prst="rect">
            <a:avLst/>
          </a:prstGeom>
          <a:ln w="0">
            <a:noFill/>
          </a:ln>
        </p:spPr>
      </p:pic>
      <p:pic>
        <p:nvPicPr>
          <p:cNvPr id="572" name="" descr=""/>
          <p:cNvPicPr/>
          <p:nvPr/>
        </p:nvPicPr>
        <p:blipFill>
          <a:blip r:embed="rId4"/>
          <a:stretch/>
        </p:blipFill>
        <p:spPr>
          <a:xfrm>
            <a:off x="6829560" y="1066680"/>
            <a:ext cx="963360" cy="1113120"/>
          </a:xfrm>
          <a:prstGeom prst="rect">
            <a:avLst/>
          </a:prstGeom>
          <a:ln w="0">
            <a:noFill/>
          </a:ln>
        </p:spPr>
      </p:pic>
      <p:pic>
        <p:nvPicPr>
          <p:cNvPr id="573" name="" descr=""/>
          <p:cNvPicPr/>
          <p:nvPr/>
        </p:nvPicPr>
        <p:blipFill>
          <a:blip r:embed="rId5"/>
          <a:stretch/>
        </p:blipFill>
        <p:spPr>
          <a:xfrm>
            <a:off x="5116680" y="2397240"/>
            <a:ext cx="903240" cy="1112760"/>
          </a:xfrm>
          <a:prstGeom prst="rect">
            <a:avLst/>
          </a:prstGeom>
          <a:ln w="0">
            <a:noFill/>
          </a:ln>
        </p:spPr>
      </p:pic>
      <p:pic>
        <p:nvPicPr>
          <p:cNvPr id="574" name="" descr=""/>
          <p:cNvPicPr/>
          <p:nvPr/>
        </p:nvPicPr>
        <p:blipFill>
          <a:blip r:embed="rId6"/>
          <a:stretch/>
        </p:blipFill>
        <p:spPr>
          <a:xfrm>
            <a:off x="6858000" y="2397240"/>
            <a:ext cx="903240" cy="1112760"/>
          </a:xfrm>
          <a:prstGeom prst="rect">
            <a:avLst/>
          </a:prstGeom>
          <a:ln w="0">
            <a:noFill/>
          </a:ln>
        </p:spPr>
      </p:pic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133720" y="-76680"/>
            <a:ext cx="4114800" cy="11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 Black"/>
              </a:rPr>
              <a:t>Diapositive N° 5 - Résultat</a:t>
            </a:r>
            <a:br>
              <a:rPr sz="2400"/>
            </a:br>
            <a:r>
              <a:rPr b="0" lang="en-US" sz="2400" spc="-1" strike="noStrike">
                <a:solidFill>
                  <a:srgbClr val="0033cc"/>
                </a:solidFill>
                <a:latin typeface="Arial Black"/>
              </a:rPr>
              <a:t>Score actuel = 4 points</a:t>
            </a:r>
            <a:endParaRPr b="0" lang="en-US" sz="2400" spc="-1" strike="noStrike">
              <a:solidFill>
                <a:srgbClr val="003300"/>
              </a:solidFill>
              <a:latin typeface="Arial Black"/>
            </a:endParaRPr>
          </a:p>
        </p:txBody>
      </p:sp>
      <p:pic>
        <p:nvPicPr>
          <p:cNvPr id="576" name="" descr=""/>
          <p:cNvPicPr/>
          <p:nvPr/>
        </p:nvPicPr>
        <p:blipFill>
          <a:blip r:embed="rId7"/>
          <a:stretch/>
        </p:blipFill>
        <p:spPr>
          <a:xfrm>
            <a:off x="1600200" y="5257800"/>
            <a:ext cx="1031760" cy="1076400"/>
          </a:xfrm>
          <a:prstGeom prst="rect">
            <a:avLst/>
          </a:prstGeom>
          <a:ln w="0">
            <a:noFill/>
          </a:ln>
        </p:spPr>
      </p:pic>
      <p:pic>
        <p:nvPicPr>
          <p:cNvPr id="577" name="" descr=""/>
          <p:cNvPicPr/>
          <p:nvPr/>
        </p:nvPicPr>
        <p:blipFill>
          <a:blip r:embed="rId8"/>
          <a:stretch/>
        </p:blipFill>
        <p:spPr>
          <a:xfrm>
            <a:off x="5105520" y="3692520"/>
            <a:ext cx="1066680" cy="1112760"/>
          </a:xfrm>
          <a:prstGeom prst="rect">
            <a:avLst/>
          </a:prstGeom>
          <a:ln w="0">
            <a:noFill/>
          </a:ln>
        </p:spPr>
      </p:pic>
      <p:sp>
        <p:nvSpPr>
          <p:cNvPr id="578" name=""/>
          <p:cNvSpPr/>
          <p:nvPr/>
        </p:nvSpPr>
        <p:spPr>
          <a:xfrm>
            <a:off x="4343400" y="5181480"/>
            <a:ext cx="3726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s mal 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e seule erreur pour l’instant 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6188040" y="45720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Lucida Handwriting"/>
              </a:rPr>
              <a:t>GAG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>
            <a:hlinkClick r:id="rId9" action="ppaction://hlinksldjump"/>
          </p:cNvPr>
          <p:cNvSpPr/>
          <p:nvPr/>
        </p:nvSpPr>
        <p:spPr>
          <a:xfrm>
            <a:off x="5791320" y="6348240"/>
            <a:ext cx="1008000" cy="505080"/>
          </a:xfrm>
          <a:custGeom>
            <a:avLst/>
            <a:gdLst>
              <a:gd name="textAreaLeft" fmla="*/ 32760 w 1008000"/>
              <a:gd name="textAreaRight" fmla="*/ 975600 w 1008000"/>
              <a:gd name="textAreaTop" fmla="*/ 32760 h 505080"/>
              <a:gd name="textAreaBottom" fmla="*/ 472680 h 505080"/>
            </a:gdLst>
            <a:ahLst/>
            <a:rect l="textAreaLeft" t="textAreaTop" r="textAreaRight" b="textAreaBottom"/>
            <a:pathLst>
              <a:path w="43092" h="21600">
                <a:moveTo>
                  <a:pt x="0" y="0"/>
                </a:moveTo>
                <a:lnTo>
                  <a:pt x="43092" y="0"/>
                </a:lnTo>
                <a:lnTo>
                  <a:pt x="43092" y="21600"/>
                </a:lnTo>
                <a:lnTo>
                  <a:pt x="0" y="21600"/>
                </a:lnTo>
                <a:close/>
              </a:path>
              <a:path fill="lightenLess" w="43092" h="21600">
                <a:moveTo>
                  <a:pt x="0" y="0"/>
                </a:moveTo>
                <a:lnTo>
                  <a:pt x="43092" y="0"/>
                </a:lnTo>
                <a:lnTo>
                  <a:pt x="41692" y="1400"/>
                </a:lnTo>
                <a:lnTo>
                  <a:pt x="1400" y="1400"/>
                </a:lnTo>
                <a:close/>
              </a:path>
              <a:path fill="darken" w="43092" h="21600">
                <a:moveTo>
                  <a:pt x="43092" y="0"/>
                </a:moveTo>
                <a:lnTo>
                  <a:pt x="43092" y="21600"/>
                </a:lnTo>
                <a:lnTo>
                  <a:pt x="41692" y="20200"/>
                </a:lnTo>
                <a:lnTo>
                  <a:pt x="41692" y="1400"/>
                </a:lnTo>
                <a:close/>
              </a:path>
              <a:path fill="darkenLess" w="43092" h="21600">
                <a:moveTo>
                  <a:pt x="430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92" y="20200"/>
                </a:lnTo>
                <a:close/>
              </a:path>
              <a:path fill="lighten" w="430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92" h="21600">
                <a:moveTo>
                  <a:pt x="14540" y="3794"/>
                </a:moveTo>
                <a:lnTo>
                  <a:pt x="28553" y="10800"/>
                </a:lnTo>
                <a:lnTo>
                  <a:pt x="14540" y="17806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4800600" y="3581280"/>
            <a:ext cx="1600200" cy="144792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G Produc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restart="whenNotActive" nodeType="interactiveSeq" fill="hold">
                <p:stCondLst>
                  <p:cond evt="onClick">
                    <p:tgtEl>
                      <p:spTgt spid="435"/>
                    </p:tgtEl>
                  </p:cond>
                </p:stCondLst>
                <p:childTnLst>
                  <p:par>
                    <p:cTn id="315" fill="hold">
                      <p:stCondLst>
                        <p:cond evt="onClick">
                          <p:tgtEl>
                            <p:spTgt spid="435"/>
                          </p:tgtEl>
                        </p:cond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path" presetID="2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38 0 0.069 0.04133 0.069 0.092 C 0.069 0.12533 0.056 0.15467 0.037 0.172 L 0.036 0.172 C 0.029 0.17867 0.025 0.18933 0.025 0.20133 C 0.025 0.212 0.029 0.22133 0.034 0.228 C 0.042 0.23867 0.047 0.25467 0.047 0.27067 C 0.047 0.30533 0.026 0.33333 0 0.33333 C -0.026 0.33333 -0.047 0.30533 -0.047 0.27067 C -0.047 0.25467 -0.042 0.23867 -0.034 0.228 C -0.029 0.22133 -0.026 0.212 -0.026 0.20133 C -0.026 0.18933 -0.03 0.17867 -0.036 0.172 L -0.037 0.172 C -0.057 0.15467 -0.07 0.12533 -0.07 0.092 C -0.07 0.04133 -0.039 0 0 0 Z">
                                      <p:cBhvr>
                                        <p:cTn id="318" dur="2000" fill="hold"/>
                                        <p:tgtEl>
                                          <p:spTgt spid="4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9" restart="whenNotActive" nodeType="interactiveSeq" fill="hold">
                <p:stCondLst>
                  <p:cond evt="onClick">
                    <p:tgtEl>
                      <p:spTgt spid="436"/>
                    </p:tgtEl>
                  </p:cond>
                </p:stCondLst>
                <p:childTnLst>
                  <p:par>
                    <p:cTn id="320" fill="hold">
                      <p:stCondLst>
                        <p:cond evt="onClick">
                          <p:tgtEl>
                            <p:spTgt spid="436"/>
                          </p:tgtEl>
                        </p:cond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path" presetID="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14 -0.00667 -0.029 -0.012 -0.044 -0.012 C -0.114 -0.012 -0.169 0.064 -0.169 0.156 C -0.169 0.24667 -0.114 0.32133 -0.044 0.32133 C -0.029 0.32133 -0.014 0.31733 0 0.31067 C -0.047 0.28667 -0.08 0.22667 -0.08 0.156 C -0.08 0.084 -0.047 0.024 0 0 Z">
                                      <p:cBhvr>
                                        <p:cTn id="323" dur="2000" fill="hold"/>
                                        <p:tgtEl>
                                          <p:spTgt spid="4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4" restart="whenNotActive" nodeType="interactiveSeq" fill="hold">
                <p:stCondLst>
                  <p:cond evt="onClick">
                    <p:tgtEl>
                      <p:spTgt spid="437"/>
                    </p:tgtEl>
                  </p:cond>
                </p:stCondLst>
                <p:childTnLst>
                  <p:par>
                    <p:cTn id="325" fill="hold">
                      <p:stCondLst>
                        <p:cond evt="onClick">
                          <p:tgtEl>
                            <p:spTgt spid="437"/>
                          </p:tgtEl>
                        </p:cond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path" presetID="5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07407E-006 C -0.0007 0.05092 0.04305 0.09583 0.09809 0.09745 C 0.14184 0.10185 0.1776 0.07731 0.17847 0.04676 C 0.17847 0.01643 0.14323 -0.01227 0.09896 -0.01389 C 0.07656 -0.01389 0.05659 -0.01019 0.04218 4.07407E-006 C 0.02153 0.01412 0.00937 0.0368 0.00937 0.06319 C 0.00937 0.07731 0.01284 0.09143 0.01944 0.10393 C 0.03437 0.13032 0.06371 0.14838 0.09739 0.15046 C 0.1368 0.15463 0.16909 0.13217 0.16909 0.10601 C 0.16979 0.07731 0.1375 0.05301 0.09809 0.04884 C 0.07812 0.04884 0.06024 0.05301 0.04653 0.06111 C 0.02864 0.07523 0.01718 0.09745 0.01718 0.12013 C 0.01718 0.13217 0.02066 0.14444 0.02639 0.15671 C 0.0401 0.17916 0.06597 0.19745 0.0967 0.19907 C 0.13264 0.20138 0.16128 0.18125 0.16128 0.15671 C 0.16198 0.13217 0.13316 0.10995 0.09739 0.10787 C 0.07951 0.10601 0.06302 0.10995 0.05087 0.11805 C 0.03437 0.13032 0.02517 0.14838 0.02517 0.17083 C 0.02517 0.18125 0.02795 0.19305 0.03298 0.20347 C 0.04514 0.22384 0.06875 0.24004 0.096 0.24189 C 0.1283 0.24189 0.15399 0.22569 0.15399 0.20347 C 0.15399 0.18125 0.12899 0.16064 0.0967 0.15856 C 0.0809 0.15856 0.06597 0.16273 0.05521 0.16875 C 0.0401 0.17916 0.03142 0.19745 0.0309 0.21574 C 0.0309 0.22569 0.03437 0.23588 0.03871 0.24398 C 0.0493 0.26435 0.07083 0.27847 0.09531 0.27847 C 0.12396 0.28078 0.14757 0.26666 0.14757 0.24606 C 0.14826 0.22569 0.12465 0.20763 0.096 0.20555 C 0.08177 0.20555 0.06805 0.20763 0.05868 0.21574 C 0.04514 0.22384 0.03732 0.24004 0.03732 0.25625 C 0.03732 0.26666 0.03941 0.27476 0.04357 0.28287 C 0.05364 0.30092 0.07239 0.31319 0.09444 0.31527 C 0.121 0.31527 0.14184 0.30301 0.14184 0.28449 C 0.14253 0.26666 0.1217 0.25 0.09531 0.24814 C 0.08229 0.24814 0.07083 0.25 0.06232 0.25625 C 0.05017 0.26435 0.04305 0.27847 0.04305 0.2949 C 0.04305 0.30301 0.04514 0.30926 0.04878 0.31736 C 0.05729 0.33356 0.07448 0.34351 0.09444 0.3456 C 0.11823 0.34768 0.1368 0.33541 0.1368 0.31736 C 0.1368 0.30301 0.11892 0.2868 0.09531 0.2868 C 0.08316 0.28449 0.07239 0.28888 0.06441 0.29259 C 0.05364 0.30092 0.04722 0.31319 0.04722 0.32731 C 0.04722 0.33541 0.0493 0.34166 0.05295 0.34768 C 0.06093 0.3618 0.07656 0.37222 0.09392 0.3743 C 0.11528 0.37638 0.13264 0.36388 0.13264 0.34976 C 0.13264 0.33356 0.11528 0.32129 0.09444 0.31921 C 0.08455 0.31921 0.07448 0.32129 0.06736 0.32731 C 0.05729 0.33356 0.05156 0.34351 0.05156 0.3581 C 0.05156 0.36388 0.05364 0.3699 0.05659 0.37638 C 0.06371 0.38842 0.07743 0.39861 0.09392 0.39861 C 0.1125 0.40069 0.1283 0.39051 0.1283 0.37638 C 0.1283 0.36388 0.11319 0.35162 0.09392 0.35162 C 0.08524 0.34976 0.07604 0.35162 0.06944 0.35578 C 0.06093 0.36388 0.0559 0.3743 0.0559 0.38449 C 0.0559 0.39051 0.05729 0.39652 0.06024 0.40069 C 0.06666 0.41273 0.07882 0.42083 0.09392 0.42291 C 0.11111 0.42291 0.12465 0.41273 0.12465 0.40254 C 0.12465 0.39051 0.11111 0.37801 0.09392 0.37801 C 0.08524 0.37801 0.07743 0.38032 0.07239 0.38449 C 0.06371 0.38842 0.05937 0.39861 0.05937 0.40879 C 0.05937 0.41273 0.06093 0.41898 0.06302 0.42291 C 0.06875 0.43518 0.08021 0.4412 0.09323 0.44351 C 0.10903 0.44351 0.121 0.43518 0.121 0.425 C 0.121 0.41273 0.10903 0.40463 0.09392 0.40254 C 0.08593 0.40254 0.07882 0.40463 0.07378 0.40879 C 0.06666 0.41273 0.06232 0.42083 0.06232 0.43101 C 0.06232 0.43518 0.06371 0.43912 0.06597 0.44351 E">
                                      <p:cBhvr>
                                        <p:cTn id="328" dur="2000" fill="hold"/>
                                        <p:tgtEl>
                                          <p:spTgt spid="4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9" restart="whenNotActive" nodeType="interactiveSeq" fill="hold">
                <p:stCondLst>
                  <p:cond evt="onClick">
                    <p:tgtEl>
                      <p:spTgt spid="438"/>
                    </p:tgtEl>
                  </p:cond>
                </p:stCondLst>
                <p:childTnLst>
                  <p:par>
                    <p:cTn id="330" fill="hold">
                      <p:stCondLst>
                        <p:cond evt="onClick">
                          <p:tgtEl>
                            <p:spTgt spid="438"/>
                          </p:tgtEl>
                        </p:cond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82 0.03148 L -0.00382 0.40949 E">
                                      <p:cBhvr>
                                        <p:cTn id="333" dur="2000" fill="hold"/>
                                        <p:tgtEl>
                                          <p:spTgt spid="4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4" restart="whenNotActive" nodeType="interactiveSeq" fill="hold">
                <p:stCondLst>
                  <p:cond evt="onClick">
                    <p:tgtEl>
                      <p:spTgt spid="434"/>
                    </p:tgtEl>
                  </p:cond>
                </p:stCondLst>
                <p:childTnLst>
                  <p:par>
                    <p:cTn id="335" fill="hold">
                      <p:stCondLst>
                        <p:cond evt="onClick">
                          <p:tgtEl>
                            <p:spTgt spid="434"/>
                          </p:tgtEl>
                        </p:cond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3.7037E-006 L -0.34635 -0.01041 E">
                                      <p:cBhvr>
                                        <p:cTn id="338" dur="2000" fill="hold"/>
                                        <p:tgtEl>
                                          <p:spTgt spid="4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422600" cy="6629400"/>
          </a:xfrm>
          <a:prstGeom prst="rect">
            <a:avLst/>
          </a:prstGeom>
          <a:ln w="0">
            <a:noFill/>
          </a:ln>
        </p:spPr>
      </p:pic>
      <p:pic>
        <p:nvPicPr>
          <p:cNvPr id="583" name="" descr=""/>
          <p:cNvPicPr/>
          <p:nvPr/>
        </p:nvPicPr>
        <p:blipFill>
          <a:blip r:embed="rId2"/>
          <a:stretch/>
        </p:blipFill>
        <p:spPr>
          <a:xfrm>
            <a:off x="6858000" y="3692520"/>
            <a:ext cx="976320" cy="1112760"/>
          </a:xfrm>
          <a:prstGeom prst="rect">
            <a:avLst/>
          </a:prstGeom>
          <a:ln w="0">
            <a:noFill/>
          </a:ln>
        </p:spPr>
      </p:pic>
      <p:pic>
        <p:nvPicPr>
          <p:cNvPr id="584" name="" descr=""/>
          <p:cNvPicPr/>
          <p:nvPr/>
        </p:nvPicPr>
        <p:blipFill>
          <a:blip r:embed="rId3"/>
          <a:stretch/>
        </p:blipFill>
        <p:spPr>
          <a:xfrm>
            <a:off x="5105520" y="1101600"/>
            <a:ext cx="903240" cy="1113120"/>
          </a:xfrm>
          <a:prstGeom prst="rect">
            <a:avLst/>
          </a:prstGeom>
          <a:ln w="0">
            <a:noFill/>
          </a:ln>
        </p:spPr>
      </p:pic>
      <p:pic>
        <p:nvPicPr>
          <p:cNvPr id="585" name="" descr=""/>
          <p:cNvPicPr/>
          <p:nvPr/>
        </p:nvPicPr>
        <p:blipFill>
          <a:blip r:embed="rId4"/>
          <a:stretch/>
        </p:blipFill>
        <p:spPr>
          <a:xfrm>
            <a:off x="6829560" y="1066680"/>
            <a:ext cx="963360" cy="1113120"/>
          </a:xfrm>
          <a:prstGeom prst="rect">
            <a:avLst/>
          </a:prstGeom>
          <a:ln w="0">
            <a:noFill/>
          </a:ln>
        </p:spPr>
      </p:pic>
      <p:pic>
        <p:nvPicPr>
          <p:cNvPr id="586" name="" descr=""/>
          <p:cNvPicPr/>
          <p:nvPr/>
        </p:nvPicPr>
        <p:blipFill>
          <a:blip r:embed="rId5"/>
          <a:stretch/>
        </p:blipFill>
        <p:spPr>
          <a:xfrm>
            <a:off x="5116680" y="2397240"/>
            <a:ext cx="903240" cy="1112760"/>
          </a:xfrm>
          <a:prstGeom prst="rect">
            <a:avLst/>
          </a:prstGeom>
          <a:ln w="0">
            <a:noFill/>
          </a:ln>
        </p:spPr>
      </p:pic>
      <p:pic>
        <p:nvPicPr>
          <p:cNvPr id="587" name="" descr=""/>
          <p:cNvPicPr/>
          <p:nvPr/>
        </p:nvPicPr>
        <p:blipFill>
          <a:blip r:embed="rId6"/>
          <a:stretch/>
        </p:blipFill>
        <p:spPr>
          <a:xfrm>
            <a:off x="6858000" y="2397240"/>
            <a:ext cx="903240" cy="1112760"/>
          </a:xfrm>
          <a:prstGeom prst="rect">
            <a:avLst/>
          </a:prstGeom>
          <a:ln w="0">
            <a:noFill/>
          </a:ln>
        </p:spPr>
      </p:pic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2133720" y="-76680"/>
            <a:ext cx="4114800" cy="11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 Black"/>
              </a:rPr>
              <a:t>Diapositive N° 5 - Résultat</a:t>
            </a:r>
            <a:br>
              <a:rPr sz="2400"/>
            </a:br>
            <a:r>
              <a:rPr b="0" lang="en-US" sz="2400" spc="-1" strike="noStrike">
                <a:solidFill>
                  <a:srgbClr val="0033cc"/>
                </a:solidFill>
                <a:latin typeface="Arial Black"/>
              </a:rPr>
              <a:t>Score actuel = 4 points</a:t>
            </a:r>
            <a:endParaRPr b="0" lang="en-US" sz="2400" spc="-1" strike="noStrike">
              <a:solidFill>
                <a:srgbClr val="003300"/>
              </a:solidFill>
              <a:latin typeface="Arial Black"/>
            </a:endParaRPr>
          </a:p>
        </p:txBody>
      </p:sp>
      <p:pic>
        <p:nvPicPr>
          <p:cNvPr id="589" name="" descr=""/>
          <p:cNvPicPr/>
          <p:nvPr/>
        </p:nvPicPr>
        <p:blipFill>
          <a:blip r:embed="rId7"/>
          <a:stretch/>
        </p:blipFill>
        <p:spPr>
          <a:xfrm>
            <a:off x="1600200" y="5257800"/>
            <a:ext cx="1031760" cy="1076400"/>
          </a:xfrm>
          <a:prstGeom prst="rect">
            <a:avLst/>
          </a:prstGeom>
          <a:ln w="0">
            <a:noFill/>
          </a:ln>
        </p:spPr>
      </p:pic>
      <p:pic>
        <p:nvPicPr>
          <p:cNvPr id="590" name="" descr=""/>
          <p:cNvPicPr/>
          <p:nvPr/>
        </p:nvPicPr>
        <p:blipFill>
          <a:blip r:embed="rId8"/>
          <a:stretch/>
        </p:blipFill>
        <p:spPr>
          <a:xfrm>
            <a:off x="5105520" y="3692520"/>
            <a:ext cx="1066680" cy="1112760"/>
          </a:xfrm>
          <a:prstGeom prst="rect">
            <a:avLst/>
          </a:prstGeom>
          <a:ln w="0">
            <a:noFill/>
          </a:ln>
        </p:spPr>
      </p:pic>
      <p:sp>
        <p:nvSpPr>
          <p:cNvPr id="591" name=""/>
          <p:cNvSpPr/>
          <p:nvPr/>
        </p:nvSpPr>
        <p:spPr>
          <a:xfrm>
            <a:off x="4495680" y="5481720"/>
            <a:ext cx="3573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mière erreur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’était pourtant facile 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6188040" y="38088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Lucida Handwriting"/>
              </a:rPr>
              <a:t>Perd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4800600" y="3581280"/>
            <a:ext cx="1600200" cy="144792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>
            <a:hlinkClick r:id="rId9" action="ppaction://hlinksldjump"/>
          </p:cNvPr>
          <p:cNvSpPr/>
          <p:nvPr/>
        </p:nvSpPr>
        <p:spPr>
          <a:xfrm>
            <a:off x="5791320" y="6348240"/>
            <a:ext cx="1008000" cy="505080"/>
          </a:xfrm>
          <a:custGeom>
            <a:avLst/>
            <a:gdLst>
              <a:gd name="textAreaLeft" fmla="*/ 32760 w 1008000"/>
              <a:gd name="textAreaRight" fmla="*/ 975600 w 1008000"/>
              <a:gd name="textAreaTop" fmla="*/ 32760 h 505080"/>
              <a:gd name="textAreaBottom" fmla="*/ 472680 h 505080"/>
            </a:gdLst>
            <a:ahLst/>
            <a:rect l="textAreaLeft" t="textAreaTop" r="textAreaRight" b="textAreaBottom"/>
            <a:pathLst>
              <a:path w="43092" h="21600">
                <a:moveTo>
                  <a:pt x="0" y="0"/>
                </a:moveTo>
                <a:lnTo>
                  <a:pt x="43092" y="0"/>
                </a:lnTo>
                <a:lnTo>
                  <a:pt x="43092" y="21600"/>
                </a:lnTo>
                <a:lnTo>
                  <a:pt x="0" y="21600"/>
                </a:lnTo>
                <a:close/>
              </a:path>
              <a:path fill="lightenLess" w="43092" h="21600">
                <a:moveTo>
                  <a:pt x="0" y="0"/>
                </a:moveTo>
                <a:lnTo>
                  <a:pt x="43092" y="0"/>
                </a:lnTo>
                <a:lnTo>
                  <a:pt x="41692" y="1400"/>
                </a:lnTo>
                <a:lnTo>
                  <a:pt x="1400" y="1400"/>
                </a:lnTo>
                <a:close/>
              </a:path>
              <a:path fill="darken" w="43092" h="21600">
                <a:moveTo>
                  <a:pt x="43092" y="0"/>
                </a:moveTo>
                <a:lnTo>
                  <a:pt x="43092" y="21600"/>
                </a:lnTo>
                <a:lnTo>
                  <a:pt x="41692" y="20200"/>
                </a:lnTo>
                <a:lnTo>
                  <a:pt x="41692" y="1400"/>
                </a:lnTo>
                <a:close/>
              </a:path>
              <a:path fill="darkenLess" w="43092" h="21600">
                <a:moveTo>
                  <a:pt x="430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92" y="20200"/>
                </a:lnTo>
                <a:close/>
              </a:path>
              <a:path fill="lighten" w="430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92" h="21600">
                <a:moveTo>
                  <a:pt x="14540" y="3794"/>
                </a:moveTo>
                <a:lnTo>
                  <a:pt x="28553" y="10800"/>
                </a:lnTo>
                <a:lnTo>
                  <a:pt x="14540" y="17806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G Produc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restart="whenNotActive" nodeType="interactiveSeq" fill="hold">
                <p:stCondLst>
                  <p:cond evt="onClick">
                    <p:tgtEl>
                      <p:spTgt spid="435"/>
                    </p:tgtEl>
                  </p:cond>
                </p:stCondLst>
                <p:childTnLst>
                  <p:par>
                    <p:cTn id="341" fill="hold">
                      <p:stCondLst>
                        <p:cond evt="onClick">
                          <p:tgtEl>
                            <p:spTgt spid="435"/>
                          </p:tgtEl>
                        </p:cond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path" presetID="2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38 0 0.069 0.04133 0.069 0.092 C 0.069 0.12533 0.056 0.15467 0.037 0.172 L 0.036 0.172 C 0.029 0.17867 0.025 0.18933 0.025 0.20133 C 0.025 0.212 0.029 0.22133 0.034 0.228 C 0.042 0.23867 0.047 0.25467 0.047 0.27067 C 0.047 0.30533 0.026 0.33333 0 0.33333 C -0.026 0.33333 -0.047 0.30533 -0.047 0.27067 C -0.047 0.25467 -0.042 0.23867 -0.034 0.228 C -0.029 0.22133 -0.026 0.212 -0.026 0.20133 C -0.026 0.18933 -0.03 0.17867 -0.036 0.172 L -0.037 0.172 C -0.057 0.15467 -0.07 0.12533 -0.07 0.092 C -0.07 0.04133 -0.039 0 0 0 Z">
                                      <p:cBhvr>
                                        <p:cTn id="344" dur="2000" fill="hold"/>
                                        <p:tgtEl>
                                          <p:spTgt spid="4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5" restart="whenNotActive" nodeType="interactiveSeq" fill="hold">
                <p:stCondLst>
                  <p:cond evt="onClick">
                    <p:tgtEl>
                      <p:spTgt spid="436"/>
                    </p:tgtEl>
                  </p:cond>
                </p:stCondLst>
                <p:childTnLst>
                  <p:par>
                    <p:cTn id="346" fill="hold">
                      <p:stCondLst>
                        <p:cond evt="onClick">
                          <p:tgtEl>
                            <p:spTgt spid="436"/>
                          </p:tgtEl>
                        </p:cond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path" presetID="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14 -0.00667 -0.029 -0.012 -0.044 -0.012 C -0.114 -0.012 -0.169 0.064 -0.169 0.156 C -0.169 0.24667 -0.114 0.32133 -0.044 0.32133 C -0.029 0.32133 -0.014 0.31733 0 0.31067 C -0.047 0.28667 -0.08 0.22667 -0.08 0.156 C -0.08 0.084 -0.047 0.024 0 0 Z">
                                      <p:cBhvr>
                                        <p:cTn id="349" dur="2000" fill="hold"/>
                                        <p:tgtEl>
                                          <p:spTgt spid="4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0" restart="whenNotActive" nodeType="interactiveSeq" fill="hold">
                <p:stCondLst>
                  <p:cond evt="onClick">
                    <p:tgtEl>
                      <p:spTgt spid="437"/>
                    </p:tgtEl>
                  </p:cond>
                </p:stCondLst>
                <p:childTnLst>
                  <p:par>
                    <p:cTn id="351" fill="hold">
                      <p:stCondLst>
                        <p:cond evt="onClick">
                          <p:tgtEl>
                            <p:spTgt spid="437"/>
                          </p:tgtEl>
                        </p:cond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path" presetID="5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07407E-006 C -0.0007 0.05092 0.04305 0.09583 0.09809 0.09745 C 0.14184 0.10185 0.1776 0.07731 0.17847 0.04676 C 0.17847 0.01643 0.14323 -0.01227 0.09896 -0.01389 C 0.07656 -0.01389 0.05659 -0.01019 0.04218 4.07407E-006 C 0.02153 0.01412 0.00937 0.0368 0.00937 0.06319 C 0.00937 0.07731 0.01284 0.09143 0.01944 0.10393 C 0.03437 0.13032 0.06371 0.14838 0.09739 0.15046 C 0.1368 0.15463 0.16909 0.13217 0.16909 0.10601 C 0.16979 0.07731 0.1375 0.05301 0.09809 0.04884 C 0.07812 0.04884 0.06024 0.05301 0.04653 0.06111 C 0.02864 0.07523 0.01718 0.09745 0.01718 0.12013 C 0.01718 0.13217 0.02066 0.14444 0.02639 0.15671 C 0.0401 0.17916 0.06597 0.19745 0.0967 0.19907 C 0.13264 0.20138 0.16128 0.18125 0.16128 0.15671 C 0.16198 0.13217 0.13316 0.10995 0.09739 0.10787 C 0.07951 0.10601 0.06302 0.10995 0.05087 0.11805 C 0.03437 0.13032 0.02517 0.14838 0.02517 0.17083 C 0.02517 0.18125 0.02795 0.19305 0.03298 0.20347 C 0.04514 0.22384 0.06875 0.24004 0.096 0.24189 C 0.1283 0.24189 0.15399 0.22569 0.15399 0.20347 C 0.15399 0.18125 0.12899 0.16064 0.0967 0.15856 C 0.0809 0.15856 0.06597 0.16273 0.05521 0.16875 C 0.0401 0.17916 0.03142 0.19745 0.0309 0.21574 C 0.0309 0.22569 0.03437 0.23588 0.03871 0.24398 C 0.0493 0.26435 0.07083 0.27847 0.09531 0.27847 C 0.12396 0.28078 0.14757 0.26666 0.14757 0.24606 C 0.14826 0.22569 0.12465 0.20763 0.096 0.20555 C 0.08177 0.20555 0.06805 0.20763 0.05868 0.21574 C 0.04514 0.22384 0.03732 0.24004 0.03732 0.25625 C 0.03732 0.26666 0.03941 0.27476 0.04357 0.28287 C 0.05364 0.30092 0.07239 0.31319 0.09444 0.31527 C 0.121 0.31527 0.14184 0.30301 0.14184 0.28449 C 0.14253 0.26666 0.1217 0.25 0.09531 0.24814 C 0.08229 0.24814 0.07083 0.25 0.06232 0.25625 C 0.05017 0.26435 0.04305 0.27847 0.04305 0.2949 C 0.04305 0.30301 0.04514 0.30926 0.04878 0.31736 C 0.05729 0.33356 0.07448 0.34351 0.09444 0.3456 C 0.11823 0.34768 0.1368 0.33541 0.1368 0.31736 C 0.1368 0.30301 0.11892 0.2868 0.09531 0.2868 C 0.08316 0.28449 0.07239 0.28888 0.06441 0.29259 C 0.05364 0.30092 0.04722 0.31319 0.04722 0.32731 C 0.04722 0.33541 0.0493 0.34166 0.05295 0.34768 C 0.06093 0.3618 0.07656 0.37222 0.09392 0.3743 C 0.11528 0.37638 0.13264 0.36388 0.13264 0.34976 C 0.13264 0.33356 0.11528 0.32129 0.09444 0.31921 C 0.08455 0.31921 0.07448 0.32129 0.06736 0.32731 C 0.05729 0.33356 0.05156 0.34351 0.05156 0.3581 C 0.05156 0.36388 0.05364 0.3699 0.05659 0.37638 C 0.06371 0.38842 0.07743 0.39861 0.09392 0.39861 C 0.1125 0.40069 0.1283 0.39051 0.1283 0.37638 C 0.1283 0.36388 0.11319 0.35162 0.09392 0.35162 C 0.08524 0.34976 0.07604 0.35162 0.06944 0.35578 C 0.06093 0.36388 0.0559 0.3743 0.0559 0.38449 C 0.0559 0.39051 0.05729 0.39652 0.06024 0.40069 C 0.06666 0.41273 0.07882 0.42083 0.09392 0.42291 C 0.11111 0.42291 0.12465 0.41273 0.12465 0.40254 C 0.12465 0.39051 0.11111 0.37801 0.09392 0.37801 C 0.08524 0.37801 0.07743 0.38032 0.07239 0.38449 C 0.06371 0.38842 0.05937 0.39861 0.05937 0.40879 C 0.05937 0.41273 0.06093 0.41898 0.06302 0.42291 C 0.06875 0.43518 0.08021 0.4412 0.09323 0.44351 C 0.10903 0.44351 0.121 0.43518 0.121 0.425 C 0.121 0.41273 0.10903 0.40463 0.09392 0.40254 C 0.08593 0.40254 0.07882 0.40463 0.07378 0.40879 C 0.06666 0.41273 0.06232 0.42083 0.06232 0.43101 C 0.06232 0.43518 0.06371 0.43912 0.06597 0.44351 E">
                                      <p:cBhvr>
                                        <p:cTn id="354" dur="2000" fill="hold"/>
                                        <p:tgtEl>
                                          <p:spTgt spid="4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5" restart="whenNotActive" nodeType="interactiveSeq" fill="hold">
                <p:stCondLst>
                  <p:cond evt="onClick">
                    <p:tgtEl>
                      <p:spTgt spid="438"/>
                    </p:tgtEl>
                  </p:cond>
                </p:stCondLst>
                <p:childTnLst>
                  <p:par>
                    <p:cTn id="356" fill="hold">
                      <p:stCondLst>
                        <p:cond evt="onClick">
                          <p:tgtEl>
                            <p:spTgt spid="438"/>
                          </p:tgtEl>
                        </p:cond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82 0.03148 L -0.00382 0.40949 E">
                                      <p:cBhvr>
                                        <p:cTn id="359" dur="2000" fill="hold"/>
                                        <p:tgtEl>
                                          <p:spTgt spid="4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0" restart="whenNotActive" nodeType="interactiveSeq" fill="hold">
                <p:stCondLst>
                  <p:cond evt="onClick">
                    <p:tgtEl>
                      <p:spTgt spid="434"/>
                    </p:tgtEl>
                  </p:cond>
                </p:stCondLst>
                <p:childTnLst>
                  <p:par>
                    <p:cTn id="361" fill="hold">
                      <p:stCondLst>
                        <p:cond evt="onClick">
                          <p:tgtEl>
                            <p:spTgt spid="434"/>
                          </p:tgtEl>
                        </p:cond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3.7037E-006 L -0.34635 -0.01041 E">
                                      <p:cBhvr>
                                        <p:cTn id="364" dur="2000" fill="hold"/>
                                        <p:tgtEl>
                                          <p:spTgt spid="4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422600" cy="6629400"/>
          </a:xfrm>
          <a:prstGeom prst="rect">
            <a:avLst/>
          </a:prstGeom>
          <a:ln w="0">
            <a:noFill/>
          </a:ln>
        </p:spPr>
      </p:pic>
      <p:pic>
        <p:nvPicPr>
          <p:cNvPr id="596" name="" descr=""/>
          <p:cNvPicPr/>
          <p:nvPr/>
        </p:nvPicPr>
        <p:blipFill>
          <a:blip r:embed="rId2"/>
          <a:stretch/>
        </p:blipFill>
        <p:spPr>
          <a:xfrm>
            <a:off x="6858000" y="3692520"/>
            <a:ext cx="976320" cy="1112760"/>
          </a:xfrm>
          <a:prstGeom prst="rect">
            <a:avLst/>
          </a:prstGeom>
          <a:ln w="0">
            <a:noFill/>
          </a:ln>
        </p:spPr>
      </p:pic>
      <p:pic>
        <p:nvPicPr>
          <p:cNvPr id="597" name="" descr=""/>
          <p:cNvPicPr/>
          <p:nvPr/>
        </p:nvPicPr>
        <p:blipFill>
          <a:blip r:embed="rId3"/>
          <a:stretch/>
        </p:blipFill>
        <p:spPr>
          <a:xfrm>
            <a:off x="5105520" y="1101600"/>
            <a:ext cx="903240" cy="1113120"/>
          </a:xfrm>
          <a:prstGeom prst="rect">
            <a:avLst/>
          </a:prstGeom>
          <a:ln w="0">
            <a:noFill/>
          </a:ln>
        </p:spPr>
      </p:pic>
      <p:pic>
        <p:nvPicPr>
          <p:cNvPr id="598" name="" descr=""/>
          <p:cNvPicPr/>
          <p:nvPr/>
        </p:nvPicPr>
        <p:blipFill>
          <a:blip r:embed="rId4"/>
          <a:stretch/>
        </p:blipFill>
        <p:spPr>
          <a:xfrm>
            <a:off x="6829560" y="1066680"/>
            <a:ext cx="963360" cy="1113120"/>
          </a:xfrm>
          <a:prstGeom prst="rect">
            <a:avLst/>
          </a:prstGeom>
          <a:ln w="0">
            <a:noFill/>
          </a:ln>
        </p:spPr>
      </p:pic>
      <p:pic>
        <p:nvPicPr>
          <p:cNvPr id="599" name="" descr=""/>
          <p:cNvPicPr/>
          <p:nvPr/>
        </p:nvPicPr>
        <p:blipFill>
          <a:blip r:embed="rId5"/>
          <a:stretch/>
        </p:blipFill>
        <p:spPr>
          <a:xfrm>
            <a:off x="5116680" y="2397240"/>
            <a:ext cx="903240" cy="1112760"/>
          </a:xfrm>
          <a:prstGeom prst="rect">
            <a:avLst/>
          </a:prstGeom>
          <a:ln w="0">
            <a:noFill/>
          </a:ln>
        </p:spPr>
      </p:pic>
      <p:pic>
        <p:nvPicPr>
          <p:cNvPr id="600" name="" descr=""/>
          <p:cNvPicPr/>
          <p:nvPr/>
        </p:nvPicPr>
        <p:blipFill>
          <a:blip r:embed="rId6"/>
          <a:stretch/>
        </p:blipFill>
        <p:spPr>
          <a:xfrm>
            <a:off x="6858000" y="2397240"/>
            <a:ext cx="903240" cy="1112760"/>
          </a:xfrm>
          <a:prstGeom prst="rect">
            <a:avLst/>
          </a:prstGeom>
          <a:ln w="0">
            <a:noFill/>
          </a:ln>
        </p:spPr>
      </p:pic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133720" y="-76680"/>
            <a:ext cx="4114800" cy="11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 Black"/>
              </a:rPr>
              <a:t>Diapositive N° 5 - Résultat</a:t>
            </a:r>
            <a:br>
              <a:rPr sz="2400"/>
            </a:br>
            <a:r>
              <a:rPr b="0" lang="en-US" sz="2400" spc="-1" strike="noStrike">
                <a:solidFill>
                  <a:srgbClr val="0033cc"/>
                </a:solidFill>
                <a:latin typeface="Arial Black"/>
              </a:rPr>
              <a:t>Score actuel = 5 points</a:t>
            </a:r>
            <a:endParaRPr b="0" lang="en-US" sz="2400" spc="-1" strike="noStrike">
              <a:solidFill>
                <a:srgbClr val="003300"/>
              </a:solidFill>
              <a:latin typeface="Arial Black"/>
            </a:endParaRPr>
          </a:p>
        </p:txBody>
      </p:sp>
      <p:pic>
        <p:nvPicPr>
          <p:cNvPr id="602" name="" descr=""/>
          <p:cNvPicPr/>
          <p:nvPr/>
        </p:nvPicPr>
        <p:blipFill>
          <a:blip r:embed="rId7"/>
          <a:stretch/>
        </p:blipFill>
        <p:spPr>
          <a:xfrm>
            <a:off x="1600200" y="5257800"/>
            <a:ext cx="1031760" cy="1076400"/>
          </a:xfrm>
          <a:prstGeom prst="rect">
            <a:avLst/>
          </a:prstGeom>
          <a:ln w="0">
            <a:noFill/>
          </a:ln>
        </p:spPr>
      </p:pic>
      <p:pic>
        <p:nvPicPr>
          <p:cNvPr id="603" name="" descr=""/>
          <p:cNvPicPr/>
          <p:nvPr/>
        </p:nvPicPr>
        <p:blipFill>
          <a:blip r:embed="rId8"/>
          <a:stretch/>
        </p:blipFill>
        <p:spPr>
          <a:xfrm>
            <a:off x="5105520" y="3692520"/>
            <a:ext cx="1066680" cy="1112760"/>
          </a:xfrm>
          <a:prstGeom prst="rect">
            <a:avLst/>
          </a:prstGeom>
          <a:ln w="0">
            <a:noFill/>
          </a:ln>
        </p:spPr>
      </p:pic>
      <p:sp>
        <p:nvSpPr>
          <p:cNvPr id="604" name=""/>
          <p:cNvSpPr/>
          <p:nvPr/>
        </p:nvSpPr>
        <p:spPr>
          <a:xfrm>
            <a:off x="4343400" y="5181480"/>
            <a:ext cx="3726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apeau 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ucune erreur pour l’instant 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6188040" y="45720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Lucida Handwriting"/>
              </a:rPr>
              <a:t>GAG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>
            <a:hlinkClick r:id="rId9" action="ppaction://hlinksldjump"/>
          </p:cNvPr>
          <p:cNvSpPr/>
          <p:nvPr/>
        </p:nvSpPr>
        <p:spPr>
          <a:xfrm>
            <a:off x="5791320" y="6348240"/>
            <a:ext cx="1008000" cy="505080"/>
          </a:xfrm>
          <a:custGeom>
            <a:avLst/>
            <a:gdLst>
              <a:gd name="textAreaLeft" fmla="*/ 32760 w 1008000"/>
              <a:gd name="textAreaRight" fmla="*/ 975600 w 1008000"/>
              <a:gd name="textAreaTop" fmla="*/ 32760 h 505080"/>
              <a:gd name="textAreaBottom" fmla="*/ 472680 h 505080"/>
            </a:gdLst>
            <a:ahLst/>
            <a:rect l="textAreaLeft" t="textAreaTop" r="textAreaRight" b="textAreaBottom"/>
            <a:pathLst>
              <a:path w="43092" h="21600">
                <a:moveTo>
                  <a:pt x="0" y="0"/>
                </a:moveTo>
                <a:lnTo>
                  <a:pt x="43092" y="0"/>
                </a:lnTo>
                <a:lnTo>
                  <a:pt x="43092" y="21600"/>
                </a:lnTo>
                <a:lnTo>
                  <a:pt x="0" y="21600"/>
                </a:lnTo>
                <a:close/>
              </a:path>
              <a:path fill="lightenLess" w="43092" h="21600">
                <a:moveTo>
                  <a:pt x="0" y="0"/>
                </a:moveTo>
                <a:lnTo>
                  <a:pt x="43092" y="0"/>
                </a:lnTo>
                <a:lnTo>
                  <a:pt x="41692" y="1400"/>
                </a:lnTo>
                <a:lnTo>
                  <a:pt x="1400" y="1400"/>
                </a:lnTo>
                <a:close/>
              </a:path>
              <a:path fill="darken" w="43092" h="21600">
                <a:moveTo>
                  <a:pt x="43092" y="0"/>
                </a:moveTo>
                <a:lnTo>
                  <a:pt x="43092" y="21600"/>
                </a:lnTo>
                <a:lnTo>
                  <a:pt x="41692" y="20200"/>
                </a:lnTo>
                <a:lnTo>
                  <a:pt x="41692" y="1400"/>
                </a:lnTo>
                <a:close/>
              </a:path>
              <a:path fill="darkenLess" w="43092" h="21600">
                <a:moveTo>
                  <a:pt x="430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92" y="20200"/>
                </a:lnTo>
                <a:close/>
              </a:path>
              <a:path fill="lighten" w="430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92" h="21600">
                <a:moveTo>
                  <a:pt x="14540" y="3794"/>
                </a:moveTo>
                <a:lnTo>
                  <a:pt x="28553" y="10800"/>
                </a:lnTo>
                <a:lnTo>
                  <a:pt x="14540" y="17806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4800600" y="3581280"/>
            <a:ext cx="1600200" cy="144792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G Produc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restart="whenNotActive" nodeType="interactiveSeq" fill="hold">
                <p:stCondLst>
                  <p:cond evt="onClick">
                    <p:tgtEl>
                      <p:spTgt spid="435"/>
                    </p:tgtEl>
                  </p:cond>
                </p:stCondLst>
                <p:childTnLst>
                  <p:par>
                    <p:cTn id="367" fill="hold">
                      <p:stCondLst>
                        <p:cond evt="onClick">
                          <p:tgtEl>
                            <p:spTgt spid="435"/>
                          </p:tgtEl>
                        </p:cond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path" presetID="2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38 0 0.069 0.04133 0.069 0.092 C 0.069 0.12533 0.056 0.15467 0.037 0.172 L 0.036 0.172 C 0.029 0.17867 0.025 0.18933 0.025 0.20133 C 0.025 0.212 0.029 0.22133 0.034 0.228 C 0.042 0.23867 0.047 0.25467 0.047 0.27067 C 0.047 0.30533 0.026 0.33333 0 0.33333 C -0.026 0.33333 -0.047 0.30533 -0.047 0.27067 C -0.047 0.25467 -0.042 0.23867 -0.034 0.228 C -0.029 0.22133 -0.026 0.212 -0.026 0.20133 C -0.026 0.18933 -0.03 0.17867 -0.036 0.172 L -0.037 0.172 C -0.057 0.15467 -0.07 0.12533 -0.07 0.092 C -0.07 0.04133 -0.039 0 0 0 Z">
                                      <p:cBhvr>
                                        <p:cTn id="370" dur="2000" fill="hold"/>
                                        <p:tgtEl>
                                          <p:spTgt spid="4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1" restart="whenNotActive" nodeType="interactiveSeq" fill="hold">
                <p:stCondLst>
                  <p:cond evt="onClick">
                    <p:tgtEl>
                      <p:spTgt spid="436"/>
                    </p:tgtEl>
                  </p:cond>
                </p:stCondLst>
                <p:childTnLst>
                  <p:par>
                    <p:cTn id="372" fill="hold">
                      <p:stCondLst>
                        <p:cond evt="onClick">
                          <p:tgtEl>
                            <p:spTgt spid="436"/>
                          </p:tgtEl>
                        </p:cond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path" presetID="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14 -0.00667 -0.029 -0.012 -0.044 -0.012 C -0.114 -0.012 -0.169 0.064 -0.169 0.156 C -0.169 0.24667 -0.114 0.32133 -0.044 0.32133 C -0.029 0.32133 -0.014 0.31733 0 0.31067 C -0.047 0.28667 -0.08 0.22667 -0.08 0.156 C -0.08 0.084 -0.047 0.024 0 0 Z">
                                      <p:cBhvr>
                                        <p:cTn id="375" dur="2000" fill="hold"/>
                                        <p:tgtEl>
                                          <p:spTgt spid="4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6" restart="whenNotActive" nodeType="interactiveSeq" fill="hold">
                <p:stCondLst>
                  <p:cond evt="onClick">
                    <p:tgtEl>
                      <p:spTgt spid="437"/>
                    </p:tgtEl>
                  </p:cond>
                </p:stCondLst>
                <p:childTnLst>
                  <p:par>
                    <p:cTn id="377" fill="hold">
                      <p:stCondLst>
                        <p:cond evt="onClick">
                          <p:tgtEl>
                            <p:spTgt spid="437"/>
                          </p:tgtEl>
                        </p:cond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path" presetID="5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07407E-006 C -0.0007 0.05092 0.04305 0.09583 0.09809 0.09745 C 0.14184 0.10185 0.1776 0.07731 0.17847 0.04676 C 0.17847 0.01643 0.14323 -0.01227 0.09896 -0.01389 C 0.07656 -0.01389 0.05659 -0.01019 0.04218 4.07407E-006 C 0.02153 0.01412 0.00937 0.0368 0.00937 0.06319 C 0.00937 0.07731 0.01284 0.09143 0.01944 0.10393 C 0.03437 0.13032 0.06371 0.14838 0.09739 0.15046 C 0.1368 0.15463 0.16909 0.13217 0.16909 0.10601 C 0.16979 0.07731 0.1375 0.05301 0.09809 0.04884 C 0.07812 0.04884 0.06024 0.05301 0.04653 0.06111 C 0.02864 0.07523 0.01718 0.09745 0.01718 0.12013 C 0.01718 0.13217 0.02066 0.14444 0.02639 0.15671 C 0.0401 0.17916 0.06597 0.19745 0.0967 0.19907 C 0.13264 0.20138 0.16128 0.18125 0.16128 0.15671 C 0.16198 0.13217 0.13316 0.10995 0.09739 0.10787 C 0.07951 0.10601 0.06302 0.10995 0.05087 0.11805 C 0.03437 0.13032 0.02517 0.14838 0.02517 0.17083 C 0.02517 0.18125 0.02795 0.19305 0.03298 0.20347 C 0.04514 0.22384 0.06875 0.24004 0.096 0.24189 C 0.1283 0.24189 0.15399 0.22569 0.15399 0.20347 C 0.15399 0.18125 0.12899 0.16064 0.0967 0.15856 C 0.0809 0.15856 0.06597 0.16273 0.05521 0.16875 C 0.0401 0.17916 0.03142 0.19745 0.0309 0.21574 C 0.0309 0.22569 0.03437 0.23588 0.03871 0.24398 C 0.0493 0.26435 0.07083 0.27847 0.09531 0.27847 C 0.12396 0.28078 0.14757 0.26666 0.14757 0.24606 C 0.14826 0.22569 0.12465 0.20763 0.096 0.20555 C 0.08177 0.20555 0.06805 0.20763 0.05868 0.21574 C 0.04514 0.22384 0.03732 0.24004 0.03732 0.25625 C 0.03732 0.26666 0.03941 0.27476 0.04357 0.28287 C 0.05364 0.30092 0.07239 0.31319 0.09444 0.31527 C 0.121 0.31527 0.14184 0.30301 0.14184 0.28449 C 0.14253 0.26666 0.1217 0.25 0.09531 0.24814 C 0.08229 0.24814 0.07083 0.25 0.06232 0.25625 C 0.05017 0.26435 0.04305 0.27847 0.04305 0.2949 C 0.04305 0.30301 0.04514 0.30926 0.04878 0.31736 C 0.05729 0.33356 0.07448 0.34351 0.09444 0.3456 C 0.11823 0.34768 0.1368 0.33541 0.1368 0.31736 C 0.1368 0.30301 0.11892 0.2868 0.09531 0.2868 C 0.08316 0.28449 0.07239 0.28888 0.06441 0.29259 C 0.05364 0.30092 0.04722 0.31319 0.04722 0.32731 C 0.04722 0.33541 0.0493 0.34166 0.05295 0.34768 C 0.06093 0.3618 0.07656 0.37222 0.09392 0.3743 C 0.11528 0.37638 0.13264 0.36388 0.13264 0.34976 C 0.13264 0.33356 0.11528 0.32129 0.09444 0.31921 C 0.08455 0.31921 0.07448 0.32129 0.06736 0.32731 C 0.05729 0.33356 0.05156 0.34351 0.05156 0.3581 C 0.05156 0.36388 0.05364 0.3699 0.05659 0.37638 C 0.06371 0.38842 0.07743 0.39861 0.09392 0.39861 C 0.1125 0.40069 0.1283 0.39051 0.1283 0.37638 C 0.1283 0.36388 0.11319 0.35162 0.09392 0.35162 C 0.08524 0.34976 0.07604 0.35162 0.06944 0.35578 C 0.06093 0.36388 0.0559 0.3743 0.0559 0.38449 C 0.0559 0.39051 0.05729 0.39652 0.06024 0.40069 C 0.06666 0.41273 0.07882 0.42083 0.09392 0.42291 C 0.11111 0.42291 0.12465 0.41273 0.12465 0.40254 C 0.12465 0.39051 0.11111 0.37801 0.09392 0.37801 C 0.08524 0.37801 0.07743 0.38032 0.07239 0.38449 C 0.06371 0.38842 0.05937 0.39861 0.05937 0.40879 C 0.05937 0.41273 0.06093 0.41898 0.06302 0.42291 C 0.06875 0.43518 0.08021 0.4412 0.09323 0.44351 C 0.10903 0.44351 0.121 0.43518 0.121 0.425 C 0.121 0.41273 0.10903 0.40463 0.09392 0.40254 C 0.08593 0.40254 0.07882 0.40463 0.07378 0.40879 C 0.06666 0.41273 0.06232 0.42083 0.06232 0.43101 C 0.06232 0.43518 0.06371 0.43912 0.06597 0.44351 E">
                                      <p:cBhvr>
                                        <p:cTn id="380" dur="2000" fill="hold"/>
                                        <p:tgtEl>
                                          <p:spTgt spid="4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1" restart="whenNotActive" nodeType="interactiveSeq" fill="hold">
                <p:stCondLst>
                  <p:cond evt="onClick">
                    <p:tgtEl>
                      <p:spTgt spid="438"/>
                    </p:tgtEl>
                  </p:cond>
                </p:stCondLst>
                <p:childTnLst>
                  <p:par>
                    <p:cTn id="382" fill="hold">
                      <p:stCondLst>
                        <p:cond evt="onClick">
                          <p:tgtEl>
                            <p:spTgt spid="438"/>
                          </p:tgtEl>
                        </p:cond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82 0.03148 L -0.00382 0.40949 E">
                                      <p:cBhvr>
                                        <p:cTn id="385" dur="2000" fill="hold"/>
                                        <p:tgtEl>
                                          <p:spTgt spid="4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6" restart="whenNotActive" nodeType="interactiveSeq" fill="hold">
                <p:stCondLst>
                  <p:cond evt="onClick">
                    <p:tgtEl>
                      <p:spTgt spid="434"/>
                    </p:tgtEl>
                  </p:cond>
                </p:stCondLst>
                <p:childTnLst>
                  <p:par>
                    <p:cTn id="387" fill="hold">
                      <p:stCondLst>
                        <p:cond evt="onClick">
                          <p:tgtEl>
                            <p:spTgt spid="434"/>
                          </p:tgtEl>
                        </p:cond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3.7037E-006 L -0.34635 -0.01041 E">
                                      <p:cBhvr>
                                        <p:cTn id="390" dur="2000" fill="hold"/>
                                        <p:tgtEl>
                                          <p:spTgt spid="4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194000" cy="6629400"/>
          </a:xfrm>
          <a:prstGeom prst="rect">
            <a:avLst/>
          </a:prstGeom>
          <a:ln w="0">
            <a:noFill/>
          </a:ln>
        </p:spPr>
      </p:pic>
      <p:pic>
        <p:nvPicPr>
          <p:cNvPr id="609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095960" y="1981080"/>
            <a:ext cx="1057320" cy="1293840"/>
          </a:xfrm>
          <a:prstGeom prst="rect">
            <a:avLst/>
          </a:prstGeom>
          <a:ln w="0">
            <a:noFill/>
          </a:ln>
        </p:spPr>
      </p:pic>
      <p:pic>
        <p:nvPicPr>
          <p:cNvPr id="610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419720" y="1973160"/>
            <a:ext cx="1057320" cy="1303560"/>
          </a:xfrm>
          <a:prstGeom prst="rect">
            <a:avLst/>
          </a:prstGeom>
          <a:ln w="0">
            <a:noFill/>
          </a:ln>
        </p:spPr>
      </p:pic>
      <p:pic>
        <p:nvPicPr>
          <p:cNvPr id="611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5791320" y="1979640"/>
            <a:ext cx="1057320" cy="1220760"/>
          </a:xfrm>
          <a:prstGeom prst="rect">
            <a:avLst/>
          </a:prstGeom>
          <a:ln w="0">
            <a:noFill/>
          </a:ln>
        </p:spPr>
      </p:pic>
      <p:pic>
        <p:nvPicPr>
          <p:cNvPr id="612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4419720" y="3801960"/>
            <a:ext cx="1057320" cy="1303560"/>
          </a:xfrm>
          <a:prstGeom prst="rect">
            <a:avLst/>
          </a:prstGeom>
          <a:ln w="0">
            <a:noFill/>
          </a:ln>
        </p:spPr>
      </p:pic>
      <p:pic>
        <p:nvPicPr>
          <p:cNvPr id="613" name="" descr="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5800680" y="3809880"/>
            <a:ext cx="1057320" cy="1274760"/>
          </a:xfrm>
          <a:prstGeom prst="rect">
            <a:avLst/>
          </a:prstGeom>
          <a:ln w="0">
            <a:noFill/>
          </a:ln>
        </p:spPr>
      </p:pic>
      <p:pic>
        <p:nvPicPr>
          <p:cNvPr id="614" name="" descr="">
            <a:hlinkClick r:id="rId12" action="ppaction://hlinksldjump"/>
          </p:cNvPr>
          <p:cNvPicPr/>
          <p:nvPr/>
        </p:nvPicPr>
        <p:blipFill>
          <a:blip r:embed="rId13"/>
          <a:stretch/>
        </p:blipFill>
        <p:spPr>
          <a:xfrm>
            <a:off x="7086600" y="3809880"/>
            <a:ext cx="1057320" cy="120672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4572000" y="5638680"/>
            <a:ext cx="358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lez !! Au moins une bonne réponse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038480" y="241200"/>
            <a:ext cx="411480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 Black"/>
              </a:rPr>
              <a:t>Diapositive N° 6</a:t>
            </a:r>
            <a:br>
              <a:rPr sz="2400"/>
            </a:br>
            <a:r>
              <a:rPr b="0" lang="en-US" sz="2400" spc="-1" strike="noStrike">
                <a:solidFill>
                  <a:srgbClr val="0033cc"/>
                </a:solidFill>
                <a:latin typeface="Arial Black"/>
              </a:rPr>
              <a:t>Score actuel = 0 point</a:t>
            </a:r>
            <a:endParaRPr b="0" lang="en-US" sz="2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G Produc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0 L -0.64723 0.35694 E">
                                      <p:cBhvr>
                                        <p:cTn id="396" dur="2000" fill="hold"/>
                                        <p:tgtEl>
                                          <p:spTgt spid="6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7" restart="whenNotActive" nodeType="interactiveSeq" fill="hold">
                <p:stCondLst>
                  <p:cond evt="onClick">
                    <p:tgtEl>
                      <p:spTgt spid="610"/>
                    </p:tgtEl>
                  </p:cond>
                </p:stCondLst>
                <p:childTnLst>
                  <p:par>
                    <p:cTn id="398" fill="hold">
                      <p:stCondLst>
                        <p:cond evt="onClick">
                          <p:tgtEl>
                            <p:spTgt spid="610"/>
                          </p:tgtEl>
                        </p:cond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46945E-018 2.59259E-006 C -0.00364 0.00162 -0.00746 0.00231 -0.01076 0.00462 C -0.01475 0.0074 -0.03385 0.03287 -0.03402 0.03333 C -0.03524 0.03564 -0.03593 0.03842 -0.0375 0.0405 C -0.03958 0.04328 -0.04236 0.0449 -0.04461 0.04745 C -0.05434 0.05925 -0.06232 0.07337 -0.07326 0.08333 C -0.07864 0.09398 -0.08507 0.10231 -0.09288 0.10949 C -0.09548 0.12037 -0.09826 0.12384 -0.10538 0.13078 C -0.11059 0.14467 -0.11892 0.15787 -0.12864 0.16666 C -0.13402 0.17777 -0.14114 0.18819 -0.14826 0.19745 C -0.15156 0.21134 -0.1585 0.22314 -0.16614 0.23333 C -0.17048 0.25138 -0.16406 0.22986 -0.17326 0.24513 C -0.17448 0.24699 -0.17395 0.25023 -0.175 0.25231 C -0.17691 0.25601 -0.17986 0.25833 -0.18211 0.2618 C -0.18767 0.2706 -0.18472 0.26921 -0.18941 0.28078 C -0.19357 0.29074 -0.19757 0.29907 -0.20364 0.30717 C -0.2059 0.31967 -0.21145 0.32685 -0.21614 0.33796 C -0.22239 0.35324 -0.22951 0.36689 -0.2375 0.38078 C -0.2427 0.39004 -0.24253 0.3956 -0.25 0.40231 C -0.25295 0.41342 -0.26961 0.43564 -0.27691 0.44513 C -0.28055 0.45486 -0.28437 0.4625 -0.28941 0.47129 C -0.29201 0.48518 -0.29513 0.48634 -0.30191 0.49745 C -0.30468 0.50185 -0.30902 0.5118 -0.30902 0.5118 C -0.31111 0.52361 -0.31597 0.52824 -0.32152 0.53796 C -0.3243 0.5537 -0.33125 0.56944 -0.3375 0.58333 C -0.33975 0.58819 -0.34323 0.59212 -0.34461 0.59745 C -0.34635 0.60462 -0.34826 0.6118 -0.35 0.61898 C -0.35069 0.62129 -0.35191 0.62615 -0.35191 0.62615 C -0.35121 0.64513 -0.35156 0.66435 -0.35 0.68333 C -0.34895 0.69513 -0.33715 0.70717 -0.33038 0.7118 C -0.32083 0.71828 -0.31198 0.72847 -0.30191 0.73333 C -0.28993 0.73912 -0.27708 0.74097 -0.26441 0.74282 C -0.23385 0.75254 -0.19114 0.74351 -0.16441 0.74282 C -0.15277 0.73912 -0.14166 0.73356 -0.13038 0.72847 C -0.12725 0.72708 -0.121 0.72592 -0.11788 0.72384 C -0.11475 0.72175 -0.11215 0.71851 -0.10902 0.71666 C -0.0993 0.71087 -0.08819 0.70856 -0.07864 0.70231 C -0.06128 0.69097 -0.07638 0.69814 -0.06441 0.69282 C -0.04739 0.67754 -0.02708 0.66921 -0.01076 0.65231 C 0.01268 0.628 0.03247 0.59699 0.05348 0.56898 C 0.05747 0.56365 0.05955 0.5537 0.0625 0.54745 C 0.06806 0.53564 0.0757 0.52592 0.07848 0.5118 C 0.08108 0.49907 0.08629 0.48287 0.09098 0.47129 C 0.10504 0.4368 0.09254 0.47523 0.10174 0.44513 C 0.10365 0.42986 0.1066 0.41666 0.11059 0.40231 C 0.11372 0.39143 0.11146 0.39282 0.11424 0.38078 C 0.12153 0.34814 0.11945 0.35439 0.12674 0.33564 C 0.12813 0.31296 0.13039 0.29791 0.13386 0.27615 C 0.13802 0.20763 0.14532 0.12916 0.1125 0.07129 C 0.10747 0.05231 0.11493 0.07708 0.10539 0.05717 C 0.09462 0.03449 0.10417 0.04074 0.09289 0.03564 C 0.09167 0.0324 0.09098 0.02893 0.08924 0.02615 C 0.08334 0.01666 0.07049 0.01689 0.0625 0.0118 C 0.05243 0.00532 0.06198 0.00856 0.05174 0.00462 C 0.04375 0.00162 0.04653 0.00115 0.04098 0.00462 E">
                                      <p:cBhvr>
                                        <p:cTn id="401" dur="2000" fill="hold"/>
                                        <p:tgtEl>
                                          <p:spTgt spid="6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2" restart="whenNotActive" nodeType="interactiveSeq" fill="hold">
                <p:stCondLst>
                  <p:cond evt="onClick">
                    <p:tgtEl>
                      <p:spTgt spid="611"/>
                    </p:tgtEl>
                  </p:cond>
                </p:stCondLst>
                <p:childTnLst>
                  <p:par>
                    <p:cTn id="403" fill="hold">
                      <p:stCondLst>
                        <p:cond evt="onClick">
                          <p:tgtEl>
                            <p:spTgt spid="611"/>
                          </p:tgtEl>
                        </p:cond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3.33333E-006 C -0.12986 0.0169 -0.26094 -0.00254 -0.39115 0.00718 C -0.39913 0.01135 -0.40608 0.01644 -0.41441 0.01898 C -0.42188 0.02593 -0.43212 0.03033 -0.44115 0.03334 C -0.45174 0.04746 -0.44115 0.03565 -0.45191 0.04283 C -0.46042 0.04861 -0.45903 0.05348 -0.46962 0.05718 C -0.47865 0.06528 -0.48281 0.06991 -0.48941 0.08102 C -0.4934 0.08773 -0.49549 0.0963 -0.5 0.10232 C -0.50694 0.11158 -0.50399 0.10672 -0.50903 0.11667 C -0.51163 0.12778 -0.51632 0.13843 -0.52153 0.14769 C -0.52396 0.16065 -0.52969 0.17686 -0.53576 0.18797 C -0.53733 0.19074 -0.53958 0.19236 -0.54115 0.19514 C -0.54375 0.19977 -0.54826 0.20949 -0.54826 0.20973 C -0.55156 0.22732 -0.54792 0.21065 -0.55365 0.22848 C -0.5566 0.23773 -0.55625 0.24607 -0.56076 0.25463 C -0.56267 0.275 -0.56441 0.29445 -0.56788 0.31436 C -0.57222 0.3676 -0.57552 0.42107 -0.58038 0.47385 C -0.58333 0.50695 -0.58299 0.54375 -0.58941 0.57616 C -0.59201 0.6125 -0.59306 0.61574 -0.58941 0.66436 C -0.58906 0.66783 -0.58142 0.67662 -0.58038 0.67848 C -0.5658 0.70209 -0.54253 0.71088 -0.51962 0.71181 C -0.48281 0.71343 -0.44583 0.71505 -0.40903 0.71667 C -0.39427 0.72037 -0.37934 0.72199 -0.36441 0.72385 C -0.29688 0.75301 -0.22031 0.74584 -0.15208 0.7213 C -0.14792 0.71783 -0.14323 0.71574 -0.13941 0.71181 C -0.12604 0.69838 -0.13785 0.70486 -0.12708 0.7 C -0.12448 0.69676 -0.1224 0.69329 -0.11979 0.69051 C -0.11632 0.68704 -0.10903 0.68102 -0.10903 0.68125 C -0.10608 0.67477 -0.10365 0.6676 -0.10017 0.66181 C -0.09809 0.6588 -0.09497 0.65741 -0.09288 0.65463 C -0.08906 0.64954 -0.08559 0.64375 -0.08212 0.63797 C -0.07604 0.62801 -0.07309 0.61875 -0.06615 0.60949 C -0.06354 0.60093 -0.06233 0.59144 -0.05903 0.58334 C -0.05729 0.57894 -0.05382 0.5757 -0.05191 0.5713 C -0.04392 0.55348 -0.05174 0.56598 -0.04653 0.55 C -0.04566 0.54746 -0.04392 0.54537 -0.04288 0.54283 C -0.04149 0.53912 -0.04063 0.53496 -0.03941 0.53102 C -0.03646 0.50834 -0.02882 0.48889 -0.025 0.46667 C -0.01944 0.43473 -0.01337 0.40301 -0.00712 0.3713 C -0.0066 0.36505 -0.00625 0.35857 -0.00538 0.35232 C -0.0033 0.33635 0.00174 0.30463 0.00174 0.30486 C 0.0026 0.20834 0.00712 0.11436 0.00712 0.01898 E">
                                      <p:cBhvr>
                                        <p:cTn id="406" dur="3000" fill="hold"/>
                                        <p:tgtEl>
                                          <p:spTgt spid="6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7" restart="whenNotActive" nodeType="interactiveSeq" fill="hold">
                <p:stCondLst>
                  <p:cond evt="onClick">
                    <p:tgtEl>
                      <p:spTgt spid="612"/>
                    </p:tgtEl>
                  </p:cond>
                </p:stCondLst>
                <p:childTnLst>
                  <p:par>
                    <p:cTn id="408" fill="hold">
                      <p:stCondLst>
                        <p:cond evt="onClick">
                          <p:tgtEl>
                            <p:spTgt spid="612"/>
                          </p:tgtEl>
                        </p:cond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path" presetID="28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17 0 0.031 0.01867 0.031 0.04133 C 0.031 0.06533 0.017 0.084 0 0.084 C -0.017 0.084 -0.031 0.10267 -0.031 0.12533 C -0.031 0.148 -0.017 0.16667 0 0.16667 C 0.017 0.16667 0.031 0.18533 0.031 0.208 C 0.031 0.23067 0.017 0.24933 0 0.24933 C -0.017 0.24933 -0.031 0.268 -0.031 0.292 C -0.031 0.31467 -0.017 0.33333 0 0.33333 C 0.017 0.33333 0.031 0.31467 0.031 0.292 C 0.031 0.268 0.017 0.24933 0 0.24933 C -0.017 0.24933 -0.031 0.23067 -0.031 0.208 C -0.031 0.18533 -0.017 0.16667 0 0.16667 C 0.017 0.16667 0.031 0.148 0.031 0.12533 C 0.031 0.10267 0.017 0.084 0 0.084 C -0.017 0.084 -0.031 0.06533 -0.031 0.04133 C -0.031 0.01867 -0.017 0 0 0 Z">
                                      <p:cBhvr>
                                        <p:cTn id="411" dur="2000" fill="hold"/>
                                        <p:tgtEl>
                                          <p:spTgt spid="6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2" restart="whenNotActive" nodeType="interactiveSeq" fill="hold">
                <p:stCondLst>
                  <p:cond evt="onClick">
                    <p:tgtEl>
                      <p:spTgt spid="613"/>
                    </p:tgtEl>
                  </p:cond>
                </p:stCondLst>
                <p:childTnLst>
                  <p:par>
                    <p:cTn id="413" fill="hold">
                      <p:stCondLst>
                        <p:cond evt="onClick">
                          <p:tgtEl>
                            <p:spTgt spid="613"/>
                          </p:tgtEl>
                        </p:cond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path" presetID="3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17 -0.08667 C 0.034 -0.15733 0.061 -0.18533 0.1 -0.18533 C 0.12 -0.18533 0.138 -0.17467 0.152 -0.15733 C 0.162 -0.14533 0.174 -0.13867 0.187 -0.13867 C 0.212 -0.13867 0.233 -0.16267 0.241 -0.19733 L 0.25 -0.23867 L 0.232 -0.15067 C 0.215 -0.08133 0.188 -0.05333 0.15 -0.05333 C 0.13 -0.05333 0.111 -0.064 0.096 -0.08267 C 0.087 -0.09333 0.075 -0.1 0.063 -0.1 C 0.038 -0.1 0.017 -0.076 0.009 -0.04133 L 0 0 Z">
                                      <p:cBhvr>
                                        <p:cTn id="416" dur="2000" fill="hold"/>
                                        <p:tgtEl>
                                          <p:spTgt spid="6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7" restart="whenNotActive" nodeType="interactiveSeq" fill="hold">
                <p:stCondLst>
                  <p:cond evt="onClick">
                    <p:tgtEl>
                      <p:spTgt spid="614"/>
                    </p:tgtEl>
                  </p:cond>
                </p:stCondLst>
                <p:childTnLst>
                  <p:par>
                    <p:cTn id="418" fill="hold">
                      <p:stCondLst>
                        <p:cond evt="onClick">
                          <p:tgtEl>
                            <p:spTgt spid="614"/>
                          </p:tgtEl>
                        </p:cond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path" presetID="2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 -0.04267 0.026 -0.07733 0.058 -0.07733 L 0.192 -0.07733 C 0.224 -0.07733 0.25 -0.04267 0.25 0 L 0.25 0.176 C 0.25 0.21867 0.224 0.25467 0.192 0.25467 L 0.058 0.25467 C 0.026 0.25467 0 0.21867 0 0.176 Z">
                                      <p:cBhvr>
                                        <p:cTn id="421" dur="2000" fill="hold"/>
                                        <p:tgtEl>
                                          <p:spTgt spid="6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194000" cy="6629400"/>
          </a:xfrm>
          <a:prstGeom prst="rect">
            <a:avLst/>
          </a:prstGeom>
          <a:ln w="0">
            <a:noFill/>
          </a:ln>
        </p:spPr>
      </p:pic>
      <p:pic>
        <p:nvPicPr>
          <p:cNvPr id="618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095960" y="1981080"/>
            <a:ext cx="1057320" cy="1293840"/>
          </a:xfrm>
          <a:prstGeom prst="rect">
            <a:avLst/>
          </a:prstGeom>
          <a:ln w="0">
            <a:noFill/>
          </a:ln>
        </p:spPr>
      </p:pic>
      <p:pic>
        <p:nvPicPr>
          <p:cNvPr id="619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419720" y="1973160"/>
            <a:ext cx="1057320" cy="1303560"/>
          </a:xfrm>
          <a:prstGeom prst="rect">
            <a:avLst/>
          </a:prstGeom>
          <a:ln w="0">
            <a:noFill/>
          </a:ln>
        </p:spPr>
      </p:pic>
      <p:pic>
        <p:nvPicPr>
          <p:cNvPr id="620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5791320" y="1979640"/>
            <a:ext cx="1057320" cy="1220760"/>
          </a:xfrm>
          <a:prstGeom prst="rect">
            <a:avLst/>
          </a:prstGeom>
          <a:ln w="0">
            <a:noFill/>
          </a:ln>
        </p:spPr>
      </p:pic>
      <p:pic>
        <p:nvPicPr>
          <p:cNvPr id="621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4419720" y="3801960"/>
            <a:ext cx="1057320" cy="1303560"/>
          </a:xfrm>
          <a:prstGeom prst="rect">
            <a:avLst/>
          </a:prstGeom>
          <a:ln w="0">
            <a:noFill/>
          </a:ln>
        </p:spPr>
      </p:pic>
      <p:pic>
        <p:nvPicPr>
          <p:cNvPr id="622" name="" descr="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5800680" y="3809880"/>
            <a:ext cx="1057320" cy="1274760"/>
          </a:xfrm>
          <a:prstGeom prst="rect">
            <a:avLst/>
          </a:prstGeom>
          <a:ln w="0">
            <a:noFill/>
          </a:ln>
        </p:spPr>
      </p:pic>
      <p:pic>
        <p:nvPicPr>
          <p:cNvPr id="623" name="" descr="">
            <a:hlinkClick r:id="rId12" action="ppaction://hlinksldjump"/>
          </p:cNvPr>
          <p:cNvPicPr/>
          <p:nvPr/>
        </p:nvPicPr>
        <p:blipFill>
          <a:blip r:embed="rId13"/>
          <a:stretch/>
        </p:blipFill>
        <p:spPr>
          <a:xfrm>
            <a:off x="7086600" y="3809880"/>
            <a:ext cx="1057320" cy="1206720"/>
          </a:xfrm>
          <a:prstGeom prst="rect">
            <a:avLst/>
          </a:prstGeom>
          <a:ln w="0">
            <a:noFill/>
          </a:ln>
        </p:spPr>
      </p:pic>
      <p:sp>
        <p:nvSpPr>
          <p:cNvPr id="624" name=""/>
          <p:cNvSpPr/>
          <p:nvPr/>
        </p:nvSpPr>
        <p:spPr>
          <a:xfrm>
            <a:off x="4572000" y="5638680"/>
            <a:ext cx="358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lez !! Une seconde bonne réponse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038480" y="241200"/>
            <a:ext cx="411480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 Black"/>
              </a:rPr>
              <a:t>Diapositive N° 6</a:t>
            </a:r>
            <a:br>
              <a:rPr sz="2400"/>
            </a:br>
            <a:r>
              <a:rPr b="0" lang="en-US" sz="2400" spc="-1" strike="noStrike">
                <a:solidFill>
                  <a:srgbClr val="0033cc"/>
                </a:solidFill>
                <a:latin typeface="Arial Black"/>
              </a:rPr>
              <a:t>Score actuel = 1 point</a:t>
            </a:r>
            <a:endParaRPr b="0" lang="en-US" sz="2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G Produc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0 L -0.64723 0.35694 E">
                                      <p:cBhvr>
                                        <p:cTn id="427" dur="2000" fill="hold"/>
                                        <p:tgtEl>
                                          <p:spTgt spid="6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8" restart="whenNotActive" nodeType="interactiveSeq" fill="hold">
                <p:stCondLst>
                  <p:cond evt="onClick">
                    <p:tgtEl>
                      <p:spTgt spid="610"/>
                    </p:tgtEl>
                  </p:cond>
                </p:stCondLst>
                <p:childTnLst>
                  <p:par>
                    <p:cTn id="429" fill="hold">
                      <p:stCondLst>
                        <p:cond evt="onClick">
                          <p:tgtEl>
                            <p:spTgt spid="610"/>
                          </p:tgtEl>
                        </p:cond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46945E-018 2.59259E-006 C -0.00364 0.00162 -0.00746 0.00231 -0.01076 0.00462 C -0.01475 0.0074 -0.03385 0.03287 -0.03402 0.03333 C -0.03524 0.03564 -0.03593 0.03842 -0.0375 0.0405 C -0.03958 0.04328 -0.04236 0.0449 -0.04461 0.04745 C -0.05434 0.05925 -0.06232 0.07337 -0.07326 0.08333 C -0.07864 0.09398 -0.08507 0.10231 -0.09288 0.10949 C -0.09548 0.12037 -0.09826 0.12384 -0.10538 0.13078 C -0.11059 0.14467 -0.11892 0.15787 -0.12864 0.16666 C -0.13402 0.17777 -0.14114 0.18819 -0.14826 0.19745 C -0.15156 0.21134 -0.1585 0.22314 -0.16614 0.23333 C -0.17048 0.25138 -0.16406 0.22986 -0.17326 0.24513 C -0.17448 0.24699 -0.17395 0.25023 -0.175 0.25231 C -0.17691 0.25601 -0.17986 0.25833 -0.18211 0.2618 C -0.18767 0.2706 -0.18472 0.26921 -0.18941 0.28078 C -0.19357 0.29074 -0.19757 0.29907 -0.20364 0.30717 C -0.2059 0.31967 -0.21145 0.32685 -0.21614 0.33796 C -0.22239 0.35324 -0.22951 0.36689 -0.2375 0.38078 C -0.2427 0.39004 -0.24253 0.3956 -0.25 0.40231 C -0.25295 0.41342 -0.26961 0.43564 -0.27691 0.44513 C -0.28055 0.45486 -0.28437 0.4625 -0.28941 0.47129 C -0.29201 0.48518 -0.29513 0.48634 -0.30191 0.49745 C -0.30468 0.50185 -0.30902 0.5118 -0.30902 0.5118 C -0.31111 0.52361 -0.31597 0.52824 -0.32152 0.53796 C -0.3243 0.5537 -0.33125 0.56944 -0.3375 0.58333 C -0.33975 0.58819 -0.34323 0.59212 -0.34461 0.59745 C -0.34635 0.60462 -0.34826 0.6118 -0.35 0.61898 C -0.35069 0.62129 -0.35191 0.62615 -0.35191 0.62615 C -0.35121 0.64513 -0.35156 0.66435 -0.35 0.68333 C -0.34895 0.69513 -0.33715 0.70717 -0.33038 0.7118 C -0.32083 0.71828 -0.31198 0.72847 -0.30191 0.73333 C -0.28993 0.73912 -0.27708 0.74097 -0.26441 0.74282 C -0.23385 0.75254 -0.19114 0.74351 -0.16441 0.74282 C -0.15277 0.73912 -0.14166 0.73356 -0.13038 0.72847 C -0.12725 0.72708 -0.121 0.72592 -0.11788 0.72384 C -0.11475 0.72175 -0.11215 0.71851 -0.10902 0.71666 C -0.0993 0.71087 -0.08819 0.70856 -0.07864 0.70231 C -0.06128 0.69097 -0.07638 0.69814 -0.06441 0.69282 C -0.04739 0.67754 -0.02708 0.66921 -0.01076 0.65231 C 0.01268 0.628 0.03247 0.59699 0.05348 0.56898 C 0.05747 0.56365 0.05955 0.5537 0.0625 0.54745 C 0.06806 0.53564 0.0757 0.52592 0.07848 0.5118 C 0.08108 0.49907 0.08629 0.48287 0.09098 0.47129 C 0.10504 0.4368 0.09254 0.47523 0.10174 0.44513 C 0.10365 0.42986 0.1066 0.41666 0.11059 0.40231 C 0.11372 0.39143 0.11146 0.39282 0.11424 0.38078 C 0.12153 0.34814 0.11945 0.35439 0.12674 0.33564 C 0.12813 0.31296 0.13039 0.29791 0.13386 0.27615 C 0.13802 0.20763 0.14532 0.12916 0.1125 0.07129 C 0.10747 0.05231 0.11493 0.07708 0.10539 0.05717 C 0.09462 0.03449 0.10417 0.04074 0.09289 0.03564 C 0.09167 0.0324 0.09098 0.02893 0.08924 0.02615 C 0.08334 0.01666 0.07049 0.01689 0.0625 0.0118 C 0.05243 0.00532 0.06198 0.00856 0.05174 0.00462 C 0.04375 0.00162 0.04653 0.00115 0.04098 0.00462 E">
                                      <p:cBhvr>
                                        <p:cTn id="432" dur="2000" fill="hold"/>
                                        <p:tgtEl>
                                          <p:spTgt spid="6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3" restart="whenNotActive" nodeType="interactiveSeq" fill="hold">
                <p:stCondLst>
                  <p:cond evt="onClick">
                    <p:tgtEl>
                      <p:spTgt spid="611"/>
                    </p:tgtEl>
                  </p:cond>
                </p:stCondLst>
                <p:childTnLst>
                  <p:par>
                    <p:cTn id="434" fill="hold">
                      <p:stCondLst>
                        <p:cond evt="onClick">
                          <p:tgtEl>
                            <p:spTgt spid="611"/>
                          </p:tgtEl>
                        </p:cond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3.33333E-006 C -0.12986 0.0169 -0.26094 -0.00254 -0.39115 0.00718 C -0.39913 0.01135 -0.40608 0.01644 -0.41441 0.01898 C -0.42188 0.02593 -0.43212 0.03033 -0.44115 0.03334 C -0.45174 0.04746 -0.44115 0.03565 -0.45191 0.04283 C -0.46042 0.04861 -0.45903 0.05348 -0.46962 0.05718 C -0.47865 0.06528 -0.48281 0.06991 -0.48941 0.08102 C -0.4934 0.08773 -0.49549 0.0963 -0.5 0.10232 C -0.50694 0.11158 -0.50399 0.10672 -0.50903 0.11667 C -0.51163 0.12778 -0.51632 0.13843 -0.52153 0.14769 C -0.52396 0.16065 -0.52969 0.17686 -0.53576 0.18797 C -0.53733 0.19074 -0.53958 0.19236 -0.54115 0.19514 C -0.54375 0.19977 -0.54826 0.20949 -0.54826 0.20973 C -0.55156 0.22732 -0.54792 0.21065 -0.55365 0.22848 C -0.5566 0.23773 -0.55625 0.24607 -0.56076 0.25463 C -0.56267 0.275 -0.56441 0.29445 -0.56788 0.31436 C -0.57222 0.3676 -0.57552 0.42107 -0.58038 0.47385 C -0.58333 0.50695 -0.58299 0.54375 -0.58941 0.57616 C -0.59201 0.6125 -0.59306 0.61574 -0.58941 0.66436 C -0.58906 0.66783 -0.58142 0.67662 -0.58038 0.67848 C -0.5658 0.70209 -0.54253 0.71088 -0.51962 0.71181 C -0.48281 0.71343 -0.44583 0.71505 -0.40903 0.71667 C -0.39427 0.72037 -0.37934 0.72199 -0.36441 0.72385 C -0.29688 0.75301 -0.22031 0.74584 -0.15208 0.7213 C -0.14792 0.71783 -0.14323 0.71574 -0.13941 0.71181 C -0.12604 0.69838 -0.13785 0.70486 -0.12708 0.7 C -0.12448 0.69676 -0.1224 0.69329 -0.11979 0.69051 C -0.11632 0.68704 -0.10903 0.68102 -0.10903 0.68125 C -0.10608 0.67477 -0.10365 0.6676 -0.10017 0.66181 C -0.09809 0.6588 -0.09497 0.65741 -0.09288 0.65463 C -0.08906 0.64954 -0.08559 0.64375 -0.08212 0.63797 C -0.07604 0.62801 -0.07309 0.61875 -0.06615 0.60949 C -0.06354 0.60093 -0.06233 0.59144 -0.05903 0.58334 C -0.05729 0.57894 -0.05382 0.5757 -0.05191 0.5713 C -0.04392 0.55348 -0.05174 0.56598 -0.04653 0.55 C -0.04566 0.54746 -0.04392 0.54537 -0.04288 0.54283 C -0.04149 0.53912 -0.04063 0.53496 -0.03941 0.53102 C -0.03646 0.50834 -0.02882 0.48889 -0.025 0.46667 C -0.01944 0.43473 -0.01337 0.40301 -0.00712 0.3713 C -0.0066 0.36505 -0.00625 0.35857 -0.00538 0.35232 C -0.0033 0.33635 0.00174 0.30463 0.00174 0.30486 C 0.0026 0.20834 0.00712 0.11436 0.00712 0.01898 E">
                                      <p:cBhvr>
                                        <p:cTn id="437" dur="3000" fill="hold"/>
                                        <p:tgtEl>
                                          <p:spTgt spid="6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8" restart="whenNotActive" nodeType="interactiveSeq" fill="hold">
                <p:stCondLst>
                  <p:cond evt="onClick">
                    <p:tgtEl>
                      <p:spTgt spid="612"/>
                    </p:tgtEl>
                  </p:cond>
                </p:stCondLst>
                <p:childTnLst>
                  <p:par>
                    <p:cTn id="439" fill="hold">
                      <p:stCondLst>
                        <p:cond evt="onClick">
                          <p:tgtEl>
                            <p:spTgt spid="612"/>
                          </p:tgtEl>
                        </p:cond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path" presetID="28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17 0 0.031 0.01867 0.031 0.04133 C 0.031 0.06533 0.017 0.084 0 0.084 C -0.017 0.084 -0.031 0.10267 -0.031 0.12533 C -0.031 0.148 -0.017 0.16667 0 0.16667 C 0.017 0.16667 0.031 0.18533 0.031 0.208 C 0.031 0.23067 0.017 0.24933 0 0.24933 C -0.017 0.24933 -0.031 0.268 -0.031 0.292 C -0.031 0.31467 -0.017 0.33333 0 0.33333 C 0.017 0.33333 0.031 0.31467 0.031 0.292 C 0.031 0.268 0.017 0.24933 0 0.24933 C -0.017 0.24933 -0.031 0.23067 -0.031 0.208 C -0.031 0.18533 -0.017 0.16667 0 0.16667 C 0.017 0.16667 0.031 0.148 0.031 0.12533 C 0.031 0.10267 0.017 0.084 0 0.084 C -0.017 0.084 -0.031 0.06533 -0.031 0.04133 C -0.031 0.01867 -0.017 0 0 0 Z">
                                      <p:cBhvr>
                                        <p:cTn id="442" dur="2000" fill="hold"/>
                                        <p:tgtEl>
                                          <p:spTgt spid="6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3" restart="whenNotActive" nodeType="interactiveSeq" fill="hold">
                <p:stCondLst>
                  <p:cond evt="onClick">
                    <p:tgtEl>
                      <p:spTgt spid="613"/>
                    </p:tgtEl>
                  </p:cond>
                </p:stCondLst>
                <p:childTnLst>
                  <p:par>
                    <p:cTn id="444" fill="hold">
                      <p:stCondLst>
                        <p:cond evt="onClick">
                          <p:tgtEl>
                            <p:spTgt spid="613"/>
                          </p:tgtEl>
                        </p:cond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path" presetID="3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17 -0.08667 C 0.034 -0.15733 0.061 -0.18533 0.1 -0.18533 C 0.12 -0.18533 0.138 -0.17467 0.152 -0.15733 C 0.162 -0.14533 0.174 -0.13867 0.187 -0.13867 C 0.212 -0.13867 0.233 -0.16267 0.241 -0.19733 L 0.25 -0.23867 L 0.232 -0.15067 C 0.215 -0.08133 0.188 -0.05333 0.15 -0.05333 C 0.13 -0.05333 0.111 -0.064 0.096 -0.08267 C 0.087 -0.09333 0.075 -0.1 0.063 -0.1 C 0.038 -0.1 0.017 -0.076 0.009 -0.04133 L 0 0 Z">
                                      <p:cBhvr>
                                        <p:cTn id="447" dur="2000" fill="hold"/>
                                        <p:tgtEl>
                                          <p:spTgt spid="6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8" restart="whenNotActive" nodeType="interactiveSeq" fill="hold">
                <p:stCondLst>
                  <p:cond evt="onClick">
                    <p:tgtEl>
                      <p:spTgt spid="614"/>
                    </p:tgtEl>
                  </p:cond>
                </p:stCondLst>
                <p:childTnLst>
                  <p:par>
                    <p:cTn id="449" fill="hold">
                      <p:stCondLst>
                        <p:cond evt="onClick">
                          <p:tgtEl>
                            <p:spTgt spid="614"/>
                          </p:tgtEl>
                        </p:cond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path" presetID="2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 -0.04267 0.026 -0.07733 0.058 -0.07733 L 0.192 -0.07733 C 0.224 -0.07733 0.25 -0.04267 0.25 0 L 0.25 0.176 C 0.25 0.21867 0.224 0.25467 0.192 0.25467 L 0.058 0.25467 C 0.026 0.25467 0 0.21867 0 0.176 Z">
                                      <p:cBhvr>
                                        <p:cTn id="452" dur="2000" fill="hold"/>
                                        <p:tgtEl>
                                          <p:spTgt spid="6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194000" cy="6629400"/>
          </a:xfrm>
          <a:prstGeom prst="rect">
            <a:avLst/>
          </a:prstGeom>
          <a:ln w="0">
            <a:noFill/>
          </a:ln>
        </p:spPr>
      </p:pic>
      <p:pic>
        <p:nvPicPr>
          <p:cNvPr id="627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095960" y="1981080"/>
            <a:ext cx="1057320" cy="1293840"/>
          </a:xfrm>
          <a:prstGeom prst="rect">
            <a:avLst/>
          </a:prstGeom>
          <a:ln w="0">
            <a:noFill/>
          </a:ln>
        </p:spPr>
      </p:pic>
      <p:pic>
        <p:nvPicPr>
          <p:cNvPr id="628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419720" y="1973160"/>
            <a:ext cx="1057320" cy="1303560"/>
          </a:xfrm>
          <a:prstGeom prst="rect">
            <a:avLst/>
          </a:prstGeom>
          <a:ln w="0">
            <a:noFill/>
          </a:ln>
        </p:spPr>
      </p:pic>
      <p:pic>
        <p:nvPicPr>
          <p:cNvPr id="629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5791320" y="1979640"/>
            <a:ext cx="1057320" cy="1220760"/>
          </a:xfrm>
          <a:prstGeom prst="rect">
            <a:avLst/>
          </a:prstGeom>
          <a:ln w="0">
            <a:noFill/>
          </a:ln>
        </p:spPr>
      </p:pic>
      <p:pic>
        <p:nvPicPr>
          <p:cNvPr id="630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4419720" y="3801960"/>
            <a:ext cx="1057320" cy="1303560"/>
          </a:xfrm>
          <a:prstGeom prst="rect">
            <a:avLst/>
          </a:prstGeom>
          <a:ln w="0">
            <a:noFill/>
          </a:ln>
        </p:spPr>
      </p:pic>
      <p:pic>
        <p:nvPicPr>
          <p:cNvPr id="631" name="" descr="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5800680" y="3809880"/>
            <a:ext cx="1057320" cy="1274760"/>
          </a:xfrm>
          <a:prstGeom prst="rect">
            <a:avLst/>
          </a:prstGeom>
          <a:ln w="0">
            <a:noFill/>
          </a:ln>
        </p:spPr>
      </p:pic>
      <p:pic>
        <p:nvPicPr>
          <p:cNvPr id="632" name="" descr="">
            <a:hlinkClick r:id="rId12" action="ppaction://hlinksldjump"/>
          </p:cNvPr>
          <p:cNvPicPr/>
          <p:nvPr/>
        </p:nvPicPr>
        <p:blipFill>
          <a:blip r:embed="rId13"/>
          <a:stretch/>
        </p:blipFill>
        <p:spPr>
          <a:xfrm>
            <a:off x="7086600" y="3809880"/>
            <a:ext cx="1057320" cy="1206720"/>
          </a:xfrm>
          <a:prstGeom prst="rect">
            <a:avLst/>
          </a:prstGeom>
          <a:ln w="0">
            <a:noFill/>
          </a:ln>
        </p:spPr>
      </p:pic>
      <p:sp>
        <p:nvSpPr>
          <p:cNvPr id="633" name=""/>
          <p:cNvSpPr/>
          <p:nvPr/>
        </p:nvSpPr>
        <p:spPr>
          <a:xfrm>
            <a:off x="4572000" y="5638680"/>
            <a:ext cx="358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lez !! Pour 50% de bonnes répons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038480" y="241200"/>
            <a:ext cx="411480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 Black"/>
              </a:rPr>
              <a:t>Diapositive N° 6</a:t>
            </a:r>
            <a:br>
              <a:rPr sz="2400"/>
            </a:br>
            <a:r>
              <a:rPr b="0" lang="en-US" sz="2400" spc="-1" strike="noStrike">
                <a:solidFill>
                  <a:srgbClr val="0033cc"/>
                </a:solidFill>
                <a:latin typeface="Arial Black"/>
              </a:rPr>
              <a:t>Score actuel = 2 points</a:t>
            </a:r>
            <a:endParaRPr b="0" lang="en-US" sz="2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G Produc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0 L -0.64723 0.35694 E">
                                      <p:cBhvr>
                                        <p:cTn id="458" dur="2000" fill="hold"/>
                                        <p:tgtEl>
                                          <p:spTgt spid="6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9" restart="whenNotActive" nodeType="interactiveSeq" fill="hold">
                <p:stCondLst>
                  <p:cond evt="onClick">
                    <p:tgtEl>
                      <p:spTgt spid="610"/>
                    </p:tgtEl>
                  </p:cond>
                </p:stCondLst>
                <p:childTnLst>
                  <p:par>
                    <p:cTn id="460" fill="hold">
                      <p:stCondLst>
                        <p:cond evt="onClick">
                          <p:tgtEl>
                            <p:spTgt spid="610"/>
                          </p:tgtEl>
                        </p:cond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46945E-018 2.59259E-006 C -0.00364 0.00162 -0.00746 0.00231 -0.01076 0.00462 C -0.01475 0.0074 -0.03385 0.03287 -0.03402 0.03333 C -0.03524 0.03564 -0.03593 0.03842 -0.0375 0.0405 C -0.03958 0.04328 -0.04236 0.0449 -0.04461 0.04745 C -0.05434 0.05925 -0.06232 0.07337 -0.07326 0.08333 C -0.07864 0.09398 -0.08507 0.10231 -0.09288 0.10949 C -0.09548 0.12037 -0.09826 0.12384 -0.10538 0.13078 C -0.11059 0.14467 -0.11892 0.15787 -0.12864 0.16666 C -0.13402 0.17777 -0.14114 0.18819 -0.14826 0.19745 C -0.15156 0.21134 -0.1585 0.22314 -0.16614 0.23333 C -0.17048 0.25138 -0.16406 0.22986 -0.17326 0.24513 C -0.17448 0.24699 -0.17395 0.25023 -0.175 0.25231 C -0.17691 0.25601 -0.17986 0.25833 -0.18211 0.2618 C -0.18767 0.2706 -0.18472 0.26921 -0.18941 0.28078 C -0.19357 0.29074 -0.19757 0.29907 -0.20364 0.30717 C -0.2059 0.31967 -0.21145 0.32685 -0.21614 0.33796 C -0.22239 0.35324 -0.22951 0.36689 -0.2375 0.38078 C -0.2427 0.39004 -0.24253 0.3956 -0.25 0.40231 C -0.25295 0.41342 -0.26961 0.43564 -0.27691 0.44513 C -0.28055 0.45486 -0.28437 0.4625 -0.28941 0.47129 C -0.29201 0.48518 -0.29513 0.48634 -0.30191 0.49745 C -0.30468 0.50185 -0.30902 0.5118 -0.30902 0.5118 C -0.31111 0.52361 -0.31597 0.52824 -0.32152 0.53796 C -0.3243 0.5537 -0.33125 0.56944 -0.3375 0.58333 C -0.33975 0.58819 -0.34323 0.59212 -0.34461 0.59745 C -0.34635 0.60462 -0.34826 0.6118 -0.35 0.61898 C -0.35069 0.62129 -0.35191 0.62615 -0.35191 0.62615 C -0.35121 0.64513 -0.35156 0.66435 -0.35 0.68333 C -0.34895 0.69513 -0.33715 0.70717 -0.33038 0.7118 C -0.32083 0.71828 -0.31198 0.72847 -0.30191 0.73333 C -0.28993 0.73912 -0.27708 0.74097 -0.26441 0.74282 C -0.23385 0.75254 -0.19114 0.74351 -0.16441 0.74282 C -0.15277 0.73912 -0.14166 0.73356 -0.13038 0.72847 C -0.12725 0.72708 -0.121 0.72592 -0.11788 0.72384 C -0.11475 0.72175 -0.11215 0.71851 -0.10902 0.71666 C -0.0993 0.71087 -0.08819 0.70856 -0.07864 0.70231 C -0.06128 0.69097 -0.07638 0.69814 -0.06441 0.69282 C -0.04739 0.67754 -0.02708 0.66921 -0.01076 0.65231 C 0.01268 0.628 0.03247 0.59699 0.05348 0.56898 C 0.05747 0.56365 0.05955 0.5537 0.0625 0.54745 C 0.06806 0.53564 0.0757 0.52592 0.07848 0.5118 C 0.08108 0.49907 0.08629 0.48287 0.09098 0.47129 C 0.10504 0.4368 0.09254 0.47523 0.10174 0.44513 C 0.10365 0.42986 0.1066 0.41666 0.11059 0.40231 C 0.11372 0.39143 0.11146 0.39282 0.11424 0.38078 C 0.12153 0.34814 0.11945 0.35439 0.12674 0.33564 C 0.12813 0.31296 0.13039 0.29791 0.13386 0.27615 C 0.13802 0.20763 0.14532 0.12916 0.1125 0.07129 C 0.10747 0.05231 0.11493 0.07708 0.10539 0.05717 C 0.09462 0.03449 0.10417 0.04074 0.09289 0.03564 C 0.09167 0.0324 0.09098 0.02893 0.08924 0.02615 C 0.08334 0.01666 0.07049 0.01689 0.0625 0.0118 C 0.05243 0.00532 0.06198 0.00856 0.05174 0.00462 C 0.04375 0.00162 0.04653 0.00115 0.04098 0.00462 E">
                                      <p:cBhvr>
                                        <p:cTn id="463" dur="2000" fill="hold"/>
                                        <p:tgtEl>
                                          <p:spTgt spid="6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4" restart="whenNotActive" nodeType="interactiveSeq" fill="hold">
                <p:stCondLst>
                  <p:cond evt="onClick">
                    <p:tgtEl>
                      <p:spTgt spid="611"/>
                    </p:tgtEl>
                  </p:cond>
                </p:stCondLst>
                <p:childTnLst>
                  <p:par>
                    <p:cTn id="465" fill="hold">
                      <p:stCondLst>
                        <p:cond evt="onClick">
                          <p:tgtEl>
                            <p:spTgt spid="611"/>
                          </p:tgtEl>
                        </p:cond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3.33333E-006 C -0.12986 0.0169 -0.26094 -0.00254 -0.39115 0.00718 C -0.39913 0.01135 -0.40608 0.01644 -0.41441 0.01898 C -0.42188 0.02593 -0.43212 0.03033 -0.44115 0.03334 C -0.45174 0.04746 -0.44115 0.03565 -0.45191 0.04283 C -0.46042 0.04861 -0.45903 0.05348 -0.46962 0.05718 C -0.47865 0.06528 -0.48281 0.06991 -0.48941 0.08102 C -0.4934 0.08773 -0.49549 0.0963 -0.5 0.10232 C -0.50694 0.11158 -0.50399 0.10672 -0.50903 0.11667 C -0.51163 0.12778 -0.51632 0.13843 -0.52153 0.14769 C -0.52396 0.16065 -0.52969 0.17686 -0.53576 0.18797 C -0.53733 0.19074 -0.53958 0.19236 -0.54115 0.19514 C -0.54375 0.19977 -0.54826 0.20949 -0.54826 0.20973 C -0.55156 0.22732 -0.54792 0.21065 -0.55365 0.22848 C -0.5566 0.23773 -0.55625 0.24607 -0.56076 0.25463 C -0.56267 0.275 -0.56441 0.29445 -0.56788 0.31436 C -0.57222 0.3676 -0.57552 0.42107 -0.58038 0.47385 C -0.58333 0.50695 -0.58299 0.54375 -0.58941 0.57616 C -0.59201 0.6125 -0.59306 0.61574 -0.58941 0.66436 C -0.58906 0.66783 -0.58142 0.67662 -0.58038 0.67848 C -0.5658 0.70209 -0.54253 0.71088 -0.51962 0.71181 C -0.48281 0.71343 -0.44583 0.71505 -0.40903 0.71667 C -0.39427 0.72037 -0.37934 0.72199 -0.36441 0.72385 C -0.29688 0.75301 -0.22031 0.74584 -0.15208 0.7213 C -0.14792 0.71783 -0.14323 0.71574 -0.13941 0.71181 C -0.12604 0.69838 -0.13785 0.70486 -0.12708 0.7 C -0.12448 0.69676 -0.1224 0.69329 -0.11979 0.69051 C -0.11632 0.68704 -0.10903 0.68102 -0.10903 0.68125 C -0.10608 0.67477 -0.10365 0.6676 -0.10017 0.66181 C -0.09809 0.6588 -0.09497 0.65741 -0.09288 0.65463 C -0.08906 0.64954 -0.08559 0.64375 -0.08212 0.63797 C -0.07604 0.62801 -0.07309 0.61875 -0.06615 0.60949 C -0.06354 0.60093 -0.06233 0.59144 -0.05903 0.58334 C -0.05729 0.57894 -0.05382 0.5757 -0.05191 0.5713 C -0.04392 0.55348 -0.05174 0.56598 -0.04653 0.55 C -0.04566 0.54746 -0.04392 0.54537 -0.04288 0.54283 C -0.04149 0.53912 -0.04063 0.53496 -0.03941 0.53102 C -0.03646 0.50834 -0.02882 0.48889 -0.025 0.46667 C -0.01944 0.43473 -0.01337 0.40301 -0.00712 0.3713 C -0.0066 0.36505 -0.00625 0.35857 -0.00538 0.35232 C -0.0033 0.33635 0.00174 0.30463 0.00174 0.30486 C 0.0026 0.20834 0.00712 0.11436 0.00712 0.01898 E">
                                      <p:cBhvr>
                                        <p:cTn id="468" dur="3000" fill="hold"/>
                                        <p:tgtEl>
                                          <p:spTgt spid="6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9" restart="whenNotActive" nodeType="interactiveSeq" fill="hold">
                <p:stCondLst>
                  <p:cond evt="onClick">
                    <p:tgtEl>
                      <p:spTgt spid="612"/>
                    </p:tgtEl>
                  </p:cond>
                </p:stCondLst>
                <p:childTnLst>
                  <p:par>
                    <p:cTn id="470" fill="hold">
                      <p:stCondLst>
                        <p:cond evt="onClick">
                          <p:tgtEl>
                            <p:spTgt spid="612"/>
                          </p:tgtEl>
                        </p:cond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path" presetID="28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17 0 0.031 0.01867 0.031 0.04133 C 0.031 0.06533 0.017 0.084 0 0.084 C -0.017 0.084 -0.031 0.10267 -0.031 0.12533 C -0.031 0.148 -0.017 0.16667 0 0.16667 C 0.017 0.16667 0.031 0.18533 0.031 0.208 C 0.031 0.23067 0.017 0.24933 0 0.24933 C -0.017 0.24933 -0.031 0.268 -0.031 0.292 C -0.031 0.31467 -0.017 0.33333 0 0.33333 C 0.017 0.33333 0.031 0.31467 0.031 0.292 C 0.031 0.268 0.017 0.24933 0 0.24933 C -0.017 0.24933 -0.031 0.23067 -0.031 0.208 C -0.031 0.18533 -0.017 0.16667 0 0.16667 C 0.017 0.16667 0.031 0.148 0.031 0.12533 C 0.031 0.10267 0.017 0.084 0 0.084 C -0.017 0.084 -0.031 0.06533 -0.031 0.04133 C -0.031 0.01867 -0.017 0 0 0 Z">
                                      <p:cBhvr>
                                        <p:cTn id="473" dur="2000" fill="hold"/>
                                        <p:tgtEl>
                                          <p:spTgt spid="6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4" restart="whenNotActive" nodeType="interactiveSeq" fill="hold">
                <p:stCondLst>
                  <p:cond evt="onClick">
                    <p:tgtEl>
                      <p:spTgt spid="613"/>
                    </p:tgtEl>
                  </p:cond>
                </p:stCondLst>
                <p:childTnLst>
                  <p:par>
                    <p:cTn id="475" fill="hold">
                      <p:stCondLst>
                        <p:cond evt="onClick">
                          <p:tgtEl>
                            <p:spTgt spid="613"/>
                          </p:tgtEl>
                        </p:cond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path" presetID="3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17 -0.08667 C 0.034 -0.15733 0.061 -0.18533 0.1 -0.18533 C 0.12 -0.18533 0.138 -0.17467 0.152 -0.15733 C 0.162 -0.14533 0.174 -0.13867 0.187 -0.13867 C 0.212 -0.13867 0.233 -0.16267 0.241 -0.19733 L 0.25 -0.23867 L 0.232 -0.15067 C 0.215 -0.08133 0.188 -0.05333 0.15 -0.05333 C 0.13 -0.05333 0.111 -0.064 0.096 -0.08267 C 0.087 -0.09333 0.075 -0.1 0.063 -0.1 C 0.038 -0.1 0.017 -0.076 0.009 -0.04133 L 0 0 Z">
                                      <p:cBhvr>
                                        <p:cTn id="478" dur="2000" fill="hold"/>
                                        <p:tgtEl>
                                          <p:spTgt spid="6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9" restart="whenNotActive" nodeType="interactiveSeq" fill="hold">
                <p:stCondLst>
                  <p:cond evt="onClick">
                    <p:tgtEl>
                      <p:spTgt spid="614"/>
                    </p:tgtEl>
                  </p:cond>
                </p:stCondLst>
                <p:childTnLst>
                  <p:par>
                    <p:cTn id="480" fill="hold">
                      <p:stCondLst>
                        <p:cond evt="onClick">
                          <p:tgtEl>
                            <p:spTgt spid="614"/>
                          </p:tgtEl>
                        </p:cond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path" presetID="2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 -0.04267 0.026 -0.07733 0.058 -0.07733 L 0.192 -0.07733 C 0.224 -0.07733 0.25 -0.04267 0.25 0 L 0.25 0.176 C 0.25 0.21867 0.224 0.25467 0.192 0.25467 L 0.058 0.25467 C 0.026 0.25467 0 0.21867 0 0.176 Z">
                                      <p:cBhvr>
                                        <p:cTn id="483" dur="2000" fill="hold"/>
                                        <p:tgtEl>
                                          <p:spTgt spid="6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4648320" y="4952880"/>
            <a:ext cx="326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lez !! Réfléchis un peu 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385920" y="380880"/>
            <a:ext cx="3900240" cy="604836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181480" y="1219320"/>
            <a:ext cx="679680" cy="8953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6858000" y="3352680"/>
            <a:ext cx="789120" cy="9003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5181480" y="3352680"/>
            <a:ext cx="825480" cy="9003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5181480" y="2274840"/>
            <a:ext cx="669960" cy="9000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6857280" y="1219320"/>
            <a:ext cx="825480" cy="9000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>
            <a:hlinkClick r:id="rId12" action="ppaction://hlinksldjump"/>
          </p:cNvPr>
          <p:cNvPicPr/>
          <p:nvPr/>
        </p:nvPicPr>
        <p:blipFill>
          <a:blip r:embed="rId13"/>
          <a:stretch/>
        </p:blipFill>
        <p:spPr>
          <a:xfrm>
            <a:off x="6858000" y="2286000"/>
            <a:ext cx="750960" cy="9000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962520" y="-63720"/>
            <a:ext cx="411480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 Black"/>
              </a:rPr>
              <a:t>Diapositive N° 2</a:t>
            </a:r>
            <a:br>
              <a:rPr sz="2400"/>
            </a:br>
            <a:r>
              <a:rPr b="0" lang="en-US" sz="2400" spc="-1" strike="noStrike">
                <a:solidFill>
                  <a:srgbClr val="0033cc"/>
                </a:solidFill>
                <a:latin typeface="Arial Black"/>
              </a:rPr>
              <a:t>Score actuel = 0 point</a:t>
            </a:r>
            <a:endParaRPr b="0" lang="en-US" sz="2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G Produc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194000" cy="6629400"/>
          </a:xfrm>
          <a:prstGeom prst="rect">
            <a:avLst/>
          </a:prstGeom>
          <a:ln w="0">
            <a:noFill/>
          </a:ln>
        </p:spPr>
      </p:pic>
      <p:pic>
        <p:nvPicPr>
          <p:cNvPr id="636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095960" y="1981080"/>
            <a:ext cx="1057320" cy="1293840"/>
          </a:xfrm>
          <a:prstGeom prst="rect">
            <a:avLst/>
          </a:prstGeom>
          <a:ln w="0">
            <a:noFill/>
          </a:ln>
        </p:spPr>
      </p:pic>
      <p:pic>
        <p:nvPicPr>
          <p:cNvPr id="637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419720" y="1973160"/>
            <a:ext cx="1057320" cy="1303560"/>
          </a:xfrm>
          <a:prstGeom prst="rect">
            <a:avLst/>
          </a:prstGeom>
          <a:ln w="0">
            <a:noFill/>
          </a:ln>
        </p:spPr>
      </p:pic>
      <p:pic>
        <p:nvPicPr>
          <p:cNvPr id="638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5791320" y="1979640"/>
            <a:ext cx="1057320" cy="1220760"/>
          </a:xfrm>
          <a:prstGeom prst="rect">
            <a:avLst/>
          </a:prstGeom>
          <a:ln w="0">
            <a:noFill/>
          </a:ln>
        </p:spPr>
      </p:pic>
      <p:pic>
        <p:nvPicPr>
          <p:cNvPr id="639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4419720" y="3801960"/>
            <a:ext cx="1057320" cy="1303560"/>
          </a:xfrm>
          <a:prstGeom prst="rect">
            <a:avLst/>
          </a:prstGeom>
          <a:ln w="0">
            <a:noFill/>
          </a:ln>
        </p:spPr>
      </p:pic>
      <p:pic>
        <p:nvPicPr>
          <p:cNvPr id="640" name="" descr="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5800680" y="3809880"/>
            <a:ext cx="1057320" cy="1274760"/>
          </a:xfrm>
          <a:prstGeom prst="rect">
            <a:avLst/>
          </a:prstGeom>
          <a:ln w="0">
            <a:noFill/>
          </a:ln>
        </p:spPr>
      </p:pic>
      <p:pic>
        <p:nvPicPr>
          <p:cNvPr id="641" name="" descr="">
            <a:hlinkClick r:id="rId12" action="ppaction://hlinksldjump"/>
          </p:cNvPr>
          <p:cNvPicPr/>
          <p:nvPr/>
        </p:nvPicPr>
        <p:blipFill>
          <a:blip r:embed="rId13"/>
          <a:stretch/>
        </p:blipFill>
        <p:spPr>
          <a:xfrm>
            <a:off x="7086600" y="3809880"/>
            <a:ext cx="1057320" cy="1206720"/>
          </a:xfrm>
          <a:prstGeom prst="rect">
            <a:avLst/>
          </a:prstGeom>
          <a:ln w="0">
            <a:noFill/>
          </a:ln>
        </p:spPr>
      </p:pic>
      <p:sp>
        <p:nvSpPr>
          <p:cNvPr id="642" name=""/>
          <p:cNvSpPr/>
          <p:nvPr/>
        </p:nvSpPr>
        <p:spPr>
          <a:xfrm>
            <a:off x="4572000" y="5638680"/>
            <a:ext cx="358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lez !! Encore une bonne réponse 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038480" y="241200"/>
            <a:ext cx="411480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 Black"/>
              </a:rPr>
              <a:t>Diapositive N° 6</a:t>
            </a:r>
            <a:br>
              <a:rPr sz="2400"/>
            </a:br>
            <a:r>
              <a:rPr b="0" lang="en-US" sz="2400" spc="-1" strike="noStrike">
                <a:solidFill>
                  <a:srgbClr val="0033cc"/>
                </a:solidFill>
                <a:latin typeface="Arial Black"/>
              </a:rPr>
              <a:t>Score actuel = 3 points</a:t>
            </a:r>
            <a:endParaRPr b="0" lang="en-US" sz="2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G Produc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0 L -0.64723 0.35694 E">
                                      <p:cBhvr>
                                        <p:cTn id="489" dur="2000" fill="hold"/>
                                        <p:tgtEl>
                                          <p:spTgt spid="6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0" restart="whenNotActive" nodeType="interactiveSeq" fill="hold">
                <p:stCondLst>
                  <p:cond evt="onClick">
                    <p:tgtEl>
                      <p:spTgt spid="610"/>
                    </p:tgtEl>
                  </p:cond>
                </p:stCondLst>
                <p:childTnLst>
                  <p:par>
                    <p:cTn id="491" fill="hold">
                      <p:stCondLst>
                        <p:cond evt="onClick">
                          <p:tgtEl>
                            <p:spTgt spid="610"/>
                          </p:tgtEl>
                        </p:cond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46945E-018 2.59259E-006 C -0.00364 0.00162 -0.00746 0.00231 -0.01076 0.00462 C -0.01475 0.0074 -0.03385 0.03287 -0.03402 0.03333 C -0.03524 0.03564 -0.03593 0.03842 -0.0375 0.0405 C -0.03958 0.04328 -0.04236 0.0449 -0.04461 0.04745 C -0.05434 0.05925 -0.06232 0.07337 -0.07326 0.08333 C -0.07864 0.09398 -0.08507 0.10231 -0.09288 0.10949 C -0.09548 0.12037 -0.09826 0.12384 -0.10538 0.13078 C -0.11059 0.14467 -0.11892 0.15787 -0.12864 0.16666 C -0.13402 0.17777 -0.14114 0.18819 -0.14826 0.19745 C -0.15156 0.21134 -0.1585 0.22314 -0.16614 0.23333 C -0.17048 0.25138 -0.16406 0.22986 -0.17326 0.24513 C -0.17448 0.24699 -0.17395 0.25023 -0.175 0.25231 C -0.17691 0.25601 -0.17986 0.25833 -0.18211 0.2618 C -0.18767 0.2706 -0.18472 0.26921 -0.18941 0.28078 C -0.19357 0.29074 -0.19757 0.29907 -0.20364 0.30717 C -0.2059 0.31967 -0.21145 0.32685 -0.21614 0.33796 C -0.22239 0.35324 -0.22951 0.36689 -0.2375 0.38078 C -0.2427 0.39004 -0.24253 0.3956 -0.25 0.40231 C -0.25295 0.41342 -0.26961 0.43564 -0.27691 0.44513 C -0.28055 0.45486 -0.28437 0.4625 -0.28941 0.47129 C -0.29201 0.48518 -0.29513 0.48634 -0.30191 0.49745 C -0.30468 0.50185 -0.30902 0.5118 -0.30902 0.5118 C -0.31111 0.52361 -0.31597 0.52824 -0.32152 0.53796 C -0.3243 0.5537 -0.33125 0.56944 -0.3375 0.58333 C -0.33975 0.58819 -0.34323 0.59212 -0.34461 0.59745 C -0.34635 0.60462 -0.34826 0.6118 -0.35 0.61898 C -0.35069 0.62129 -0.35191 0.62615 -0.35191 0.62615 C -0.35121 0.64513 -0.35156 0.66435 -0.35 0.68333 C -0.34895 0.69513 -0.33715 0.70717 -0.33038 0.7118 C -0.32083 0.71828 -0.31198 0.72847 -0.30191 0.73333 C -0.28993 0.73912 -0.27708 0.74097 -0.26441 0.74282 C -0.23385 0.75254 -0.19114 0.74351 -0.16441 0.74282 C -0.15277 0.73912 -0.14166 0.73356 -0.13038 0.72847 C -0.12725 0.72708 -0.121 0.72592 -0.11788 0.72384 C -0.11475 0.72175 -0.11215 0.71851 -0.10902 0.71666 C -0.0993 0.71087 -0.08819 0.70856 -0.07864 0.70231 C -0.06128 0.69097 -0.07638 0.69814 -0.06441 0.69282 C -0.04739 0.67754 -0.02708 0.66921 -0.01076 0.65231 C 0.01268 0.628 0.03247 0.59699 0.05348 0.56898 C 0.05747 0.56365 0.05955 0.5537 0.0625 0.54745 C 0.06806 0.53564 0.0757 0.52592 0.07848 0.5118 C 0.08108 0.49907 0.08629 0.48287 0.09098 0.47129 C 0.10504 0.4368 0.09254 0.47523 0.10174 0.44513 C 0.10365 0.42986 0.1066 0.41666 0.11059 0.40231 C 0.11372 0.39143 0.11146 0.39282 0.11424 0.38078 C 0.12153 0.34814 0.11945 0.35439 0.12674 0.33564 C 0.12813 0.31296 0.13039 0.29791 0.13386 0.27615 C 0.13802 0.20763 0.14532 0.12916 0.1125 0.07129 C 0.10747 0.05231 0.11493 0.07708 0.10539 0.05717 C 0.09462 0.03449 0.10417 0.04074 0.09289 0.03564 C 0.09167 0.0324 0.09098 0.02893 0.08924 0.02615 C 0.08334 0.01666 0.07049 0.01689 0.0625 0.0118 C 0.05243 0.00532 0.06198 0.00856 0.05174 0.00462 C 0.04375 0.00162 0.04653 0.00115 0.04098 0.00462 E">
                                      <p:cBhvr>
                                        <p:cTn id="494" dur="2000" fill="hold"/>
                                        <p:tgtEl>
                                          <p:spTgt spid="6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5" restart="whenNotActive" nodeType="interactiveSeq" fill="hold">
                <p:stCondLst>
                  <p:cond evt="onClick">
                    <p:tgtEl>
                      <p:spTgt spid="611"/>
                    </p:tgtEl>
                  </p:cond>
                </p:stCondLst>
                <p:childTnLst>
                  <p:par>
                    <p:cTn id="496" fill="hold">
                      <p:stCondLst>
                        <p:cond evt="onClick">
                          <p:tgtEl>
                            <p:spTgt spid="611"/>
                          </p:tgtEl>
                        </p:cond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3.33333E-006 C -0.12986 0.0169 -0.26094 -0.00254 -0.39115 0.00718 C -0.39913 0.01135 -0.40608 0.01644 -0.41441 0.01898 C -0.42188 0.02593 -0.43212 0.03033 -0.44115 0.03334 C -0.45174 0.04746 -0.44115 0.03565 -0.45191 0.04283 C -0.46042 0.04861 -0.45903 0.05348 -0.46962 0.05718 C -0.47865 0.06528 -0.48281 0.06991 -0.48941 0.08102 C -0.4934 0.08773 -0.49549 0.0963 -0.5 0.10232 C -0.50694 0.11158 -0.50399 0.10672 -0.50903 0.11667 C -0.51163 0.12778 -0.51632 0.13843 -0.52153 0.14769 C -0.52396 0.16065 -0.52969 0.17686 -0.53576 0.18797 C -0.53733 0.19074 -0.53958 0.19236 -0.54115 0.19514 C -0.54375 0.19977 -0.54826 0.20949 -0.54826 0.20973 C -0.55156 0.22732 -0.54792 0.21065 -0.55365 0.22848 C -0.5566 0.23773 -0.55625 0.24607 -0.56076 0.25463 C -0.56267 0.275 -0.56441 0.29445 -0.56788 0.31436 C -0.57222 0.3676 -0.57552 0.42107 -0.58038 0.47385 C -0.58333 0.50695 -0.58299 0.54375 -0.58941 0.57616 C -0.59201 0.6125 -0.59306 0.61574 -0.58941 0.66436 C -0.58906 0.66783 -0.58142 0.67662 -0.58038 0.67848 C -0.5658 0.70209 -0.54253 0.71088 -0.51962 0.71181 C -0.48281 0.71343 -0.44583 0.71505 -0.40903 0.71667 C -0.39427 0.72037 -0.37934 0.72199 -0.36441 0.72385 C -0.29688 0.75301 -0.22031 0.74584 -0.15208 0.7213 C -0.14792 0.71783 -0.14323 0.71574 -0.13941 0.71181 C -0.12604 0.69838 -0.13785 0.70486 -0.12708 0.7 C -0.12448 0.69676 -0.1224 0.69329 -0.11979 0.69051 C -0.11632 0.68704 -0.10903 0.68102 -0.10903 0.68125 C -0.10608 0.67477 -0.10365 0.6676 -0.10017 0.66181 C -0.09809 0.6588 -0.09497 0.65741 -0.09288 0.65463 C -0.08906 0.64954 -0.08559 0.64375 -0.08212 0.63797 C -0.07604 0.62801 -0.07309 0.61875 -0.06615 0.60949 C -0.06354 0.60093 -0.06233 0.59144 -0.05903 0.58334 C -0.05729 0.57894 -0.05382 0.5757 -0.05191 0.5713 C -0.04392 0.55348 -0.05174 0.56598 -0.04653 0.55 C -0.04566 0.54746 -0.04392 0.54537 -0.04288 0.54283 C -0.04149 0.53912 -0.04063 0.53496 -0.03941 0.53102 C -0.03646 0.50834 -0.02882 0.48889 -0.025 0.46667 C -0.01944 0.43473 -0.01337 0.40301 -0.00712 0.3713 C -0.0066 0.36505 -0.00625 0.35857 -0.00538 0.35232 C -0.0033 0.33635 0.00174 0.30463 0.00174 0.30486 C 0.0026 0.20834 0.00712 0.11436 0.00712 0.01898 E">
                                      <p:cBhvr>
                                        <p:cTn id="499" dur="3000" fill="hold"/>
                                        <p:tgtEl>
                                          <p:spTgt spid="6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0" restart="whenNotActive" nodeType="interactiveSeq" fill="hold">
                <p:stCondLst>
                  <p:cond evt="onClick">
                    <p:tgtEl>
                      <p:spTgt spid="612"/>
                    </p:tgtEl>
                  </p:cond>
                </p:stCondLst>
                <p:childTnLst>
                  <p:par>
                    <p:cTn id="501" fill="hold">
                      <p:stCondLst>
                        <p:cond evt="onClick">
                          <p:tgtEl>
                            <p:spTgt spid="612"/>
                          </p:tgtEl>
                        </p:cond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path" presetID="28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17 0 0.031 0.01867 0.031 0.04133 C 0.031 0.06533 0.017 0.084 0 0.084 C -0.017 0.084 -0.031 0.10267 -0.031 0.12533 C -0.031 0.148 -0.017 0.16667 0 0.16667 C 0.017 0.16667 0.031 0.18533 0.031 0.208 C 0.031 0.23067 0.017 0.24933 0 0.24933 C -0.017 0.24933 -0.031 0.268 -0.031 0.292 C -0.031 0.31467 -0.017 0.33333 0 0.33333 C 0.017 0.33333 0.031 0.31467 0.031 0.292 C 0.031 0.268 0.017 0.24933 0 0.24933 C -0.017 0.24933 -0.031 0.23067 -0.031 0.208 C -0.031 0.18533 -0.017 0.16667 0 0.16667 C 0.017 0.16667 0.031 0.148 0.031 0.12533 C 0.031 0.10267 0.017 0.084 0 0.084 C -0.017 0.084 -0.031 0.06533 -0.031 0.04133 C -0.031 0.01867 -0.017 0 0 0 Z">
                                      <p:cBhvr>
                                        <p:cTn id="504" dur="2000" fill="hold"/>
                                        <p:tgtEl>
                                          <p:spTgt spid="6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5" restart="whenNotActive" nodeType="interactiveSeq" fill="hold">
                <p:stCondLst>
                  <p:cond evt="onClick">
                    <p:tgtEl>
                      <p:spTgt spid="613"/>
                    </p:tgtEl>
                  </p:cond>
                </p:stCondLst>
                <p:childTnLst>
                  <p:par>
                    <p:cTn id="506" fill="hold">
                      <p:stCondLst>
                        <p:cond evt="onClick">
                          <p:tgtEl>
                            <p:spTgt spid="613"/>
                          </p:tgtEl>
                        </p:cond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path" presetID="3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17 -0.08667 C 0.034 -0.15733 0.061 -0.18533 0.1 -0.18533 C 0.12 -0.18533 0.138 -0.17467 0.152 -0.15733 C 0.162 -0.14533 0.174 -0.13867 0.187 -0.13867 C 0.212 -0.13867 0.233 -0.16267 0.241 -0.19733 L 0.25 -0.23867 L 0.232 -0.15067 C 0.215 -0.08133 0.188 -0.05333 0.15 -0.05333 C 0.13 -0.05333 0.111 -0.064 0.096 -0.08267 C 0.087 -0.09333 0.075 -0.1 0.063 -0.1 C 0.038 -0.1 0.017 -0.076 0.009 -0.04133 L 0 0 Z">
                                      <p:cBhvr>
                                        <p:cTn id="509" dur="2000" fill="hold"/>
                                        <p:tgtEl>
                                          <p:spTgt spid="6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0" restart="whenNotActive" nodeType="interactiveSeq" fill="hold">
                <p:stCondLst>
                  <p:cond evt="onClick">
                    <p:tgtEl>
                      <p:spTgt spid="614"/>
                    </p:tgtEl>
                  </p:cond>
                </p:stCondLst>
                <p:childTnLst>
                  <p:par>
                    <p:cTn id="511" fill="hold">
                      <p:stCondLst>
                        <p:cond evt="onClick">
                          <p:tgtEl>
                            <p:spTgt spid="614"/>
                          </p:tgtEl>
                        </p:cond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path" presetID="2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 -0.04267 0.026 -0.07733 0.058 -0.07733 L 0.192 -0.07733 C 0.224 -0.07733 0.25 -0.04267 0.25 0 L 0.25 0.176 C 0.25 0.21867 0.224 0.25467 0.192 0.25467 L 0.058 0.25467 C 0.026 0.25467 0 0.21867 0 0.176 Z">
                                      <p:cBhvr>
                                        <p:cTn id="514" dur="2000" fill="hold"/>
                                        <p:tgtEl>
                                          <p:spTgt spid="6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194000" cy="6629400"/>
          </a:xfrm>
          <a:prstGeom prst="rect">
            <a:avLst/>
          </a:prstGeom>
          <a:ln w="0">
            <a:noFill/>
          </a:ln>
        </p:spPr>
      </p:pic>
      <p:pic>
        <p:nvPicPr>
          <p:cNvPr id="645" name="" descr=""/>
          <p:cNvPicPr/>
          <p:nvPr/>
        </p:nvPicPr>
        <p:blipFill>
          <a:blip r:embed="rId2"/>
          <a:stretch/>
        </p:blipFill>
        <p:spPr>
          <a:xfrm>
            <a:off x="7095960" y="1981080"/>
            <a:ext cx="1057320" cy="1293840"/>
          </a:xfrm>
          <a:prstGeom prst="rect">
            <a:avLst/>
          </a:prstGeom>
          <a:ln w="0">
            <a:noFill/>
          </a:ln>
        </p:spPr>
      </p:pic>
      <p:pic>
        <p:nvPicPr>
          <p:cNvPr id="646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419720" y="1973160"/>
            <a:ext cx="1057320" cy="1303560"/>
          </a:xfrm>
          <a:prstGeom prst="rect">
            <a:avLst/>
          </a:prstGeom>
          <a:ln w="0">
            <a:noFill/>
          </a:ln>
        </p:spPr>
      </p:pic>
      <p:pic>
        <p:nvPicPr>
          <p:cNvPr id="647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791320" y="1979640"/>
            <a:ext cx="1057320" cy="1220760"/>
          </a:xfrm>
          <a:prstGeom prst="rect">
            <a:avLst/>
          </a:prstGeom>
          <a:ln w="0">
            <a:noFill/>
          </a:ln>
        </p:spPr>
      </p:pic>
      <p:pic>
        <p:nvPicPr>
          <p:cNvPr id="648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4419720" y="3801960"/>
            <a:ext cx="1057320" cy="1303560"/>
          </a:xfrm>
          <a:prstGeom prst="rect">
            <a:avLst/>
          </a:prstGeom>
          <a:ln w="0">
            <a:noFill/>
          </a:ln>
        </p:spPr>
      </p:pic>
      <p:pic>
        <p:nvPicPr>
          <p:cNvPr id="649" name="" descr="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5800680" y="3809880"/>
            <a:ext cx="1057320" cy="1274760"/>
          </a:xfrm>
          <a:prstGeom prst="rect">
            <a:avLst/>
          </a:prstGeom>
          <a:ln w="0">
            <a:noFill/>
          </a:ln>
        </p:spPr>
      </p:pic>
      <p:pic>
        <p:nvPicPr>
          <p:cNvPr id="650" name="" descr=""/>
          <p:cNvPicPr/>
          <p:nvPr/>
        </p:nvPicPr>
        <p:blipFill>
          <a:blip r:embed="rId11"/>
          <a:stretch/>
        </p:blipFill>
        <p:spPr>
          <a:xfrm>
            <a:off x="7086600" y="3809880"/>
            <a:ext cx="1057320" cy="1206720"/>
          </a:xfrm>
          <a:prstGeom prst="rect">
            <a:avLst/>
          </a:prstGeom>
          <a:ln w="0">
            <a:noFill/>
          </a:ln>
        </p:spPr>
      </p:pic>
      <p:sp>
        <p:nvSpPr>
          <p:cNvPr id="651" name=""/>
          <p:cNvSpPr/>
          <p:nvPr/>
        </p:nvSpPr>
        <p:spPr>
          <a:xfrm>
            <a:off x="4572000" y="5638680"/>
            <a:ext cx="358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lez !! Pour un parcourt presque sans faute 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038480" y="241200"/>
            <a:ext cx="411480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 Black"/>
              </a:rPr>
              <a:t>Diapositive N° 6</a:t>
            </a:r>
            <a:br>
              <a:rPr sz="2400"/>
            </a:br>
            <a:r>
              <a:rPr b="0" lang="en-US" sz="2400" spc="-1" strike="noStrike">
                <a:solidFill>
                  <a:srgbClr val="0033cc"/>
                </a:solidFill>
                <a:latin typeface="Arial Black"/>
              </a:rPr>
              <a:t>Score actuel = 4 points</a:t>
            </a:r>
            <a:endParaRPr b="0" lang="en-US" sz="2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G Produc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0 L -0.64723 0.35694 E">
                                      <p:cBhvr>
                                        <p:cTn id="520" dur="2000" fill="hold"/>
                                        <p:tgtEl>
                                          <p:spTgt spid="6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1" restart="whenNotActive" nodeType="interactiveSeq" fill="hold">
                <p:stCondLst>
                  <p:cond evt="onClick">
                    <p:tgtEl>
                      <p:spTgt spid="610"/>
                    </p:tgtEl>
                  </p:cond>
                </p:stCondLst>
                <p:childTnLst>
                  <p:par>
                    <p:cTn id="522" fill="hold">
                      <p:stCondLst>
                        <p:cond evt="onClick">
                          <p:tgtEl>
                            <p:spTgt spid="610"/>
                          </p:tgtEl>
                        </p:cond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46945E-018 2.59259E-006 C -0.00364 0.00162 -0.00746 0.00231 -0.01076 0.00462 C -0.01475 0.0074 -0.03385 0.03287 -0.03402 0.03333 C -0.03524 0.03564 -0.03593 0.03842 -0.0375 0.0405 C -0.03958 0.04328 -0.04236 0.0449 -0.04461 0.04745 C -0.05434 0.05925 -0.06232 0.07337 -0.07326 0.08333 C -0.07864 0.09398 -0.08507 0.10231 -0.09288 0.10949 C -0.09548 0.12037 -0.09826 0.12384 -0.10538 0.13078 C -0.11059 0.14467 -0.11892 0.15787 -0.12864 0.16666 C -0.13402 0.17777 -0.14114 0.18819 -0.14826 0.19745 C -0.15156 0.21134 -0.1585 0.22314 -0.16614 0.23333 C -0.17048 0.25138 -0.16406 0.22986 -0.17326 0.24513 C -0.17448 0.24699 -0.17395 0.25023 -0.175 0.25231 C -0.17691 0.25601 -0.17986 0.25833 -0.18211 0.2618 C -0.18767 0.2706 -0.18472 0.26921 -0.18941 0.28078 C -0.19357 0.29074 -0.19757 0.29907 -0.20364 0.30717 C -0.2059 0.31967 -0.21145 0.32685 -0.21614 0.33796 C -0.22239 0.35324 -0.22951 0.36689 -0.2375 0.38078 C -0.2427 0.39004 -0.24253 0.3956 -0.25 0.40231 C -0.25295 0.41342 -0.26961 0.43564 -0.27691 0.44513 C -0.28055 0.45486 -0.28437 0.4625 -0.28941 0.47129 C -0.29201 0.48518 -0.29513 0.48634 -0.30191 0.49745 C -0.30468 0.50185 -0.30902 0.5118 -0.30902 0.5118 C -0.31111 0.52361 -0.31597 0.52824 -0.32152 0.53796 C -0.3243 0.5537 -0.33125 0.56944 -0.3375 0.58333 C -0.33975 0.58819 -0.34323 0.59212 -0.34461 0.59745 C -0.34635 0.60462 -0.34826 0.6118 -0.35 0.61898 C -0.35069 0.62129 -0.35191 0.62615 -0.35191 0.62615 C -0.35121 0.64513 -0.35156 0.66435 -0.35 0.68333 C -0.34895 0.69513 -0.33715 0.70717 -0.33038 0.7118 C -0.32083 0.71828 -0.31198 0.72847 -0.30191 0.73333 C -0.28993 0.73912 -0.27708 0.74097 -0.26441 0.74282 C -0.23385 0.75254 -0.19114 0.74351 -0.16441 0.74282 C -0.15277 0.73912 -0.14166 0.73356 -0.13038 0.72847 C -0.12725 0.72708 -0.121 0.72592 -0.11788 0.72384 C -0.11475 0.72175 -0.11215 0.71851 -0.10902 0.71666 C -0.0993 0.71087 -0.08819 0.70856 -0.07864 0.70231 C -0.06128 0.69097 -0.07638 0.69814 -0.06441 0.69282 C -0.04739 0.67754 -0.02708 0.66921 -0.01076 0.65231 C 0.01268 0.628 0.03247 0.59699 0.05348 0.56898 C 0.05747 0.56365 0.05955 0.5537 0.0625 0.54745 C 0.06806 0.53564 0.0757 0.52592 0.07848 0.5118 C 0.08108 0.49907 0.08629 0.48287 0.09098 0.47129 C 0.10504 0.4368 0.09254 0.47523 0.10174 0.44513 C 0.10365 0.42986 0.1066 0.41666 0.11059 0.40231 C 0.11372 0.39143 0.11146 0.39282 0.11424 0.38078 C 0.12153 0.34814 0.11945 0.35439 0.12674 0.33564 C 0.12813 0.31296 0.13039 0.29791 0.13386 0.27615 C 0.13802 0.20763 0.14532 0.12916 0.1125 0.07129 C 0.10747 0.05231 0.11493 0.07708 0.10539 0.05717 C 0.09462 0.03449 0.10417 0.04074 0.09289 0.03564 C 0.09167 0.0324 0.09098 0.02893 0.08924 0.02615 C 0.08334 0.01666 0.07049 0.01689 0.0625 0.0118 C 0.05243 0.00532 0.06198 0.00856 0.05174 0.00462 C 0.04375 0.00162 0.04653 0.00115 0.04098 0.00462 E">
                                      <p:cBhvr>
                                        <p:cTn id="525" dur="2000" fill="hold"/>
                                        <p:tgtEl>
                                          <p:spTgt spid="6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6" restart="whenNotActive" nodeType="interactiveSeq" fill="hold">
                <p:stCondLst>
                  <p:cond evt="onClick">
                    <p:tgtEl>
                      <p:spTgt spid="611"/>
                    </p:tgtEl>
                  </p:cond>
                </p:stCondLst>
                <p:childTnLst>
                  <p:par>
                    <p:cTn id="527" fill="hold">
                      <p:stCondLst>
                        <p:cond evt="onClick">
                          <p:tgtEl>
                            <p:spTgt spid="611"/>
                          </p:tgtEl>
                        </p:cond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3.33333E-006 C -0.12986 0.0169 -0.26094 -0.00254 -0.39115 0.00718 C -0.39913 0.01135 -0.40608 0.01644 -0.41441 0.01898 C -0.42188 0.02593 -0.43212 0.03033 -0.44115 0.03334 C -0.45174 0.04746 -0.44115 0.03565 -0.45191 0.04283 C -0.46042 0.04861 -0.45903 0.05348 -0.46962 0.05718 C -0.47865 0.06528 -0.48281 0.06991 -0.48941 0.08102 C -0.4934 0.08773 -0.49549 0.0963 -0.5 0.10232 C -0.50694 0.11158 -0.50399 0.10672 -0.50903 0.11667 C -0.51163 0.12778 -0.51632 0.13843 -0.52153 0.14769 C -0.52396 0.16065 -0.52969 0.17686 -0.53576 0.18797 C -0.53733 0.19074 -0.53958 0.19236 -0.54115 0.19514 C -0.54375 0.19977 -0.54826 0.20949 -0.54826 0.20973 C -0.55156 0.22732 -0.54792 0.21065 -0.55365 0.22848 C -0.5566 0.23773 -0.55625 0.24607 -0.56076 0.25463 C -0.56267 0.275 -0.56441 0.29445 -0.56788 0.31436 C -0.57222 0.3676 -0.57552 0.42107 -0.58038 0.47385 C -0.58333 0.50695 -0.58299 0.54375 -0.58941 0.57616 C -0.59201 0.6125 -0.59306 0.61574 -0.58941 0.66436 C -0.58906 0.66783 -0.58142 0.67662 -0.58038 0.67848 C -0.5658 0.70209 -0.54253 0.71088 -0.51962 0.71181 C -0.48281 0.71343 -0.44583 0.71505 -0.40903 0.71667 C -0.39427 0.72037 -0.37934 0.72199 -0.36441 0.72385 C -0.29688 0.75301 -0.22031 0.74584 -0.15208 0.7213 C -0.14792 0.71783 -0.14323 0.71574 -0.13941 0.71181 C -0.12604 0.69838 -0.13785 0.70486 -0.12708 0.7 C -0.12448 0.69676 -0.1224 0.69329 -0.11979 0.69051 C -0.11632 0.68704 -0.10903 0.68102 -0.10903 0.68125 C -0.10608 0.67477 -0.10365 0.6676 -0.10017 0.66181 C -0.09809 0.6588 -0.09497 0.65741 -0.09288 0.65463 C -0.08906 0.64954 -0.08559 0.64375 -0.08212 0.63797 C -0.07604 0.62801 -0.07309 0.61875 -0.06615 0.60949 C -0.06354 0.60093 -0.06233 0.59144 -0.05903 0.58334 C -0.05729 0.57894 -0.05382 0.5757 -0.05191 0.5713 C -0.04392 0.55348 -0.05174 0.56598 -0.04653 0.55 C -0.04566 0.54746 -0.04392 0.54537 -0.04288 0.54283 C -0.04149 0.53912 -0.04063 0.53496 -0.03941 0.53102 C -0.03646 0.50834 -0.02882 0.48889 -0.025 0.46667 C -0.01944 0.43473 -0.01337 0.40301 -0.00712 0.3713 C -0.0066 0.36505 -0.00625 0.35857 -0.00538 0.35232 C -0.0033 0.33635 0.00174 0.30463 0.00174 0.30486 C 0.0026 0.20834 0.00712 0.11436 0.00712 0.01898 E">
                                      <p:cBhvr>
                                        <p:cTn id="530" dur="3000" fill="hold"/>
                                        <p:tgtEl>
                                          <p:spTgt spid="6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1" restart="whenNotActive" nodeType="interactiveSeq" fill="hold">
                <p:stCondLst>
                  <p:cond evt="onClick">
                    <p:tgtEl>
                      <p:spTgt spid="612"/>
                    </p:tgtEl>
                  </p:cond>
                </p:stCondLst>
                <p:childTnLst>
                  <p:par>
                    <p:cTn id="532" fill="hold">
                      <p:stCondLst>
                        <p:cond evt="onClick">
                          <p:tgtEl>
                            <p:spTgt spid="612"/>
                          </p:tgtEl>
                        </p:cond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path" presetID="28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17 0 0.031 0.01867 0.031 0.04133 C 0.031 0.06533 0.017 0.084 0 0.084 C -0.017 0.084 -0.031 0.10267 -0.031 0.12533 C -0.031 0.148 -0.017 0.16667 0 0.16667 C 0.017 0.16667 0.031 0.18533 0.031 0.208 C 0.031 0.23067 0.017 0.24933 0 0.24933 C -0.017 0.24933 -0.031 0.268 -0.031 0.292 C -0.031 0.31467 -0.017 0.33333 0 0.33333 C 0.017 0.33333 0.031 0.31467 0.031 0.292 C 0.031 0.268 0.017 0.24933 0 0.24933 C -0.017 0.24933 -0.031 0.23067 -0.031 0.208 C -0.031 0.18533 -0.017 0.16667 0 0.16667 C 0.017 0.16667 0.031 0.148 0.031 0.12533 C 0.031 0.10267 0.017 0.084 0 0.084 C -0.017 0.084 -0.031 0.06533 -0.031 0.04133 C -0.031 0.01867 -0.017 0 0 0 Z">
                                      <p:cBhvr>
                                        <p:cTn id="535" dur="2000" fill="hold"/>
                                        <p:tgtEl>
                                          <p:spTgt spid="6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6" restart="whenNotActive" nodeType="interactiveSeq" fill="hold">
                <p:stCondLst>
                  <p:cond evt="onClick">
                    <p:tgtEl>
                      <p:spTgt spid="613"/>
                    </p:tgtEl>
                  </p:cond>
                </p:stCondLst>
                <p:childTnLst>
                  <p:par>
                    <p:cTn id="537" fill="hold">
                      <p:stCondLst>
                        <p:cond evt="onClick">
                          <p:tgtEl>
                            <p:spTgt spid="613"/>
                          </p:tgtEl>
                        </p:cond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path" presetID="3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17 -0.08667 C 0.034 -0.15733 0.061 -0.18533 0.1 -0.18533 C 0.12 -0.18533 0.138 -0.17467 0.152 -0.15733 C 0.162 -0.14533 0.174 -0.13867 0.187 -0.13867 C 0.212 -0.13867 0.233 -0.16267 0.241 -0.19733 L 0.25 -0.23867 L 0.232 -0.15067 C 0.215 -0.08133 0.188 -0.05333 0.15 -0.05333 C 0.13 -0.05333 0.111 -0.064 0.096 -0.08267 C 0.087 -0.09333 0.075 -0.1 0.063 -0.1 C 0.038 -0.1 0.017 -0.076 0.009 -0.04133 L 0 0 Z">
                                      <p:cBhvr>
                                        <p:cTn id="540" dur="2000" fill="hold"/>
                                        <p:tgtEl>
                                          <p:spTgt spid="6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1" restart="whenNotActive" nodeType="interactiveSeq" fill="hold">
                <p:stCondLst>
                  <p:cond evt="onClick">
                    <p:tgtEl>
                      <p:spTgt spid="614"/>
                    </p:tgtEl>
                  </p:cond>
                </p:stCondLst>
                <p:childTnLst>
                  <p:par>
                    <p:cTn id="542" fill="hold">
                      <p:stCondLst>
                        <p:cond evt="onClick">
                          <p:tgtEl>
                            <p:spTgt spid="614"/>
                          </p:tgtEl>
                        </p:cond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path" presetID="2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 -0.04267 0.026 -0.07733 0.058 -0.07733 L 0.192 -0.07733 C 0.224 -0.07733 0.25 -0.04267 0.25 0 L 0.25 0.176 C 0.25 0.21867 0.224 0.25467 0.192 0.25467 L 0.058 0.25467 C 0.026 0.25467 0 0.21867 0 0.176 Z">
                                      <p:cBhvr>
                                        <p:cTn id="545" dur="2000" fill="hold"/>
                                        <p:tgtEl>
                                          <p:spTgt spid="6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194000" cy="6629400"/>
          </a:xfrm>
          <a:prstGeom prst="rect">
            <a:avLst/>
          </a:prstGeom>
          <a:ln w="0">
            <a:noFill/>
          </a:ln>
        </p:spPr>
      </p:pic>
      <p:pic>
        <p:nvPicPr>
          <p:cNvPr id="654" name="" descr=""/>
          <p:cNvPicPr/>
          <p:nvPr/>
        </p:nvPicPr>
        <p:blipFill>
          <a:blip r:embed="rId2"/>
          <a:stretch/>
        </p:blipFill>
        <p:spPr>
          <a:xfrm>
            <a:off x="7095960" y="1981080"/>
            <a:ext cx="1057320" cy="1293840"/>
          </a:xfrm>
          <a:prstGeom prst="rect">
            <a:avLst/>
          </a:prstGeom>
          <a:ln w="0">
            <a:noFill/>
          </a:ln>
        </p:spPr>
      </p:pic>
      <p:pic>
        <p:nvPicPr>
          <p:cNvPr id="655" name="" descr=""/>
          <p:cNvPicPr/>
          <p:nvPr/>
        </p:nvPicPr>
        <p:blipFill>
          <a:blip r:embed="rId3"/>
          <a:stretch/>
        </p:blipFill>
        <p:spPr>
          <a:xfrm>
            <a:off x="4419720" y="1973160"/>
            <a:ext cx="1057320" cy="1303560"/>
          </a:xfrm>
          <a:prstGeom prst="rect">
            <a:avLst/>
          </a:prstGeom>
          <a:ln w="0">
            <a:noFill/>
          </a:ln>
        </p:spPr>
      </p:pic>
      <p:pic>
        <p:nvPicPr>
          <p:cNvPr id="656" name="" descr=""/>
          <p:cNvPicPr/>
          <p:nvPr/>
        </p:nvPicPr>
        <p:blipFill>
          <a:blip r:embed="rId4"/>
          <a:stretch/>
        </p:blipFill>
        <p:spPr>
          <a:xfrm>
            <a:off x="5791320" y="1979640"/>
            <a:ext cx="1057320" cy="1220760"/>
          </a:xfrm>
          <a:prstGeom prst="rect">
            <a:avLst/>
          </a:prstGeom>
          <a:ln w="0">
            <a:noFill/>
          </a:ln>
        </p:spPr>
      </p:pic>
      <p:pic>
        <p:nvPicPr>
          <p:cNvPr id="657" name="" descr=""/>
          <p:cNvPicPr/>
          <p:nvPr/>
        </p:nvPicPr>
        <p:blipFill>
          <a:blip r:embed="rId5"/>
          <a:stretch/>
        </p:blipFill>
        <p:spPr>
          <a:xfrm>
            <a:off x="4419720" y="3801960"/>
            <a:ext cx="1057320" cy="1303560"/>
          </a:xfrm>
          <a:prstGeom prst="rect">
            <a:avLst/>
          </a:prstGeom>
          <a:ln w="0">
            <a:noFill/>
          </a:ln>
        </p:spPr>
      </p:pic>
      <p:pic>
        <p:nvPicPr>
          <p:cNvPr id="658" name="" descr=""/>
          <p:cNvPicPr/>
          <p:nvPr/>
        </p:nvPicPr>
        <p:blipFill>
          <a:blip r:embed="rId6"/>
          <a:stretch/>
        </p:blipFill>
        <p:spPr>
          <a:xfrm>
            <a:off x="5800680" y="3809880"/>
            <a:ext cx="1057320" cy="1274760"/>
          </a:xfrm>
          <a:prstGeom prst="rect">
            <a:avLst/>
          </a:prstGeom>
          <a:ln w="0">
            <a:noFill/>
          </a:ln>
        </p:spPr>
      </p:pic>
      <p:pic>
        <p:nvPicPr>
          <p:cNvPr id="659" name="" descr=""/>
          <p:cNvPicPr/>
          <p:nvPr/>
        </p:nvPicPr>
        <p:blipFill>
          <a:blip r:embed="rId7"/>
          <a:stretch/>
        </p:blipFill>
        <p:spPr>
          <a:xfrm>
            <a:off x="7086600" y="3809880"/>
            <a:ext cx="1057320" cy="1206720"/>
          </a:xfrm>
          <a:prstGeom prst="rect">
            <a:avLst/>
          </a:prstGeom>
          <a:ln w="0">
            <a:noFill/>
          </a:ln>
        </p:spPr>
      </p:pic>
      <p:sp>
        <p:nvSpPr>
          <p:cNvPr id="660" name=""/>
          <p:cNvSpPr/>
          <p:nvPr/>
        </p:nvSpPr>
        <p:spPr>
          <a:xfrm>
            <a:off x="4572000" y="5638680"/>
            <a:ext cx="358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lez !! Pour un parcourt sans faute 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038480" y="241200"/>
            <a:ext cx="411480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 Black"/>
              </a:rPr>
              <a:t>Diapositive N° 6</a:t>
            </a:r>
            <a:br>
              <a:rPr sz="2400"/>
            </a:br>
            <a:r>
              <a:rPr b="0" lang="en-US" sz="2400" spc="-1" strike="noStrike">
                <a:solidFill>
                  <a:srgbClr val="0033cc"/>
                </a:solidFill>
                <a:latin typeface="Arial Black"/>
              </a:rPr>
              <a:t>Score actuel = 5 points</a:t>
            </a:r>
            <a:endParaRPr b="0" lang="en-US" sz="2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G Produc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6" dur="indefinite" restart="never" nodeType="tmRoot">
          <p:childTnLst>
            <p:seq>
              <p:cTn id="547" dur="indefinite" nodeType="mainSeq">
                <p:childTnLst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0 L -0.64723 0.35694 E">
                                      <p:cBhvr>
                                        <p:cTn id="551" dur="2000" fill="hold"/>
                                        <p:tgtEl>
                                          <p:spTgt spid="6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2" restart="whenNotActive" nodeType="interactiveSeq" fill="hold">
                <p:stCondLst>
                  <p:cond evt="onClick">
                    <p:tgtEl>
                      <p:spTgt spid="610"/>
                    </p:tgtEl>
                  </p:cond>
                </p:stCondLst>
                <p:childTnLst>
                  <p:par>
                    <p:cTn id="553" fill="hold">
                      <p:stCondLst>
                        <p:cond evt="onClick">
                          <p:tgtEl>
                            <p:spTgt spid="610"/>
                          </p:tgtEl>
                        </p:cond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46945E-018 2.59259E-006 C -0.00364 0.00162 -0.00746 0.00231 -0.01076 0.00462 C -0.01475 0.0074 -0.03385 0.03287 -0.03402 0.03333 C -0.03524 0.03564 -0.03593 0.03842 -0.0375 0.0405 C -0.03958 0.04328 -0.04236 0.0449 -0.04461 0.04745 C -0.05434 0.05925 -0.06232 0.07337 -0.07326 0.08333 C -0.07864 0.09398 -0.08507 0.10231 -0.09288 0.10949 C -0.09548 0.12037 -0.09826 0.12384 -0.10538 0.13078 C -0.11059 0.14467 -0.11892 0.15787 -0.12864 0.16666 C -0.13402 0.17777 -0.14114 0.18819 -0.14826 0.19745 C -0.15156 0.21134 -0.1585 0.22314 -0.16614 0.23333 C -0.17048 0.25138 -0.16406 0.22986 -0.17326 0.24513 C -0.17448 0.24699 -0.17395 0.25023 -0.175 0.25231 C -0.17691 0.25601 -0.17986 0.25833 -0.18211 0.2618 C -0.18767 0.2706 -0.18472 0.26921 -0.18941 0.28078 C -0.19357 0.29074 -0.19757 0.29907 -0.20364 0.30717 C -0.2059 0.31967 -0.21145 0.32685 -0.21614 0.33796 C -0.22239 0.35324 -0.22951 0.36689 -0.2375 0.38078 C -0.2427 0.39004 -0.24253 0.3956 -0.25 0.40231 C -0.25295 0.41342 -0.26961 0.43564 -0.27691 0.44513 C -0.28055 0.45486 -0.28437 0.4625 -0.28941 0.47129 C -0.29201 0.48518 -0.29513 0.48634 -0.30191 0.49745 C -0.30468 0.50185 -0.30902 0.5118 -0.30902 0.5118 C -0.31111 0.52361 -0.31597 0.52824 -0.32152 0.53796 C -0.3243 0.5537 -0.33125 0.56944 -0.3375 0.58333 C -0.33975 0.58819 -0.34323 0.59212 -0.34461 0.59745 C -0.34635 0.60462 -0.34826 0.6118 -0.35 0.61898 C -0.35069 0.62129 -0.35191 0.62615 -0.35191 0.62615 C -0.35121 0.64513 -0.35156 0.66435 -0.35 0.68333 C -0.34895 0.69513 -0.33715 0.70717 -0.33038 0.7118 C -0.32083 0.71828 -0.31198 0.72847 -0.30191 0.73333 C -0.28993 0.73912 -0.27708 0.74097 -0.26441 0.74282 C -0.23385 0.75254 -0.19114 0.74351 -0.16441 0.74282 C -0.15277 0.73912 -0.14166 0.73356 -0.13038 0.72847 C -0.12725 0.72708 -0.121 0.72592 -0.11788 0.72384 C -0.11475 0.72175 -0.11215 0.71851 -0.10902 0.71666 C -0.0993 0.71087 -0.08819 0.70856 -0.07864 0.70231 C -0.06128 0.69097 -0.07638 0.69814 -0.06441 0.69282 C -0.04739 0.67754 -0.02708 0.66921 -0.01076 0.65231 C 0.01268 0.628 0.03247 0.59699 0.05348 0.56898 C 0.05747 0.56365 0.05955 0.5537 0.0625 0.54745 C 0.06806 0.53564 0.0757 0.52592 0.07848 0.5118 C 0.08108 0.49907 0.08629 0.48287 0.09098 0.47129 C 0.10504 0.4368 0.09254 0.47523 0.10174 0.44513 C 0.10365 0.42986 0.1066 0.41666 0.11059 0.40231 C 0.11372 0.39143 0.11146 0.39282 0.11424 0.38078 C 0.12153 0.34814 0.11945 0.35439 0.12674 0.33564 C 0.12813 0.31296 0.13039 0.29791 0.13386 0.27615 C 0.13802 0.20763 0.14532 0.12916 0.1125 0.07129 C 0.10747 0.05231 0.11493 0.07708 0.10539 0.05717 C 0.09462 0.03449 0.10417 0.04074 0.09289 0.03564 C 0.09167 0.0324 0.09098 0.02893 0.08924 0.02615 C 0.08334 0.01666 0.07049 0.01689 0.0625 0.0118 C 0.05243 0.00532 0.06198 0.00856 0.05174 0.00462 C 0.04375 0.00162 0.04653 0.00115 0.04098 0.00462 E">
                                      <p:cBhvr>
                                        <p:cTn id="556" dur="2000" fill="hold"/>
                                        <p:tgtEl>
                                          <p:spTgt spid="6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7" restart="whenNotActive" nodeType="interactiveSeq" fill="hold">
                <p:stCondLst>
                  <p:cond evt="onClick">
                    <p:tgtEl>
                      <p:spTgt spid="611"/>
                    </p:tgtEl>
                  </p:cond>
                </p:stCondLst>
                <p:childTnLst>
                  <p:par>
                    <p:cTn id="558" fill="hold">
                      <p:stCondLst>
                        <p:cond evt="onClick">
                          <p:tgtEl>
                            <p:spTgt spid="611"/>
                          </p:tgtEl>
                        </p:cond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3.33333E-006 C -0.12986 0.0169 -0.26094 -0.00254 -0.39115 0.00718 C -0.39913 0.01135 -0.40608 0.01644 -0.41441 0.01898 C -0.42188 0.02593 -0.43212 0.03033 -0.44115 0.03334 C -0.45174 0.04746 -0.44115 0.03565 -0.45191 0.04283 C -0.46042 0.04861 -0.45903 0.05348 -0.46962 0.05718 C -0.47865 0.06528 -0.48281 0.06991 -0.48941 0.08102 C -0.4934 0.08773 -0.49549 0.0963 -0.5 0.10232 C -0.50694 0.11158 -0.50399 0.10672 -0.50903 0.11667 C -0.51163 0.12778 -0.51632 0.13843 -0.52153 0.14769 C -0.52396 0.16065 -0.52969 0.17686 -0.53576 0.18797 C -0.53733 0.19074 -0.53958 0.19236 -0.54115 0.19514 C -0.54375 0.19977 -0.54826 0.20949 -0.54826 0.20973 C -0.55156 0.22732 -0.54792 0.21065 -0.55365 0.22848 C -0.5566 0.23773 -0.55625 0.24607 -0.56076 0.25463 C -0.56267 0.275 -0.56441 0.29445 -0.56788 0.31436 C -0.57222 0.3676 -0.57552 0.42107 -0.58038 0.47385 C -0.58333 0.50695 -0.58299 0.54375 -0.58941 0.57616 C -0.59201 0.6125 -0.59306 0.61574 -0.58941 0.66436 C -0.58906 0.66783 -0.58142 0.67662 -0.58038 0.67848 C -0.5658 0.70209 -0.54253 0.71088 -0.51962 0.71181 C -0.48281 0.71343 -0.44583 0.71505 -0.40903 0.71667 C -0.39427 0.72037 -0.37934 0.72199 -0.36441 0.72385 C -0.29688 0.75301 -0.22031 0.74584 -0.15208 0.7213 C -0.14792 0.71783 -0.14323 0.71574 -0.13941 0.71181 C -0.12604 0.69838 -0.13785 0.70486 -0.12708 0.7 C -0.12448 0.69676 -0.1224 0.69329 -0.11979 0.69051 C -0.11632 0.68704 -0.10903 0.68102 -0.10903 0.68125 C -0.10608 0.67477 -0.10365 0.6676 -0.10017 0.66181 C -0.09809 0.6588 -0.09497 0.65741 -0.09288 0.65463 C -0.08906 0.64954 -0.08559 0.64375 -0.08212 0.63797 C -0.07604 0.62801 -0.07309 0.61875 -0.06615 0.60949 C -0.06354 0.60093 -0.06233 0.59144 -0.05903 0.58334 C -0.05729 0.57894 -0.05382 0.5757 -0.05191 0.5713 C -0.04392 0.55348 -0.05174 0.56598 -0.04653 0.55 C -0.04566 0.54746 -0.04392 0.54537 -0.04288 0.54283 C -0.04149 0.53912 -0.04063 0.53496 -0.03941 0.53102 C -0.03646 0.50834 -0.02882 0.48889 -0.025 0.46667 C -0.01944 0.43473 -0.01337 0.40301 -0.00712 0.3713 C -0.0066 0.36505 -0.00625 0.35857 -0.00538 0.35232 C -0.0033 0.33635 0.00174 0.30463 0.00174 0.30486 C 0.0026 0.20834 0.00712 0.11436 0.00712 0.01898 E">
                                      <p:cBhvr>
                                        <p:cTn id="561" dur="3000" fill="hold"/>
                                        <p:tgtEl>
                                          <p:spTgt spid="6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2" restart="whenNotActive" nodeType="interactiveSeq" fill="hold">
                <p:stCondLst>
                  <p:cond evt="onClick">
                    <p:tgtEl>
                      <p:spTgt spid="612"/>
                    </p:tgtEl>
                  </p:cond>
                </p:stCondLst>
                <p:childTnLst>
                  <p:par>
                    <p:cTn id="563" fill="hold">
                      <p:stCondLst>
                        <p:cond evt="onClick">
                          <p:tgtEl>
                            <p:spTgt spid="612"/>
                          </p:tgtEl>
                        </p:cond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path" presetID="28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17 0 0.031 0.01867 0.031 0.04133 C 0.031 0.06533 0.017 0.084 0 0.084 C -0.017 0.084 -0.031 0.10267 -0.031 0.12533 C -0.031 0.148 -0.017 0.16667 0 0.16667 C 0.017 0.16667 0.031 0.18533 0.031 0.208 C 0.031 0.23067 0.017 0.24933 0 0.24933 C -0.017 0.24933 -0.031 0.268 -0.031 0.292 C -0.031 0.31467 -0.017 0.33333 0 0.33333 C 0.017 0.33333 0.031 0.31467 0.031 0.292 C 0.031 0.268 0.017 0.24933 0 0.24933 C -0.017 0.24933 -0.031 0.23067 -0.031 0.208 C -0.031 0.18533 -0.017 0.16667 0 0.16667 C 0.017 0.16667 0.031 0.148 0.031 0.12533 C 0.031 0.10267 0.017 0.084 0 0.084 C -0.017 0.084 -0.031 0.06533 -0.031 0.04133 C -0.031 0.01867 -0.017 0 0 0 Z">
                                      <p:cBhvr>
                                        <p:cTn id="566" dur="2000" fill="hold"/>
                                        <p:tgtEl>
                                          <p:spTgt spid="6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7" restart="whenNotActive" nodeType="interactiveSeq" fill="hold">
                <p:stCondLst>
                  <p:cond evt="onClick">
                    <p:tgtEl>
                      <p:spTgt spid="613"/>
                    </p:tgtEl>
                  </p:cond>
                </p:stCondLst>
                <p:childTnLst>
                  <p:par>
                    <p:cTn id="568" fill="hold">
                      <p:stCondLst>
                        <p:cond evt="onClick">
                          <p:tgtEl>
                            <p:spTgt spid="613"/>
                          </p:tgtEl>
                        </p:cond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path" presetID="3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17 -0.08667 C 0.034 -0.15733 0.061 -0.18533 0.1 -0.18533 C 0.12 -0.18533 0.138 -0.17467 0.152 -0.15733 C 0.162 -0.14533 0.174 -0.13867 0.187 -0.13867 C 0.212 -0.13867 0.233 -0.16267 0.241 -0.19733 L 0.25 -0.23867 L 0.232 -0.15067 C 0.215 -0.08133 0.188 -0.05333 0.15 -0.05333 C 0.13 -0.05333 0.111 -0.064 0.096 -0.08267 C 0.087 -0.09333 0.075 -0.1 0.063 -0.1 C 0.038 -0.1 0.017 -0.076 0.009 -0.04133 L 0 0 Z">
                                      <p:cBhvr>
                                        <p:cTn id="571" dur="2000" fill="hold"/>
                                        <p:tgtEl>
                                          <p:spTgt spid="6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2" restart="whenNotActive" nodeType="interactiveSeq" fill="hold">
                <p:stCondLst>
                  <p:cond evt="onClick">
                    <p:tgtEl>
                      <p:spTgt spid="614"/>
                    </p:tgtEl>
                  </p:cond>
                </p:stCondLst>
                <p:childTnLst>
                  <p:par>
                    <p:cTn id="573" fill="hold">
                      <p:stCondLst>
                        <p:cond evt="onClick">
                          <p:tgtEl>
                            <p:spTgt spid="614"/>
                          </p:tgtEl>
                        </p:cond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path" presetID="2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 -0.04267 0.026 -0.07733 0.058 -0.07733 L 0.192 -0.07733 C 0.224 -0.07733 0.25 -0.04267 0.25 0 L 0.25 0.176 C 0.25 0.21867 0.224 0.25467 0.192 0.25467 L 0.058 0.25467 C 0.026 0.25467 0 0.21867 0 0.176 Z">
                                      <p:cBhvr>
                                        <p:cTn id="576" dur="2000" fill="hold"/>
                                        <p:tgtEl>
                                          <p:spTgt spid="6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194000" cy="6629400"/>
          </a:xfrm>
          <a:prstGeom prst="rect">
            <a:avLst/>
          </a:prstGeom>
          <a:ln w="0">
            <a:noFill/>
          </a:ln>
        </p:spPr>
      </p:pic>
      <p:pic>
        <p:nvPicPr>
          <p:cNvPr id="663" name="" descr=""/>
          <p:cNvPicPr/>
          <p:nvPr/>
        </p:nvPicPr>
        <p:blipFill>
          <a:blip r:embed="rId2"/>
          <a:stretch/>
        </p:blipFill>
        <p:spPr>
          <a:xfrm>
            <a:off x="7095960" y="1981080"/>
            <a:ext cx="1057320" cy="1293840"/>
          </a:xfrm>
          <a:prstGeom prst="rect">
            <a:avLst/>
          </a:prstGeom>
          <a:ln w="0">
            <a:noFill/>
          </a:ln>
        </p:spPr>
      </p:pic>
      <p:pic>
        <p:nvPicPr>
          <p:cNvPr id="664" name="" descr=""/>
          <p:cNvPicPr/>
          <p:nvPr/>
        </p:nvPicPr>
        <p:blipFill>
          <a:blip r:embed="rId3"/>
          <a:stretch/>
        </p:blipFill>
        <p:spPr>
          <a:xfrm>
            <a:off x="4419720" y="1973160"/>
            <a:ext cx="1057320" cy="1303560"/>
          </a:xfrm>
          <a:prstGeom prst="rect">
            <a:avLst/>
          </a:prstGeom>
          <a:ln w="0">
            <a:noFill/>
          </a:ln>
        </p:spPr>
      </p:pic>
      <p:pic>
        <p:nvPicPr>
          <p:cNvPr id="665" name="" descr=""/>
          <p:cNvPicPr/>
          <p:nvPr/>
        </p:nvPicPr>
        <p:blipFill>
          <a:blip r:embed="rId4"/>
          <a:stretch/>
        </p:blipFill>
        <p:spPr>
          <a:xfrm>
            <a:off x="5791320" y="1979640"/>
            <a:ext cx="1057320" cy="1220760"/>
          </a:xfrm>
          <a:prstGeom prst="rect">
            <a:avLst/>
          </a:prstGeom>
          <a:ln w="0">
            <a:noFill/>
          </a:ln>
        </p:spPr>
      </p:pic>
      <p:pic>
        <p:nvPicPr>
          <p:cNvPr id="666" name="" descr=""/>
          <p:cNvPicPr/>
          <p:nvPr/>
        </p:nvPicPr>
        <p:blipFill>
          <a:blip r:embed="rId5"/>
          <a:stretch/>
        </p:blipFill>
        <p:spPr>
          <a:xfrm>
            <a:off x="4419720" y="3801960"/>
            <a:ext cx="1057320" cy="1303560"/>
          </a:xfrm>
          <a:prstGeom prst="rect">
            <a:avLst/>
          </a:prstGeom>
          <a:ln w="0">
            <a:noFill/>
          </a:ln>
        </p:spPr>
      </p:pic>
      <p:pic>
        <p:nvPicPr>
          <p:cNvPr id="667" name="" descr=""/>
          <p:cNvPicPr/>
          <p:nvPr/>
        </p:nvPicPr>
        <p:blipFill>
          <a:blip r:embed="rId6"/>
          <a:stretch/>
        </p:blipFill>
        <p:spPr>
          <a:xfrm>
            <a:off x="5800680" y="3809880"/>
            <a:ext cx="1057320" cy="1274760"/>
          </a:xfrm>
          <a:prstGeom prst="rect">
            <a:avLst/>
          </a:prstGeom>
          <a:ln w="0">
            <a:noFill/>
          </a:ln>
        </p:spPr>
      </p:pic>
      <p:pic>
        <p:nvPicPr>
          <p:cNvPr id="668" name="" descr=""/>
          <p:cNvPicPr/>
          <p:nvPr/>
        </p:nvPicPr>
        <p:blipFill>
          <a:blip r:embed="rId7"/>
          <a:stretch/>
        </p:blipFill>
        <p:spPr>
          <a:xfrm>
            <a:off x="7086600" y="3809880"/>
            <a:ext cx="1057320" cy="1206720"/>
          </a:xfrm>
          <a:prstGeom prst="rect">
            <a:avLst/>
          </a:prstGeom>
          <a:ln w="0">
            <a:noFill/>
          </a:ln>
        </p:spPr>
      </p:pic>
      <p:pic>
        <p:nvPicPr>
          <p:cNvPr id="669" name="" descr=""/>
          <p:cNvPicPr/>
          <p:nvPr/>
        </p:nvPicPr>
        <p:blipFill>
          <a:blip r:embed="rId8"/>
          <a:stretch/>
        </p:blipFill>
        <p:spPr>
          <a:xfrm>
            <a:off x="1371600" y="5029200"/>
            <a:ext cx="1058760" cy="1371600"/>
          </a:xfrm>
          <a:prstGeom prst="rect">
            <a:avLst/>
          </a:prstGeom>
          <a:ln w="0">
            <a:noFill/>
          </a:ln>
        </p:spPr>
      </p:pic>
      <p:sp>
        <p:nvSpPr>
          <p:cNvPr id="670" name=""/>
          <p:cNvSpPr/>
          <p:nvPr/>
        </p:nvSpPr>
        <p:spPr>
          <a:xfrm>
            <a:off x="4572000" y="563868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u es vraiment nulle 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038480" y="0"/>
            <a:ext cx="411480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 Black"/>
              </a:rPr>
              <a:t>Diapositive N° 6 - Résultat</a:t>
            </a:r>
            <a:br>
              <a:rPr sz="2400"/>
            </a:br>
            <a:r>
              <a:rPr b="0" lang="en-US" sz="2400" spc="-1" strike="noStrike">
                <a:solidFill>
                  <a:srgbClr val="0033cc"/>
                </a:solidFill>
                <a:latin typeface="Arial Black"/>
              </a:rPr>
              <a:t>Score final = 0 point</a:t>
            </a:r>
            <a:endParaRPr b="0" lang="en-US" sz="2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72" name=""/>
          <p:cNvSpPr/>
          <p:nvPr/>
        </p:nvSpPr>
        <p:spPr>
          <a:xfrm>
            <a:off x="6248520" y="137160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Lucida Handwriting"/>
              </a:rPr>
              <a:t>Perd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6781680" y="1905120"/>
            <a:ext cx="1600200" cy="144756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5791320" y="6348240"/>
            <a:ext cx="1008000" cy="505080"/>
          </a:xfrm>
          <a:custGeom>
            <a:avLst/>
            <a:gdLst>
              <a:gd name="textAreaLeft" fmla="*/ 32760 w 1008000"/>
              <a:gd name="textAreaRight" fmla="*/ 975600 w 1008000"/>
              <a:gd name="textAreaTop" fmla="*/ 32760 h 505080"/>
              <a:gd name="textAreaBottom" fmla="*/ 472680 h 505080"/>
            </a:gdLst>
            <a:ahLst/>
            <a:rect l="textAreaLeft" t="textAreaTop" r="textAreaRight" b="textAreaBottom"/>
            <a:pathLst>
              <a:path w="43092" h="21600">
                <a:moveTo>
                  <a:pt x="0" y="0"/>
                </a:moveTo>
                <a:lnTo>
                  <a:pt x="43092" y="0"/>
                </a:lnTo>
                <a:lnTo>
                  <a:pt x="43092" y="21600"/>
                </a:lnTo>
                <a:lnTo>
                  <a:pt x="0" y="21600"/>
                </a:lnTo>
                <a:close/>
              </a:path>
              <a:path fill="lightenLess" w="43092" h="21600">
                <a:moveTo>
                  <a:pt x="0" y="0"/>
                </a:moveTo>
                <a:lnTo>
                  <a:pt x="43092" y="0"/>
                </a:lnTo>
                <a:lnTo>
                  <a:pt x="41692" y="1400"/>
                </a:lnTo>
                <a:lnTo>
                  <a:pt x="1400" y="1400"/>
                </a:lnTo>
                <a:close/>
              </a:path>
              <a:path fill="darken" w="43092" h="21600">
                <a:moveTo>
                  <a:pt x="43092" y="0"/>
                </a:moveTo>
                <a:lnTo>
                  <a:pt x="43092" y="21600"/>
                </a:lnTo>
                <a:lnTo>
                  <a:pt x="41692" y="20200"/>
                </a:lnTo>
                <a:lnTo>
                  <a:pt x="41692" y="1400"/>
                </a:lnTo>
                <a:close/>
              </a:path>
              <a:path fill="darkenLess" w="43092" h="21600">
                <a:moveTo>
                  <a:pt x="430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92" y="20200"/>
                </a:lnTo>
                <a:close/>
              </a:path>
              <a:path fill="lighten" w="430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92" h="21600">
                <a:moveTo>
                  <a:pt x="14540" y="3794"/>
                </a:moveTo>
                <a:lnTo>
                  <a:pt x="28553" y="10800"/>
                </a:lnTo>
                <a:lnTo>
                  <a:pt x="14540" y="17806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G Produc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0 L -0.64723 0.35694 E">
                                      <p:cBhvr>
                                        <p:cTn id="582" dur="2000" fill="hold"/>
                                        <p:tgtEl>
                                          <p:spTgt spid="6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3" restart="whenNotActive" nodeType="interactiveSeq" fill="hold">
                <p:stCondLst>
                  <p:cond evt="onClick">
                    <p:tgtEl>
                      <p:spTgt spid="610"/>
                    </p:tgtEl>
                  </p:cond>
                </p:stCondLst>
                <p:childTnLst>
                  <p:par>
                    <p:cTn id="584" fill="hold">
                      <p:stCondLst>
                        <p:cond evt="onClick">
                          <p:tgtEl>
                            <p:spTgt spid="610"/>
                          </p:tgtEl>
                        </p:cond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46945E-018 2.59259E-006 C -0.00364 0.00162 -0.00746 0.00231 -0.01076 0.00462 C -0.01475 0.0074 -0.03385 0.03287 -0.03402 0.03333 C -0.03524 0.03564 -0.03593 0.03842 -0.0375 0.0405 C -0.03958 0.04328 -0.04236 0.0449 -0.04461 0.04745 C -0.05434 0.05925 -0.06232 0.07337 -0.07326 0.08333 C -0.07864 0.09398 -0.08507 0.10231 -0.09288 0.10949 C -0.09548 0.12037 -0.09826 0.12384 -0.10538 0.13078 C -0.11059 0.14467 -0.11892 0.15787 -0.12864 0.16666 C -0.13402 0.17777 -0.14114 0.18819 -0.14826 0.19745 C -0.15156 0.21134 -0.1585 0.22314 -0.16614 0.23333 C -0.17048 0.25138 -0.16406 0.22986 -0.17326 0.24513 C -0.17448 0.24699 -0.17395 0.25023 -0.175 0.25231 C -0.17691 0.25601 -0.17986 0.25833 -0.18211 0.2618 C -0.18767 0.2706 -0.18472 0.26921 -0.18941 0.28078 C -0.19357 0.29074 -0.19757 0.29907 -0.20364 0.30717 C -0.2059 0.31967 -0.21145 0.32685 -0.21614 0.33796 C -0.22239 0.35324 -0.22951 0.36689 -0.2375 0.38078 C -0.2427 0.39004 -0.24253 0.3956 -0.25 0.40231 C -0.25295 0.41342 -0.26961 0.43564 -0.27691 0.44513 C -0.28055 0.45486 -0.28437 0.4625 -0.28941 0.47129 C -0.29201 0.48518 -0.29513 0.48634 -0.30191 0.49745 C -0.30468 0.50185 -0.30902 0.5118 -0.30902 0.5118 C -0.31111 0.52361 -0.31597 0.52824 -0.32152 0.53796 C -0.3243 0.5537 -0.33125 0.56944 -0.3375 0.58333 C -0.33975 0.58819 -0.34323 0.59212 -0.34461 0.59745 C -0.34635 0.60462 -0.34826 0.6118 -0.35 0.61898 C -0.35069 0.62129 -0.35191 0.62615 -0.35191 0.62615 C -0.35121 0.64513 -0.35156 0.66435 -0.35 0.68333 C -0.34895 0.69513 -0.33715 0.70717 -0.33038 0.7118 C -0.32083 0.71828 -0.31198 0.72847 -0.30191 0.73333 C -0.28993 0.73912 -0.27708 0.74097 -0.26441 0.74282 C -0.23385 0.75254 -0.19114 0.74351 -0.16441 0.74282 C -0.15277 0.73912 -0.14166 0.73356 -0.13038 0.72847 C -0.12725 0.72708 -0.121 0.72592 -0.11788 0.72384 C -0.11475 0.72175 -0.11215 0.71851 -0.10902 0.71666 C -0.0993 0.71087 -0.08819 0.70856 -0.07864 0.70231 C -0.06128 0.69097 -0.07638 0.69814 -0.06441 0.69282 C -0.04739 0.67754 -0.02708 0.66921 -0.01076 0.65231 C 0.01268 0.628 0.03247 0.59699 0.05348 0.56898 C 0.05747 0.56365 0.05955 0.5537 0.0625 0.54745 C 0.06806 0.53564 0.0757 0.52592 0.07848 0.5118 C 0.08108 0.49907 0.08629 0.48287 0.09098 0.47129 C 0.10504 0.4368 0.09254 0.47523 0.10174 0.44513 C 0.10365 0.42986 0.1066 0.41666 0.11059 0.40231 C 0.11372 0.39143 0.11146 0.39282 0.11424 0.38078 C 0.12153 0.34814 0.11945 0.35439 0.12674 0.33564 C 0.12813 0.31296 0.13039 0.29791 0.13386 0.27615 C 0.13802 0.20763 0.14532 0.12916 0.1125 0.07129 C 0.10747 0.05231 0.11493 0.07708 0.10539 0.05717 C 0.09462 0.03449 0.10417 0.04074 0.09289 0.03564 C 0.09167 0.0324 0.09098 0.02893 0.08924 0.02615 C 0.08334 0.01666 0.07049 0.01689 0.0625 0.0118 C 0.05243 0.00532 0.06198 0.00856 0.05174 0.00462 C 0.04375 0.00162 0.04653 0.00115 0.04098 0.00462 E">
                                      <p:cBhvr>
                                        <p:cTn id="587" dur="2000" fill="hold"/>
                                        <p:tgtEl>
                                          <p:spTgt spid="6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8" restart="whenNotActive" nodeType="interactiveSeq" fill="hold">
                <p:stCondLst>
                  <p:cond evt="onClick">
                    <p:tgtEl>
                      <p:spTgt spid="611"/>
                    </p:tgtEl>
                  </p:cond>
                </p:stCondLst>
                <p:childTnLst>
                  <p:par>
                    <p:cTn id="589" fill="hold">
                      <p:stCondLst>
                        <p:cond evt="onClick">
                          <p:tgtEl>
                            <p:spTgt spid="611"/>
                          </p:tgtEl>
                        </p:cond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3.33333E-006 C -0.12986 0.0169 -0.26094 -0.00254 -0.39115 0.00718 C -0.39913 0.01135 -0.40608 0.01644 -0.41441 0.01898 C -0.42188 0.02593 -0.43212 0.03033 -0.44115 0.03334 C -0.45174 0.04746 -0.44115 0.03565 -0.45191 0.04283 C -0.46042 0.04861 -0.45903 0.05348 -0.46962 0.05718 C -0.47865 0.06528 -0.48281 0.06991 -0.48941 0.08102 C -0.4934 0.08773 -0.49549 0.0963 -0.5 0.10232 C -0.50694 0.11158 -0.50399 0.10672 -0.50903 0.11667 C -0.51163 0.12778 -0.51632 0.13843 -0.52153 0.14769 C -0.52396 0.16065 -0.52969 0.17686 -0.53576 0.18797 C -0.53733 0.19074 -0.53958 0.19236 -0.54115 0.19514 C -0.54375 0.19977 -0.54826 0.20949 -0.54826 0.20973 C -0.55156 0.22732 -0.54792 0.21065 -0.55365 0.22848 C -0.5566 0.23773 -0.55625 0.24607 -0.56076 0.25463 C -0.56267 0.275 -0.56441 0.29445 -0.56788 0.31436 C -0.57222 0.3676 -0.57552 0.42107 -0.58038 0.47385 C -0.58333 0.50695 -0.58299 0.54375 -0.58941 0.57616 C -0.59201 0.6125 -0.59306 0.61574 -0.58941 0.66436 C -0.58906 0.66783 -0.58142 0.67662 -0.58038 0.67848 C -0.5658 0.70209 -0.54253 0.71088 -0.51962 0.71181 C -0.48281 0.71343 -0.44583 0.71505 -0.40903 0.71667 C -0.39427 0.72037 -0.37934 0.72199 -0.36441 0.72385 C -0.29688 0.75301 -0.22031 0.74584 -0.15208 0.7213 C -0.14792 0.71783 -0.14323 0.71574 -0.13941 0.71181 C -0.12604 0.69838 -0.13785 0.70486 -0.12708 0.7 C -0.12448 0.69676 -0.1224 0.69329 -0.11979 0.69051 C -0.11632 0.68704 -0.10903 0.68102 -0.10903 0.68125 C -0.10608 0.67477 -0.10365 0.6676 -0.10017 0.66181 C -0.09809 0.6588 -0.09497 0.65741 -0.09288 0.65463 C -0.08906 0.64954 -0.08559 0.64375 -0.08212 0.63797 C -0.07604 0.62801 -0.07309 0.61875 -0.06615 0.60949 C -0.06354 0.60093 -0.06233 0.59144 -0.05903 0.58334 C -0.05729 0.57894 -0.05382 0.5757 -0.05191 0.5713 C -0.04392 0.55348 -0.05174 0.56598 -0.04653 0.55 C -0.04566 0.54746 -0.04392 0.54537 -0.04288 0.54283 C -0.04149 0.53912 -0.04063 0.53496 -0.03941 0.53102 C -0.03646 0.50834 -0.02882 0.48889 -0.025 0.46667 C -0.01944 0.43473 -0.01337 0.40301 -0.00712 0.3713 C -0.0066 0.36505 -0.00625 0.35857 -0.00538 0.35232 C -0.0033 0.33635 0.00174 0.30463 0.00174 0.30486 C 0.0026 0.20834 0.00712 0.11436 0.00712 0.01898 E">
                                      <p:cBhvr>
                                        <p:cTn id="592" dur="3000" fill="hold"/>
                                        <p:tgtEl>
                                          <p:spTgt spid="6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3" restart="whenNotActive" nodeType="interactiveSeq" fill="hold">
                <p:stCondLst>
                  <p:cond evt="onClick">
                    <p:tgtEl>
                      <p:spTgt spid="612"/>
                    </p:tgtEl>
                  </p:cond>
                </p:stCondLst>
                <p:childTnLst>
                  <p:par>
                    <p:cTn id="594" fill="hold">
                      <p:stCondLst>
                        <p:cond evt="onClick">
                          <p:tgtEl>
                            <p:spTgt spid="612"/>
                          </p:tgtEl>
                        </p:cond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path" presetID="28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17 0 0.031 0.01867 0.031 0.04133 C 0.031 0.06533 0.017 0.084 0 0.084 C -0.017 0.084 -0.031 0.10267 -0.031 0.12533 C -0.031 0.148 -0.017 0.16667 0 0.16667 C 0.017 0.16667 0.031 0.18533 0.031 0.208 C 0.031 0.23067 0.017 0.24933 0 0.24933 C -0.017 0.24933 -0.031 0.268 -0.031 0.292 C -0.031 0.31467 -0.017 0.33333 0 0.33333 C 0.017 0.33333 0.031 0.31467 0.031 0.292 C 0.031 0.268 0.017 0.24933 0 0.24933 C -0.017 0.24933 -0.031 0.23067 -0.031 0.208 C -0.031 0.18533 -0.017 0.16667 0 0.16667 C 0.017 0.16667 0.031 0.148 0.031 0.12533 C 0.031 0.10267 0.017 0.084 0 0.084 C -0.017 0.084 -0.031 0.06533 -0.031 0.04133 C -0.031 0.01867 -0.017 0 0 0 Z">
                                      <p:cBhvr>
                                        <p:cTn id="597" dur="2000" fill="hold"/>
                                        <p:tgtEl>
                                          <p:spTgt spid="6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8" restart="whenNotActive" nodeType="interactiveSeq" fill="hold">
                <p:stCondLst>
                  <p:cond evt="onClick">
                    <p:tgtEl>
                      <p:spTgt spid="613"/>
                    </p:tgtEl>
                  </p:cond>
                </p:stCondLst>
                <p:childTnLst>
                  <p:par>
                    <p:cTn id="599" fill="hold">
                      <p:stCondLst>
                        <p:cond evt="onClick">
                          <p:tgtEl>
                            <p:spTgt spid="613"/>
                          </p:tgtEl>
                        </p:cond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path" presetID="3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17 -0.08667 C 0.034 -0.15733 0.061 -0.18533 0.1 -0.18533 C 0.12 -0.18533 0.138 -0.17467 0.152 -0.15733 C 0.162 -0.14533 0.174 -0.13867 0.187 -0.13867 C 0.212 -0.13867 0.233 -0.16267 0.241 -0.19733 L 0.25 -0.23867 L 0.232 -0.15067 C 0.215 -0.08133 0.188 -0.05333 0.15 -0.05333 C 0.13 -0.05333 0.111 -0.064 0.096 -0.08267 C 0.087 -0.09333 0.075 -0.1 0.063 -0.1 C 0.038 -0.1 0.017 -0.076 0.009 -0.04133 L 0 0 Z">
                                      <p:cBhvr>
                                        <p:cTn id="602" dur="2000" fill="hold"/>
                                        <p:tgtEl>
                                          <p:spTgt spid="6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3" restart="whenNotActive" nodeType="interactiveSeq" fill="hold">
                <p:stCondLst>
                  <p:cond evt="onClick">
                    <p:tgtEl>
                      <p:spTgt spid="614"/>
                    </p:tgtEl>
                  </p:cond>
                </p:stCondLst>
                <p:childTnLst>
                  <p:par>
                    <p:cTn id="604" fill="hold">
                      <p:stCondLst>
                        <p:cond evt="onClick">
                          <p:tgtEl>
                            <p:spTgt spid="614"/>
                          </p:tgtEl>
                        </p:cond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path" presetID="2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 -0.04267 0.026 -0.07733 0.058 -0.07733 L 0.192 -0.07733 C 0.224 -0.07733 0.25 -0.04267 0.25 0 L 0.25 0.176 C 0.25 0.21867 0.224 0.25467 0.192 0.25467 L 0.058 0.25467 C 0.026 0.25467 0 0.21867 0 0.176 Z">
                                      <p:cBhvr>
                                        <p:cTn id="607" dur="2000" fill="hold"/>
                                        <p:tgtEl>
                                          <p:spTgt spid="6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194000" cy="6629400"/>
          </a:xfrm>
          <a:prstGeom prst="rect">
            <a:avLst/>
          </a:prstGeom>
          <a:ln w="0">
            <a:noFill/>
          </a:ln>
        </p:spPr>
      </p:pic>
      <p:pic>
        <p:nvPicPr>
          <p:cNvPr id="676" name="" descr=""/>
          <p:cNvPicPr/>
          <p:nvPr/>
        </p:nvPicPr>
        <p:blipFill>
          <a:blip r:embed="rId2"/>
          <a:stretch/>
        </p:blipFill>
        <p:spPr>
          <a:xfrm>
            <a:off x="7095960" y="1981080"/>
            <a:ext cx="1057320" cy="1293840"/>
          </a:xfrm>
          <a:prstGeom prst="rect">
            <a:avLst/>
          </a:prstGeom>
          <a:ln w="0">
            <a:noFill/>
          </a:ln>
        </p:spPr>
      </p:pic>
      <p:pic>
        <p:nvPicPr>
          <p:cNvPr id="677" name="" descr=""/>
          <p:cNvPicPr/>
          <p:nvPr/>
        </p:nvPicPr>
        <p:blipFill>
          <a:blip r:embed="rId3"/>
          <a:stretch/>
        </p:blipFill>
        <p:spPr>
          <a:xfrm>
            <a:off x="4419720" y="1973160"/>
            <a:ext cx="1057320" cy="1303560"/>
          </a:xfrm>
          <a:prstGeom prst="rect">
            <a:avLst/>
          </a:prstGeom>
          <a:ln w="0">
            <a:noFill/>
          </a:ln>
        </p:spPr>
      </p:pic>
      <p:pic>
        <p:nvPicPr>
          <p:cNvPr id="678" name="" descr=""/>
          <p:cNvPicPr/>
          <p:nvPr/>
        </p:nvPicPr>
        <p:blipFill>
          <a:blip r:embed="rId4"/>
          <a:stretch/>
        </p:blipFill>
        <p:spPr>
          <a:xfrm>
            <a:off x="5791320" y="1979640"/>
            <a:ext cx="1057320" cy="1220760"/>
          </a:xfrm>
          <a:prstGeom prst="rect">
            <a:avLst/>
          </a:prstGeom>
          <a:ln w="0">
            <a:noFill/>
          </a:ln>
        </p:spPr>
      </p:pic>
      <p:pic>
        <p:nvPicPr>
          <p:cNvPr id="679" name="" descr=""/>
          <p:cNvPicPr/>
          <p:nvPr/>
        </p:nvPicPr>
        <p:blipFill>
          <a:blip r:embed="rId5"/>
          <a:stretch/>
        </p:blipFill>
        <p:spPr>
          <a:xfrm>
            <a:off x="4419720" y="3801960"/>
            <a:ext cx="1057320" cy="1303560"/>
          </a:xfrm>
          <a:prstGeom prst="rect">
            <a:avLst/>
          </a:prstGeom>
          <a:ln w="0">
            <a:noFill/>
          </a:ln>
        </p:spPr>
      </p:pic>
      <p:pic>
        <p:nvPicPr>
          <p:cNvPr id="680" name="" descr=""/>
          <p:cNvPicPr/>
          <p:nvPr/>
        </p:nvPicPr>
        <p:blipFill>
          <a:blip r:embed="rId6"/>
          <a:stretch/>
        </p:blipFill>
        <p:spPr>
          <a:xfrm>
            <a:off x="5800680" y="3809880"/>
            <a:ext cx="1057320" cy="1274760"/>
          </a:xfrm>
          <a:prstGeom prst="rect">
            <a:avLst/>
          </a:prstGeom>
          <a:ln w="0">
            <a:noFill/>
          </a:ln>
        </p:spPr>
      </p:pic>
      <p:pic>
        <p:nvPicPr>
          <p:cNvPr id="681" name="" descr=""/>
          <p:cNvPicPr/>
          <p:nvPr/>
        </p:nvPicPr>
        <p:blipFill>
          <a:blip r:embed="rId7"/>
          <a:stretch/>
        </p:blipFill>
        <p:spPr>
          <a:xfrm>
            <a:off x="7086600" y="3809880"/>
            <a:ext cx="1057320" cy="1206720"/>
          </a:xfrm>
          <a:prstGeom prst="rect">
            <a:avLst/>
          </a:prstGeom>
          <a:ln w="0">
            <a:noFill/>
          </a:ln>
        </p:spPr>
      </p:pic>
      <p:pic>
        <p:nvPicPr>
          <p:cNvPr id="682" name="" descr=""/>
          <p:cNvPicPr/>
          <p:nvPr/>
        </p:nvPicPr>
        <p:blipFill>
          <a:blip r:embed="rId8"/>
          <a:stretch/>
        </p:blipFill>
        <p:spPr>
          <a:xfrm>
            <a:off x="1371600" y="5029200"/>
            <a:ext cx="1058760" cy="1371600"/>
          </a:xfrm>
          <a:prstGeom prst="rect">
            <a:avLst/>
          </a:prstGeom>
          <a:ln w="0">
            <a:noFill/>
          </a:ln>
        </p:spPr>
      </p:pic>
      <p:sp>
        <p:nvSpPr>
          <p:cNvPr id="683" name=""/>
          <p:cNvSpPr/>
          <p:nvPr/>
        </p:nvSpPr>
        <p:spPr>
          <a:xfrm>
            <a:off x="4572000" y="563868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u as sauvé la face 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038480" y="0"/>
            <a:ext cx="411480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 Black"/>
              </a:rPr>
              <a:t>Diapositive N° 6 - Résultat</a:t>
            </a:r>
            <a:br>
              <a:rPr sz="2400"/>
            </a:br>
            <a:r>
              <a:rPr b="0" lang="en-US" sz="2400" spc="-1" strike="noStrike">
                <a:solidFill>
                  <a:srgbClr val="0033cc"/>
                </a:solidFill>
                <a:latin typeface="Arial Black"/>
              </a:rPr>
              <a:t>Score final = 1 point</a:t>
            </a:r>
            <a:endParaRPr b="0" lang="en-US" sz="2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85" name=""/>
          <p:cNvSpPr/>
          <p:nvPr/>
        </p:nvSpPr>
        <p:spPr>
          <a:xfrm>
            <a:off x="6248520" y="137160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Lucida Handwriting"/>
              </a:rPr>
              <a:t>GAG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6781680" y="1905120"/>
            <a:ext cx="1600200" cy="144756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5791320" y="6348240"/>
            <a:ext cx="1008000" cy="505080"/>
          </a:xfrm>
          <a:custGeom>
            <a:avLst/>
            <a:gdLst>
              <a:gd name="textAreaLeft" fmla="*/ 32760 w 1008000"/>
              <a:gd name="textAreaRight" fmla="*/ 975600 w 1008000"/>
              <a:gd name="textAreaTop" fmla="*/ 32760 h 505080"/>
              <a:gd name="textAreaBottom" fmla="*/ 472680 h 505080"/>
            </a:gdLst>
            <a:ahLst/>
            <a:rect l="textAreaLeft" t="textAreaTop" r="textAreaRight" b="textAreaBottom"/>
            <a:pathLst>
              <a:path w="43092" h="21600">
                <a:moveTo>
                  <a:pt x="0" y="0"/>
                </a:moveTo>
                <a:lnTo>
                  <a:pt x="43092" y="0"/>
                </a:lnTo>
                <a:lnTo>
                  <a:pt x="43092" y="21600"/>
                </a:lnTo>
                <a:lnTo>
                  <a:pt x="0" y="21600"/>
                </a:lnTo>
                <a:close/>
              </a:path>
              <a:path fill="lightenLess" w="43092" h="21600">
                <a:moveTo>
                  <a:pt x="0" y="0"/>
                </a:moveTo>
                <a:lnTo>
                  <a:pt x="43092" y="0"/>
                </a:lnTo>
                <a:lnTo>
                  <a:pt x="41692" y="1400"/>
                </a:lnTo>
                <a:lnTo>
                  <a:pt x="1400" y="1400"/>
                </a:lnTo>
                <a:close/>
              </a:path>
              <a:path fill="darken" w="43092" h="21600">
                <a:moveTo>
                  <a:pt x="43092" y="0"/>
                </a:moveTo>
                <a:lnTo>
                  <a:pt x="43092" y="21600"/>
                </a:lnTo>
                <a:lnTo>
                  <a:pt x="41692" y="20200"/>
                </a:lnTo>
                <a:lnTo>
                  <a:pt x="41692" y="1400"/>
                </a:lnTo>
                <a:close/>
              </a:path>
              <a:path fill="darkenLess" w="43092" h="21600">
                <a:moveTo>
                  <a:pt x="430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92" y="20200"/>
                </a:lnTo>
                <a:close/>
              </a:path>
              <a:path fill="lighten" w="430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92" h="21600">
                <a:moveTo>
                  <a:pt x="14540" y="3794"/>
                </a:moveTo>
                <a:lnTo>
                  <a:pt x="28553" y="10800"/>
                </a:lnTo>
                <a:lnTo>
                  <a:pt x="14540" y="17806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G Produc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8" dur="indefinite" restart="never" nodeType="tmRoot">
          <p:childTnLst>
            <p:seq>
              <p:cTn id="609" dur="indefinite" nodeType="mainSeq">
                <p:childTnLst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0 L -0.64723 0.35694 E">
                                      <p:cBhvr>
                                        <p:cTn id="613" dur="2000" fill="hold"/>
                                        <p:tgtEl>
                                          <p:spTgt spid="6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4" restart="whenNotActive" nodeType="interactiveSeq" fill="hold">
                <p:stCondLst>
                  <p:cond evt="onClick">
                    <p:tgtEl>
                      <p:spTgt spid="610"/>
                    </p:tgtEl>
                  </p:cond>
                </p:stCondLst>
                <p:childTnLst>
                  <p:par>
                    <p:cTn id="615" fill="hold">
                      <p:stCondLst>
                        <p:cond evt="onClick">
                          <p:tgtEl>
                            <p:spTgt spid="610"/>
                          </p:tgtEl>
                        </p:cond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46945E-018 2.59259E-006 C -0.00364 0.00162 -0.00746 0.00231 -0.01076 0.00462 C -0.01475 0.0074 -0.03385 0.03287 -0.03402 0.03333 C -0.03524 0.03564 -0.03593 0.03842 -0.0375 0.0405 C -0.03958 0.04328 -0.04236 0.0449 -0.04461 0.04745 C -0.05434 0.05925 -0.06232 0.07337 -0.07326 0.08333 C -0.07864 0.09398 -0.08507 0.10231 -0.09288 0.10949 C -0.09548 0.12037 -0.09826 0.12384 -0.10538 0.13078 C -0.11059 0.14467 -0.11892 0.15787 -0.12864 0.16666 C -0.13402 0.17777 -0.14114 0.18819 -0.14826 0.19745 C -0.15156 0.21134 -0.1585 0.22314 -0.16614 0.23333 C -0.17048 0.25138 -0.16406 0.22986 -0.17326 0.24513 C -0.17448 0.24699 -0.17395 0.25023 -0.175 0.25231 C -0.17691 0.25601 -0.17986 0.25833 -0.18211 0.2618 C -0.18767 0.2706 -0.18472 0.26921 -0.18941 0.28078 C -0.19357 0.29074 -0.19757 0.29907 -0.20364 0.30717 C -0.2059 0.31967 -0.21145 0.32685 -0.21614 0.33796 C -0.22239 0.35324 -0.22951 0.36689 -0.2375 0.38078 C -0.2427 0.39004 -0.24253 0.3956 -0.25 0.40231 C -0.25295 0.41342 -0.26961 0.43564 -0.27691 0.44513 C -0.28055 0.45486 -0.28437 0.4625 -0.28941 0.47129 C -0.29201 0.48518 -0.29513 0.48634 -0.30191 0.49745 C -0.30468 0.50185 -0.30902 0.5118 -0.30902 0.5118 C -0.31111 0.52361 -0.31597 0.52824 -0.32152 0.53796 C -0.3243 0.5537 -0.33125 0.56944 -0.3375 0.58333 C -0.33975 0.58819 -0.34323 0.59212 -0.34461 0.59745 C -0.34635 0.60462 -0.34826 0.6118 -0.35 0.61898 C -0.35069 0.62129 -0.35191 0.62615 -0.35191 0.62615 C -0.35121 0.64513 -0.35156 0.66435 -0.35 0.68333 C -0.34895 0.69513 -0.33715 0.70717 -0.33038 0.7118 C -0.32083 0.71828 -0.31198 0.72847 -0.30191 0.73333 C -0.28993 0.73912 -0.27708 0.74097 -0.26441 0.74282 C -0.23385 0.75254 -0.19114 0.74351 -0.16441 0.74282 C -0.15277 0.73912 -0.14166 0.73356 -0.13038 0.72847 C -0.12725 0.72708 -0.121 0.72592 -0.11788 0.72384 C -0.11475 0.72175 -0.11215 0.71851 -0.10902 0.71666 C -0.0993 0.71087 -0.08819 0.70856 -0.07864 0.70231 C -0.06128 0.69097 -0.07638 0.69814 -0.06441 0.69282 C -0.04739 0.67754 -0.02708 0.66921 -0.01076 0.65231 C 0.01268 0.628 0.03247 0.59699 0.05348 0.56898 C 0.05747 0.56365 0.05955 0.5537 0.0625 0.54745 C 0.06806 0.53564 0.0757 0.52592 0.07848 0.5118 C 0.08108 0.49907 0.08629 0.48287 0.09098 0.47129 C 0.10504 0.4368 0.09254 0.47523 0.10174 0.44513 C 0.10365 0.42986 0.1066 0.41666 0.11059 0.40231 C 0.11372 0.39143 0.11146 0.39282 0.11424 0.38078 C 0.12153 0.34814 0.11945 0.35439 0.12674 0.33564 C 0.12813 0.31296 0.13039 0.29791 0.13386 0.27615 C 0.13802 0.20763 0.14532 0.12916 0.1125 0.07129 C 0.10747 0.05231 0.11493 0.07708 0.10539 0.05717 C 0.09462 0.03449 0.10417 0.04074 0.09289 0.03564 C 0.09167 0.0324 0.09098 0.02893 0.08924 0.02615 C 0.08334 0.01666 0.07049 0.01689 0.0625 0.0118 C 0.05243 0.00532 0.06198 0.00856 0.05174 0.00462 C 0.04375 0.00162 0.04653 0.00115 0.04098 0.00462 E">
                                      <p:cBhvr>
                                        <p:cTn id="618" dur="2000" fill="hold"/>
                                        <p:tgtEl>
                                          <p:spTgt spid="6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9" restart="whenNotActive" nodeType="interactiveSeq" fill="hold">
                <p:stCondLst>
                  <p:cond evt="onClick">
                    <p:tgtEl>
                      <p:spTgt spid="611"/>
                    </p:tgtEl>
                  </p:cond>
                </p:stCondLst>
                <p:childTnLst>
                  <p:par>
                    <p:cTn id="620" fill="hold">
                      <p:stCondLst>
                        <p:cond evt="onClick">
                          <p:tgtEl>
                            <p:spTgt spid="611"/>
                          </p:tgtEl>
                        </p:cond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3.33333E-006 C -0.12986 0.0169 -0.26094 -0.00254 -0.39115 0.00718 C -0.39913 0.01135 -0.40608 0.01644 -0.41441 0.01898 C -0.42188 0.02593 -0.43212 0.03033 -0.44115 0.03334 C -0.45174 0.04746 -0.44115 0.03565 -0.45191 0.04283 C -0.46042 0.04861 -0.45903 0.05348 -0.46962 0.05718 C -0.47865 0.06528 -0.48281 0.06991 -0.48941 0.08102 C -0.4934 0.08773 -0.49549 0.0963 -0.5 0.10232 C -0.50694 0.11158 -0.50399 0.10672 -0.50903 0.11667 C -0.51163 0.12778 -0.51632 0.13843 -0.52153 0.14769 C -0.52396 0.16065 -0.52969 0.17686 -0.53576 0.18797 C -0.53733 0.19074 -0.53958 0.19236 -0.54115 0.19514 C -0.54375 0.19977 -0.54826 0.20949 -0.54826 0.20973 C -0.55156 0.22732 -0.54792 0.21065 -0.55365 0.22848 C -0.5566 0.23773 -0.55625 0.24607 -0.56076 0.25463 C -0.56267 0.275 -0.56441 0.29445 -0.56788 0.31436 C -0.57222 0.3676 -0.57552 0.42107 -0.58038 0.47385 C -0.58333 0.50695 -0.58299 0.54375 -0.58941 0.57616 C -0.59201 0.6125 -0.59306 0.61574 -0.58941 0.66436 C -0.58906 0.66783 -0.58142 0.67662 -0.58038 0.67848 C -0.5658 0.70209 -0.54253 0.71088 -0.51962 0.71181 C -0.48281 0.71343 -0.44583 0.71505 -0.40903 0.71667 C -0.39427 0.72037 -0.37934 0.72199 -0.36441 0.72385 C -0.29688 0.75301 -0.22031 0.74584 -0.15208 0.7213 C -0.14792 0.71783 -0.14323 0.71574 -0.13941 0.71181 C -0.12604 0.69838 -0.13785 0.70486 -0.12708 0.7 C -0.12448 0.69676 -0.1224 0.69329 -0.11979 0.69051 C -0.11632 0.68704 -0.10903 0.68102 -0.10903 0.68125 C -0.10608 0.67477 -0.10365 0.6676 -0.10017 0.66181 C -0.09809 0.6588 -0.09497 0.65741 -0.09288 0.65463 C -0.08906 0.64954 -0.08559 0.64375 -0.08212 0.63797 C -0.07604 0.62801 -0.07309 0.61875 -0.06615 0.60949 C -0.06354 0.60093 -0.06233 0.59144 -0.05903 0.58334 C -0.05729 0.57894 -0.05382 0.5757 -0.05191 0.5713 C -0.04392 0.55348 -0.05174 0.56598 -0.04653 0.55 C -0.04566 0.54746 -0.04392 0.54537 -0.04288 0.54283 C -0.04149 0.53912 -0.04063 0.53496 -0.03941 0.53102 C -0.03646 0.50834 -0.02882 0.48889 -0.025 0.46667 C -0.01944 0.43473 -0.01337 0.40301 -0.00712 0.3713 C -0.0066 0.36505 -0.00625 0.35857 -0.00538 0.35232 C -0.0033 0.33635 0.00174 0.30463 0.00174 0.30486 C 0.0026 0.20834 0.00712 0.11436 0.00712 0.01898 E">
                                      <p:cBhvr>
                                        <p:cTn id="623" dur="3000" fill="hold"/>
                                        <p:tgtEl>
                                          <p:spTgt spid="6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4" restart="whenNotActive" nodeType="interactiveSeq" fill="hold">
                <p:stCondLst>
                  <p:cond evt="onClick">
                    <p:tgtEl>
                      <p:spTgt spid="612"/>
                    </p:tgtEl>
                  </p:cond>
                </p:stCondLst>
                <p:childTnLst>
                  <p:par>
                    <p:cTn id="625" fill="hold">
                      <p:stCondLst>
                        <p:cond evt="onClick">
                          <p:tgtEl>
                            <p:spTgt spid="612"/>
                          </p:tgtEl>
                        </p:cond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path" presetID="28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17 0 0.031 0.01867 0.031 0.04133 C 0.031 0.06533 0.017 0.084 0 0.084 C -0.017 0.084 -0.031 0.10267 -0.031 0.12533 C -0.031 0.148 -0.017 0.16667 0 0.16667 C 0.017 0.16667 0.031 0.18533 0.031 0.208 C 0.031 0.23067 0.017 0.24933 0 0.24933 C -0.017 0.24933 -0.031 0.268 -0.031 0.292 C -0.031 0.31467 -0.017 0.33333 0 0.33333 C 0.017 0.33333 0.031 0.31467 0.031 0.292 C 0.031 0.268 0.017 0.24933 0 0.24933 C -0.017 0.24933 -0.031 0.23067 -0.031 0.208 C -0.031 0.18533 -0.017 0.16667 0 0.16667 C 0.017 0.16667 0.031 0.148 0.031 0.12533 C 0.031 0.10267 0.017 0.084 0 0.084 C -0.017 0.084 -0.031 0.06533 -0.031 0.04133 C -0.031 0.01867 -0.017 0 0 0 Z">
                                      <p:cBhvr>
                                        <p:cTn id="628" dur="2000" fill="hold"/>
                                        <p:tgtEl>
                                          <p:spTgt spid="6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9" restart="whenNotActive" nodeType="interactiveSeq" fill="hold">
                <p:stCondLst>
                  <p:cond evt="onClick">
                    <p:tgtEl>
                      <p:spTgt spid="613"/>
                    </p:tgtEl>
                  </p:cond>
                </p:stCondLst>
                <p:childTnLst>
                  <p:par>
                    <p:cTn id="630" fill="hold">
                      <p:stCondLst>
                        <p:cond evt="onClick">
                          <p:tgtEl>
                            <p:spTgt spid="613"/>
                          </p:tgtEl>
                        </p:cond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path" presetID="3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17 -0.08667 C 0.034 -0.15733 0.061 -0.18533 0.1 -0.18533 C 0.12 -0.18533 0.138 -0.17467 0.152 -0.15733 C 0.162 -0.14533 0.174 -0.13867 0.187 -0.13867 C 0.212 -0.13867 0.233 -0.16267 0.241 -0.19733 L 0.25 -0.23867 L 0.232 -0.15067 C 0.215 -0.08133 0.188 -0.05333 0.15 -0.05333 C 0.13 -0.05333 0.111 -0.064 0.096 -0.08267 C 0.087 -0.09333 0.075 -0.1 0.063 -0.1 C 0.038 -0.1 0.017 -0.076 0.009 -0.04133 L 0 0 Z">
                                      <p:cBhvr>
                                        <p:cTn id="633" dur="2000" fill="hold"/>
                                        <p:tgtEl>
                                          <p:spTgt spid="6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4" restart="whenNotActive" nodeType="interactiveSeq" fill="hold">
                <p:stCondLst>
                  <p:cond evt="onClick">
                    <p:tgtEl>
                      <p:spTgt spid="614"/>
                    </p:tgtEl>
                  </p:cond>
                </p:stCondLst>
                <p:childTnLst>
                  <p:par>
                    <p:cTn id="635" fill="hold">
                      <p:stCondLst>
                        <p:cond evt="onClick">
                          <p:tgtEl>
                            <p:spTgt spid="614"/>
                          </p:tgtEl>
                        </p:cond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path" presetID="2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 -0.04267 0.026 -0.07733 0.058 -0.07733 L 0.192 -0.07733 C 0.224 -0.07733 0.25 -0.04267 0.25 0 L 0.25 0.176 C 0.25 0.21867 0.224 0.25467 0.192 0.25467 L 0.058 0.25467 C 0.026 0.25467 0 0.21867 0 0.176 Z">
                                      <p:cBhvr>
                                        <p:cTn id="638" dur="2000" fill="hold"/>
                                        <p:tgtEl>
                                          <p:spTgt spid="6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194000" cy="6629400"/>
          </a:xfrm>
          <a:prstGeom prst="rect">
            <a:avLst/>
          </a:prstGeom>
          <a:ln w="0">
            <a:noFill/>
          </a:ln>
        </p:spPr>
      </p:pic>
      <p:pic>
        <p:nvPicPr>
          <p:cNvPr id="689" name="" descr=""/>
          <p:cNvPicPr/>
          <p:nvPr/>
        </p:nvPicPr>
        <p:blipFill>
          <a:blip r:embed="rId2"/>
          <a:stretch/>
        </p:blipFill>
        <p:spPr>
          <a:xfrm>
            <a:off x="7095960" y="1981080"/>
            <a:ext cx="1057320" cy="1293840"/>
          </a:xfrm>
          <a:prstGeom prst="rect">
            <a:avLst/>
          </a:prstGeom>
          <a:ln w="0">
            <a:noFill/>
          </a:ln>
        </p:spPr>
      </p:pic>
      <p:pic>
        <p:nvPicPr>
          <p:cNvPr id="690" name="" descr=""/>
          <p:cNvPicPr/>
          <p:nvPr/>
        </p:nvPicPr>
        <p:blipFill>
          <a:blip r:embed="rId3"/>
          <a:stretch/>
        </p:blipFill>
        <p:spPr>
          <a:xfrm>
            <a:off x="4419720" y="1973160"/>
            <a:ext cx="1057320" cy="1303560"/>
          </a:xfrm>
          <a:prstGeom prst="rect">
            <a:avLst/>
          </a:prstGeom>
          <a:ln w="0">
            <a:noFill/>
          </a:ln>
        </p:spPr>
      </p:pic>
      <p:pic>
        <p:nvPicPr>
          <p:cNvPr id="691" name="" descr=""/>
          <p:cNvPicPr/>
          <p:nvPr/>
        </p:nvPicPr>
        <p:blipFill>
          <a:blip r:embed="rId4"/>
          <a:stretch/>
        </p:blipFill>
        <p:spPr>
          <a:xfrm>
            <a:off x="5791320" y="1979640"/>
            <a:ext cx="1057320" cy="1220760"/>
          </a:xfrm>
          <a:prstGeom prst="rect">
            <a:avLst/>
          </a:prstGeom>
          <a:ln w="0">
            <a:noFill/>
          </a:ln>
        </p:spPr>
      </p:pic>
      <p:pic>
        <p:nvPicPr>
          <p:cNvPr id="692" name="" descr=""/>
          <p:cNvPicPr/>
          <p:nvPr/>
        </p:nvPicPr>
        <p:blipFill>
          <a:blip r:embed="rId5"/>
          <a:stretch/>
        </p:blipFill>
        <p:spPr>
          <a:xfrm>
            <a:off x="4419720" y="3801960"/>
            <a:ext cx="1057320" cy="1303560"/>
          </a:xfrm>
          <a:prstGeom prst="rect">
            <a:avLst/>
          </a:prstGeom>
          <a:ln w="0">
            <a:noFill/>
          </a:ln>
        </p:spPr>
      </p:pic>
      <p:pic>
        <p:nvPicPr>
          <p:cNvPr id="693" name="" descr=""/>
          <p:cNvPicPr/>
          <p:nvPr/>
        </p:nvPicPr>
        <p:blipFill>
          <a:blip r:embed="rId6"/>
          <a:stretch/>
        </p:blipFill>
        <p:spPr>
          <a:xfrm>
            <a:off x="5800680" y="3809880"/>
            <a:ext cx="1057320" cy="1274760"/>
          </a:xfrm>
          <a:prstGeom prst="rect">
            <a:avLst/>
          </a:prstGeom>
          <a:ln w="0">
            <a:noFill/>
          </a:ln>
        </p:spPr>
      </p:pic>
      <p:pic>
        <p:nvPicPr>
          <p:cNvPr id="694" name="" descr=""/>
          <p:cNvPicPr/>
          <p:nvPr/>
        </p:nvPicPr>
        <p:blipFill>
          <a:blip r:embed="rId7"/>
          <a:stretch/>
        </p:blipFill>
        <p:spPr>
          <a:xfrm>
            <a:off x="7086600" y="3809880"/>
            <a:ext cx="1057320" cy="1206720"/>
          </a:xfrm>
          <a:prstGeom prst="rect">
            <a:avLst/>
          </a:prstGeom>
          <a:ln w="0">
            <a:noFill/>
          </a:ln>
        </p:spPr>
      </p:pic>
      <p:pic>
        <p:nvPicPr>
          <p:cNvPr id="695" name="" descr=""/>
          <p:cNvPicPr/>
          <p:nvPr/>
        </p:nvPicPr>
        <p:blipFill>
          <a:blip r:embed="rId8"/>
          <a:stretch/>
        </p:blipFill>
        <p:spPr>
          <a:xfrm>
            <a:off x="1371600" y="5029200"/>
            <a:ext cx="1058760" cy="1371600"/>
          </a:xfrm>
          <a:prstGeom prst="rect">
            <a:avLst/>
          </a:prstGeom>
          <a:ln w="0">
            <a:noFill/>
          </a:ln>
        </p:spPr>
      </p:pic>
      <p:sp>
        <p:nvSpPr>
          <p:cNvPr id="696" name=""/>
          <p:cNvSpPr/>
          <p:nvPr/>
        </p:nvSpPr>
        <p:spPr>
          <a:xfrm>
            <a:off x="4572000" y="563868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u ne t’intéresses à rien 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038480" y="0"/>
            <a:ext cx="411480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 Black"/>
              </a:rPr>
              <a:t>Diapositive N° 6 - Résultat</a:t>
            </a:r>
            <a:br>
              <a:rPr sz="2400"/>
            </a:br>
            <a:r>
              <a:rPr b="0" lang="en-US" sz="2400" spc="-1" strike="noStrike">
                <a:solidFill>
                  <a:srgbClr val="0033cc"/>
                </a:solidFill>
                <a:latin typeface="Arial Black"/>
              </a:rPr>
              <a:t>Score final = 1 point</a:t>
            </a:r>
            <a:endParaRPr b="0" lang="en-US" sz="2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98" name=""/>
          <p:cNvSpPr/>
          <p:nvPr/>
        </p:nvSpPr>
        <p:spPr>
          <a:xfrm>
            <a:off x="6248520" y="137160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Lucida Handwriting"/>
              </a:rPr>
              <a:t>Perd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6781680" y="1905120"/>
            <a:ext cx="1600200" cy="144756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5791320" y="6348240"/>
            <a:ext cx="1008000" cy="505080"/>
          </a:xfrm>
          <a:custGeom>
            <a:avLst/>
            <a:gdLst>
              <a:gd name="textAreaLeft" fmla="*/ 32760 w 1008000"/>
              <a:gd name="textAreaRight" fmla="*/ 975600 w 1008000"/>
              <a:gd name="textAreaTop" fmla="*/ 32760 h 505080"/>
              <a:gd name="textAreaBottom" fmla="*/ 472680 h 505080"/>
            </a:gdLst>
            <a:ahLst/>
            <a:rect l="textAreaLeft" t="textAreaTop" r="textAreaRight" b="textAreaBottom"/>
            <a:pathLst>
              <a:path w="43092" h="21600">
                <a:moveTo>
                  <a:pt x="0" y="0"/>
                </a:moveTo>
                <a:lnTo>
                  <a:pt x="43092" y="0"/>
                </a:lnTo>
                <a:lnTo>
                  <a:pt x="43092" y="21600"/>
                </a:lnTo>
                <a:lnTo>
                  <a:pt x="0" y="21600"/>
                </a:lnTo>
                <a:close/>
              </a:path>
              <a:path fill="lightenLess" w="43092" h="21600">
                <a:moveTo>
                  <a:pt x="0" y="0"/>
                </a:moveTo>
                <a:lnTo>
                  <a:pt x="43092" y="0"/>
                </a:lnTo>
                <a:lnTo>
                  <a:pt x="41692" y="1400"/>
                </a:lnTo>
                <a:lnTo>
                  <a:pt x="1400" y="1400"/>
                </a:lnTo>
                <a:close/>
              </a:path>
              <a:path fill="darken" w="43092" h="21600">
                <a:moveTo>
                  <a:pt x="43092" y="0"/>
                </a:moveTo>
                <a:lnTo>
                  <a:pt x="43092" y="21600"/>
                </a:lnTo>
                <a:lnTo>
                  <a:pt x="41692" y="20200"/>
                </a:lnTo>
                <a:lnTo>
                  <a:pt x="41692" y="1400"/>
                </a:lnTo>
                <a:close/>
              </a:path>
              <a:path fill="darkenLess" w="43092" h="21600">
                <a:moveTo>
                  <a:pt x="430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92" y="20200"/>
                </a:lnTo>
                <a:close/>
              </a:path>
              <a:path fill="lighten" w="430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92" h="21600">
                <a:moveTo>
                  <a:pt x="14540" y="3794"/>
                </a:moveTo>
                <a:lnTo>
                  <a:pt x="28553" y="10800"/>
                </a:lnTo>
                <a:lnTo>
                  <a:pt x="14540" y="17806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G Produc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9" dur="indefinite" restart="never" nodeType="tmRoot">
          <p:childTnLst>
            <p:seq>
              <p:cTn id="640" dur="indefinite" nodeType="mainSeq">
                <p:childTnLst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0 L -0.64723 0.35694 E">
                                      <p:cBhvr>
                                        <p:cTn id="644" dur="2000" fill="hold"/>
                                        <p:tgtEl>
                                          <p:spTgt spid="6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45" restart="whenNotActive" nodeType="interactiveSeq" fill="hold">
                <p:stCondLst>
                  <p:cond evt="onClick">
                    <p:tgtEl>
                      <p:spTgt spid="610"/>
                    </p:tgtEl>
                  </p:cond>
                </p:stCondLst>
                <p:childTnLst>
                  <p:par>
                    <p:cTn id="646" fill="hold">
                      <p:stCondLst>
                        <p:cond evt="onClick">
                          <p:tgtEl>
                            <p:spTgt spid="610"/>
                          </p:tgtEl>
                        </p:cond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46945E-018 2.59259E-006 C -0.00364 0.00162 -0.00746 0.00231 -0.01076 0.00462 C -0.01475 0.0074 -0.03385 0.03287 -0.03402 0.03333 C -0.03524 0.03564 -0.03593 0.03842 -0.0375 0.0405 C -0.03958 0.04328 -0.04236 0.0449 -0.04461 0.04745 C -0.05434 0.05925 -0.06232 0.07337 -0.07326 0.08333 C -0.07864 0.09398 -0.08507 0.10231 -0.09288 0.10949 C -0.09548 0.12037 -0.09826 0.12384 -0.10538 0.13078 C -0.11059 0.14467 -0.11892 0.15787 -0.12864 0.16666 C -0.13402 0.17777 -0.14114 0.18819 -0.14826 0.19745 C -0.15156 0.21134 -0.1585 0.22314 -0.16614 0.23333 C -0.17048 0.25138 -0.16406 0.22986 -0.17326 0.24513 C -0.17448 0.24699 -0.17395 0.25023 -0.175 0.25231 C -0.17691 0.25601 -0.17986 0.25833 -0.18211 0.2618 C -0.18767 0.2706 -0.18472 0.26921 -0.18941 0.28078 C -0.19357 0.29074 -0.19757 0.29907 -0.20364 0.30717 C -0.2059 0.31967 -0.21145 0.32685 -0.21614 0.33796 C -0.22239 0.35324 -0.22951 0.36689 -0.2375 0.38078 C -0.2427 0.39004 -0.24253 0.3956 -0.25 0.40231 C -0.25295 0.41342 -0.26961 0.43564 -0.27691 0.44513 C -0.28055 0.45486 -0.28437 0.4625 -0.28941 0.47129 C -0.29201 0.48518 -0.29513 0.48634 -0.30191 0.49745 C -0.30468 0.50185 -0.30902 0.5118 -0.30902 0.5118 C -0.31111 0.52361 -0.31597 0.52824 -0.32152 0.53796 C -0.3243 0.5537 -0.33125 0.56944 -0.3375 0.58333 C -0.33975 0.58819 -0.34323 0.59212 -0.34461 0.59745 C -0.34635 0.60462 -0.34826 0.6118 -0.35 0.61898 C -0.35069 0.62129 -0.35191 0.62615 -0.35191 0.62615 C -0.35121 0.64513 -0.35156 0.66435 -0.35 0.68333 C -0.34895 0.69513 -0.33715 0.70717 -0.33038 0.7118 C -0.32083 0.71828 -0.31198 0.72847 -0.30191 0.73333 C -0.28993 0.73912 -0.27708 0.74097 -0.26441 0.74282 C -0.23385 0.75254 -0.19114 0.74351 -0.16441 0.74282 C -0.15277 0.73912 -0.14166 0.73356 -0.13038 0.72847 C -0.12725 0.72708 -0.121 0.72592 -0.11788 0.72384 C -0.11475 0.72175 -0.11215 0.71851 -0.10902 0.71666 C -0.0993 0.71087 -0.08819 0.70856 -0.07864 0.70231 C -0.06128 0.69097 -0.07638 0.69814 -0.06441 0.69282 C -0.04739 0.67754 -0.02708 0.66921 -0.01076 0.65231 C 0.01268 0.628 0.03247 0.59699 0.05348 0.56898 C 0.05747 0.56365 0.05955 0.5537 0.0625 0.54745 C 0.06806 0.53564 0.0757 0.52592 0.07848 0.5118 C 0.08108 0.49907 0.08629 0.48287 0.09098 0.47129 C 0.10504 0.4368 0.09254 0.47523 0.10174 0.44513 C 0.10365 0.42986 0.1066 0.41666 0.11059 0.40231 C 0.11372 0.39143 0.11146 0.39282 0.11424 0.38078 C 0.12153 0.34814 0.11945 0.35439 0.12674 0.33564 C 0.12813 0.31296 0.13039 0.29791 0.13386 0.27615 C 0.13802 0.20763 0.14532 0.12916 0.1125 0.07129 C 0.10747 0.05231 0.11493 0.07708 0.10539 0.05717 C 0.09462 0.03449 0.10417 0.04074 0.09289 0.03564 C 0.09167 0.0324 0.09098 0.02893 0.08924 0.02615 C 0.08334 0.01666 0.07049 0.01689 0.0625 0.0118 C 0.05243 0.00532 0.06198 0.00856 0.05174 0.00462 C 0.04375 0.00162 0.04653 0.00115 0.04098 0.00462 E">
                                      <p:cBhvr>
                                        <p:cTn id="649" dur="2000" fill="hold"/>
                                        <p:tgtEl>
                                          <p:spTgt spid="6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0" restart="whenNotActive" nodeType="interactiveSeq" fill="hold">
                <p:stCondLst>
                  <p:cond evt="onClick">
                    <p:tgtEl>
                      <p:spTgt spid="611"/>
                    </p:tgtEl>
                  </p:cond>
                </p:stCondLst>
                <p:childTnLst>
                  <p:par>
                    <p:cTn id="651" fill="hold">
                      <p:stCondLst>
                        <p:cond evt="onClick">
                          <p:tgtEl>
                            <p:spTgt spid="611"/>
                          </p:tgtEl>
                        </p:cond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3.33333E-006 C -0.12986 0.0169 -0.26094 -0.00254 -0.39115 0.00718 C -0.39913 0.01135 -0.40608 0.01644 -0.41441 0.01898 C -0.42188 0.02593 -0.43212 0.03033 -0.44115 0.03334 C -0.45174 0.04746 -0.44115 0.03565 -0.45191 0.04283 C -0.46042 0.04861 -0.45903 0.05348 -0.46962 0.05718 C -0.47865 0.06528 -0.48281 0.06991 -0.48941 0.08102 C -0.4934 0.08773 -0.49549 0.0963 -0.5 0.10232 C -0.50694 0.11158 -0.50399 0.10672 -0.50903 0.11667 C -0.51163 0.12778 -0.51632 0.13843 -0.52153 0.14769 C -0.52396 0.16065 -0.52969 0.17686 -0.53576 0.18797 C -0.53733 0.19074 -0.53958 0.19236 -0.54115 0.19514 C -0.54375 0.19977 -0.54826 0.20949 -0.54826 0.20973 C -0.55156 0.22732 -0.54792 0.21065 -0.55365 0.22848 C -0.5566 0.23773 -0.55625 0.24607 -0.56076 0.25463 C -0.56267 0.275 -0.56441 0.29445 -0.56788 0.31436 C -0.57222 0.3676 -0.57552 0.42107 -0.58038 0.47385 C -0.58333 0.50695 -0.58299 0.54375 -0.58941 0.57616 C -0.59201 0.6125 -0.59306 0.61574 -0.58941 0.66436 C -0.58906 0.66783 -0.58142 0.67662 -0.58038 0.67848 C -0.5658 0.70209 -0.54253 0.71088 -0.51962 0.71181 C -0.48281 0.71343 -0.44583 0.71505 -0.40903 0.71667 C -0.39427 0.72037 -0.37934 0.72199 -0.36441 0.72385 C -0.29688 0.75301 -0.22031 0.74584 -0.15208 0.7213 C -0.14792 0.71783 -0.14323 0.71574 -0.13941 0.71181 C -0.12604 0.69838 -0.13785 0.70486 -0.12708 0.7 C -0.12448 0.69676 -0.1224 0.69329 -0.11979 0.69051 C -0.11632 0.68704 -0.10903 0.68102 -0.10903 0.68125 C -0.10608 0.67477 -0.10365 0.6676 -0.10017 0.66181 C -0.09809 0.6588 -0.09497 0.65741 -0.09288 0.65463 C -0.08906 0.64954 -0.08559 0.64375 -0.08212 0.63797 C -0.07604 0.62801 -0.07309 0.61875 -0.06615 0.60949 C -0.06354 0.60093 -0.06233 0.59144 -0.05903 0.58334 C -0.05729 0.57894 -0.05382 0.5757 -0.05191 0.5713 C -0.04392 0.55348 -0.05174 0.56598 -0.04653 0.55 C -0.04566 0.54746 -0.04392 0.54537 -0.04288 0.54283 C -0.04149 0.53912 -0.04063 0.53496 -0.03941 0.53102 C -0.03646 0.50834 -0.02882 0.48889 -0.025 0.46667 C -0.01944 0.43473 -0.01337 0.40301 -0.00712 0.3713 C -0.0066 0.36505 -0.00625 0.35857 -0.00538 0.35232 C -0.0033 0.33635 0.00174 0.30463 0.00174 0.30486 C 0.0026 0.20834 0.00712 0.11436 0.00712 0.01898 E">
                                      <p:cBhvr>
                                        <p:cTn id="654" dur="3000" fill="hold"/>
                                        <p:tgtEl>
                                          <p:spTgt spid="6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5" restart="whenNotActive" nodeType="interactiveSeq" fill="hold">
                <p:stCondLst>
                  <p:cond evt="onClick">
                    <p:tgtEl>
                      <p:spTgt spid="612"/>
                    </p:tgtEl>
                  </p:cond>
                </p:stCondLst>
                <p:childTnLst>
                  <p:par>
                    <p:cTn id="656" fill="hold">
                      <p:stCondLst>
                        <p:cond evt="onClick">
                          <p:tgtEl>
                            <p:spTgt spid="612"/>
                          </p:tgtEl>
                        </p:cond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path" presetID="28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17 0 0.031 0.01867 0.031 0.04133 C 0.031 0.06533 0.017 0.084 0 0.084 C -0.017 0.084 -0.031 0.10267 -0.031 0.12533 C -0.031 0.148 -0.017 0.16667 0 0.16667 C 0.017 0.16667 0.031 0.18533 0.031 0.208 C 0.031 0.23067 0.017 0.24933 0 0.24933 C -0.017 0.24933 -0.031 0.268 -0.031 0.292 C -0.031 0.31467 -0.017 0.33333 0 0.33333 C 0.017 0.33333 0.031 0.31467 0.031 0.292 C 0.031 0.268 0.017 0.24933 0 0.24933 C -0.017 0.24933 -0.031 0.23067 -0.031 0.208 C -0.031 0.18533 -0.017 0.16667 0 0.16667 C 0.017 0.16667 0.031 0.148 0.031 0.12533 C 0.031 0.10267 0.017 0.084 0 0.084 C -0.017 0.084 -0.031 0.06533 -0.031 0.04133 C -0.031 0.01867 -0.017 0 0 0 Z">
                                      <p:cBhvr>
                                        <p:cTn id="659" dur="2000" fill="hold"/>
                                        <p:tgtEl>
                                          <p:spTgt spid="6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0" restart="whenNotActive" nodeType="interactiveSeq" fill="hold">
                <p:stCondLst>
                  <p:cond evt="onClick">
                    <p:tgtEl>
                      <p:spTgt spid="613"/>
                    </p:tgtEl>
                  </p:cond>
                </p:stCondLst>
                <p:childTnLst>
                  <p:par>
                    <p:cTn id="661" fill="hold">
                      <p:stCondLst>
                        <p:cond evt="onClick">
                          <p:tgtEl>
                            <p:spTgt spid="613"/>
                          </p:tgtEl>
                        </p:cond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path" presetID="3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17 -0.08667 C 0.034 -0.15733 0.061 -0.18533 0.1 -0.18533 C 0.12 -0.18533 0.138 -0.17467 0.152 -0.15733 C 0.162 -0.14533 0.174 -0.13867 0.187 -0.13867 C 0.212 -0.13867 0.233 -0.16267 0.241 -0.19733 L 0.25 -0.23867 L 0.232 -0.15067 C 0.215 -0.08133 0.188 -0.05333 0.15 -0.05333 C 0.13 -0.05333 0.111 -0.064 0.096 -0.08267 C 0.087 -0.09333 0.075 -0.1 0.063 -0.1 C 0.038 -0.1 0.017 -0.076 0.009 -0.04133 L 0 0 Z">
                                      <p:cBhvr>
                                        <p:cTn id="664" dur="2000" fill="hold"/>
                                        <p:tgtEl>
                                          <p:spTgt spid="6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5" restart="whenNotActive" nodeType="interactiveSeq" fill="hold">
                <p:stCondLst>
                  <p:cond evt="onClick">
                    <p:tgtEl>
                      <p:spTgt spid="614"/>
                    </p:tgtEl>
                  </p:cond>
                </p:stCondLst>
                <p:childTnLst>
                  <p:par>
                    <p:cTn id="666" fill="hold">
                      <p:stCondLst>
                        <p:cond evt="onClick">
                          <p:tgtEl>
                            <p:spTgt spid="614"/>
                          </p:tgtEl>
                        </p:cond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path" presetID="2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 -0.04267 0.026 -0.07733 0.058 -0.07733 L 0.192 -0.07733 C 0.224 -0.07733 0.25 -0.04267 0.25 0 L 0.25 0.176 C 0.25 0.21867 0.224 0.25467 0.192 0.25467 L 0.058 0.25467 C 0.026 0.25467 0 0.21867 0 0.176 Z">
                                      <p:cBhvr>
                                        <p:cTn id="669" dur="2000" fill="hold"/>
                                        <p:tgtEl>
                                          <p:spTgt spid="6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194000" cy="6629400"/>
          </a:xfrm>
          <a:prstGeom prst="rect">
            <a:avLst/>
          </a:prstGeom>
          <a:ln w="0">
            <a:noFill/>
          </a:ln>
        </p:spPr>
      </p:pic>
      <p:pic>
        <p:nvPicPr>
          <p:cNvPr id="702" name="" descr=""/>
          <p:cNvPicPr/>
          <p:nvPr/>
        </p:nvPicPr>
        <p:blipFill>
          <a:blip r:embed="rId2"/>
          <a:stretch/>
        </p:blipFill>
        <p:spPr>
          <a:xfrm>
            <a:off x="7095960" y="1981080"/>
            <a:ext cx="1057320" cy="1293840"/>
          </a:xfrm>
          <a:prstGeom prst="rect">
            <a:avLst/>
          </a:prstGeom>
          <a:ln w="0">
            <a:noFill/>
          </a:ln>
        </p:spPr>
      </p:pic>
      <p:pic>
        <p:nvPicPr>
          <p:cNvPr id="703" name="" descr=""/>
          <p:cNvPicPr/>
          <p:nvPr/>
        </p:nvPicPr>
        <p:blipFill>
          <a:blip r:embed="rId3"/>
          <a:stretch/>
        </p:blipFill>
        <p:spPr>
          <a:xfrm>
            <a:off x="4419720" y="1973160"/>
            <a:ext cx="1057320" cy="1303560"/>
          </a:xfrm>
          <a:prstGeom prst="rect">
            <a:avLst/>
          </a:prstGeom>
          <a:ln w="0">
            <a:noFill/>
          </a:ln>
        </p:spPr>
      </p:pic>
      <p:pic>
        <p:nvPicPr>
          <p:cNvPr id="704" name="" descr=""/>
          <p:cNvPicPr/>
          <p:nvPr/>
        </p:nvPicPr>
        <p:blipFill>
          <a:blip r:embed="rId4"/>
          <a:stretch/>
        </p:blipFill>
        <p:spPr>
          <a:xfrm>
            <a:off x="5791320" y="1979640"/>
            <a:ext cx="1057320" cy="1220760"/>
          </a:xfrm>
          <a:prstGeom prst="rect">
            <a:avLst/>
          </a:prstGeom>
          <a:ln w="0">
            <a:noFill/>
          </a:ln>
        </p:spPr>
      </p:pic>
      <p:pic>
        <p:nvPicPr>
          <p:cNvPr id="705" name="" descr=""/>
          <p:cNvPicPr/>
          <p:nvPr/>
        </p:nvPicPr>
        <p:blipFill>
          <a:blip r:embed="rId5"/>
          <a:stretch/>
        </p:blipFill>
        <p:spPr>
          <a:xfrm>
            <a:off x="4419720" y="3801960"/>
            <a:ext cx="1057320" cy="1303560"/>
          </a:xfrm>
          <a:prstGeom prst="rect">
            <a:avLst/>
          </a:prstGeom>
          <a:ln w="0">
            <a:noFill/>
          </a:ln>
        </p:spPr>
      </p:pic>
      <p:pic>
        <p:nvPicPr>
          <p:cNvPr id="706" name="" descr=""/>
          <p:cNvPicPr/>
          <p:nvPr/>
        </p:nvPicPr>
        <p:blipFill>
          <a:blip r:embed="rId6"/>
          <a:stretch/>
        </p:blipFill>
        <p:spPr>
          <a:xfrm>
            <a:off x="5800680" y="3809880"/>
            <a:ext cx="1057320" cy="1274760"/>
          </a:xfrm>
          <a:prstGeom prst="rect">
            <a:avLst/>
          </a:prstGeom>
          <a:ln w="0">
            <a:noFill/>
          </a:ln>
        </p:spPr>
      </p:pic>
      <p:pic>
        <p:nvPicPr>
          <p:cNvPr id="707" name="" descr=""/>
          <p:cNvPicPr/>
          <p:nvPr/>
        </p:nvPicPr>
        <p:blipFill>
          <a:blip r:embed="rId7"/>
          <a:stretch/>
        </p:blipFill>
        <p:spPr>
          <a:xfrm>
            <a:off x="7086600" y="3809880"/>
            <a:ext cx="1057320" cy="1206720"/>
          </a:xfrm>
          <a:prstGeom prst="rect">
            <a:avLst/>
          </a:prstGeom>
          <a:ln w="0">
            <a:noFill/>
          </a:ln>
        </p:spPr>
      </p:pic>
      <p:pic>
        <p:nvPicPr>
          <p:cNvPr id="708" name="" descr=""/>
          <p:cNvPicPr/>
          <p:nvPr/>
        </p:nvPicPr>
        <p:blipFill>
          <a:blip r:embed="rId8"/>
          <a:stretch/>
        </p:blipFill>
        <p:spPr>
          <a:xfrm>
            <a:off x="1371600" y="5029200"/>
            <a:ext cx="1058760" cy="1371600"/>
          </a:xfrm>
          <a:prstGeom prst="rect">
            <a:avLst/>
          </a:prstGeom>
          <a:ln w="0">
            <a:noFill/>
          </a:ln>
        </p:spPr>
      </p:pic>
      <p:sp>
        <p:nvSpPr>
          <p:cNvPr id="709" name=""/>
          <p:cNvSpPr/>
          <p:nvPr/>
        </p:nvSpPr>
        <p:spPr>
          <a:xfrm>
            <a:off x="4572000" y="5638680"/>
            <a:ext cx="358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ela ne fait qu’un tiers de bonnes réponses 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038480" y="0"/>
            <a:ext cx="411480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 Black"/>
              </a:rPr>
              <a:t>Diapositive N° 6 - Résultat</a:t>
            </a:r>
            <a:br>
              <a:rPr sz="2400"/>
            </a:br>
            <a:r>
              <a:rPr b="0" lang="en-US" sz="2400" spc="-1" strike="noStrike">
                <a:solidFill>
                  <a:srgbClr val="0033cc"/>
                </a:solidFill>
                <a:latin typeface="Arial Black"/>
              </a:rPr>
              <a:t>Score final = 2 points</a:t>
            </a:r>
            <a:endParaRPr b="0" lang="en-US" sz="2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11" name=""/>
          <p:cNvSpPr/>
          <p:nvPr/>
        </p:nvSpPr>
        <p:spPr>
          <a:xfrm>
            <a:off x="6248520" y="137160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Lucida Handwriting"/>
              </a:rPr>
              <a:t>GAG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6781680" y="1905120"/>
            <a:ext cx="1600200" cy="144756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5791320" y="6348240"/>
            <a:ext cx="1008000" cy="505080"/>
          </a:xfrm>
          <a:custGeom>
            <a:avLst/>
            <a:gdLst>
              <a:gd name="textAreaLeft" fmla="*/ 32760 w 1008000"/>
              <a:gd name="textAreaRight" fmla="*/ 975600 w 1008000"/>
              <a:gd name="textAreaTop" fmla="*/ 32760 h 505080"/>
              <a:gd name="textAreaBottom" fmla="*/ 472680 h 505080"/>
            </a:gdLst>
            <a:ahLst/>
            <a:rect l="textAreaLeft" t="textAreaTop" r="textAreaRight" b="textAreaBottom"/>
            <a:pathLst>
              <a:path w="43092" h="21600">
                <a:moveTo>
                  <a:pt x="0" y="0"/>
                </a:moveTo>
                <a:lnTo>
                  <a:pt x="43092" y="0"/>
                </a:lnTo>
                <a:lnTo>
                  <a:pt x="43092" y="21600"/>
                </a:lnTo>
                <a:lnTo>
                  <a:pt x="0" y="21600"/>
                </a:lnTo>
                <a:close/>
              </a:path>
              <a:path fill="lightenLess" w="43092" h="21600">
                <a:moveTo>
                  <a:pt x="0" y="0"/>
                </a:moveTo>
                <a:lnTo>
                  <a:pt x="43092" y="0"/>
                </a:lnTo>
                <a:lnTo>
                  <a:pt x="41692" y="1400"/>
                </a:lnTo>
                <a:lnTo>
                  <a:pt x="1400" y="1400"/>
                </a:lnTo>
                <a:close/>
              </a:path>
              <a:path fill="darken" w="43092" h="21600">
                <a:moveTo>
                  <a:pt x="43092" y="0"/>
                </a:moveTo>
                <a:lnTo>
                  <a:pt x="43092" y="21600"/>
                </a:lnTo>
                <a:lnTo>
                  <a:pt x="41692" y="20200"/>
                </a:lnTo>
                <a:lnTo>
                  <a:pt x="41692" y="1400"/>
                </a:lnTo>
                <a:close/>
              </a:path>
              <a:path fill="darkenLess" w="43092" h="21600">
                <a:moveTo>
                  <a:pt x="430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92" y="20200"/>
                </a:lnTo>
                <a:close/>
              </a:path>
              <a:path fill="lighten" w="430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92" h="21600">
                <a:moveTo>
                  <a:pt x="14540" y="3794"/>
                </a:moveTo>
                <a:lnTo>
                  <a:pt x="28553" y="10800"/>
                </a:lnTo>
                <a:lnTo>
                  <a:pt x="14540" y="17806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G Produc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0" dur="indefinite" restart="never" nodeType="tmRoot">
          <p:childTnLst>
            <p:seq>
              <p:cTn id="671" dur="indefinite" nodeType="mainSeq">
                <p:childTnLst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0 L -0.64723 0.35694 E">
                                      <p:cBhvr>
                                        <p:cTn id="675" dur="2000" fill="hold"/>
                                        <p:tgtEl>
                                          <p:spTgt spid="6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6" restart="whenNotActive" nodeType="interactiveSeq" fill="hold">
                <p:stCondLst>
                  <p:cond evt="onClick">
                    <p:tgtEl>
                      <p:spTgt spid="610"/>
                    </p:tgtEl>
                  </p:cond>
                </p:stCondLst>
                <p:childTnLst>
                  <p:par>
                    <p:cTn id="677" fill="hold">
                      <p:stCondLst>
                        <p:cond evt="onClick">
                          <p:tgtEl>
                            <p:spTgt spid="610"/>
                          </p:tgtEl>
                        </p:cond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46945E-018 2.59259E-006 C -0.00364 0.00162 -0.00746 0.00231 -0.01076 0.00462 C -0.01475 0.0074 -0.03385 0.03287 -0.03402 0.03333 C -0.03524 0.03564 -0.03593 0.03842 -0.0375 0.0405 C -0.03958 0.04328 -0.04236 0.0449 -0.04461 0.04745 C -0.05434 0.05925 -0.06232 0.07337 -0.07326 0.08333 C -0.07864 0.09398 -0.08507 0.10231 -0.09288 0.10949 C -0.09548 0.12037 -0.09826 0.12384 -0.10538 0.13078 C -0.11059 0.14467 -0.11892 0.15787 -0.12864 0.16666 C -0.13402 0.17777 -0.14114 0.18819 -0.14826 0.19745 C -0.15156 0.21134 -0.1585 0.22314 -0.16614 0.23333 C -0.17048 0.25138 -0.16406 0.22986 -0.17326 0.24513 C -0.17448 0.24699 -0.17395 0.25023 -0.175 0.25231 C -0.17691 0.25601 -0.17986 0.25833 -0.18211 0.2618 C -0.18767 0.2706 -0.18472 0.26921 -0.18941 0.28078 C -0.19357 0.29074 -0.19757 0.29907 -0.20364 0.30717 C -0.2059 0.31967 -0.21145 0.32685 -0.21614 0.33796 C -0.22239 0.35324 -0.22951 0.36689 -0.2375 0.38078 C -0.2427 0.39004 -0.24253 0.3956 -0.25 0.40231 C -0.25295 0.41342 -0.26961 0.43564 -0.27691 0.44513 C -0.28055 0.45486 -0.28437 0.4625 -0.28941 0.47129 C -0.29201 0.48518 -0.29513 0.48634 -0.30191 0.49745 C -0.30468 0.50185 -0.30902 0.5118 -0.30902 0.5118 C -0.31111 0.52361 -0.31597 0.52824 -0.32152 0.53796 C -0.3243 0.5537 -0.33125 0.56944 -0.3375 0.58333 C -0.33975 0.58819 -0.34323 0.59212 -0.34461 0.59745 C -0.34635 0.60462 -0.34826 0.6118 -0.35 0.61898 C -0.35069 0.62129 -0.35191 0.62615 -0.35191 0.62615 C -0.35121 0.64513 -0.35156 0.66435 -0.35 0.68333 C -0.34895 0.69513 -0.33715 0.70717 -0.33038 0.7118 C -0.32083 0.71828 -0.31198 0.72847 -0.30191 0.73333 C -0.28993 0.73912 -0.27708 0.74097 -0.26441 0.74282 C -0.23385 0.75254 -0.19114 0.74351 -0.16441 0.74282 C -0.15277 0.73912 -0.14166 0.73356 -0.13038 0.72847 C -0.12725 0.72708 -0.121 0.72592 -0.11788 0.72384 C -0.11475 0.72175 -0.11215 0.71851 -0.10902 0.71666 C -0.0993 0.71087 -0.08819 0.70856 -0.07864 0.70231 C -0.06128 0.69097 -0.07638 0.69814 -0.06441 0.69282 C -0.04739 0.67754 -0.02708 0.66921 -0.01076 0.65231 C 0.01268 0.628 0.03247 0.59699 0.05348 0.56898 C 0.05747 0.56365 0.05955 0.5537 0.0625 0.54745 C 0.06806 0.53564 0.0757 0.52592 0.07848 0.5118 C 0.08108 0.49907 0.08629 0.48287 0.09098 0.47129 C 0.10504 0.4368 0.09254 0.47523 0.10174 0.44513 C 0.10365 0.42986 0.1066 0.41666 0.11059 0.40231 C 0.11372 0.39143 0.11146 0.39282 0.11424 0.38078 C 0.12153 0.34814 0.11945 0.35439 0.12674 0.33564 C 0.12813 0.31296 0.13039 0.29791 0.13386 0.27615 C 0.13802 0.20763 0.14532 0.12916 0.1125 0.07129 C 0.10747 0.05231 0.11493 0.07708 0.10539 0.05717 C 0.09462 0.03449 0.10417 0.04074 0.09289 0.03564 C 0.09167 0.0324 0.09098 0.02893 0.08924 0.02615 C 0.08334 0.01666 0.07049 0.01689 0.0625 0.0118 C 0.05243 0.00532 0.06198 0.00856 0.05174 0.00462 C 0.04375 0.00162 0.04653 0.00115 0.04098 0.00462 E">
                                      <p:cBhvr>
                                        <p:cTn id="680" dur="2000" fill="hold"/>
                                        <p:tgtEl>
                                          <p:spTgt spid="6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1" restart="whenNotActive" nodeType="interactiveSeq" fill="hold">
                <p:stCondLst>
                  <p:cond evt="onClick">
                    <p:tgtEl>
                      <p:spTgt spid="611"/>
                    </p:tgtEl>
                  </p:cond>
                </p:stCondLst>
                <p:childTnLst>
                  <p:par>
                    <p:cTn id="682" fill="hold">
                      <p:stCondLst>
                        <p:cond evt="onClick">
                          <p:tgtEl>
                            <p:spTgt spid="611"/>
                          </p:tgtEl>
                        </p:cond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3.33333E-006 C -0.12986 0.0169 -0.26094 -0.00254 -0.39115 0.00718 C -0.39913 0.01135 -0.40608 0.01644 -0.41441 0.01898 C -0.42188 0.02593 -0.43212 0.03033 -0.44115 0.03334 C -0.45174 0.04746 -0.44115 0.03565 -0.45191 0.04283 C -0.46042 0.04861 -0.45903 0.05348 -0.46962 0.05718 C -0.47865 0.06528 -0.48281 0.06991 -0.48941 0.08102 C -0.4934 0.08773 -0.49549 0.0963 -0.5 0.10232 C -0.50694 0.11158 -0.50399 0.10672 -0.50903 0.11667 C -0.51163 0.12778 -0.51632 0.13843 -0.52153 0.14769 C -0.52396 0.16065 -0.52969 0.17686 -0.53576 0.18797 C -0.53733 0.19074 -0.53958 0.19236 -0.54115 0.19514 C -0.54375 0.19977 -0.54826 0.20949 -0.54826 0.20973 C -0.55156 0.22732 -0.54792 0.21065 -0.55365 0.22848 C -0.5566 0.23773 -0.55625 0.24607 -0.56076 0.25463 C -0.56267 0.275 -0.56441 0.29445 -0.56788 0.31436 C -0.57222 0.3676 -0.57552 0.42107 -0.58038 0.47385 C -0.58333 0.50695 -0.58299 0.54375 -0.58941 0.57616 C -0.59201 0.6125 -0.59306 0.61574 -0.58941 0.66436 C -0.58906 0.66783 -0.58142 0.67662 -0.58038 0.67848 C -0.5658 0.70209 -0.54253 0.71088 -0.51962 0.71181 C -0.48281 0.71343 -0.44583 0.71505 -0.40903 0.71667 C -0.39427 0.72037 -0.37934 0.72199 -0.36441 0.72385 C -0.29688 0.75301 -0.22031 0.74584 -0.15208 0.7213 C -0.14792 0.71783 -0.14323 0.71574 -0.13941 0.71181 C -0.12604 0.69838 -0.13785 0.70486 -0.12708 0.7 C -0.12448 0.69676 -0.1224 0.69329 -0.11979 0.69051 C -0.11632 0.68704 -0.10903 0.68102 -0.10903 0.68125 C -0.10608 0.67477 -0.10365 0.6676 -0.10017 0.66181 C -0.09809 0.6588 -0.09497 0.65741 -0.09288 0.65463 C -0.08906 0.64954 -0.08559 0.64375 -0.08212 0.63797 C -0.07604 0.62801 -0.07309 0.61875 -0.06615 0.60949 C -0.06354 0.60093 -0.06233 0.59144 -0.05903 0.58334 C -0.05729 0.57894 -0.05382 0.5757 -0.05191 0.5713 C -0.04392 0.55348 -0.05174 0.56598 -0.04653 0.55 C -0.04566 0.54746 -0.04392 0.54537 -0.04288 0.54283 C -0.04149 0.53912 -0.04063 0.53496 -0.03941 0.53102 C -0.03646 0.50834 -0.02882 0.48889 -0.025 0.46667 C -0.01944 0.43473 -0.01337 0.40301 -0.00712 0.3713 C -0.0066 0.36505 -0.00625 0.35857 -0.00538 0.35232 C -0.0033 0.33635 0.00174 0.30463 0.00174 0.30486 C 0.0026 0.20834 0.00712 0.11436 0.00712 0.01898 E">
                                      <p:cBhvr>
                                        <p:cTn id="685" dur="3000" fill="hold"/>
                                        <p:tgtEl>
                                          <p:spTgt spid="6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6" restart="whenNotActive" nodeType="interactiveSeq" fill="hold">
                <p:stCondLst>
                  <p:cond evt="onClick">
                    <p:tgtEl>
                      <p:spTgt spid="612"/>
                    </p:tgtEl>
                  </p:cond>
                </p:stCondLst>
                <p:childTnLst>
                  <p:par>
                    <p:cTn id="687" fill="hold">
                      <p:stCondLst>
                        <p:cond evt="onClick">
                          <p:tgtEl>
                            <p:spTgt spid="612"/>
                          </p:tgtEl>
                        </p:cond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path" presetID="28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17 0 0.031 0.01867 0.031 0.04133 C 0.031 0.06533 0.017 0.084 0 0.084 C -0.017 0.084 -0.031 0.10267 -0.031 0.12533 C -0.031 0.148 -0.017 0.16667 0 0.16667 C 0.017 0.16667 0.031 0.18533 0.031 0.208 C 0.031 0.23067 0.017 0.24933 0 0.24933 C -0.017 0.24933 -0.031 0.268 -0.031 0.292 C -0.031 0.31467 -0.017 0.33333 0 0.33333 C 0.017 0.33333 0.031 0.31467 0.031 0.292 C 0.031 0.268 0.017 0.24933 0 0.24933 C -0.017 0.24933 -0.031 0.23067 -0.031 0.208 C -0.031 0.18533 -0.017 0.16667 0 0.16667 C 0.017 0.16667 0.031 0.148 0.031 0.12533 C 0.031 0.10267 0.017 0.084 0 0.084 C -0.017 0.084 -0.031 0.06533 -0.031 0.04133 C -0.031 0.01867 -0.017 0 0 0 Z">
                                      <p:cBhvr>
                                        <p:cTn id="690" dur="2000" fill="hold"/>
                                        <p:tgtEl>
                                          <p:spTgt spid="6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1" restart="whenNotActive" nodeType="interactiveSeq" fill="hold">
                <p:stCondLst>
                  <p:cond evt="onClick">
                    <p:tgtEl>
                      <p:spTgt spid="613"/>
                    </p:tgtEl>
                  </p:cond>
                </p:stCondLst>
                <p:childTnLst>
                  <p:par>
                    <p:cTn id="692" fill="hold">
                      <p:stCondLst>
                        <p:cond evt="onClick">
                          <p:tgtEl>
                            <p:spTgt spid="613"/>
                          </p:tgtEl>
                        </p:cond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path" presetID="3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17 -0.08667 C 0.034 -0.15733 0.061 -0.18533 0.1 -0.18533 C 0.12 -0.18533 0.138 -0.17467 0.152 -0.15733 C 0.162 -0.14533 0.174 -0.13867 0.187 -0.13867 C 0.212 -0.13867 0.233 -0.16267 0.241 -0.19733 L 0.25 -0.23867 L 0.232 -0.15067 C 0.215 -0.08133 0.188 -0.05333 0.15 -0.05333 C 0.13 -0.05333 0.111 -0.064 0.096 -0.08267 C 0.087 -0.09333 0.075 -0.1 0.063 -0.1 C 0.038 -0.1 0.017 -0.076 0.009 -0.04133 L 0 0 Z">
                                      <p:cBhvr>
                                        <p:cTn id="695" dur="2000" fill="hold"/>
                                        <p:tgtEl>
                                          <p:spTgt spid="6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6" restart="whenNotActive" nodeType="interactiveSeq" fill="hold">
                <p:stCondLst>
                  <p:cond evt="onClick">
                    <p:tgtEl>
                      <p:spTgt spid="614"/>
                    </p:tgtEl>
                  </p:cond>
                </p:stCondLst>
                <p:childTnLst>
                  <p:par>
                    <p:cTn id="697" fill="hold">
                      <p:stCondLst>
                        <p:cond evt="onClick">
                          <p:tgtEl>
                            <p:spTgt spid="614"/>
                          </p:tgtEl>
                        </p:cond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path" presetID="2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 -0.04267 0.026 -0.07733 0.058 -0.07733 L 0.192 -0.07733 C 0.224 -0.07733 0.25 -0.04267 0.25 0 L 0.25 0.176 C 0.25 0.21867 0.224 0.25467 0.192 0.25467 L 0.058 0.25467 C 0.026 0.25467 0 0.21867 0 0.176 Z">
                                      <p:cBhvr>
                                        <p:cTn id="700" dur="2000" fill="hold"/>
                                        <p:tgtEl>
                                          <p:spTgt spid="6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194000" cy="6629400"/>
          </a:xfrm>
          <a:prstGeom prst="rect">
            <a:avLst/>
          </a:prstGeom>
          <a:ln w="0">
            <a:noFill/>
          </a:ln>
        </p:spPr>
      </p:pic>
      <p:pic>
        <p:nvPicPr>
          <p:cNvPr id="715" name="" descr=""/>
          <p:cNvPicPr/>
          <p:nvPr/>
        </p:nvPicPr>
        <p:blipFill>
          <a:blip r:embed="rId2"/>
          <a:stretch/>
        </p:blipFill>
        <p:spPr>
          <a:xfrm>
            <a:off x="7095960" y="1981080"/>
            <a:ext cx="1057320" cy="1293840"/>
          </a:xfrm>
          <a:prstGeom prst="rect">
            <a:avLst/>
          </a:prstGeom>
          <a:ln w="0">
            <a:noFill/>
          </a:ln>
        </p:spPr>
      </p:pic>
      <p:pic>
        <p:nvPicPr>
          <p:cNvPr id="716" name="" descr=""/>
          <p:cNvPicPr/>
          <p:nvPr/>
        </p:nvPicPr>
        <p:blipFill>
          <a:blip r:embed="rId3"/>
          <a:stretch/>
        </p:blipFill>
        <p:spPr>
          <a:xfrm>
            <a:off x="4419720" y="1973160"/>
            <a:ext cx="1057320" cy="1303560"/>
          </a:xfrm>
          <a:prstGeom prst="rect">
            <a:avLst/>
          </a:prstGeom>
          <a:ln w="0">
            <a:noFill/>
          </a:ln>
        </p:spPr>
      </p:pic>
      <p:pic>
        <p:nvPicPr>
          <p:cNvPr id="717" name="" descr=""/>
          <p:cNvPicPr/>
          <p:nvPr/>
        </p:nvPicPr>
        <p:blipFill>
          <a:blip r:embed="rId4"/>
          <a:stretch/>
        </p:blipFill>
        <p:spPr>
          <a:xfrm>
            <a:off x="5791320" y="1979640"/>
            <a:ext cx="1057320" cy="1220760"/>
          </a:xfrm>
          <a:prstGeom prst="rect">
            <a:avLst/>
          </a:prstGeom>
          <a:ln w="0">
            <a:noFill/>
          </a:ln>
        </p:spPr>
      </p:pic>
      <p:pic>
        <p:nvPicPr>
          <p:cNvPr id="718" name="" descr=""/>
          <p:cNvPicPr/>
          <p:nvPr/>
        </p:nvPicPr>
        <p:blipFill>
          <a:blip r:embed="rId5"/>
          <a:stretch/>
        </p:blipFill>
        <p:spPr>
          <a:xfrm>
            <a:off x="4419720" y="3801960"/>
            <a:ext cx="1057320" cy="1303560"/>
          </a:xfrm>
          <a:prstGeom prst="rect">
            <a:avLst/>
          </a:prstGeom>
          <a:ln w="0">
            <a:noFill/>
          </a:ln>
        </p:spPr>
      </p:pic>
      <p:pic>
        <p:nvPicPr>
          <p:cNvPr id="719" name="" descr=""/>
          <p:cNvPicPr/>
          <p:nvPr/>
        </p:nvPicPr>
        <p:blipFill>
          <a:blip r:embed="rId6"/>
          <a:stretch/>
        </p:blipFill>
        <p:spPr>
          <a:xfrm>
            <a:off x="5800680" y="3809880"/>
            <a:ext cx="1057320" cy="1274760"/>
          </a:xfrm>
          <a:prstGeom prst="rect">
            <a:avLst/>
          </a:prstGeom>
          <a:ln w="0">
            <a:noFill/>
          </a:ln>
        </p:spPr>
      </p:pic>
      <p:pic>
        <p:nvPicPr>
          <p:cNvPr id="720" name="" descr=""/>
          <p:cNvPicPr/>
          <p:nvPr/>
        </p:nvPicPr>
        <p:blipFill>
          <a:blip r:embed="rId7"/>
          <a:stretch/>
        </p:blipFill>
        <p:spPr>
          <a:xfrm>
            <a:off x="7086600" y="3809880"/>
            <a:ext cx="1057320" cy="1206720"/>
          </a:xfrm>
          <a:prstGeom prst="rect">
            <a:avLst/>
          </a:prstGeom>
          <a:ln w="0">
            <a:noFill/>
          </a:ln>
        </p:spPr>
      </p:pic>
      <p:pic>
        <p:nvPicPr>
          <p:cNvPr id="721" name="" descr=""/>
          <p:cNvPicPr/>
          <p:nvPr/>
        </p:nvPicPr>
        <p:blipFill>
          <a:blip r:embed="rId8"/>
          <a:stretch/>
        </p:blipFill>
        <p:spPr>
          <a:xfrm>
            <a:off x="1371600" y="5029200"/>
            <a:ext cx="1058760" cy="1371600"/>
          </a:xfrm>
          <a:prstGeom prst="rect">
            <a:avLst/>
          </a:prstGeom>
          <a:ln w="0">
            <a:noFill/>
          </a:ln>
        </p:spPr>
      </p:pic>
      <p:sp>
        <p:nvSpPr>
          <p:cNvPr id="722" name=""/>
          <p:cNvSpPr/>
          <p:nvPr/>
        </p:nvSpPr>
        <p:spPr>
          <a:xfrm>
            <a:off x="4572000" y="563868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u n’es pas très observatrice 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038480" y="0"/>
            <a:ext cx="411480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 Black"/>
              </a:rPr>
              <a:t>Diapositive N° 6 - Résultat</a:t>
            </a:r>
            <a:br>
              <a:rPr sz="2400"/>
            </a:br>
            <a:r>
              <a:rPr b="0" lang="en-US" sz="2400" spc="-1" strike="noStrike">
                <a:solidFill>
                  <a:srgbClr val="0033cc"/>
                </a:solidFill>
                <a:latin typeface="Arial Black"/>
              </a:rPr>
              <a:t>Score final = 2 points</a:t>
            </a:r>
            <a:endParaRPr b="0" lang="en-US" sz="2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24" name=""/>
          <p:cNvSpPr/>
          <p:nvPr/>
        </p:nvSpPr>
        <p:spPr>
          <a:xfrm>
            <a:off x="6248520" y="137160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Lucida Handwriting"/>
              </a:rPr>
              <a:t>Perd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6781680" y="1905120"/>
            <a:ext cx="1600200" cy="144756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5791320" y="6348240"/>
            <a:ext cx="1008000" cy="505080"/>
          </a:xfrm>
          <a:custGeom>
            <a:avLst/>
            <a:gdLst>
              <a:gd name="textAreaLeft" fmla="*/ 32760 w 1008000"/>
              <a:gd name="textAreaRight" fmla="*/ 975600 w 1008000"/>
              <a:gd name="textAreaTop" fmla="*/ 32760 h 505080"/>
              <a:gd name="textAreaBottom" fmla="*/ 472680 h 505080"/>
            </a:gdLst>
            <a:ahLst/>
            <a:rect l="textAreaLeft" t="textAreaTop" r="textAreaRight" b="textAreaBottom"/>
            <a:pathLst>
              <a:path w="43092" h="21600">
                <a:moveTo>
                  <a:pt x="0" y="0"/>
                </a:moveTo>
                <a:lnTo>
                  <a:pt x="43092" y="0"/>
                </a:lnTo>
                <a:lnTo>
                  <a:pt x="43092" y="21600"/>
                </a:lnTo>
                <a:lnTo>
                  <a:pt x="0" y="21600"/>
                </a:lnTo>
                <a:close/>
              </a:path>
              <a:path fill="lightenLess" w="43092" h="21600">
                <a:moveTo>
                  <a:pt x="0" y="0"/>
                </a:moveTo>
                <a:lnTo>
                  <a:pt x="43092" y="0"/>
                </a:lnTo>
                <a:lnTo>
                  <a:pt x="41692" y="1400"/>
                </a:lnTo>
                <a:lnTo>
                  <a:pt x="1400" y="1400"/>
                </a:lnTo>
                <a:close/>
              </a:path>
              <a:path fill="darken" w="43092" h="21600">
                <a:moveTo>
                  <a:pt x="43092" y="0"/>
                </a:moveTo>
                <a:lnTo>
                  <a:pt x="43092" y="21600"/>
                </a:lnTo>
                <a:lnTo>
                  <a:pt x="41692" y="20200"/>
                </a:lnTo>
                <a:lnTo>
                  <a:pt x="41692" y="1400"/>
                </a:lnTo>
                <a:close/>
              </a:path>
              <a:path fill="darkenLess" w="43092" h="21600">
                <a:moveTo>
                  <a:pt x="430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92" y="20200"/>
                </a:lnTo>
                <a:close/>
              </a:path>
              <a:path fill="lighten" w="430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92" h="21600">
                <a:moveTo>
                  <a:pt x="14540" y="3794"/>
                </a:moveTo>
                <a:lnTo>
                  <a:pt x="28553" y="10800"/>
                </a:lnTo>
                <a:lnTo>
                  <a:pt x="14540" y="17806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G Produc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1" dur="indefinite" restart="never" nodeType="tmRoot">
          <p:childTnLst>
            <p:seq>
              <p:cTn id="702" dur="indefinite" nodeType="mainSeq">
                <p:childTnLst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0 L -0.64723 0.35694 E">
                                      <p:cBhvr>
                                        <p:cTn id="706" dur="2000" fill="hold"/>
                                        <p:tgtEl>
                                          <p:spTgt spid="6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7" restart="whenNotActive" nodeType="interactiveSeq" fill="hold">
                <p:stCondLst>
                  <p:cond evt="onClick">
                    <p:tgtEl>
                      <p:spTgt spid="610"/>
                    </p:tgtEl>
                  </p:cond>
                </p:stCondLst>
                <p:childTnLst>
                  <p:par>
                    <p:cTn id="708" fill="hold">
                      <p:stCondLst>
                        <p:cond evt="onClick">
                          <p:tgtEl>
                            <p:spTgt spid="610"/>
                          </p:tgtEl>
                        </p:cond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46945E-018 2.59259E-006 C -0.00364 0.00162 -0.00746 0.00231 -0.01076 0.00462 C -0.01475 0.0074 -0.03385 0.03287 -0.03402 0.03333 C -0.03524 0.03564 -0.03593 0.03842 -0.0375 0.0405 C -0.03958 0.04328 -0.04236 0.0449 -0.04461 0.04745 C -0.05434 0.05925 -0.06232 0.07337 -0.07326 0.08333 C -0.07864 0.09398 -0.08507 0.10231 -0.09288 0.10949 C -0.09548 0.12037 -0.09826 0.12384 -0.10538 0.13078 C -0.11059 0.14467 -0.11892 0.15787 -0.12864 0.16666 C -0.13402 0.17777 -0.14114 0.18819 -0.14826 0.19745 C -0.15156 0.21134 -0.1585 0.22314 -0.16614 0.23333 C -0.17048 0.25138 -0.16406 0.22986 -0.17326 0.24513 C -0.17448 0.24699 -0.17395 0.25023 -0.175 0.25231 C -0.17691 0.25601 -0.17986 0.25833 -0.18211 0.2618 C -0.18767 0.2706 -0.18472 0.26921 -0.18941 0.28078 C -0.19357 0.29074 -0.19757 0.29907 -0.20364 0.30717 C -0.2059 0.31967 -0.21145 0.32685 -0.21614 0.33796 C -0.22239 0.35324 -0.22951 0.36689 -0.2375 0.38078 C -0.2427 0.39004 -0.24253 0.3956 -0.25 0.40231 C -0.25295 0.41342 -0.26961 0.43564 -0.27691 0.44513 C -0.28055 0.45486 -0.28437 0.4625 -0.28941 0.47129 C -0.29201 0.48518 -0.29513 0.48634 -0.30191 0.49745 C -0.30468 0.50185 -0.30902 0.5118 -0.30902 0.5118 C -0.31111 0.52361 -0.31597 0.52824 -0.32152 0.53796 C -0.3243 0.5537 -0.33125 0.56944 -0.3375 0.58333 C -0.33975 0.58819 -0.34323 0.59212 -0.34461 0.59745 C -0.34635 0.60462 -0.34826 0.6118 -0.35 0.61898 C -0.35069 0.62129 -0.35191 0.62615 -0.35191 0.62615 C -0.35121 0.64513 -0.35156 0.66435 -0.35 0.68333 C -0.34895 0.69513 -0.33715 0.70717 -0.33038 0.7118 C -0.32083 0.71828 -0.31198 0.72847 -0.30191 0.73333 C -0.28993 0.73912 -0.27708 0.74097 -0.26441 0.74282 C -0.23385 0.75254 -0.19114 0.74351 -0.16441 0.74282 C -0.15277 0.73912 -0.14166 0.73356 -0.13038 0.72847 C -0.12725 0.72708 -0.121 0.72592 -0.11788 0.72384 C -0.11475 0.72175 -0.11215 0.71851 -0.10902 0.71666 C -0.0993 0.71087 -0.08819 0.70856 -0.07864 0.70231 C -0.06128 0.69097 -0.07638 0.69814 -0.06441 0.69282 C -0.04739 0.67754 -0.02708 0.66921 -0.01076 0.65231 C 0.01268 0.628 0.03247 0.59699 0.05348 0.56898 C 0.05747 0.56365 0.05955 0.5537 0.0625 0.54745 C 0.06806 0.53564 0.0757 0.52592 0.07848 0.5118 C 0.08108 0.49907 0.08629 0.48287 0.09098 0.47129 C 0.10504 0.4368 0.09254 0.47523 0.10174 0.44513 C 0.10365 0.42986 0.1066 0.41666 0.11059 0.40231 C 0.11372 0.39143 0.11146 0.39282 0.11424 0.38078 C 0.12153 0.34814 0.11945 0.35439 0.12674 0.33564 C 0.12813 0.31296 0.13039 0.29791 0.13386 0.27615 C 0.13802 0.20763 0.14532 0.12916 0.1125 0.07129 C 0.10747 0.05231 0.11493 0.07708 0.10539 0.05717 C 0.09462 0.03449 0.10417 0.04074 0.09289 0.03564 C 0.09167 0.0324 0.09098 0.02893 0.08924 0.02615 C 0.08334 0.01666 0.07049 0.01689 0.0625 0.0118 C 0.05243 0.00532 0.06198 0.00856 0.05174 0.00462 C 0.04375 0.00162 0.04653 0.00115 0.04098 0.00462 E">
                                      <p:cBhvr>
                                        <p:cTn id="711" dur="2000" fill="hold"/>
                                        <p:tgtEl>
                                          <p:spTgt spid="6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12" restart="whenNotActive" nodeType="interactiveSeq" fill="hold">
                <p:stCondLst>
                  <p:cond evt="onClick">
                    <p:tgtEl>
                      <p:spTgt spid="611"/>
                    </p:tgtEl>
                  </p:cond>
                </p:stCondLst>
                <p:childTnLst>
                  <p:par>
                    <p:cTn id="713" fill="hold">
                      <p:stCondLst>
                        <p:cond evt="onClick">
                          <p:tgtEl>
                            <p:spTgt spid="611"/>
                          </p:tgtEl>
                        </p:cond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3.33333E-006 C -0.12986 0.0169 -0.26094 -0.00254 -0.39115 0.00718 C -0.39913 0.01135 -0.40608 0.01644 -0.41441 0.01898 C -0.42188 0.02593 -0.43212 0.03033 -0.44115 0.03334 C -0.45174 0.04746 -0.44115 0.03565 -0.45191 0.04283 C -0.46042 0.04861 -0.45903 0.05348 -0.46962 0.05718 C -0.47865 0.06528 -0.48281 0.06991 -0.48941 0.08102 C -0.4934 0.08773 -0.49549 0.0963 -0.5 0.10232 C -0.50694 0.11158 -0.50399 0.10672 -0.50903 0.11667 C -0.51163 0.12778 -0.51632 0.13843 -0.52153 0.14769 C -0.52396 0.16065 -0.52969 0.17686 -0.53576 0.18797 C -0.53733 0.19074 -0.53958 0.19236 -0.54115 0.19514 C -0.54375 0.19977 -0.54826 0.20949 -0.54826 0.20973 C -0.55156 0.22732 -0.54792 0.21065 -0.55365 0.22848 C -0.5566 0.23773 -0.55625 0.24607 -0.56076 0.25463 C -0.56267 0.275 -0.56441 0.29445 -0.56788 0.31436 C -0.57222 0.3676 -0.57552 0.42107 -0.58038 0.47385 C -0.58333 0.50695 -0.58299 0.54375 -0.58941 0.57616 C -0.59201 0.6125 -0.59306 0.61574 -0.58941 0.66436 C -0.58906 0.66783 -0.58142 0.67662 -0.58038 0.67848 C -0.5658 0.70209 -0.54253 0.71088 -0.51962 0.71181 C -0.48281 0.71343 -0.44583 0.71505 -0.40903 0.71667 C -0.39427 0.72037 -0.37934 0.72199 -0.36441 0.72385 C -0.29688 0.75301 -0.22031 0.74584 -0.15208 0.7213 C -0.14792 0.71783 -0.14323 0.71574 -0.13941 0.71181 C -0.12604 0.69838 -0.13785 0.70486 -0.12708 0.7 C -0.12448 0.69676 -0.1224 0.69329 -0.11979 0.69051 C -0.11632 0.68704 -0.10903 0.68102 -0.10903 0.68125 C -0.10608 0.67477 -0.10365 0.6676 -0.10017 0.66181 C -0.09809 0.6588 -0.09497 0.65741 -0.09288 0.65463 C -0.08906 0.64954 -0.08559 0.64375 -0.08212 0.63797 C -0.07604 0.62801 -0.07309 0.61875 -0.06615 0.60949 C -0.06354 0.60093 -0.06233 0.59144 -0.05903 0.58334 C -0.05729 0.57894 -0.05382 0.5757 -0.05191 0.5713 C -0.04392 0.55348 -0.05174 0.56598 -0.04653 0.55 C -0.04566 0.54746 -0.04392 0.54537 -0.04288 0.54283 C -0.04149 0.53912 -0.04063 0.53496 -0.03941 0.53102 C -0.03646 0.50834 -0.02882 0.48889 -0.025 0.46667 C -0.01944 0.43473 -0.01337 0.40301 -0.00712 0.3713 C -0.0066 0.36505 -0.00625 0.35857 -0.00538 0.35232 C -0.0033 0.33635 0.00174 0.30463 0.00174 0.30486 C 0.0026 0.20834 0.00712 0.11436 0.00712 0.01898 E">
                                      <p:cBhvr>
                                        <p:cTn id="716" dur="3000" fill="hold"/>
                                        <p:tgtEl>
                                          <p:spTgt spid="6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17" restart="whenNotActive" nodeType="interactiveSeq" fill="hold">
                <p:stCondLst>
                  <p:cond evt="onClick">
                    <p:tgtEl>
                      <p:spTgt spid="612"/>
                    </p:tgtEl>
                  </p:cond>
                </p:stCondLst>
                <p:childTnLst>
                  <p:par>
                    <p:cTn id="718" fill="hold">
                      <p:stCondLst>
                        <p:cond evt="onClick">
                          <p:tgtEl>
                            <p:spTgt spid="612"/>
                          </p:tgtEl>
                        </p:cond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path" presetID="28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17 0 0.031 0.01867 0.031 0.04133 C 0.031 0.06533 0.017 0.084 0 0.084 C -0.017 0.084 -0.031 0.10267 -0.031 0.12533 C -0.031 0.148 -0.017 0.16667 0 0.16667 C 0.017 0.16667 0.031 0.18533 0.031 0.208 C 0.031 0.23067 0.017 0.24933 0 0.24933 C -0.017 0.24933 -0.031 0.268 -0.031 0.292 C -0.031 0.31467 -0.017 0.33333 0 0.33333 C 0.017 0.33333 0.031 0.31467 0.031 0.292 C 0.031 0.268 0.017 0.24933 0 0.24933 C -0.017 0.24933 -0.031 0.23067 -0.031 0.208 C -0.031 0.18533 -0.017 0.16667 0 0.16667 C 0.017 0.16667 0.031 0.148 0.031 0.12533 C 0.031 0.10267 0.017 0.084 0 0.084 C -0.017 0.084 -0.031 0.06533 -0.031 0.04133 C -0.031 0.01867 -0.017 0 0 0 Z">
                                      <p:cBhvr>
                                        <p:cTn id="721" dur="2000" fill="hold"/>
                                        <p:tgtEl>
                                          <p:spTgt spid="6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2" restart="whenNotActive" nodeType="interactiveSeq" fill="hold">
                <p:stCondLst>
                  <p:cond evt="onClick">
                    <p:tgtEl>
                      <p:spTgt spid="613"/>
                    </p:tgtEl>
                  </p:cond>
                </p:stCondLst>
                <p:childTnLst>
                  <p:par>
                    <p:cTn id="723" fill="hold">
                      <p:stCondLst>
                        <p:cond evt="onClick">
                          <p:tgtEl>
                            <p:spTgt spid="613"/>
                          </p:tgtEl>
                        </p:cond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path" presetID="3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17 -0.08667 C 0.034 -0.15733 0.061 -0.18533 0.1 -0.18533 C 0.12 -0.18533 0.138 -0.17467 0.152 -0.15733 C 0.162 -0.14533 0.174 -0.13867 0.187 -0.13867 C 0.212 -0.13867 0.233 -0.16267 0.241 -0.19733 L 0.25 -0.23867 L 0.232 -0.15067 C 0.215 -0.08133 0.188 -0.05333 0.15 -0.05333 C 0.13 -0.05333 0.111 -0.064 0.096 -0.08267 C 0.087 -0.09333 0.075 -0.1 0.063 -0.1 C 0.038 -0.1 0.017 -0.076 0.009 -0.04133 L 0 0 Z">
                                      <p:cBhvr>
                                        <p:cTn id="726" dur="2000" fill="hold"/>
                                        <p:tgtEl>
                                          <p:spTgt spid="6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7" restart="whenNotActive" nodeType="interactiveSeq" fill="hold">
                <p:stCondLst>
                  <p:cond evt="onClick">
                    <p:tgtEl>
                      <p:spTgt spid="614"/>
                    </p:tgtEl>
                  </p:cond>
                </p:stCondLst>
                <p:childTnLst>
                  <p:par>
                    <p:cTn id="728" fill="hold">
                      <p:stCondLst>
                        <p:cond evt="onClick">
                          <p:tgtEl>
                            <p:spTgt spid="614"/>
                          </p:tgtEl>
                        </p:cond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path" presetID="2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 -0.04267 0.026 -0.07733 0.058 -0.07733 L 0.192 -0.07733 C 0.224 -0.07733 0.25 -0.04267 0.25 0 L 0.25 0.176 C 0.25 0.21867 0.224 0.25467 0.192 0.25467 L 0.058 0.25467 C 0.026 0.25467 0 0.21867 0 0.176 Z">
                                      <p:cBhvr>
                                        <p:cTn id="731" dur="2000" fill="hold"/>
                                        <p:tgtEl>
                                          <p:spTgt spid="6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194000" cy="6629400"/>
          </a:xfrm>
          <a:prstGeom prst="rect">
            <a:avLst/>
          </a:prstGeom>
          <a:ln w="0">
            <a:noFill/>
          </a:ln>
        </p:spPr>
      </p:pic>
      <p:pic>
        <p:nvPicPr>
          <p:cNvPr id="728" name="" descr=""/>
          <p:cNvPicPr/>
          <p:nvPr/>
        </p:nvPicPr>
        <p:blipFill>
          <a:blip r:embed="rId2"/>
          <a:stretch/>
        </p:blipFill>
        <p:spPr>
          <a:xfrm>
            <a:off x="7095960" y="1981080"/>
            <a:ext cx="1057320" cy="1293840"/>
          </a:xfrm>
          <a:prstGeom prst="rect">
            <a:avLst/>
          </a:prstGeom>
          <a:ln w="0">
            <a:noFill/>
          </a:ln>
        </p:spPr>
      </p:pic>
      <p:pic>
        <p:nvPicPr>
          <p:cNvPr id="729" name="" descr=""/>
          <p:cNvPicPr/>
          <p:nvPr/>
        </p:nvPicPr>
        <p:blipFill>
          <a:blip r:embed="rId3"/>
          <a:stretch/>
        </p:blipFill>
        <p:spPr>
          <a:xfrm>
            <a:off x="4419720" y="1973160"/>
            <a:ext cx="1057320" cy="1303560"/>
          </a:xfrm>
          <a:prstGeom prst="rect">
            <a:avLst/>
          </a:prstGeom>
          <a:ln w="0">
            <a:noFill/>
          </a:ln>
        </p:spPr>
      </p:pic>
      <p:pic>
        <p:nvPicPr>
          <p:cNvPr id="730" name="" descr=""/>
          <p:cNvPicPr/>
          <p:nvPr/>
        </p:nvPicPr>
        <p:blipFill>
          <a:blip r:embed="rId4"/>
          <a:stretch/>
        </p:blipFill>
        <p:spPr>
          <a:xfrm>
            <a:off x="5791320" y="1979640"/>
            <a:ext cx="1057320" cy="1220760"/>
          </a:xfrm>
          <a:prstGeom prst="rect">
            <a:avLst/>
          </a:prstGeom>
          <a:ln w="0">
            <a:noFill/>
          </a:ln>
        </p:spPr>
      </p:pic>
      <p:pic>
        <p:nvPicPr>
          <p:cNvPr id="731" name="" descr=""/>
          <p:cNvPicPr/>
          <p:nvPr/>
        </p:nvPicPr>
        <p:blipFill>
          <a:blip r:embed="rId5"/>
          <a:stretch/>
        </p:blipFill>
        <p:spPr>
          <a:xfrm>
            <a:off x="4419720" y="3801960"/>
            <a:ext cx="1057320" cy="1303560"/>
          </a:xfrm>
          <a:prstGeom prst="rect">
            <a:avLst/>
          </a:prstGeom>
          <a:ln w="0">
            <a:noFill/>
          </a:ln>
        </p:spPr>
      </p:pic>
      <p:pic>
        <p:nvPicPr>
          <p:cNvPr id="732" name="" descr=""/>
          <p:cNvPicPr/>
          <p:nvPr/>
        </p:nvPicPr>
        <p:blipFill>
          <a:blip r:embed="rId6"/>
          <a:stretch/>
        </p:blipFill>
        <p:spPr>
          <a:xfrm>
            <a:off x="5800680" y="3809880"/>
            <a:ext cx="1057320" cy="1274760"/>
          </a:xfrm>
          <a:prstGeom prst="rect">
            <a:avLst/>
          </a:prstGeom>
          <a:ln w="0">
            <a:noFill/>
          </a:ln>
        </p:spPr>
      </p:pic>
      <p:pic>
        <p:nvPicPr>
          <p:cNvPr id="733" name="" descr=""/>
          <p:cNvPicPr/>
          <p:nvPr/>
        </p:nvPicPr>
        <p:blipFill>
          <a:blip r:embed="rId7"/>
          <a:stretch/>
        </p:blipFill>
        <p:spPr>
          <a:xfrm>
            <a:off x="7086600" y="3809880"/>
            <a:ext cx="1057320" cy="1206720"/>
          </a:xfrm>
          <a:prstGeom prst="rect">
            <a:avLst/>
          </a:prstGeom>
          <a:ln w="0">
            <a:noFill/>
          </a:ln>
        </p:spPr>
      </p:pic>
      <p:pic>
        <p:nvPicPr>
          <p:cNvPr id="734" name="" descr=""/>
          <p:cNvPicPr/>
          <p:nvPr/>
        </p:nvPicPr>
        <p:blipFill>
          <a:blip r:embed="rId8"/>
          <a:stretch/>
        </p:blipFill>
        <p:spPr>
          <a:xfrm>
            <a:off x="1371600" y="5029200"/>
            <a:ext cx="1058760" cy="1371600"/>
          </a:xfrm>
          <a:prstGeom prst="rect">
            <a:avLst/>
          </a:prstGeom>
          <a:ln w="0">
            <a:noFill/>
          </a:ln>
        </p:spPr>
      </p:pic>
      <p:sp>
        <p:nvSpPr>
          <p:cNvPr id="735" name=""/>
          <p:cNvSpPr/>
          <p:nvPr/>
        </p:nvSpPr>
        <p:spPr>
          <a:xfrm>
            <a:off x="4267080" y="541008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ela ne fait que cinquante pour cent de bonnes réponses 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038480" y="0"/>
            <a:ext cx="411480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 Black"/>
              </a:rPr>
              <a:t>Diapositive N° 6 - Résultat</a:t>
            </a:r>
            <a:br>
              <a:rPr sz="2400"/>
            </a:br>
            <a:r>
              <a:rPr b="0" lang="en-US" sz="2400" spc="-1" strike="noStrike">
                <a:solidFill>
                  <a:srgbClr val="0033cc"/>
                </a:solidFill>
                <a:latin typeface="Arial Black"/>
              </a:rPr>
              <a:t>Score final = 3 points</a:t>
            </a:r>
            <a:endParaRPr b="0" lang="en-US" sz="2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37" name=""/>
          <p:cNvSpPr/>
          <p:nvPr/>
        </p:nvSpPr>
        <p:spPr>
          <a:xfrm>
            <a:off x="6248520" y="137160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Lucida Handwriting"/>
              </a:rPr>
              <a:t>GAG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6781680" y="1905120"/>
            <a:ext cx="1600200" cy="144756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5791320" y="6348240"/>
            <a:ext cx="1008000" cy="505080"/>
          </a:xfrm>
          <a:custGeom>
            <a:avLst/>
            <a:gdLst>
              <a:gd name="textAreaLeft" fmla="*/ 32760 w 1008000"/>
              <a:gd name="textAreaRight" fmla="*/ 975600 w 1008000"/>
              <a:gd name="textAreaTop" fmla="*/ 32760 h 505080"/>
              <a:gd name="textAreaBottom" fmla="*/ 472680 h 505080"/>
            </a:gdLst>
            <a:ahLst/>
            <a:rect l="textAreaLeft" t="textAreaTop" r="textAreaRight" b="textAreaBottom"/>
            <a:pathLst>
              <a:path w="43092" h="21600">
                <a:moveTo>
                  <a:pt x="0" y="0"/>
                </a:moveTo>
                <a:lnTo>
                  <a:pt x="43092" y="0"/>
                </a:lnTo>
                <a:lnTo>
                  <a:pt x="43092" y="21600"/>
                </a:lnTo>
                <a:lnTo>
                  <a:pt x="0" y="21600"/>
                </a:lnTo>
                <a:close/>
              </a:path>
              <a:path fill="lightenLess" w="43092" h="21600">
                <a:moveTo>
                  <a:pt x="0" y="0"/>
                </a:moveTo>
                <a:lnTo>
                  <a:pt x="43092" y="0"/>
                </a:lnTo>
                <a:lnTo>
                  <a:pt x="41692" y="1400"/>
                </a:lnTo>
                <a:lnTo>
                  <a:pt x="1400" y="1400"/>
                </a:lnTo>
                <a:close/>
              </a:path>
              <a:path fill="darken" w="43092" h="21600">
                <a:moveTo>
                  <a:pt x="43092" y="0"/>
                </a:moveTo>
                <a:lnTo>
                  <a:pt x="43092" y="21600"/>
                </a:lnTo>
                <a:lnTo>
                  <a:pt x="41692" y="20200"/>
                </a:lnTo>
                <a:lnTo>
                  <a:pt x="41692" y="1400"/>
                </a:lnTo>
                <a:close/>
              </a:path>
              <a:path fill="darkenLess" w="43092" h="21600">
                <a:moveTo>
                  <a:pt x="430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92" y="20200"/>
                </a:lnTo>
                <a:close/>
              </a:path>
              <a:path fill="lighten" w="430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92" h="21600">
                <a:moveTo>
                  <a:pt x="14540" y="3794"/>
                </a:moveTo>
                <a:lnTo>
                  <a:pt x="28553" y="10800"/>
                </a:lnTo>
                <a:lnTo>
                  <a:pt x="14540" y="17806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G Produc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2" dur="indefinite" restart="never" nodeType="tmRoot">
          <p:childTnLst>
            <p:seq>
              <p:cTn id="733" dur="indefinite" nodeType="mainSeq">
                <p:childTnLst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0 L -0.64723 0.35694 E">
                                      <p:cBhvr>
                                        <p:cTn id="737" dur="2000" fill="hold"/>
                                        <p:tgtEl>
                                          <p:spTgt spid="6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8" restart="whenNotActive" nodeType="interactiveSeq" fill="hold">
                <p:stCondLst>
                  <p:cond evt="onClick">
                    <p:tgtEl>
                      <p:spTgt spid="610"/>
                    </p:tgtEl>
                  </p:cond>
                </p:stCondLst>
                <p:childTnLst>
                  <p:par>
                    <p:cTn id="739" fill="hold">
                      <p:stCondLst>
                        <p:cond evt="onClick">
                          <p:tgtEl>
                            <p:spTgt spid="610"/>
                          </p:tgtEl>
                        </p:cond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46945E-018 2.59259E-006 C -0.00364 0.00162 -0.00746 0.00231 -0.01076 0.00462 C -0.01475 0.0074 -0.03385 0.03287 -0.03402 0.03333 C -0.03524 0.03564 -0.03593 0.03842 -0.0375 0.0405 C -0.03958 0.04328 -0.04236 0.0449 -0.04461 0.04745 C -0.05434 0.05925 -0.06232 0.07337 -0.07326 0.08333 C -0.07864 0.09398 -0.08507 0.10231 -0.09288 0.10949 C -0.09548 0.12037 -0.09826 0.12384 -0.10538 0.13078 C -0.11059 0.14467 -0.11892 0.15787 -0.12864 0.16666 C -0.13402 0.17777 -0.14114 0.18819 -0.14826 0.19745 C -0.15156 0.21134 -0.1585 0.22314 -0.16614 0.23333 C -0.17048 0.25138 -0.16406 0.22986 -0.17326 0.24513 C -0.17448 0.24699 -0.17395 0.25023 -0.175 0.25231 C -0.17691 0.25601 -0.17986 0.25833 -0.18211 0.2618 C -0.18767 0.2706 -0.18472 0.26921 -0.18941 0.28078 C -0.19357 0.29074 -0.19757 0.29907 -0.20364 0.30717 C -0.2059 0.31967 -0.21145 0.32685 -0.21614 0.33796 C -0.22239 0.35324 -0.22951 0.36689 -0.2375 0.38078 C -0.2427 0.39004 -0.24253 0.3956 -0.25 0.40231 C -0.25295 0.41342 -0.26961 0.43564 -0.27691 0.44513 C -0.28055 0.45486 -0.28437 0.4625 -0.28941 0.47129 C -0.29201 0.48518 -0.29513 0.48634 -0.30191 0.49745 C -0.30468 0.50185 -0.30902 0.5118 -0.30902 0.5118 C -0.31111 0.52361 -0.31597 0.52824 -0.32152 0.53796 C -0.3243 0.5537 -0.33125 0.56944 -0.3375 0.58333 C -0.33975 0.58819 -0.34323 0.59212 -0.34461 0.59745 C -0.34635 0.60462 -0.34826 0.6118 -0.35 0.61898 C -0.35069 0.62129 -0.35191 0.62615 -0.35191 0.62615 C -0.35121 0.64513 -0.35156 0.66435 -0.35 0.68333 C -0.34895 0.69513 -0.33715 0.70717 -0.33038 0.7118 C -0.32083 0.71828 -0.31198 0.72847 -0.30191 0.73333 C -0.28993 0.73912 -0.27708 0.74097 -0.26441 0.74282 C -0.23385 0.75254 -0.19114 0.74351 -0.16441 0.74282 C -0.15277 0.73912 -0.14166 0.73356 -0.13038 0.72847 C -0.12725 0.72708 -0.121 0.72592 -0.11788 0.72384 C -0.11475 0.72175 -0.11215 0.71851 -0.10902 0.71666 C -0.0993 0.71087 -0.08819 0.70856 -0.07864 0.70231 C -0.06128 0.69097 -0.07638 0.69814 -0.06441 0.69282 C -0.04739 0.67754 -0.02708 0.66921 -0.01076 0.65231 C 0.01268 0.628 0.03247 0.59699 0.05348 0.56898 C 0.05747 0.56365 0.05955 0.5537 0.0625 0.54745 C 0.06806 0.53564 0.0757 0.52592 0.07848 0.5118 C 0.08108 0.49907 0.08629 0.48287 0.09098 0.47129 C 0.10504 0.4368 0.09254 0.47523 0.10174 0.44513 C 0.10365 0.42986 0.1066 0.41666 0.11059 0.40231 C 0.11372 0.39143 0.11146 0.39282 0.11424 0.38078 C 0.12153 0.34814 0.11945 0.35439 0.12674 0.33564 C 0.12813 0.31296 0.13039 0.29791 0.13386 0.27615 C 0.13802 0.20763 0.14532 0.12916 0.1125 0.07129 C 0.10747 0.05231 0.11493 0.07708 0.10539 0.05717 C 0.09462 0.03449 0.10417 0.04074 0.09289 0.03564 C 0.09167 0.0324 0.09098 0.02893 0.08924 0.02615 C 0.08334 0.01666 0.07049 0.01689 0.0625 0.0118 C 0.05243 0.00532 0.06198 0.00856 0.05174 0.00462 C 0.04375 0.00162 0.04653 0.00115 0.04098 0.00462 E">
                                      <p:cBhvr>
                                        <p:cTn id="742" dur="2000" fill="hold"/>
                                        <p:tgtEl>
                                          <p:spTgt spid="6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3" restart="whenNotActive" nodeType="interactiveSeq" fill="hold">
                <p:stCondLst>
                  <p:cond evt="onClick">
                    <p:tgtEl>
                      <p:spTgt spid="611"/>
                    </p:tgtEl>
                  </p:cond>
                </p:stCondLst>
                <p:childTnLst>
                  <p:par>
                    <p:cTn id="744" fill="hold">
                      <p:stCondLst>
                        <p:cond evt="onClick">
                          <p:tgtEl>
                            <p:spTgt spid="611"/>
                          </p:tgtEl>
                        </p:cond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3.33333E-006 C -0.12986 0.0169 -0.26094 -0.00254 -0.39115 0.00718 C -0.39913 0.01135 -0.40608 0.01644 -0.41441 0.01898 C -0.42188 0.02593 -0.43212 0.03033 -0.44115 0.03334 C -0.45174 0.04746 -0.44115 0.03565 -0.45191 0.04283 C -0.46042 0.04861 -0.45903 0.05348 -0.46962 0.05718 C -0.47865 0.06528 -0.48281 0.06991 -0.48941 0.08102 C -0.4934 0.08773 -0.49549 0.0963 -0.5 0.10232 C -0.50694 0.11158 -0.50399 0.10672 -0.50903 0.11667 C -0.51163 0.12778 -0.51632 0.13843 -0.52153 0.14769 C -0.52396 0.16065 -0.52969 0.17686 -0.53576 0.18797 C -0.53733 0.19074 -0.53958 0.19236 -0.54115 0.19514 C -0.54375 0.19977 -0.54826 0.20949 -0.54826 0.20973 C -0.55156 0.22732 -0.54792 0.21065 -0.55365 0.22848 C -0.5566 0.23773 -0.55625 0.24607 -0.56076 0.25463 C -0.56267 0.275 -0.56441 0.29445 -0.56788 0.31436 C -0.57222 0.3676 -0.57552 0.42107 -0.58038 0.47385 C -0.58333 0.50695 -0.58299 0.54375 -0.58941 0.57616 C -0.59201 0.6125 -0.59306 0.61574 -0.58941 0.66436 C -0.58906 0.66783 -0.58142 0.67662 -0.58038 0.67848 C -0.5658 0.70209 -0.54253 0.71088 -0.51962 0.71181 C -0.48281 0.71343 -0.44583 0.71505 -0.40903 0.71667 C -0.39427 0.72037 -0.37934 0.72199 -0.36441 0.72385 C -0.29688 0.75301 -0.22031 0.74584 -0.15208 0.7213 C -0.14792 0.71783 -0.14323 0.71574 -0.13941 0.71181 C -0.12604 0.69838 -0.13785 0.70486 -0.12708 0.7 C -0.12448 0.69676 -0.1224 0.69329 -0.11979 0.69051 C -0.11632 0.68704 -0.10903 0.68102 -0.10903 0.68125 C -0.10608 0.67477 -0.10365 0.6676 -0.10017 0.66181 C -0.09809 0.6588 -0.09497 0.65741 -0.09288 0.65463 C -0.08906 0.64954 -0.08559 0.64375 -0.08212 0.63797 C -0.07604 0.62801 -0.07309 0.61875 -0.06615 0.60949 C -0.06354 0.60093 -0.06233 0.59144 -0.05903 0.58334 C -0.05729 0.57894 -0.05382 0.5757 -0.05191 0.5713 C -0.04392 0.55348 -0.05174 0.56598 -0.04653 0.55 C -0.04566 0.54746 -0.04392 0.54537 -0.04288 0.54283 C -0.04149 0.53912 -0.04063 0.53496 -0.03941 0.53102 C -0.03646 0.50834 -0.02882 0.48889 -0.025 0.46667 C -0.01944 0.43473 -0.01337 0.40301 -0.00712 0.3713 C -0.0066 0.36505 -0.00625 0.35857 -0.00538 0.35232 C -0.0033 0.33635 0.00174 0.30463 0.00174 0.30486 C 0.0026 0.20834 0.00712 0.11436 0.00712 0.01898 E">
                                      <p:cBhvr>
                                        <p:cTn id="747" dur="3000" fill="hold"/>
                                        <p:tgtEl>
                                          <p:spTgt spid="6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8" restart="whenNotActive" nodeType="interactiveSeq" fill="hold">
                <p:stCondLst>
                  <p:cond evt="onClick">
                    <p:tgtEl>
                      <p:spTgt spid="612"/>
                    </p:tgtEl>
                  </p:cond>
                </p:stCondLst>
                <p:childTnLst>
                  <p:par>
                    <p:cTn id="749" fill="hold">
                      <p:stCondLst>
                        <p:cond evt="onClick">
                          <p:tgtEl>
                            <p:spTgt spid="612"/>
                          </p:tgtEl>
                        </p:cond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path" presetID="28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17 0 0.031 0.01867 0.031 0.04133 C 0.031 0.06533 0.017 0.084 0 0.084 C -0.017 0.084 -0.031 0.10267 -0.031 0.12533 C -0.031 0.148 -0.017 0.16667 0 0.16667 C 0.017 0.16667 0.031 0.18533 0.031 0.208 C 0.031 0.23067 0.017 0.24933 0 0.24933 C -0.017 0.24933 -0.031 0.268 -0.031 0.292 C -0.031 0.31467 -0.017 0.33333 0 0.33333 C 0.017 0.33333 0.031 0.31467 0.031 0.292 C 0.031 0.268 0.017 0.24933 0 0.24933 C -0.017 0.24933 -0.031 0.23067 -0.031 0.208 C -0.031 0.18533 -0.017 0.16667 0 0.16667 C 0.017 0.16667 0.031 0.148 0.031 0.12533 C 0.031 0.10267 0.017 0.084 0 0.084 C -0.017 0.084 -0.031 0.06533 -0.031 0.04133 C -0.031 0.01867 -0.017 0 0 0 Z">
                                      <p:cBhvr>
                                        <p:cTn id="752" dur="2000" fill="hold"/>
                                        <p:tgtEl>
                                          <p:spTgt spid="6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3" restart="whenNotActive" nodeType="interactiveSeq" fill="hold">
                <p:stCondLst>
                  <p:cond evt="onClick">
                    <p:tgtEl>
                      <p:spTgt spid="613"/>
                    </p:tgtEl>
                  </p:cond>
                </p:stCondLst>
                <p:childTnLst>
                  <p:par>
                    <p:cTn id="754" fill="hold">
                      <p:stCondLst>
                        <p:cond evt="onClick">
                          <p:tgtEl>
                            <p:spTgt spid="613"/>
                          </p:tgtEl>
                        </p:cond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path" presetID="3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17 -0.08667 C 0.034 -0.15733 0.061 -0.18533 0.1 -0.18533 C 0.12 -0.18533 0.138 -0.17467 0.152 -0.15733 C 0.162 -0.14533 0.174 -0.13867 0.187 -0.13867 C 0.212 -0.13867 0.233 -0.16267 0.241 -0.19733 L 0.25 -0.23867 L 0.232 -0.15067 C 0.215 -0.08133 0.188 -0.05333 0.15 -0.05333 C 0.13 -0.05333 0.111 -0.064 0.096 -0.08267 C 0.087 -0.09333 0.075 -0.1 0.063 -0.1 C 0.038 -0.1 0.017 -0.076 0.009 -0.04133 L 0 0 Z">
                                      <p:cBhvr>
                                        <p:cTn id="757" dur="2000" fill="hold"/>
                                        <p:tgtEl>
                                          <p:spTgt spid="6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8" restart="whenNotActive" nodeType="interactiveSeq" fill="hold">
                <p:stCondLst>
                  <p:cond evt="onClick">
                    <p:tgtEl>
                      <p:spTgt spid="614"/>
                    </p:tgtEl>
                  </p:cond>
                </p:stCondLst>
                <p:childTnLst>
                  <p:par>
                    <p:cTn id="759" fill="hold">
                      <p:stCondLst>
                        <p:cond evt="onClick">
                          <p:tgtEl>
                            <p:spTgt spid="614"/>
                          </p:tgtEl>
                        </p:cond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path" presetID="2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 -0.04267 0.026 -0.07733 0.058 -0.07733 L 0.192 -0.07733 C 0.224 -0.07733 0.25 -0.04267 0.25 0 L 0.25 0.176 C 0.25 0.21867 0.224 0.25467 0.192 0.25467 L 0.058 0.25467 C 0.026 0.25467 0 0.21867 0 0.176 Z">
                                      <p:cBhvr>
                                        <p:cTn id="762" dur="2000" fill="hold"/>
                                        <p:tgtEl>
                                          <p:spTgt spid="6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194000" cy="6629400"/>
          </a:xfrm>
          <a:prstGeom prst="rect">
            <a:avLst/>
          </a:prstGeom>
          <a:ln w="0">
            <a:noFill/>
          </a:ln>
        </p:spPr>
      </p:pic>
      <p:pic>
        <p:nvPicPr>
          <p:cNvPr id="741" name="" descr=""/>
          <p:cNvPicPr/>
          <p:nvPr/>
        </p:nvPicPr>
        <p:blipFill>
          <a:blip r:embed="rId2"/>
          <a:stretch/>
        </p:blipFill>
        <p:spPr>
          <a:xfrm>
            <a:off x="7095960" y="1981080"/>
            <a:ext cx="1057320" cy="1293840"/>
          </a:xfrm>
          <a:prstGeom prst="rect">
            <a:avLst/>
          </a:prstGeom>
          <a:ln w="0">
            <a:noFill/>
          </a:ln>
        </p:spPr>
      </p:pic>
      <p:pic>
        <p:nvPicPr>
          <p:cNvPr id="742" name="" descr=""/>
          <p:cNvPicPr/>
          <p:nvPr/>
        </p:nvPicPr>
        <p:blipFill>
          <a:blip r:embed="rId3"/>
          <a:stretch/>
        </p:blipFill>
        <p:spPr>
          <a:xfrm>
            <a:off x="4419720" y="1973160"/>
            <a:ext cx="1057320" cy="1303560"/>
          </a:xfrm>
          <a:prstGeom prst="rect">
            <a:avLst/>
          </a:prstGeom>
          <a:ln w="0">
            <a:noFill/>
          </a:ln>
        </p:spPr>
      </p:pic>
      <p:pic>
        <p:nvPicPr>
          <p:cNvPr id="743" name="" descr=""/>
          <p:cNvPicPr/>
          <p:nvPr/>
        </p:nvPicPr>
        <p:blipFill>
          <a:blip r:embed="rId4"/>
          <a:stretch/>
        </p:blipFill>
        <p:spPr>
          <a:xfrm>
            <a:off x="5791320" y="1979640"/>
            <a:ext cx="1057320" cy="1220760"/>
          </a:xfrm>
          <a:prstGeom prst="rect">
            <a:avLst/>
          </a:prstGeom>
          <a:ln w="0">
            <a:noFill/>
          </a:ln>
        </p:spPr>
      </p:pic>
      <p:pic>
        <p:nvPicPr>
          <p:cNvPr id="744" name="" descr=""/>
          <p:cNvPicPr/>
          <p:nvPr/>
        </p:nvPicPr>
        <p:blipFill>
          <a:blip r:embed="rId5"/>
          <a:stretch/>
        </p:blipFill>
        <p:spPr>
          <a:xfrm>
            <a:off x="4419720" y="3801960"/>
            <a:ext cx="1057320" cy="1303560"/>
          </a:xfrm>
          <a:prstGeom prst="rect">
            <a:avLst/>
          </a:prstGeom>
          <a:ln w="0">
            <a:noFill/>
          </a:ln>
        </p:spPr>
      </p:pic>
      <p:pic>
        <p:nvPicPr>
          <p:cNvPr id="745" name="" descr=""/>
          <p:cNvPicPr/>
          <p:nvPr/>
        </p:nvPicPr>
        <p:blipFill>
          <a:blip r:embed="rId6"/>
          <a:stretch/>
        </p:blipFill>
        <p:spPr>
          <a:xfrm>
            <a:off x="5800680" y="3809880"/>
            <a:ext cx="1057320" cy="1274760"/>
          </a:xfrm>
          <a:prstGeom prst="rect">
            <a:avLst/>
          </a:prstGeom>
          <a:ln w="0">
            <a:noFill/>
          </a:ln>
        </p:spPr>
      </p:pic>
      <p:pic>
        <p:nvPicPr>
          <p:cNvPr id="746" name="" descr=""/>
          <p:cNvPicPr/>
          <p:nvPr/>
        </p:nvPicPr>
        <p:blipFill>
          <a:blip r:embed="rId7"/>
          <a:stretch/>
        </p:blipFill>
        <p:spPr>
          <a:xfrm>
            <a:off x="7086600" y="3809880"/>
            <a:ext cx="1057320" cy="1206720"/>
          </a:xfrm>
          <a:prstGeom prst="rect">
            <a:avLst/>
          </a:prstGeom>
          <a:ln w="0">
            <a:noFill/>
          </a:ln>
        </p:spPr>
      </p:pic>
      <p:pic>
        <p:nvPicPr>
          <p:cNvPr id="747" name="" descr=""/>
          <p:cNvPicPr/>
          <p:nvPr/>
        </p:nvPicPr>
        <p:blipFill>
          <a:blip r:embed="rId8"/>
          <a:stretch/>
        </p:blipFill>
        <p:spPr>
          <a:xfrm>
            <a:off x="1371600" y="5029200"/>
            <a:ext cx="1058760" cy="1371600"/>
          </a:xfrm>
          <a:prstGeom prst="rect">
            <a:avLst/>
          </a:prstGeom>
          <a:ln w="0">
            <a:noFill/>
          </a:ln>
        </p:spPr>
      </p:pic>
      <p:sp>
        <p:nvSpPr>
          <p:cNvPr id="748" name=""/>
          <p:cNvSpPr/>
          <p:nvPr/>
        </p:nvSpPr>
        <p:spPr>
          <a:xfrm>
            <a:off x="4572000" y="563868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gardes la bonne réponse 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038480" y="0"/>
            <a:ext cx="411480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 Black"/>
              </a:rPr>
              <a:t>Diapositive N° 6 - Résultat</a:t>
            </a:r>
            <a:br>
              <a:rPr sz="2400"/>
            </a:br>
            <a:r>
              <a:rPr b="0" lang="en-US" sz="2400" spc="-1" strike="noStrike">
                <a:solidFill>
                  <a:srgbClr val="0033cc"/>
                </a:solidFill>
                <a:latin typeface="Arial Black"/>
              </a:rPr>
              <a:t>Score final = 3 points</a:t>
            </a:r>
            <a:endParaRPr b="0" lang="en-US" sz="2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50" name=""/>
          <p:cNvSpPr/>
          <p:nvPr/>
        </p:nvSpPr>
        <p:spPr>
          <a:xfrm>
            <a:off x="6248520" y="137160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Lucida Handwriting"/>
              </a:rPr>
              <a:t>Perd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6781680" y="1905120"/>
            <a:ext cx="1600200" cy="144756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5791320" y="6348240"/>
            <a:ext cx="1008000" cy="505080"/>
          </a:xfrm>
          <a:custGeom>
            <a:avLst/>
            <a:gdLst>
              <a:gd name="textAreaLeft" fmla="*/ 32760 w 1008000"/>
              <a:gd name="textAreaRight" fmla="*/ 975600 w 1008000"/>
              <a:gd name="textAreaTop" fmla="*/ 32760 h 505080"/>
              <a:gd name="textAreaBottom" fmla="*/ 472680 h 505080"/>
            </a:gdLst>
            <a:ahLst/>
            <a:rect l="textAreaLeft" t="textAreaTop" r="textAreaRight" b="textAreaBottom"/>
            <a:pathLst>
              <a:path w="43092" h="21600">
                <a:moveTo>
                  <a:pt x="0" y="0"/>
                </a:moveTo>
                <a:lnTo>
                  <a:pt x="43092" y="0"/>
                </a:lnTo>
                <a:lnTo>
                  <a:pt x="43092" y="21600"/>
                </a:lnTo>
                <a:lnTo>
                  <a:pt x="0" y="21600"/>
                </a:lnTo>
                <a:close/>
              </a:path>
              <a:path fill="lightenLess" w="43092" h="21600">
                <a:moveTo>
                  <a:pt x="0" y="0"/>
                </a:moveTo>
                <a:lnTo>
                  <a:pt x="43092" y="0"/>
                </a:lnTo>
                <a:lnTo>
                  <a:pt x="41692" y="1400"/>
                </a:lnTo>
                <a:lnTo>
                  <a:pt x="1400" y="1400"/>
                </a:lnTo>
                <a:close/>
              </a:path>
              <a:path fill="darken" w="43092" h="21600">
                <a:moveTo>
                  <a:pt x="43092" y="0"/>
                </a:moveTo>
                <a:lnTo>
                  <a:pt x="43092" y="21600"/>
                </a:lnTo>
                <a:lnTo>
                  <a:pt x="41692" y="20200"/>
                </a:lnTo>
                <a:lnTo>
                  <a:pt x="41692" y="1400"/>
                </a:lnTo>
                <a:close/>
              </a:path>
              <a:path fill="darkenLess" w="43092" h="21600">
                <a:moveTo>
                  <a:pt x="430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92" y="20200"/>
                </a:lnTo>
                <a:close/>
              </a:path>
              <a:path fill="lighten" w="430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92" h="21600">
                <a:moveTo>
                  <a:pt x="14540" y="3794"/>
                </a:moveTo>
                <a:lnTo>
                  <a:pt x="28553" y="10800"/>
                </a:lnTo>
                <a:lnTo>
                  <a:pt x="14540" y="17806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G Produc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3" dur="indefinite" restart="never" nodeType="tmRoot">
          <p:childTnLst>
            <p:seq>
              <p:cTn id="764" dur="indefinite" nodeType="mainSeq">
                <p:childTnLst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0 L -0.64723 0.35694 E">
                                      <p:cBhvr>
                                        <p:cTn id="768" dur="2000" fill="hold"/>
                                        <p:tgtEl>
                                          <p:spTgt spid="6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69" restart="whenNotActive" nodeType="interactiveSeq" fill="hold">
                <p:stCondLst>
                  <p:cond evt="onClick">
                    <p:tgtEl>
                      <p:spTgt spid="610"/>
                    </p:tgtEl>
                  </p:cond>
                </p:stCondLst>
                <p:childTnLst>
                  <p:par>
                    <p:cTn id="770" fill="hold">
                      <p:stCondLst>
                        <p:cond evt="onClick">
                          <p:tgtEl>
                            <p:spTgt spid="610"/>
                          </p:tgtEl>
                        </p:cond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46945E-018 2.59259E-006 C -0.00364 0.00162 -0.00746 0.00231 -0.01076 0.00462 C -0.01475 0.0074 -0.03385 0.03287 -0.03402 0.03333 C -0.03524 0.03564 -0.03593 0.03842 -0.0375 0.0405 C -0.03958 0.04328 -0.04236 0.0449 -0.04461 0.04745 C -0.05434 0.05925 -0.06232 0.07337 -0.07326 0.08333 C -0.07864 0.09398 -0.08507 0.10231 -0.09288 0.10949 C -0.09548 0.12037 -0.09826 0.12384 -0.10538 0.13078 C -0.11059 0.14467 -0.11892 0.15787 -0.12864 0.16666 C -0.13402 0.17777 -0.14114 0.18819 -0.14826 0.19745 C -0.15156 0.21134 -0.1585 0.22314 -0.16614 0.23333 C -0.17048 0.25138 -0.16406 0.22986 -0.17326 0.24513 C -0.17448 0.24699 -0.17395 0.25023 -0.175 0.25231 C -0.17691 0.25601 -0.17986 0.25833 -0.18211 0.2618 C -0.18767 0.2706 -0.18472 0.26921 -0.18941 0.28078 C -0.19357 0.29074 -0.19757 0.29907 -0.20364 0.30717 C -0.2059 0.31967 -0.21145 0.32685 -0.21614 0.33796 C -0.22239 0.35324 -0.22951 0.36689 -0.2375 0.38078 C -0.2427 0.39004 -0.24253 0.3956 -0.25 0.40231 C -0.25295 0.41342 -0.26961 0.43564 -0.27691 0.44513 C -0.28055 0.45486 -0.28437 0.4625 -0.28941 0.47129 C -0.29201 0.48518 -0.29513 0.48634 -0.30191 0.49745 C -0.30468 0.50185 -0.30902 0.5118 -0.30902 0.5118 C -0.31111 0.52361 -0.31597 0.52824 -0.32152 0.53796 C -0.3243 0.5537 -0.33125 0.56944 -0.3375 0.58333 C -0.33975 0.58819 -0.34323 0.59212 -0.34461 0.59745 C -0.34635 0.60462 -0.34826 0.6118 -0.35 0.61898 C -0.35069 0.62129 -0.35191 0.62615 -0.35191 0.62615 C -0.35121 0.64513 -0.35156 0.66435 -0.35 0.68333 C -0.34895 0.69513 -0.33715 0.70717 -0.33038 0.7118 C -0.32083 0.71828 -0.31198 0.72847 -0.30191 0.73333 C -0.28993 0.73912 -0.27708 0.74097 -0.26441 0.74282 C -0.23385 0.75254 -0.19114 0.74351 -0.16441 0.74282 C -0.15277 0.73912 -0.14166 0.73356 -0.13038 0.72847 C -0.12725 0.72708 -0.121 0.72592 -0.11788 0.72384 C -0.11475 0.72175 -0.11215 0.71851 -0.10902 0.71666 C -0.0993 0.71087 -0.08819 0.70856 -0.07864 0.70231 C -0.06128 0.69097 -0.07638 0.69814 -0.06441 0.69282 C -0.04739 0.67754 -0.02708 0.66921 -0.01076 0.65231 C 0.01268 0.628 0.03247 0.59699 0.05348 0.56898 C 0.05747 0.56365 0.05955 0.5537 0.0625 0.54745 C 0.06806 0.53564 0.0757 0.52592 0.07848 0.5118 C 0.08108 0.49907 0.08629 0.48287 0.09098 0.47129 C 0.10504 0.4368 0.09254 0.47523 0.10174 0.44513 C 0.10365 0.42986 0.1066 0.41666 0.11059 0.40231 C 0.11372 0.39143 0.11146 0.39282 0.11424 0.38078 C 0.12153 0.34814 0.11945 0.35439 0.12674 0.33564 C 0.12813 0.31296 0.13039 0.29791 0.13386 0.27615 C 0.13802 0.20763 0.14532 0.12916 0.1125 0.07129 C 0.10747 0.05231 0.11493 0.07708 0.10539 0.05717 C 0.09462 0.03449 0.10417 0.04074 0.09289 0.03564 C 0.09167 0.0324 0.09098 0.02893 0.08924 0.02615 C 0.08334 0.01666 0.07049 0.01689 0.0625 0.0118 C 0.05243 0.00532 0.06198 0.00856 0.05174 0.00462 C 0.04375 0.00162 0.04653 0.00115 0.04098 0.00462 E">
                                      <p:cBhvr>
                                        <p:cTn id="773" dur="2000" fill="hold"/>
                                        <p:tgtEl>
                                          <p:spTgt spid="6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74" restart="whenNotActive" nodeType="interactiveSeq" fill="hold">
                <p:stCondLst>
                  <p:cond evt="onClick">
                    <p:tgtEl>
                      <p:spTgt spid="611"/>
                    </p:tgtEl>
                  </p:cond>
                </p:stCondLst>
                <p:childTnLst>
                  <p:par>
                    <p:cTn id="775" fill="hold">
                      <p:stCondLst>
                        <p:cond evt="onClick">
                          <p:tgtEl>
                            <p:spTgt spid="611"/>
                          </p:tgtEl>
                        </p:cond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3.33333E-006 C -0.12986 0.0169 -0.26094 -0.00254 -0.39115 0.00718 C -0.39913 0.01135 -0.40608 0.01644 -0.41441 0.01898 C -0.42188 0.02593 -0.43212 0.03033 -0.44115 0.03334 C -0.45174 0.04746 -0.44115 0.03565 -0.45191 0.04283 C -0.46042 0.04861 -0.45903 0.05348 -0.46962 0.05718 C -0.47865 0.06528 -0.48281 0.06991 -0.48941 0.08102 C -0.4934 0.08773 -0.49549 0.0963 -0.5 0.10232 C -0.50694 0.11158 -0.50399 0.10672 -0.50903 0.11667 C -0.51163 0.12778 -0.51632 0.13843 -0.52153 0.14769 C -0.52396 0.16065 -0.52969 0.17686 -0.53576 0.18797 C -0.53733 0.19074 -0.53958 0.19236 -0.54115 0.19514 C -0.54375 0.19977 -0.54826 0.20949 -0.54826 0.20973 C -0.55156 0.22732 -0.54792 0.21065 -0.55365 0.22848 C -0.5566 0.23773 -0.55625 0.24607 -0.56076 0.25463 C -0.56267 0.275 -0.56441 0.29445 -0.56788 0.31436 C -0.57222 0.3676 -0.57552 0.42107 -0.58038 0.47385 C -0.58333 0.50695 -0.58299 0.54375 -0.58941 0.57616 C -0.59201 0.6125 -0.59306 0.61574 -0.58941 0.66436 C -0.58906 0.66783 -0.58142 0.67662 -0.58038 0.67848 C -0.5658 0.70209 -0.54253 0.71088 -0.51962 0.71181 C -0.48281 0.71343 -0.44583 0.71505 -0.40903 0.71667 C -0.39427 0.72037 -0.37934 0.72199 -0.36441 0.72385 C -0.29688 0.75301 -0.22031 0.74584 -0.15208 0.7213 C -0.14792 0.71783 -0.14323 0.71574 -0.13941 0.71181 C -0.12604 0.69838 -0.13785 0.70486 -0.12708 0.7 C -0.12448 0.69676 -0.1224 0.69329 -0.11979 0.69051 C -0.11632 0.68704 -0.10903 0.68102 -0.10903 0.68125 C -0.10608 0.67477 -0.10365 0.6676 -0.10017 0.66181 C -0.09809 0.6588 -0.09497 0.65741 -0.09288 0.65463 C -0.08906 0.64954 -0.08559 0.64375 -0.08212 0.63797 C -0.07604 0.62801 -0.07309 0.61875 -0.06615 0.60949 C -0.06354 0.60093 -0.06233 0.59144 -0.05903 0.58334 C -0.05729 0.57894 -0.05382 0.5757 -0.05191 0.5713 C -0.04392 0.55348 -0.05174 0.56598 -0.04653 0.55 C -0.04566 0.54746 -0.04392 0.54537 -0.04288 0.54283 C -0.04149 0.53912 -0.04063 0.53496 -0.03941 0.53102 C -0.03646 0.50834 -0.02882 0.48889 -0.025 0.46667 C -0.01944 0.43473 -0.01337 0.40301 -0.00712 0.3713 C -0.0066 0.36505 -0.00625 0.35857 -0.00538 0.35232 C -0.0033 0.33635 0.00174 0.30463 0.00174 0.30486 C 0.0026 0.20834 0.00712 0.11436 0.00712 0.01898 E">
                                      <p:cBhvr>
                                        <p:cTn id="778" dur="3000" fill="hold"/>
                                        <p:tgtEl>
                                          <p:spTgt spid="6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79" restart="whenNotActive" nodeType="interactiveSeq" fill="hold">
                <p:stCondLst>
                  <p:cond evt="onClick">
                    <p:tgtEl>
                      <p:spTgt spid="612"/>
                    </p:tgtEl>
                  </p:cond>
                </p:stCondLst>
                <p:childTnLst>
                  <p:par>
                    <p:cTn id="780" fill="hold">
                      <p:stCondLst>
                        <p:cond evt="onClick">
                          <p:tgtEl>
                            <p:spTgt spid="612"/>
                          </p:tgtEl>
                        </p:cond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path" presetID="28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17 0 0.031 0.01867 0.031 0.04133 C 0.031 0.06533 0.017 0.084 0 0.084 C -0.017 0.084 -0.031 0.10267 -0.031 0.12533 C -0.031 0.148 -0.017 0.16667 0 0.16667 C 0.017 0.16667 0.031 0.18533 0.031 0.208 C 0.031 0.23067 0.017 0.24933 0 0.24933 C -0.017 0.24933 -0.031 0.268 -0.031 0.292 C -0.031 0.31467 -0.017 0.33333 0 0.33333 C 0.017 0.33333 0.031 0.31467 0.031 0.292 C 0.031 0.268 0.017 0.24933 0 0.24933 C -0.017 0.24933 -0.031 0.23067 -0.031 0.208 C -0.031 0.18533 -0.017 0.16667 0 0.16667 C 0.017 0.16667 0.031 0.148 0.031 0.12533 C 0.031 0.10267 0.017 0.084 0 0.084 C -0.017 0.084 -0.031 0.06533 -0.031 0.04133 C -0.031 0.01867 -0.017 0 0 0 Z">
                                      <p:cBhvr>
                                        <p:cTn id="783" dur="2000" fill="hold"/>
                                        <p:tgtEl>
                                          <p:spTgt spid="6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84" restart="whenNotActive" nodeType="interactiveSeq" fill="hold">
                <p:stCondLst>
                  <p:cond evt="onClick">
                    <p:tgtEl>
                      <p:spTgt spid="613"/>
                    </p:tgtEl>
                  </p:cond>
                </p:stCondLst>
                <p:childTnLst>
                  <p:par>
                    <p:cTn id="785" fill="hold">
                      <p:stCondLst>
                        <p:cond evt="onClick">
                          <p:tgtEl>
                            <p:spTgt spid="613"/>
                          </p:tgtEl>
                        </p:cond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path" presetID="3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17 -0.08667 C 0.034 -0.15733 0.061 -0.18533 0.1 -0.18533 C 0.12 -0.18533 0.138 -0.17467 0.152 -0.15733 C 0.162 -0.14533 0.174 -0.13867 0.187 -0.13867 C 0.212 -0.13867 0.233 -0.16267 0.241 -0.19733 L 0.25 -0.23867 L 0.232 -0.15067 C 0.215 -0.08133 0.188 -0.05333 0.15 -0.05333 C 0.13 -0.05333 0.111 -0.064 0.096 -0.08267 C 0.087 -0.09333 0.075 -0.1 0.063 -0.1 C 0.038 -0.1 0.017 -0.076 0.009 -0.04133 L 0 0 Z">
                                      <p:cBhvr>
                                        <p:cTn id="788" dur="2000" fill="hold"/>
                                        <p:tgtEl>
                                          <p:spTgt spid="6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89" restart="whenNotActive" nodeType="interactiveSeq" fill="hold">
                <p:stCondLst>
                  <p:cond evt="onClick">
                    <p:tgtEl>
                      <p:spTgt spid="614"/>
                    </p:tgtEl>
                  </p:cond>
                </p:stCondLst>
                <p:childTnLst>
                  <p:par>
                    <p:cTn id="790" fill="hold">
                      <p:stCondLst>
                        <p:cond evt="onClick">
                          <p:tgtEl>
                            <p:spTgt spid="614"/>
                          </p:tgtEl>
                        </p:cond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path" presetID="2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 -0.04267 0.026 -0.07733 0.058 -0.07733 L 0.192 -0.07733 C 0.224 -0.07733 0.25 -0.04267 0.25 0 L 0.25 0.176 C 0.25 0.21867 0.224 0.25467 0.192 0.25467 L 0.058 0.25467 C 0.026 0.25467 0 0.21867 0 0.176 Z">
                                      <p:cBhvr>
                                        <p:cTn id="793" dur="2000" fill="hold"/>
                                        <p:tgtEl>
                                          <p:spTgt spid="6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4648320" y="4952880"/>
            <a:ext cx="326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lez !! Pour une seconde bonne réponse 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85920" y="380880"/>
            <a:ext cx="3900240" cy="604836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181480" y="1219320"/>
            <a:ext cx="679680" cy="89532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6858000" y="3352680"/>
            <a:ext cx="789120" cy="90036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5181480" y="3352680"/>
            <a:ext cx="825480" cy="9003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5181480" y="2274840"/>
            <a:ext cx="669960" cy="9000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6857280" y="1219320"/>
            <a:ext cx="825480" cy="90000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>
            <a:hlinkClick r:id="rId12" action="ppaction://hlinksldjump"/>
          </p:cNvPr>
          <p:cNvPicPr/>
          <p:nvPr/>
        </p:nvPicPr>
        <p:blipFill>
          <a:blip r:embed="rId13"/>
          <a:stretch/>
        </p:blipFill>
        <p:spPr>
          <a:xfrm>
            <a:off x="6858000" y="2286000"/>
            <a:ext cx="750960" cy="90000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962520" y="-63720"/>
            <a:ext cx="411480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 Black"/>
              </a:rPr>
              <a:t>Diapositive N° 2</a:t>
            </a:r>
            <a:br>
              <a:rPr sz="2400"/>
            </a:br>
            <a:r>
              <a:rPr b="0" lang="en-US" sz="2400" spc="-1" strike="noStrike">
                <a:solidFill>
                  <a:srgbClr val="0033cc"/>
                </a:solidFill>
                <a:latin typeface="Arial Black"/>
              </a:rPr>
              <a:t>Score actuel = 1 point</a:t>
            </a:r>
            <a:endParaRPr b="0" lang="en-US" sz="2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G Produc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194000" cy="6629400"/>
          </a:xfrm>
          <a:prstGeom prst="rect">
            <a:avLst/>
          </a:prstGeom>
          <a:ln w="0">
            <a:noFill/>
          </a:ln>
        </p:spPr>
      </p:pic>
      <p:pic>
        <p:nvPicPr>
          <p:cNvPr id="754" name="" descr=""/>
          <p:cNvPicPr/>
          <p:nvPr/>
        </p:nvPicPr>
        <p:blipFill>
          <a:blip r:embed="rId2"/>
          <a:stretch/>
        </p:blipFill>
        <p:spPr>
          <a:xfrm>
            <a:off x="7095960" y="1981080"/>
            <a:ext cx="1057320" cy="1293840"/>
          </a:xfrm>
          <a:prstGeom prst="rect">
            <a:avLst/>
          </a:prstGeom>
          <a:ln w="0">
            <a:noFill/>
          </a:ln>
        </p:spPr>
      </p:pic>
      <p:pic>
        <p:nvPicPr>
          <p:cNvPr id="755" name="" descr=""/>
          <p:cNvPicPr/>
          <p:nvPr/>
        </p:nvPicPr>
        <p:blipFill>
          <a:blip r:embed="rId3"/>
          <a:stretch/>
        </p:blipFill>
        <p:spPr>
          <a:xfrm>
            <a:off x="4419720" y="1973160"/>
            <a:ext cx="1057320" cy="1303560"/>
          </a:xfrm>
          <a:prstGeom prst="rect">
            <a:avLst/>
          </a:prstGeom>
          <a:ln w="0">
            <a:noFill/>
          </a:ln>
        </p:spPr>
      </p:pic>
      <p:pic>
        <p:nvPicPr>
          <p:cNvPr id="756" name="" descr=""/>
          <p:cNvPicPr/>
          <p:nvPr/>
        </p:nvPicPr>
        <p:blipFill>
          <a:blip r:embed="rId4"/>
          <a:stretch/>
        </p:blipFill>
        <p:spPr>
          <a:xfrm>
            <a:off x="5791320" y="1979640"/>
            <a:ext cx="1057320" cy="1220760"/>
          </a:xfrm>
          <a:prstGeom prst="rect">
            <a:avLst/>
          </a:prstGeom>
          <a:ln w="0">
            <a:noFill/>
          </a:ln>
        </p:spPr>
      </p:pic>
      <p:pic>
        <p:nvPicPr>
          <p:cNvPr id="757" name="" descr=""/>
          <p:cNvPicPr/>
          <p:nvPr/>
        </p:nvPicPr>
        <p:blipFill>
          <a:blip r:embed="rId5"/>
          <a:stretch/>
        </p:blipFill>
        <p:spPr>
          <a:xfrm>
            <a:off x="4419720" y="3801960"/>
            <a:ext cx="1057320" cy="1303560"/>
          </a:xfrm>
          <a:prstGeom prst="rect">
            <a:avLst/>
          </a:prstGeom>
          <a:ln w="0">
            <a:noFill/>
          </a:ln>
        </p:spPr>
      </p:pic>
      <p:pic>
        <p:nvPicPr>
          <p:cNvPr id="758" name="" descr=""/>
          <p:cNvPicPr/>
          <p:nvPr/>
        </p:nvPicPr>
        <p:blipFill>
          <a:blip r:embed="rId6"/>
          <a:stretch/>
        </p:blipFill>
        <p:spPr>
          <a:xfrm>
            <a:off x="5800680" y="3809880"/>
            <a:ext cx="1057320" cy="1274760"/>
          </a:xfrm>
          <a:prstGeom prst="rect">
            <a:avLst/>
          </a:prstGeom>
          <a:ln w="0">
            <a:noFill/>
          </a:ln>
        </p:spPr>
      </p:pic>
      <p:pic>
        <p:nvPicPr>
          <p:cNvPr id="759" name="" descr=""/>
          <p:cNvPicPr/>
          <p:nvPr/>
        </p:nvPicPr>
        <p:blipFill>
          <a:blip r:embed="rId7"/>
          <a:stretch/>
        </p:blipFill>
        <p:spPr>
          <a:xfrm>
            <a:off x="7086600" y="3809880"/>
            <a:ext cx="1057320" cy="1206720"/>
          </a:xfrm>
          <a:prstGeom prst="rect">
            <a:avLst/>
          </a:prstGeom>
          <a:ln w="0">
            <a:noFill/>
          </a:ln>
        </p:spPr>
      </p:pic>
      <p:pic>
        <p:nvPicPr>
          <p:cNvPr id="760" name="" descr=""/>
          <p:cNvPicPr/>
          <p:nvPr/>
        </p:nvPicPr>
        <p:blipFill>
          <a:blip r:embed="rId8"/>
          <a:stretch/>
        </p:blipFill>
        <p:spPr>
          <a:xfrm>
            <a:off x="1371600" y="5029200"/>
            <a:ext cx="1058760" cy="1371600"/>
          </a:xfrm>
          <a:prstGeom prst="rect">
            <a:avLst/>
          </a:prstGeom>
          <a:ln w="0">
            <a:noFill/>
          </a:ln>
        </p:spPr>
      </p:pic>
      <p:sp>
        <p:nvSpPr>
          <p:cNvPr id="761" name=""/>
          <p:cNvSpPr/>
          <p:nvPr/>
        </p:nvSpPr>
        <p:spPr>
          <a:xfrm>
            <a:off x="4267080" y="5410080"/>
            <a:ext cx="38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en observé 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038480" y="0"/>
            <a:ext cx="411480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 Black"/>
              </a:rPr>
              <a:t>Diapositive N° 6 - Résultat</a:t>
            </a:r>
            <a:br>
              <a:rPr sz="2400"/>
            </a:br>
            <a:r>
              <a:rPr b="0" lang="en-US" sz="2400" spc="-1" strike="noStrike">
                <a:solidFill>
                  <a:srgbClr val="0033cc"/>
                </a:solidFill>
                <a:latin typeface="Arial Black"/>
              </a:rPr>
              <a:t>Score final = 4 points</a:t>
            </a:r>
            <a:endParaRPr b="0" lang="en-US" sz="2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63" name=""/>
          <p:cNvSpPr/>
          <p:nvPr/>
        </p:nvSpPr>
        <p:spPr>
          <a:xfrm>
            <a:off x="6248520" y="137160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Lucida Handwriting"/>
              </a:rPr>
              <a:t>GAG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6781680" y="1905120"/>
            <a:ext cx="1600200" cy="144756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5791320" y="6348240"/>
            <a:ext cx="1008000" cy="505080"/>
          </a:xfrm>
          <a:custGeom>
            <a:avLst/>
            <a:gdLst>
              <a:gd name="textAreaLeft" fmla="*/ 32760 w 1008000"/>
              <a:gd name="textAreaRight" fmla="*/ 975600 w 1008000"/>
              <a:gd name="textAreaTop" fmla="*/ 32760 h 505080"/>
              <a:gd name="textAreaBottom" fmla="*/ 472680 h 505080"/>
            </a:gdLst>
            <a:ahLst/>
            <a:rect l="textAreaLeft" t="textAreaTop" r="textAreaRight" b="textAreaBottom"/>
            <a:pathLst>
              <a:path w="43092" h="21600">
                <a:moveTo>
                  <a:pt x="0" y="0"/>
                </a:moveTo>
                <a:lnTo>
                  <a:pt x="43092" y="0"/>
                </a:lnTo>
                <a:lnTo>
                  <a:pt x="43092" y="21600"/>
                </a:lnTo>
                <a:lnTo>
                  <a:pt x="0" y="21600"/>
                </a:lnTo>
                <a:close/>
              </a:path>
              <a:path fill="lightenLess" w="43092" h="21600">
                <a:moveTo>
                  <a:pt x="0" y="0"/>
                </a:moveTo>
                <a:lnTo>
                  <a:pt x="43092" y="0"/>
                </a:lnTo>
                <a:lnTo>
                  <a:pt x="41692" y="1400"/>
                </a:lnTo>
                <a:lnTo>
                  <a:pt x="1400" y="1400"/>
                </a:lnTo>
                <a:close/>
              </a:path>
              <a:path fill="darken" w="43092" h="21600">
                <a:moveTo>
                  <a:pt x="43092" y="0"/>
                </a:moveTo>
                <a:lnTo>
                  <a:pt x="43092" y="21600"/>
                </a:lnTo>
                <a:lnTo>
                  <a:pt x="41692" y="20200"/>
                </a:lnTo>
                <a:lnTo>
                  <a:pt x="41692" y="1400"/>
                </a:lnTo>
                <a:close/>
              </a:path>
              <a:path fill="darkenLess" w="43092" h="21600">
                <a:moveTo>
                  <a:pt x="430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92" y="20200"/>
                </a:lnTo>
                <a:close/>
              </a:path>
              <a:path fill="lighten" w="430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92" h="21600">
                <a:moveTo>
                  <a:pt x="14540" y="3794"/>
                </a:moveTo>
                <a:lnTo>
                  <a:pt x="28553" y="10800"/>
                </a:lnTo>
                <a:lnTo>
                  <a:pt x="14540" y="17806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G Produc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4" dur="indefinite" restart="never" nodeType="tmRoot">
          <p:childTnLst>
            <p:seq>
              <p:cTn id="795" dur="indefinite" nodeType="mainSeq">
                <p:childTnLst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0 L -0.64723 0.35694 E">
                                      <p:cBhvr>
                                        <p:cTn id="799" dur="2000" fill="hold"/>
                                        <p:tgtEl>
                                          <p:spTgt spid="6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00" restart="whenNotActive" nodeType="interactiveSeq" fill="hold">
                <p:stCondLst>
                  <p:cond evt="onClick">
                    <p:tgtEl>
                      <p:spTgt spid="610"/>
                    </p:tgtEl>
                  </p:cond>
                </p:stCondLst>
                <p:childTnLst>
                  <p:par>
                    <p:cTn id="801" fill="hold">
                      <p:stCondLst>
                        <p:cond evt="onClick">
                          <p:tgtEl>
                            <p:spTgt spid="610"/>
                          </p:tgtEl>
                        </p:cond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46945E-018 2.59259E-006 C -0.00364 0.00162 -0.00746 0.00231 -0.01076 0.00462 C -0.01475 0.0074 -0.03385 0.03287 -0.03402 0.03333 C -0.03524 0.03564 -0.03593 0.03842 -0.0375 0.0405 C -0.03958 0.04328 -0.04236 0.0449 -0.04461 0.04745 C -0.05434 0.05925 -0.06232 0.07337 -0.07326 0.08333 C -0.07864 0.09398 -0.08507 0.10231 -0.09288 0.10949 C -0.09548 0.12037 -0.09826 0.12384 -0.10538 0.13078 C -0.11059 0.14467 -0.11892 0.15787 -0.12864 0.16666 C -0.13402 0.17777 -0.14114 0.18819 -0.14826 0.19745 C -0.15156 0.21134 -0.1585 0.22314 -0.16614 0.23333 C -0.17048 0.25138 -0.16406 0.22986 -0.17326 0.24513 C -0.17448 0.24699 -0.17395 0.25023 -0.175 0.25231 C -0.17691 0.25601 -0.17986 0.25833 -0.18211 0.2618 C -0.18767 0.2706 -0.18472 0.26921 -0.18941 0.28078 C -0.19357 0.29074 -0.19757 0.29907 -0.20364 0.30717 C -0.2059 0.31967 -0.21145 0.32685 -0.21614 0.33796 C -0.22239 0.35324 -0.22951 0.36689 -0.2375 0.38078 C -0.2427 0.39004 -0.24253 0.3956 -0.25 0.40231 C -0.25295 0.41342 -0.26961 0.43564 -0.27691 0.44513 C -0.28055 0.45486 -0.28437 0.4625 -0.28941 0.47129 C -0.29201 0.48518 -0.29513 0.48634 -0.30191 0.49745 C -0.30468 0.50185 -0.30902 0.5118 -0.30902 0.5118 C -0.31111 0.52361 -0.31597 0.52824 -0.32152 0.53796 C -0.3243 0.5537 -0.33125 0.56944 -0.3375 0.58333 C -0.33975 0.58819 -0.34323 0.59212 -0.34461 0.59745 C -0.34635 0.60462 -0.34826 0.6118 -0.35 0.61898 C -0.35069 0.62129 -0.35191 0.62615 -0.35191 0.62615 C -0.35121 0.64513 -0.35156 0.66435 -0.35 0.68333 C -0.34895 0.69513 -0.33715 0.70717 -0.33038 0.7118 C -0.32083 0.71828 -0.31198 0.72847 -0.30191 0.73333 C -0.28993 0.73912 -0.27708 0.74097 -0.26441 0.74282 C -0.23385 0.75254 -0.19114 0.74351 -0.16441 0.74282 C -0.15277 0.73912 -0.14166 0.73356 -0.13038 0.72847 C -0.12725 0.72708 -0.121 0.72592 -0.11788 0.72384 C -0.11475 0.72175 -0.11215 0.71851 -0.10902 0.71666 C -0.0993 0.71087 -0.08819 0.70856 -0.07864 0.70231 C -0.06128 0.69097 -0.07638 0.69814 -0.06441 0.69282 C -0.04739 0.67754 -0.02708 0.66921 -0.01076 0.65231 C 0.01268 0.628 0.03247 0.59699 0.05348 0.56898 C 0.05747 0.56365 0.05955 0.5537 0.0625 0.54745 C 0.06806 0.53564 0.0757 0.52592 0.07848 0.5118 C 0.08108 0.49907 0.08629 0.48287 0.09098 0.47129 C 0.10504 0.4368 0.09254 0.47523 0.10174 0.44513 C 0.10365 0.42986 0.1066 0.41666 0.11059 0.40231 C 0.11372 0.39143 0.11146 0.39282 0.11424 0.38078 C 0.12153 0.34814 0.11945 0.35439 0.12674 0.33564 C 0.12813 0.31296 0.13039 0.29791 0.13386 0.27615 C 0.13802 0.20763 0.14532 0.12916 0.1125 0.07129 C 0.10747 0.05231 0.11493 0.07708 0.10539 0.05717 C 0.09462 0.03449 0.10417 0.04074 0.09289 0.03564 C 0.09167 0.0324 0.09098 0.02893 0.08924 0.02615 C 0.08334 0.01666 0.07049 0.01689 0.0625 0.0118 C 0.05243 0.00532 0.06198 0.00856 0.05174 0.00462 C 0.04375 0.00162 0.04653 0.00115 0.04098 0.00462 E">
                                      <p:cBhvr>
                                        <p:cTn id="804" dur="2000" fill="hold"/>
                                        <p:tgtEl>
                                          <p:spTgt spid="6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05" restart="whenNotActive" nodeType="interactiveSeq" fill="hold">
                <p:stCondLst>
                  <p:cond evt="onClick">
                    <p:tgtEl>
                      <p:spTgt spid="611"/>
                    </p:tgtEl>
                  </p:cond>
                </p:stCondLst>
                <p:childTnLst>
                  <p:par>
                    <p:cTn id="806" fill="hold">
                      <p:stCondLst>
                        <p:cond evt="onClick">
                          <p:tgtEl>
                            <p:spTgt spid="611"/>
                          </p:tgtEl>
                        </p:cond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3.33333E-006 C -0.12986 0.0169 -0.26094 -0.00254 -0.39115 0.00718 C -0.39913 0.01135 -0.40608 0.01644 -0.41441 0.01898 C -0.42188 0.02593 -0.43212 0.03033 -0.44115 0.03334 C -0.45174 0.04746 -0.44115 0.03565 -0.45191 0.04283 C -0.46042 0.04861 -0.45903 0.05348 -0.46962 0.05718 C -0.47865 0.06528 -0.48281 0.06991 -0.48941 0.08102 C -0.4934 0.08773 -0.49549 0.0963 -0.5 0.10232 C -0.50694 0.11158 -0.50399 0.10672 -0.50903 0.11667 C -0.51163 0.12778 -0.51632 0.13843 -0.52153 0.14769 C -0.52396 0.16065 -0.52969 0.17686 -0.53576 0.18797 C -0.53733 0.19074 -0.53958 0.19236 -0.54115 0.19514 C -0.54375 0.19977 -0.54826 0.20949 -0.54826 0.20973 C -0.55156 0.22732 -0.54792 0.21065 -0.55365 0.22848 C -0.5566 0.23773 -0.55625 0.24607 -0.56076 0.25463 C -0.56267 0.275 -0.56441 0.29445 -0.56788 0.31436 C -0.57222 0.3676 -0.57552 0.42107 -0.58038 0.47385 C -0.58333 0.50695 -0.58299 0.54375 -0.58941 0.57616 C -0.59201 0.6125 -0.59306 0.61574 -0.58941 0.66436 C -0.58906 0.66783 -0.58142 0.67662 -0.58038 0.67848 C -0.5658 0.70209 -0.54253 0.71088 -0.51962 0.71181 C -0.48281 0.71343 -0.44583 0.71505 -0.40903 0.71667 C -0.39427 0.72037 -0.37934 0.72199 -0.36441 0.72385 C -0.29688 0.75301 -0.22031 0.74584 -0.15208 0.7213 C -0.14792 0.71783 -0.14323 0.71574 -0.13941 0.71181 C -0.12604 0.69838 -0.13785 0.70486 -0.12708 0.7 C -0.12448 0.69676 -0.1224 0.69329 -0.11979 0.69051 C -0.11632 0.68704 -0.10903 0.68102 -0.10903 0.68125 C -0.10608 0.67477 -0.10365 0.6676 -0.10017 0.66181 C -0.09809 0.6588 -0.09497 0.65741 -0.09288 0.65463 C -0.08906 0.64954 -0.08559 0.64375 -0.08212 0.63797 C -0.07604 0.62801 -0.07309 0.61875 -0.06615 0.60949 C -0.06354 0.60093 -0.06233 0.59144 -0.05903 0.58334 C -0.05729 0.57894 -0.05382 0.5757 -0.05191 0.5713 C -0.04392 0.55348 -0.05174 0.56598 -0.04653 0.55 C -0.04566 0.54746 -0.04392 0.54537 -0.04288 0.54283 C -0.04149 0.53912 -0.04063 0.53496 -0.03941 0.53102 C -0.03646 0.50834 -0.02882 0.48889 -0.025 0.46667 C -0.01944 0.43473 -0.01337 0.40301 -0.00712 0.3713 C -0.0066 0.36505 -0.00625 0.35857 -0.00538 0.35232 C -0.0033 0.33635 0.00174 0.30463 0.00174 0.30486 C 0.0026 0.20834 0.00712 0.11436 0.00712 0.01898 E">
                                      <p:cBhvr>
                                        <p:cTn id="809" dur="3000" fill="hold"/>
                                        <p:tgtEl>
                                          <p:spTgt spid="6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10" restart="whenNotActive" nodeType="interactiveSeq" fill="hold">
                <p:stCondLst>
                  <p:cond evt="onClick">
                    <p:tgtEl>
                      <p:spTgt spid="612"/>
                    </p:tgtEl>
                  </p:cond>
                </p:stCondLst>
                <p:childTnLst>
                  <p:par>
                    <p:cTn id="811" fill="hold">
                      <p:stCondLst>
                        <p:cond evt="onClick">
                          <p:tgtEl>
                            <p:spTgt spid="612"/>
                          </p:tgtEl>
                        </p:cond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path" presetID="28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17 0 0.031 0.01867 0.031 0.04133 C 0.031 0.06533 0.017 0.084 0 0.084 C -0.017 0.084 -0.031 0.10267 -0.031 0.12533 C -0.031 0.148 -0.017 0.16667 0 0.16667 C 0.017 0.16667 0.031 0.18533 0.031 0.208 C 0.031 0.23067 0.017 0.24933 0 0.24933 C -0.017 0.24933 -0.031 0.268 -0.031 0.292 C -0.031 0.31467 -0.017 0.33333 0 0.33333 C 0.017 0.33333 0.031 0.31467 0.031 0.292 C 0.031 0.268 0.017 0.24933 0 0.24933 C -0.017 0.24933 -0.031 0.23067 -0.031 0.208 C -0.031 0.18533 -0.017 0.16667 0 0.16667 C 0.017 0.16667 0.031 0.148 0.031 0.12533 C 0.031 0.10267 0.017 0.084 0 0.084 C -0.017 0.084 -0.031 0.06533 -0.031 0.04133 C -0.031 0.01867 -0.017 0 0 0 Z">
                                      <p:cBhvr>
                                        <p:cTn id="814" dur="2000" fill="hold"/>
                                        <p:tgtEl>
                                          <p:spTgt spid="6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15" restart="whenNotActive" nodeType="interactiveSeq" fill="hold">
                <p:stCondLst>
                  <p:cond evt="onClick">
                    <p:tgtEl>
                      <p:spTgt spid="613"/>
                    </p:tgtEl>
                  </p:cond>
                </p:stCondLst>
                <p:childTnLst>
                  <p:par>
                    <p:cTn id="816" fill="hold">
                      <p:stCondLst>
                        <p:cond evt="onClick">
                          <p:tgtEl>
                            <p:spTgt spid="613"/>
                          </p:tgtEl>
                        </p:cond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path" presetID="3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17 -0.08667 C 0.034 -0.15733 0.061 -0.18533 0.1 -0.18533 C 0.12 -0.18533 0.138 -0.17467 0.152 -0.15733 C 0.162 -0.14533 0.174 -0.13867 0.187 -0.13867 C 0.212 -0.13867 0.233 -0.16267 0.241 -0.19733 L 0.25 -0.23867 L 0.232 -0.15067 C 0.215 -0.08133 0.188 -0.05333 0.15 -0.05333 C 0.13 -0.05333 0.111 -0.064 0.096 -0.08267 C 0.087 -0.09333 0.075 -0.1 0.063 -0.1 C 0.038 -0.1 0.017 -0.076 0.009 -0.04133 L 0 0 Z">
                                      <p:cBhvr>
                                        <p:cTn id="819" dur="2000" fill="hold"/>
                                        <p:tgtEl>
                                          <p:spTgt spid="6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0" restart="whenNotActive" nodeType="interactiveSeq" fill="hold">
                <p:stCondLst>
                  <p:cond evt="onClick">
                    <p:tgtEl>
                      <p:spTgt spid="614"/>
                    </p:tgtEl>
                  </p:cond>
                </p:stCondLst>
                <p:childTnLst>
                  <p:par>
                    <p:cTn id="821" fill="hold">
                      <p:stCondLst>
                        <p:cond evt="onClick">
                          <p:tgtEl>
                            <p:spTgt spid="614"/>
                          </p:tgtEl>
                        </p:cond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path" presetID="2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 -0.04267 0.026 -0.07733 0.058 -0.07733 L 0.192 -0.07733 C 0.224 -0.07733 0.25 -0.04267 0.25 0 L 0.25 0.176 C 0.25 0.21867 0.224 0.25467 0.192 0.25467 L 0.058 0.25467 C 0.026 0.25467 0 0.21867 0 0.176 Z">
                                      <p:cBhvr>
                                        <p:cTn id="824" dur="2000" fill="hold"/>
                                        <p:tgtEl>
                                          <p:spTgt spid="6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194000" cy="6629400"/>
          </a:xfrm>
          <a:prstGeom prst="rect">
            <a:avLst/>
          </a:prstGeom>
          <a:ln w="0">
            <a:noFill/>
          </a:ln>
        </p:spPr>
      </p:pic>
      <p:pic>
        <p:nvPicPr>
          <p:cNvPr id="767" name="" descr=""/>
          <p:cNvPicPr/>
          <p:nvPr/>
        </p:nvPicPr>
        <p:blipFill>
          <a:blip r:embed="rId2"/>
          <a:stretch/>
        </p:blipFill>
        <p:spPr>
          <a:xfrm>
            <a:off x="7095960" y="1981080"/>
            <a:ext cx="1057320" cy="1293840"/>
          </a:xfrm>
          <a:prstGeom prst="rect">
            <a:avLst/>
          </a:prstGeom>
          <a:ln w="0">
            <a:noFill/>
          </a:ln>
        </p:spPr>
      </p:pic>
      <p:pic>
        <p:nvPicPr>
          <p:cNvPr id="768" name="" descr=""/>
          <p:cNvPicPr/>
          <p:nvPr/>
        </p:nvPicPr>
        <p:blipFill>
          <a:blip r:embed="rId3"/>
          <a:stretch/>
        </p:blipFill>
        <p:spPr>
          <a:xfrm>
            <a:off x="4419720" y="1973160"/>
            <a:ext cx="1057320" cy="1303560"/>
          </a:xfrm>
          <a:prstGeom prst="rect">
            <a:avLst/>
          </a:prstGeom>
          <a:ln w="0">
            <a:noFill/>
          </a:ln>
        </p:spPr>
      </p:pic>
      <p:pic>
        <p:nvPicPr>
          <p:cNvPr id="769" name="" descr=""/>
          <p:cNvPicPr/>
          <p:nvPr/>
        </p:nvPicPr>
        <p:blipFill>
          <a:blip r:embed="rId4"/>
          <a:stretch/>
        </p:blipFill>
        <p:spPr>
          <a:xfrm>
            <a:off x="5791320" y="1979640"/>
            <a:ext cx="1057320" cy="1220760"/>
          </a:xfrm>
          <a:prstGeom prst="rect">
            <a:avLst/>
          </a:prstGeom>
          <a:ln w="0">
            <a:noFill/>
          </a:ln>
        </p:spPr>
      </p:pic>
      <p:pic>
        <p:nvPicPr>
          <p:cNvPr id="770" name="" descr=""/>
          <p:cNvPicPr/>
          <p:nvPr/>
        </p:nvPicPr>
        <p:blipFill>
          <a:blip r:embed="rId5"/>
          <a:stretch/>
        </p:blipFill>
        <p:spPr>
          <a:xfrm>
            <a:off x="4419720" y="3801960"/>
            <a:ext cx="1057320" cy="1303560"/>
          </a:xfrm>
          <a:prstGeom prst="rect">
            <a:avLst/>
          </a:prstGeom>
          <a:ln w="0">
            <a:noFill/>
          </a:ln>
        </p:spPr>
      </p:pic>
      <p:pic>
        <p:nvPicPr>
          <p:cNvPr id="771" name="" descr=""/>
          <p:cNvPicPr/>
          <p:nvPr/>
        </p:nvPicPr>
        <p:blipFill>
          <a:blip r:embed="rId6"/>
          <a:stretch/>
        </p:blipFill>
        <p:spPr>
          <a:xfrm>
            <a:off x="5800680" y="3809880"/>
            <a:ext cx="1057320" cy="1274760"/>
          </a:xfrm>
          <a:prstGeom prst="rect">
            <a:avLst/>
          </a:prstGeom>
          <a:ln w="0">
            <a:noFill/>
          </a:ln>
        </p:spPr>
      </p:pic>
      <p:pic>
        <p:nvPicPr>
          <p:cNvPr id="772" name="" descr=""/>
          <p:cNvPicPr/>
          <p:nvPr/>
        </p:nvPicPr>
        <p:blipFill>
          <a:blip r:embed="rId7"/>
          <a:stretch/>
        </p:blipFill>
        <p:spPr>
          <a:xfrm>
            <a:off x="7086600" y="3809880"/>
            <a:ext cx="1057320" cy="1206720"/>
          </a:xfrm>
          <a:prstGeom prst="rect">
            <a:avLst/>
          </a:prstGeom>
          <a:ln w="0">
            <a:noFill/>
          </a:ln>
        </p:spPr>
      </p:pic>
      <p:pic>
        <p:nvPicPr>
          <p:cNvPr id="773" name="" descr=""/>
          <p:cNvPicPr/>
          <p:nvPr/>
        </p:nvPicPr>
        <p:blipFill>
          <a:blip r:embed="rId8"/>
          <a:stretch/>
        </p:blipFill>
        <p:spPr>
          <a:xfrm>
            <a:off x="1371600" y="5029200"/>
            <a:ext cx="1058760" cy="1371600"/>
          </a:xfrm>
          <a:prstGeom prst="rect">
            <a:avLst/>
          </a:prstGeom>
          <a:ln w="0">
            <a:noFill/>
          </a:ln>
        </p:spPr>
      </p:pic>
      <p:sp>
        <p:nvSpPr>
          <p:cNvPr id="774" name=""/>
          <p:cNvSpPr/>
          <p:nvPr/>
        </p:nvSpPr>
        <p:spPr>
          <a:xfrm>
            <a:off x="4572000" y="5410080"/>
            <a:ext cx="35812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rreur 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gardes la bonne réponse 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4038480" y="0"/>
            <a:ext cx="411480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 Black"/>
              </a:rPr>
              <a:t>Diapositive N° 6 - Résultat</a:t>
            </a:r>
            <a:br>
              <a:rPr sz="2400"/>
            </a:br>
            <a:r>
              <a:rPr b="0" lang="en-US" sz="2400" spc="-1" strike="noStrike">
                <a:solidFill>
                  <a:srgbClr val="0033cc"/>
                </a:solidFill>
                <a:latin typeface="Arial Black"/>
              </a:rPr>
              <a:t>Score final = 4 points</a:t>
            </a:r>
            <a:endParaRPr b="0" lang="en-US" sz="2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76" name=""/>
          <p:cNvSpPr/>
          <p:nvPr/>
        </p:nvSpPr>
        <p:spPr>
          <a:xfrm>
            <a:off x="6248520" y="137160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Lucida Handwriting"/>
              </a:rPr>
              <a:t>Perd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6781680" y="1905120"/>
            <a:ext cx="1600200" cy="144756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5791320" y="6348240"/>
            <a:ext cx="1008000" cy="505080"/>
          </a:xfrm>
          <a:custGeom>
            <a:avLst/>
            <a:gdLst>
              <a:gd name="textAreaLeft" fmla="*/ 32760 w 1008000"/>
              <a:gd name="textAreaRight" fmla="*/ 975600 w 1008000"/>
              <a:gd name="textAreaTop" fmla="*/ 32760 h 505080"/>
              <a:gd name="textAreaBottom" fmla="*/ 472680 h 505080"/>
            </a:gdLst>
            <a:ahLst/>
            <a:rect l="textAreaLeft" t="textAreaTop" r="textAreaRight" b="textAreaBottom"/>
            <a:pathLst>
              <a:path w="43092" h="21600">
                <a:moveTo>
                  <a:pt x="0" y="0"/>
                </a:moveTo>
                <a:lnTo>
                  <a:pt x="43092" y="0"/>
                </a:lnTo>
                <a:lnTo>
                  <a:pt x="43092" y="21600"/>
                </a:lnTo>
                <a:lnTo>
                  <a:pt x="0" y="21600"/>
                </a:lnTo>
                <a:close/>
              </a:path>
              <a:path fill="lightenLess" w="43092" h="21600">
                <a:moveTo>
                  <a:pt x="0" y="0"/>
                </a:moveTo>
                <a:lnTo>
                  <a:pt x="43092" y="0"/>
                </a:lnTo>
                <a:lnTo>
                  <a:pt x="41692" y="1400"/>
                </a:lnTo>
                <a:lnTo>
                  <a:pt x="1400" y="1400"/>
                </a:lnTo>
                <a:close/>
              </a:path>
              <a:path fill="darken" w="43092" h="21600">
                <a:moveTo>
                  <a:pt x="43092" y="0"/>
                </a:moveTo>
                <a:lnTo>
                  <a:pt x="43092" y="21600"/>
                </a:lnTo>
                <a:lnTo>
                  <a:pt x="41692" y="20200"/>
                </a:lnTo>
                <a:lnTo>
                  <a:pt x="41692" y="1400"/>
                </a:lnTo>
                <a:close/>
              </a:path>
              <a:path fill="darkenLess" w="43092" h="21600">
                <a:moveTo>
                  <a:pt x="430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92" y="20200"/>
                </a:lnTo>
                <a:close/>
              </a:path>
              <a:path fill="lighten" w="430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92" h="21600">
                <a:moveTo>
                  <a:pt x="14540" y="3794"/>
                </a:moveTo>
                <a:lnTo>
                  <a:pt x="28553" y="10800"/>
                </a:lnTo>
                <a:lnTo>
                  <a:pt x="14540" y="17806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G Produc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5" dur="indefinite" restart="never" nodeType="tmRoot">
          <p:childTnLst>
            <p:seq>
              <p:cTn id="826" dur="indefinite" nodeType="mainSeq">
                <p:childTnLst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0 L -0.64723 0.35694 E">
                                      <p:cBhvr>
                                        <p:cTn id="830" dur="2000" fill="hold"/>
                                        <p:tgtEl>
                                          <p:spTgt spid="6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31" restart="whenNotActive" nodeType="interactiveSeq" fill="hold">
                <p:stCondLst>
                  <p:cond evt="onClick">
                    <p:tgtEl>
                      <p:spTgt spid="610"/>
                    </p:tgtEl>
                  </p:cond>
                </p:stCondLst>
                <p:childTnLst>
                  <p:par>
                    <p:cTn id="832" fill="hold">
                      <p:stCondLst>
                        <p:cond evt="onClick">
                          <p:tgtEl>
                            <p:spTgt spid="610"/>
                          </p:tgtEl>
                        </p:cond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46945E-018 2.59259E-006 C -0.00364 0.00162 -0.00746 0.00231 -0.01076 0.00462 C -0.01475 0.0074 -0.03385 0.03287 -0.03402 0.03333 C -0.03524 0.03564 -0.03593 0.03842 -0.0375 0.0405 C -0.03958 0.04328 -0.04236 0.0449 -0.04461 0.04745 C -0.05434 0.05925 -0.06232 0.07337 -0.07326 0.08333 C -0.07864 0.09398 -0.08507 0.10231 -0.09288 0.10949 C -0.09548 0.12037 -0.09826 0.12384 -0.10538 0.13078 C -0.11059 0.14467 -0.11892 0.15787 -0.12864 0.16666 C -0.13402 0.17777 -0.14114 0.18819 -0.14826 0.19745 C -0.15156 0.21134 -0.1585 0.22314 -0.16614 0.23333 C -0.17048 0.25138 -0.16406 0.22986 -0.17326 0.24513 C -0.17448 0.24699 -0.17395 0.25023 -0.175 0.25231 C -0.17691 0.25601 -0.17986 0.25833 -0.18211 0.2618 C -0.18767 0.2706 -0.18472 0.26921 -0.18941 0.28078 C -0.19357 0.29074 -0.19757 0.29907 -0.20364 0.30717 C -0.2059 0.31967 -0.21145 0.32685 -0.21614 0.33796 C -0.22239 0.35324 -0.22951 0.36689 -0.2375 0.38078 C -0.2427 0.39004 -0.24253 0.3956 -0.25 0.40231 C -0.25295 0.41342 -0.26961 0.43564 -0.27691 0.44513 C -0.28055 0.45486 -0.28437 0.4625 -0.28941 0.47129 C -0.29201 0.48518 -0.29513 0.48634 -0.30191 0.49745 C -0.30468 0.50185 -0.30902 0.5118 -0.30902 0.5118 C -0.31111 0.52361 -0.31597 0.52824 -0.32152 0.53796 C -0.3243 0.5537 -0.33125 0.56944 -0.3375 0.58333 C -0.33975 0.58819 -0.34323 0.59212 -0.34461 0.59745 C -0.34635 0.60462 -0.34826 0.6118 -0.35 0.61898 C -0.35069 0.62129 -0.35191 0.62615 -0.35191 0.62615 C -0.35121 0.64513 -0.35156 0.66435 -0.35 0.68333 C -0.34895 0.69513 -0.33715 0.70717 -0.33038 0.7118 C -0.32083 0.71828 -0.31198 0.72847 -0.30191 0.73333 C -0.28993 0.73912 -0.27708 0.74097 -0.26441 0.74282 C -0.23385 0.75254 -0.19114 0.74351 -0.16441 0.74282 C -0.15277 0.73912 -0.14166 0.73356 -0.13038 0.72847 C -0.12725 0.72708 -0.121 0.72592 -0.11788 0.72384 C -0.11475 0.72175 -0.11215 0.71851 -0.10902 0.71666 C -0.0993 0.71087 -0.08819 0.70856 -0.07864 0.70231 C -0.06128 0.69097 -0.07638 0.69814 -0.06441 0.69282 C -0.04739 0.67754 -0.02708 0.66921 -0.01076 0.65231 C 0.01268 0.628 0.03247 0.59699 0.05348 0.56898 C 0.05747 0.56365 0.05955 0.5537 0.0625 0.54745 C 0.06806 0.53564 0.0757 0.52592 0.07848 0.5118 C 0.08108 0.49907 0.08629 0.48287 0.09098 0.47129 C 0.10504 0.4368 0.09254 0.47523 0.10174 0.44513 C 0.10365 0.42986 0.1066 0.41666 0.11059 0.40231 C 0.11372 0.39143 0.11146 0.39282 0.11424 0.38078 C 0.12153 0.34814 0.11945 0.35439 0.12674 0.33564 C 0.12813 0.31296 0.13039 0.29791 0.13386 0.27615 C 0.13802 0.20763 0.14532 0.12916 0.1125 0.07129 C 0.10747 0.05231 0.11493 0.07708 0.10539 0.05717 C 0.09462 0.03449 0.10417 0.04074 0.09289 0.03564 C 0.09167 0.0324 0.09098 0.02893 0.08924 0.02615 C 0.08334 0.01666 0.07049 0.01689 0.0625 0.0118 C 0.05243 0.00532 0.06198 0.00856 0.05174 0.00462 C 0.04375 0.00162 0.04653 0.00115 0.04098 0.00462 E">
                                      <p:cBhvr>
                                        <p:cTn id="835" dur="2000" fill="hold"/>
                                        <p:tgtEl>
                                          <p:spTgt spid="6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36" restart="whenNotActive" nodeType="interactiveSeq" fill="hold">
                <p:stCondLst>
                  <p:cond evt="onClick">
                    <p:tgtEl>
                      <p:spTgt spid="611"/>
                    </p:tgtEl>
                  </p:cond>
                </p:stCondLst>
                <p:childTnLst>
                  <p:par>
                    <p:cTn id="837" fill="hold">
                      <p:stCondLst>
                        <p:cond evt="onClick">
                          <p:tgtEl>
                            <p:spTgt spid="611"/>
                          </p:tgtEl>
                        </p:cond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3.33333E-006 C -0.12986 0.0169 -0.26094 -0.00254 -0.39115 0.00718 C -0.39913 0.01135 -0.40608 0.01644 -0.41441 0.01898 C -0.42188 0.02593 -0.43212 0.03033 -0.44115 0.03334 C -0.45174 0.04746 -0.44115 0.03565 -0.45191 0.04283 C -0.46042 0.04861 -0.45903 0.05348 -0.46962 0.05718 C -0.47865 0.06528 -0.48281 0.06991 -0.48941 0.08102 C -0.4934 0.08773 -0.49549 0.0963 -0.5 0.10232 C -0.50694 0.11158 -0.50399 0.10672 -0.50903 0.11667 C -0.51163 0.12778 -0.51632 0.13843 -0.52153 0.14769 C -0.52396 0.16065 -0.52969 0.17686 -0.53576 0.18797 C -0.53733 0.19074 -0.53958 0.19236 -0.54115 0.19514 C -0.54375 0.19977 -0.54826 0.20949 -0.54826 0.20973 C -0.55156 0.22732 -0.54792 0.21065 -0.55365 0.22848 C -0.5566 0.23773 -0.55625 0.24607 -0.56076 0.25463 C -0.56267 0.275 -0.56441 0.29445 -0.56788 0.31436 C -0.57222 0.3676 -0.57552 0.42107 -0.58038 0.47385 C -0.58333 0.50695 -0.58299 0.54375 -0.58941 0.57616 C -0.59201 0.6125 -0.59306 0.61574 -0.58941 0.66436 C -0.58906 0.66783 -0.58142 0.67662 -0.58038 0.67848 C -0.5658 0.70209 -0.54253 0.71088 -0.51962 0.71181 C -0.48281 0.71343 -0.44583 0.71505 -0.40903 0.71667 C -0.39427 0.72037 -0.37934 0.72199 -0.36441 0.72385 C -0.29688 0.75301 -0.22031 0.74584 -0.15208 0.7213 C -0.14792 0.71783 -0.14323 0.71574 -0.13941 0.71181 C -0.12604 0.69838 -0.13785 0.70486 -0.12708 0.7 C -0.12448 0.69676 -0.1224 0.69329 -0.11979 0.69051 C -0.11632 0.68704 -0.10903 0.68102 -0.10903 0.68125 C -0.10608 0.67477 -0.10365 0.6676 -0.10017 0.66181 C -0.09809 0.6588 -0.09497 0.65741 -0.09288 0.65463 C -0.08906 0.64954 -0.08559 0.64375 -0.08212 0.63797 C -0.07604 0.62801 -0.07309 0.61875 -0.06615 0.60949 C -0.06354 0.60093 -0.06233 0.59144 -0.05903 0.58334 C -0.05729 0.57894 -0.05382 0.5757 -0.05191 0.5713 C -0.04392 0.55348 -0.05174 0.56598 -0.04653 0.55 C -0.04566 0.54746 -0.04392 0.54537 -0.04288 0.54283 C -0.04149 0.53912 -0.04063 0.53496 -0.03941 0.53102 C -0.03646 0.50834 -0.02882 0.48889 -0.025 0.46667 C -0.01944 0.43473 -0.01337 0.40301 -0.00712 0.3713 C -0.0066 0.36505 -0.00625 0.35857 -0.00538 0.35232 C -0.0033 0.33635 0.00174 0.30463 0.00174 0.30486 C 0.0026 0.20834 0.00712 0.11436 0.00712 0.01898 E">
                                      <p:cBhvr>
                                        <p:cTn id="840" dur="3000" fill="hold"/>
                                        <p:tgtEl>
                                          <p:spTgt spid="6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1" restart="whenNotActive" nodeType="interactiveSeq" fill="hold">
                <p:stCondLst>
                  <p:cond evt="onClick">
                    <p:tgtEl>
                      <p:spTgt spid="612"/>
                    </p:tgtEl>
                  </p:cond>
                </p:stCondLst>
                <p:childTnLst>
                  <p:par>
                    <p:cTn id="842" fill="hold">
                      <p:stCondLst>
                        <p:cond evt="onClick">
                          <p:tgtEl>
                            <p:spTgt spid="612"/>
                          </p:tgtEl>
                        </p:cond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path" presetID="28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17 0 0.031 0.01867 0.031 0.04133 C 0.031 0.06533 0.017 0.084 0 0.084 C -0.017 0.084 -0.031 0.10267 -0.031 0.12533 C -0.031 0.148 -0.017 0.16667 0 0.16667 C 0.017 0.16667 0.031 0.18533 0.031 0.208 C 0.031 0.23067 0.017 0.24933 0 0.24933 C -0.017 0.24933 -0.031 0.268 -0.031 0.292 C -0.031 0.31467 -0.017 0.33333 0 0.33333 C 0.017 0.33333 0.031 0.31467 0.031 0.292 C 0.031 0.268 0.017 0.24933 0 0.24933 C -0.017 0.24933 -0.031 0.23067 -0.031 0.208 C -0.031 0.18533 -0.017 0.16667 0 0.16667 C 0.017 0.16667 0.031 0.148 0.031 0.12533 C 0.031 0.10267 0.017 0.084 0 0.084 C -0.017 0.084 -0.031 0.06533 -0.031 0.04133 C -0.031 0.01867 -0.017 0 0 0 Z">
                                      <p:cBhvr>
                                        <p:cTn id="845" dur="2000" fill="hold"/>
                                        <p:tgtEl>
                                          <p:spTgt spid="6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6" restart="whenNotActive" nodeType="interactiveSeq" fill="hold">
                <p:stCondLst>
                  <p:cond evt="onClick">
                    <p:tgtEl>
                      <p:spTgt spid="613"/>
                    </p:tgtEl>
                  </p:cond>
                </p:stCondLst>
                <p:childTnLst>
                  <p:par>
                    <p:cTn id="847" fill="hold">
                      <p:stCondLst>
                        <p:cond evt="onClick">
                          <p:tgtEl>
                            <p:spTgt spid="613"/>
                          </p:tgtEl>
                        </p:cond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path" presetID="3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17 -0.08667 C 0.034 -0.15733 0.061 -0.18533 0.1 -0.18533 C 0.12 -0.18533 0.138 -0.17467 0.152 -0.15733 C 0.162 -0.14533 0.174 -0.13867 0.187 -0.13867 C 0.212 -0.13867 0.233 -0.16267 0.241 -0.19733 L 0.25 -0.23867 L 0.232 -0.15067 C 0.215 -0.08133 0.188 -0.05333 0.15 -0.05333 C 0.13 -0.05333 0.111 -0.064 0.096 -0.08267 C 0.087 -0.09333 0.075 -0.1 0.063 -0.1 C 0.038 -0.1 0.017 -0.076 0.009 -0.04133 L 0 0 Z">
                                      <p:cBhvr>
                                        <p:cTn id="850" dur="2000" fill="hold"/>
                                        <p:tgtEl>
                                          <p:spTgt spid="6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51" restart="whenNotActive" nodeType="interactiveSeq" fill="hold">
                <p:stCondLst>
                  <p:cond evt="onClick">
                    <p:tgtEl>
                      <p:spTgt spid="614"/>
                    </p:tgtEl>
                  </p:cond>
                </p:stCondLst>
                <p:childTnLst>
                  <p:par>
                    <p:cTn id="852" fill="hold">
                      <p:stCondLst>
                        <p:cond evt="onClick">
                          <p:tgtEl>
                            <p:spTgt spid="614"/>
                          </p:tgtEl>
                        </p:cond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path" presetID="2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 -0.04267 0.026 -0.07733 0.058 -0.07733 L 0.192 -0.07733 C 0.224 -0.07733 0.25 -0.04267 0.25 0 L 0.25 0.176 C 0.25 0.21867 0.224 0.25467 0.192 0.25467 L 0.058 0.25467 C 0.026 0.25467 0 0.21867 0 0.176 Z">
                                      <p:cBhvr>
                                        <p:cTn id="855" dur="2000" fill="hold"/>
                                        <p:tgtEl>
                                          <p:spTgt spid="6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194000" cy="6629400"/>
          </a:xfrm>
          <a:prstGeom prst="rect">
            <a:avLst/>
          </a:prstGeom>
          <a:ln w="0">
            <a:noFill/>
          </a:ln>
        </p:spPr>
      </p:pic>
      <p:pic>
        <p:nvPicPr>
          <p:cNvPr id="780" name="" descr=""/>
          <p:cNvPicPr/>
          <p:nvPr/>
        </p:nvPicPr>
        <p:blipFill>
          <a:blip r:embed="rId2"/>
          <a:stretch/>
        </p:blipFill>
        <p:spPr>
          <a:xfrm>
            <a:off x="7095960" y="1981080"/>
            <a:ext cx="1057320" cy="1293840"/>
          </a:xfrm>
          <a:prstGeom prst="rect">
            <a:avLst/>
          </a:prstGeom>
          <a:ln w="0">
            <a:noFill/>
          </a:ln>
        </p:spPr>
      </p:pic>
      <p:pic>
        <p:nvPicPr>
          <p:cNvPr id="781" name="" descr=""/>
          <p:cNvPicPr/>
          <p:nvPr/>
        </p:nvPicPr>
        <p:blipFill>
          <a:blip r:embed="rId3"/>
          <a:stretch/>
        </p:blipFill>
        <p:spPr>
          <a:xfrm>
            <a:off x="4419720" y="1973160"/>
            <a:ext cx="1057320" cy="1303560"/>
          </a:xfrm>
          <a:prstGeom prst="rect">
            <a:avLst/>
          </a:prstGeom>
          <a:ln w="0">
            <a:noFill/>
          </a:ln>
        </p:spPr>
      </p:pic>
      <p:pic>
        <p:nvPicPr>
          <p:cNvPr id="782" name="" descr=""/>
          <p:cNvPicPr/>
          <p:nvPr/>
        </p:nvPicPr>
        <p:blipFill>
          <a:blip r:embed="rId4"/>
          <a:stretch/>
        </p:blipFill>
        <p:spPr>
          <a:xfrm>
            <a:off x="5791320" y="1979640"/>
            <a:ext cx="1057320" cy="1220760"/>
          </a:xfrm>
          <a:prstGeom prst="rect">
            <a:avLst/>
          </a:prstGeom>
          <a:ln w="0">
            <a:noFill/>
          </a:ln>
        </p:spPr>
      </p:pic>
      <p:pic>
        <p:nvPicPr>
          <p:cNvPr id="783" name="" descr=""/>
          <p:cNvPicPr/>
          <p:nvPr/>
        </p:nvPicPr>
        <p:blipFill>
          <a:blip r:embed="rId5"/>
          <a:stretch/>
        </p:blipFill>
        <p:spPr>
          <a:xfrm>
            <a:off x="4419720" y="3801960"/>
            <a:ext cx="1057320" cy="1303560"/>
          </a:xfrm>
          <a:prstGeom prst="rect">
            <a:avLst/>
          </a:prstGeom>
          <a:ln w="0">
            <a:noFill/>
          </a:ln>
        </p:spPr>
      </p:pic>
      <p:pic>
        <p:nvPicPr>
          <p:cNvPr id="784" name="" descr=""/>
          <p:cNvPicPr/>
          <p:nvPr/>
        </p:nvPicPr>
        <p:blipFill>
          <a:blip r:embed="rId6"/>
          <a:stretch/>
        </p:blipFill>
        <p:spPr>
          <a:xfrm>
            <a:off x="5800680" y="3809880"/>
            <a:ext cx="1057320" cy="1274760"/>
          </a:xfrm>
          <a:prstGeom prst="rect">
            <a:avLst/>
          </a:prstGeom>
          <a:ln w="0">
            <a:noFill/>
          </a:ln>
        </p:spPr>
      </p:pic>
      <p:pic>
        <p:nvPicPr>
          <p:cNvPr id="785" name="" descr=""/>
          <p:cNvPicPr/>
          <p:nvPr/>
        </p:nvPicPr>
        <p:blipFill>
          <a:blip r:embed="rId7"/>
          <a:stretch/>
        </p:blipFill>
        <p:spPr>
          <a:xfrm>
            <a:off x="7086600" y="3809880"/>
            <a:ext cx="1057320" cy="1206720"/>
          </a:xfrm>
          <a:prstGeom prst="rect">
            <a:avLst/>
          </a:prstGeom>
          <a:ln w="0">
            <a:noFill/>
          </a:ln>
        </p:spPr>
      </p:pic>
      <p:pic>
        <p:nvPicPr>
          <p:cNvPr id="786" name="" descr=""/>
          <p:cNvPicPr/>
          <p:nvPr/>
        </p:nvPicPr>
        <p:blipFill>
          <a:blip r:embed="rId8"/>
          <a:stretch/>
        </p:blipFill>
        <p:spPr>
          <a:xfrm>
            <a:off x="1371600" y="5029200"/>
            <a:ext cx="1058760" cy="1371600"/>
          </a:xfrm>
          <a:prstGeom prst="rect">
            <a:avLst/>
          </a:prstGeom>
          <a:ln w="0">
            <a:noFill/>
          </a:ln>
        </p:spPr>
      </p:pic>
      <p:sp>
        <p:nvSpPr>
          <p:cNvPr id="787" name=""/>
          <p:cNvSpPr/>
          <p:nvPr/>
        </p:nvSpPr>
        <p:spPr>
          <a:xfrm>
            <a:off x="4267080" y="5410080"/>
            <a:ext cx="38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en observé 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038480" y="0"/>
            <a:ext cx="411480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 Black"/>
              </a:rPr>
              <a:t>Diapositive N° 6 - Résultat</a:t>
            </a:r>
            <a:br>
              <a:rPr sz="2400"/>
            </a:br>
            <a:r>
              <a:rPr b="0" lang="en-US" sz="2400" spc="-1" strike="noStrike">
                <a:solidFill>
                  <a:srgbClr val="0033cc"/>
                </a:solidFill>
                <a:latin typeface="Arial Black"/>
              </a:rPr>
              <a:t>Score final = 5 points</a:t>
            </a:r>
            <a:endParaRPr b="0" lang="en-US" sz="2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89" name=""/>
          <p:cNvSpPr/>
          <p:nvPr/>
        </p:nvSpPr>
        <p:spPr>
          <a:xfrm>
            <a:off x="6248520" y="137160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Lucida Handwriting"/>
              </a:rPr>
              <a:t>GAG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6781680" y="1905120"/>
            <a:ext cx="1600200" cy="144756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5791320" y="6348240"/>
            <a:ext cx="1008000" cy="505080"/>
          </a:xfrm>
          <a:custGeom>
            <a:avLst/>
            <a:gdLst>
              <a:gd name="textAreaLeft" fmla="*/ 32760 w 1008000"/>
              <a:gd name="textAreaRight" fmla="*/ 975600 w 1008000"/>
              <a:gd name="textAreaTop" fmla="*/ 32760 h 505080"/>
              <a:gd name="textAreaBottom" fmla="*/ 472680 h 505080"/>
            </a:gdLst>
            <a:ahLst/>
            <a:rect l="textAreaLeft" t="textAreaTop" r="textAreaRight" b="textAreaBottom"/>
            <a:pathLst>
              <a:path w="43092" h="21600">
                <a:moveTo>
                  <a:pt x="0" y="0"/>
                </a:moveTo>
                <a:lnTo>
                  <a:pt x="43092" y="0"/>
                </a:lnTo>
                <a:lnTo>
                  <a:pt x="43092" y="21600"/>
                </a:lnTo>
                <a:lnTo>
                  <a:pt x="0" y="21600"/>
                </a:lnTo>
                <a:close/>
              </a:path>
              <a:path fill="lightenLess" w="43092" h="21600">
                <a:moveTo>
                  <a:pt x="0" y="0"/>
                </a:moveTo>
                <a:lnTo>
                  <a:pt x="43092" y="0"/>
                </a:lnTo>
                <a:lnTo>
                  <a:pt x="41692" y="1400"/>
                </a:lnTo>
                <a:lnTo>
                  <a:pt x="1400" y="1400"/>
                </a:lnTo>
                <a:close/>
              </a:path>
              <a:path fill="darken" w="43092" h="21600">
                <a:moveTo>
                  <a:pt x="43092" y="0"/>
                </a:moveTo>
                <a:lnTo>
                  <a:pt x="43092" y="21600"/>
                </a:lnTo>
                <a:lnTo>
                  <a:pt x="41692" y="20200"/>
                </a:lnTo>
                <a:lnTo>
                  <a:pt x="41692" y="1400"/>
                </a:lnTo>
                <a:close/>
              </a:path>
              <a:path fill="darkenLess" w="43092" h="21600">
                <a:moveTo>
                  <a:pt x="430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92" y="20200"/>
                </a:lnTo>
                <a:close/>
              </a:path>
              <a:path fill="lighten" w="430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92" h="21600">
                <a:moveTo>
                  <a:pt x="14540" y="3794"/>
                </a:moveTo>
                <a:lnTo>
                  <a:pt x="28553" y="10800"/>
                </a:lnTo>
                <a:lnTo>
                  <a:pt x="14540" y="17806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G Produc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6" dur="indefinite" restart="never" nodeType="tmRoot">
          <p:childTnLst>
            <p:seq>
              <p:cTn id="857" dur="indefinite" nodeType="mainSeq">
                <p:childTnLst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0 L -0.64723 0.35694 E">
                                      <p:cBhvr>
                                        <p:cTn id="861" dur="2000" fill="hold"/>
                                        <p:tgtEl>
                                          <p:spTgt spid="6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62" restart="whenNotActive" nodeType="interactiveSeq" fill="hold">
                <p:stCondLst>
                  <p:cond evt="onClick">
                    <p:tgtEl>
                      <p:spTgt spid="610"/>
                    </p:tgtEl>
                  </p:cond>
                </p:stCondLst>
                <p:childTnLst>
                  <p:par>
                    <p:cTn id="863" fill="hold">
                      <p:stCondLst>
                        <p:cond evt="onClick">
                          <p:tgtEl>
                            <p:spTgt spid="610"/>
                          </p:tgtEl>
                        </p:cond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46945E-018 2.59259E-006 C -0.00364 0.00162 -0.00746 0.00231 -0.01076 0.00462 C -0.01475 0.0074 -0.03385 0.03287 -0.03402 0.03333 C -0.03524 0.03564 -0.03593 0.03842 -0.0375 0.0405 C -0.03958 0.04328 -0.04236 0.0449 -0.04461 0.04745 C -0.05434 0.05925 -0.06232 0.07337 -0.07326 0.08333 C -0.07864 0.09398 -0.08507 0.10231 -0.09288 0.10949 C -0.09548 0.12037 -0.09826 0.12384 -0.10538 0.13078 C -0.11059 0.14467 -0.11892 0.15787 -0.12864 0.16666 C -0.13402 0.17777 -0.14114 0.18819 -0.14826 0.19745 C -0.15156 0.21134 -0.1585 0.22314 -0.16614 0.23333 C -0.17048 0.25138 -0.16406 0.22986 -0.17326 0.24513 C -0.17448 0.24699 -0.17395 0.25023 -0.175 0.25231 C -0.17691 0.25601 -0.17986 0.25833 -0.18211 0.2618 C -0.18767 0.2706 -0.18472 0.26921 -0.18941 0.28078 C -0.19357 0.29074 -0.19757 0.29907 -0.20364 0.30717 C -0.2059 0.31967 -0.21145 0.32685 -0.21614 0.33796 C -0.22239 0.35324 -0.22951 0.36689 -0.2375 0.38078 C -0.2427 0.39004 -0.24253 0.3956 -0.25 0.40231 C -0.25295 0.41342 -0.26961 0.43564 -0.27691 0.44513 C -0.28055 0.45486 -0.28437 0.4625 -0.28941 0.47129 C -0.29201 0.48518 -0.29513 0.48634 -0.30191 0.49745 C -0.30468 0.50185 -0.30902 0.5118 -0.30902 0.5118 C -0.31111 0.52361 -0.31597 0.52824 -0.32152 0.53796 C -0.3243 0.5537 -0.33125 0.56944 -0.3375 0.58333 C -0.33975 0.58819 -0.34323 0.59212 -0.34461 0.59745 C -0.34635 0.60462 -0.34826 0.6118 -0.35 0.61898 C -0.35069 0.62129 -0.35191 0.62615 -0.35191 0.62615 C -0.35121 0.64513 -0.35156 0.66435 -0.35 0.68333 C -0.34895 0.69513 -0.33715 0.70717 -0.33038 0.7118 C -0.32083 0.71828 -0.31198 0.72847 -0.30191 0.73333 C -0.28993 0.73912 -0.27708 0.74097 -0.26441 0.74282 C -0.23385 0.75254 -0.19114 0.74351 -0.16441 0.74282 C -0.15277 0.73912 -0.14166 0.73356 -0.13038 0.72847 C -0.12725 0.72708 -0.121 0.72592 -0.11788 0.72384 C -0.11475 0.72175 -0.11215 0.71851 -0.10902 0.71666 C -0.0993 0.71087 -0.08819 0.70856 -0.07864 0.70231 C -0.06128 0.69097 -0.07638 0.69814 -0.06441 0.69282 C -0.04739 0.67754 -0.02708 0.66921 -0.01076 0.65231 C 0.01268 0.628 0.03247 0.59699 0.05348 0.56898 C 0.05747 0.56365 0.05955 0.5537 0.0625 0.54745 C 0.06806 0.53564 0.0757 0.52592 0.07848 0.5118 C 0.08108 0.49907 0.08629 0.48287 0.09098 0.47129 C 0.10504 0.4368 0.09254 0.47523 0.10174 0.44513 C 0.10365 0.42986 0.1066 0.41666 0.11059 0.40231 C 0.11372 0.39143 0.11146 0.39282 0.11424 0.38078 C 0.12153 0.34814 0.11945 0.35439 0.12674 0.33564 C 0.12813 0.31296 0.13039 0.29791 0.13386 0.27615 C 0.13802 0.20763 0.14532 0.12916 0.1125 0.07129 C 0.10747 0.05231 0.11493 0.07708 0.10539 0.05717 C 0.09462 0.03449 0.10417 0.04074 0.09289 0.03564 C 0.09167 0.0324 0.09098 0.02893 0.08924 0.02615 C 0.08334 0.01666 0.07049 0.01689 0.0625 0.0118 C 0.05243 0.00532 0.06198 0.00856 0.05174 0.00462 C 0.04375 0.00162 0.04653 0.00115 0.04098 0.00462 E">
                                      <p:cBhvr>
                                        <p:cTn id="866" dur="2000" fill="hold"/>
                                        <p:tgtEl>
                                          <p:spTgt spid="6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67" restart="whenNotActive" nodeType="interactiveSeq" fill="hold">
                <p:stCondLst>
                  <p:cond evt="onClick">
                    <p:tgtEl>
                      <p:spTgt spid="611"/>
                    </p:tgtEl>
                  </p:cond>
                </p:stCondLst>
                <p:childTnLst>
                  <p:par>
                    <p:cTn id="868" fill="hold">
                      <p:stCondLst>
                        <p:cond evt="onClick">
                          <p:tgtEl>
                            <p:spTgt spid="611"/>
                          </p:tgtEl>
                        </p:cond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3.33333E-006 C -0.12986 0.0169 -0.26094 -0.00254 -0.39115 0.00718 C -0.39913 0.01135 -0.40608 0.01644 -0.41441 0.01898 C -0.42188 0.02593 -0.43212 0.03033 -0.44115 0.03334 C -0.45174 0.04746 -0.44115 0.03565 -0.45191 0.04283 C -0.46042 0.04861 -0.45903 0.05348 -0.46962 0.05718 C -0.47865 0.06528 -0.48281 0.06991 -0.48941 0.08102 C -0.4934 0.08773 -0.49549 0.0963 -0.5 0.10232 C -0.50694 0.11158 -0.50399 0.10672 -0.50903 0.11667 C -0.51163 0.12778 -0.51632 0.13843 -0.52153 0.14769 C -0.52396 0.16065 -0.52969 0.17686 -0.53576 0.18797 C -0.53733 0.19074 -0.53958 0.19236 -0.54115 0.19514 C -0.54375 0.19977 -0.54826 0.20949 -0.54826 0.20973 C -0.55156 0.22732 -0.54792 0.21065 -0.55365 0.22848 C -0.5566 0.23773 -0.55625 0.24607 -0.56076 0.25463 C -0.56267 0.275 -0.56441 0.29445 -0.56788 0.31436 C -0.57222 0.3676 -0.57552 0.42107 -0.58038 0.47385 C -0.58333 0.50695 -0.58299 0.54375 -0.58941 0.57616 C -0.59201 0.6125 -0.59306 0.61574 -0.58941 0.66436 C -0.58906 0.66783 -0.58142 0.67662 -0.58038 0.67848 C -0.5658 0.70209 -0.54253 0.71088 -0.51962 0.71181 C -0.48281 0.71343 -0.44583 0.71505 -0.40903 0.71667 C -0.39427 0.72037 -0.37934 0.72199 -0.36441 0.72385 C -0.29688 0.75301 -0.22031 0.74584 -0.15208 0.7213 C -0.14792 0.71783 -0.14323 0.71574 -0.13941 0.71181 C -0.12604 0.69838 -0.13785 0.70486 -0.12708 0.7 C -0.12448 0.69676 -0.1224 0.69329 -0.11979 0.69051 C -0.11632 0.68704 -0.10903 0.68102 -0.10903 0.68125 C -0.10608 0.67477 -0.10365 0.6676 -0.10017 0.66181 C -0.09809 0.6588 -0.09497 0.65741 -0.09288 0.65463 C -0.08906 0.64954 -0.08559 0.64375 -0.08212 0.63797 C -0.07604 0.62801 -0.07309 0.61875 -0.06615 0.60949 C -0.06354 0.60093 -0.06233 0.59144 -0.05903 0.58334 C -0.05729 0.57894 -0.05382 0.5757 -0.05191 0.5713 C -0.04392 0.55348 -0.05174 0.56598 -0.04653 0.55 C -0.04566 0.54746 -0.04392 0.54537 -0.04288 0.54283 C -0.04149 0.53912 -0.04063 0.53496 -0.03941 0.53102 C -0.03646 0.50834 -0.02882 0.48889 -0.025 0.46667 C -0.01944 0.43473 -0.01337 0.40301 -0.00712 0.3713 C -0.0066 0.36505 -0.00625 0.35857 -0.00538 0.35232 C -0.0033 0.33635 0.00174 0.30463 0.00174 0.30486 C 0.0026 0.20834 0.00712 0.11436 0.00712 0.01898 E">
                                      <p:cBhvr>
                                        <p:cTn id="871" dur="3000" fill="hold"/>
                                        <p:tgtEl>
                                          <p:spTgt spid="6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72" restart="whenNotActive" nodeType="interactiveSeq" fill="hold">
                <p:stCondLst>
                  <p:cond evt="onClick">
                    <p:tgtEl>
                      <p:spTgt spid="612"/>
                    </p:tgtEl>
                  </p:cond>
                </p:stCondLst>
                <p:childTnLst>
                  <p:par>
                    <p:cTn id="873" fill="hold">
                      <p:stCondLst>
                        <p:cond evt="onClick">
                          <p:tgtEl>
                            <p:spTgt spid="612"/>
                          </p:tgtEl>
                        </p:cond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path" presetID="28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17 0 0.031 0.01867 0.031 0.04133 C 0.031 0.06533 0.017 0.084 0 0.084 C -0.017 0.084 -0.031 0.10267 -0.031 0.12533 C -0.031 0.148 -0.017 0.16667 0 0.16667 C 0.017 0.16667 0.031 0.18533 0.031 0.208 C 0.031 0.23067 0.017 0.24933 0 0.24933 C -0.017 0.24933 -0.031 0.268 -0.031 0.292 C -0.031 0.31467 -0.017 0.33333 0 0.33333 C 0.017 0.33333 0.031 0.31467 0.031 0.292 C 0.031 0.268 0.017 0.24933 0 0.24933 C -0.017 0.24933 -0.031 0.23067 -0.031 0.208 C -0.031 0.18533 -0.017 0.16667 0 0.16667 C 0.017 0.16667 0.031 0.148 0.031 0.12533 C 0.031 0.10267 0.017 0.084 0 0.084 C -0.017 0.084 -0.031 0.06533 -0.031 0.04133 C -0.031 0.01867 -0.017 0 0 0 Z">
                                      <p:cBhvr>
                                        <p:cTn id="876" dur="2000" fill="hold"/>
                                        <p:tgtEl>
                                          <p:spTgt spid="6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77" restart="whenNotActive" nodeType="interactiveSeq" fill="hold">
                <p:stCondLst>
                  <p:cond evt="onClick">
                    <p:tgtEl>
                      <p:spTgt spid="613"/>
                    </p:tgtEl>
                  </p:cond>
                </p:stCondLst>
                <p:childTnLst>
                  <p:par>
                    <p:cTn id="878" fill="hold">
                      <p:stCondLst>
                        <p:cond evt="onClick">
                          <p:tgtEl>
                            <p:spTgt spid="613"/>
                          </p:tgtEl>
                        </p:cond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path" presetID="3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17 -0.08667 C 0.034 -0.15733 0.061 -0.18533 0.1 -0.18533 C 0.12 -0.18533 0.138 -0.17467 0.152 -0.15733 C 0.162 -0.14533 0.174 -0.13867 0.187 -0.13867 C 0.212 -0.13867 0.233 -0.16267 0.241 -0.19733 L 0.25 -0.23867 L 0.232 -0.15067 C 0.215 -0.08133 0.188 -0.05333 0.15 -0.05333 C 0.13 -0.05333 0.111 -0.064 0.096 -0.08267 C 0.087 -0.09333 0.075 -0.1 0.063 -0.1 C 0.038 -0.1 0.017 -0.076 0.009 -0.04133 L 0 0 Z">
                                      <p:cBhvr>
                                        <p:cTn id="881" dur="2000" fill="hold"/>
                                        <p:tgtEl>
                                          <p:spTgt spid="6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82" restart="whenNotActive" nodeType="interactiveSeq" fill="hold">
                <p:stCondLst>
                  <p:cond evt="onClick">
                    <p:tgtEl>
                      <p:spTgt spid="614"/>
                    </p:tgtEl>
                  </p:cond>
                </p:stCondLst>
                <p:childTnLst>
                  <p:par>
                    <p:cTn id="883" fill="hold">
                      <p:stCondLst>
                        <p:cond evt="onClick">
                          <p:tgtEl>
                            <p:spTgt spid="614"/>
                          </p:tgtEl>
                        </p:cond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path" presetID="2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 -0.04267 0.026 -0.07733 0.058 -0.07733 L 0.192 -0.07733 C 0.224 -0.07733 0.25 -0.04267 0.25 0 L 0.25 0.176 C 0.25 0.21867 0.224 0.25467 0.192 0.25467 L 0.058 0.25467 C 0.026 0.25467 0 0.21867 0 0.176 Z">
                                      <p:cBhvr>
                                        <p:cTn id="886" dur="2000" fill="hold"/>
                                        <p:tgtEl>
                                          <p:spTgt spid="6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194000" cy="6629400"/>
          </a:xfrm>
          <a:prstGeom prst="rect">
            <a:avLst/>
          </a:prstGeom>
          <a:ln w="0">
            <a:noFill/>
          </a:ln>
        </p:spPr>
      </p:pic>
      <p:pic>
        <p:nvPicPr>
          <p:cNvPr id="793" name="" descr=""/>
          <p:cNvPicPr/>
          <p:nvPr/>
        </p:nvPicPr>
        <p:blipFill>
          <a:blip r:embed="rId2"/>
          <a:stretch/>
        </p:blipFill>
        <p:spPr>
          <a:xfrm>
            <a:off x="7095960" y="1981080"/>
            <a:ext cx="1057320" cy="1293840"/>
          </a:xfrm>
          <a:prstGeom prst="rect">
            <a:avLst/>
          </a:prstGeom>
          <a:ln w="0">
            <a:noFill/>
          </a:ln>
        </p:spPr>
      </p:pic>
      <p:pic>
        <p:nvPicPr>
          <p:cNvPr id="794" name="" descr=""/>
          <p:cNvPicPr/>
          <p:nvPr/>
        </p:nvPicPr>
        <p:blipFill>
          <a:blip r:embed="rId3"/>
          <a:stretch/>
        </p:blipFill>
        <p:spPr>
          <a:xfrm>
            <a:off x="4419720" y="1973160"/>
            <a:ext cx="1057320" cy="1303560"/>
          </a:xfrm>
          <a:prstGeom prst="rect">
            <a:avLst/>
          </a:prstGeom>
          <a:ln w="0">
            <a:noFill/>
          </a:ln>
        </p:spPr>
      </p:pic>
      <p:pic>
        <p:nvPicPr>
          <p:cNvPr id="795" name="" descr=""/>
          <p:cNvPicPr/>
          <p:nvPr/>
        </p:nvPicPr>
        <p:blipFill>
          <a:blip r:embed="rId4"/>
          <a:stretch/>
        </p:blipFill>
        <p:spPr>
          <a:xfrm>
            <a:off x="5791320" y="1979640"/>
            <a:ext cx="1057320" cy="1220760"/>
          </a:xfrm>
          <a:prstGeom prst="rect">
            <a:avLst/>
          </a:prstGeom>
          <a:ln w="0">
            <a:noFill/>
          </a:ln>
        </p:spPr>
      </p:pic>
      <p:pic>
        <p:nvPicPr>
          <p:cNvPr id="796" name="" descr=""/>
          <p:cNvPicPr/>
          <p:nvPr/>
        </p:nvPicPr>
        <p:blipFill>
          <a:blip r:embed="rId5"/>
          <a:stretch/>
        </p:blipFill>
        <p:spPr>
          <a:xfrm>
            <a:off x="4419720" y="3801960"/>
            <a:ext cx="1057320" cy="1303560"/>
          </a:xfrm>
          <a:prstGeom prst="rect">
            <a:avLst/>
          </a:prstGeom>
          <a:ln w="0">
            <a:noFill/>
          </a:ln>
        </p:spPr>
      </p:pic>
      <p:pic>
        <p:nvPicPr>
          <p:cNvPr id="797" name="" descr=""/>
          <p:cNvPicPr/>
          <p:nvPr/>
        </p:nvPicPr>
        <p:blipFill>
          <a:blip r:embed="rId6"/>
          <a:stretch/>
        </p:blipFill>
        <p:spPr>
          <a:xfrm>
            <a:off x="5800680" y="3809880"/>
            <a:ext cx="1057320" cy="1274760"/>
          </a:xfrm>
          <a:prstGeom prst="rect">
            <a:avLst/>
          </a:prstGeom>
          <a:ln w="0">
            <a:noFill/>
          </a:ln>
        </p:spPr>
      </p:pic>
      <p:pic>
        <p:nvPicPr>
          <p:cNvPr id="798" name="" descr=""/>
          <p:cNvPicPr/>
          <p:nvPr/>
        </p:nvPicPr>
        <p:blipFill>
          <a:blip r:embed="rId7"/>
          <a:stretch/>
        </p:blipFill>
        <p:spPr>
          <a:xfrm>
            <a:off x="7086600" y="3809880"/>
            <a:ext cx="1057320" cy="1206720"/>
          </a:xfrm>
          <a:prstGeom prst="rect">
            <a:avLst/>
          </a:prstGeom>
          <a:ln w="0">
            <a:noFill/>
          </a:ln>
        </p:spPr>
      </p:pic>
      <p:pic>
        <p:nvPicPr>
          <p:cNvPr id="799" name="" descr=""/>
          <p:cNvPicPr/>
          <p:nvPr/>
        </p:nvPicPr>
        <p:blipFill>
          <a:blip r:embed="rId8"/>
          <a:stretch/>
        </p:blipFill>
        <p:spPr>
          <a:xfrm>
            <a:off x="1371600" y="5029200"/>
            <a:ext cx="1058760" cy="1371600"/>
          </a:xfrm>
          <a:prstGeom prst="rect">
            <a:avLst/>
          </a:prstGeom>
          <a:ln w="0">
            <a:noFill/>
          </a:ln>
        </p:spPr>
      </p:pic>
      <p:sp>
        <p:nvSpPr>
          <p:cNvPr id="800" name=""/>
          <p:cNvSpPr/>
          <p:nvPr/>
        </p:nvSpPr>
        <p:spPr>
          <a:xfrm>
            <a:off x="4572000" y="5410080"/>
            <a:ext cx="35812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mière erreur 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gardes la bonne réponse 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038480" y="0"/>
            <a:ext cx="411480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 Black"/>
              </a:rPr>
              <a:t>Diapositive N° 6 - Résultat</a:t>
            </a:r>
            <a:br>
              <a:rPr sz="2400"/>
            </a:br>
            <a:r>
              <a:rPr b="0" lang="en-US" sz="2400" spc="-1" strike="noStrike">
                <a:solidFill>
                  <a:srgbClr val="0033cc"/>
                </a:solidFill>
                <a:latin typeface="Arial Black"/>
              </a:rPr>
              <a:t>Score final = 5 points</a:t>
            </a:r>
            <a:endParaRPr b="0" lang="en-US" sz="2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02" name=""/>
          <p:cNvSpPr/>
          <p:nvPr/>
        </p:nvSpPr>
        <p:spPr>
          <a:xfrm>
            <a:off x="6248520" y="137160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Lucida Handwriting"/>
              </a:rPr>
              <a:t>Perd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6781680" y="1905120"/>
            <a:ext cx="1600200" cy="144756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5791320" y="6348240"/>
            <a:ext cx="1008000" cy="505080"/>
          </a:xfrm>
          <a:custGeom>
            <a:avLst/>
            <a:gdLst>
              <a:gd name="textAreaLeft" fmla="*/ 32760 w 1008000"/>
              <a:gd name="textAreaRight" fmla="*/ 975600 w 1008000"/>
              <a:gd name="textAreaTop" fmla="*/ 32760 h 505080"/>
              <a:gd name="textAreaBottom" fmla="*/ 472680 h 505080"/>
            </a:gdLst>
            <a:ahLst/>
            <a:rect l="textAreaLeft" t="textAreaTop" r="textAreaRight" b="textAreaBottom"/>
            <a:pathLst>
              <a:path w="43092" h="21600">
                <a:moveTo>
                  <a:pt x="0" y="0"/>
                </a:moveTo>
                <a:lnTo>
                  <a:pt x="43092" y="0"/>
                </a:lnTo>
                <a:lnTo>
                  <a:pt x="43092" y="21600"/>
                </a:lnTo>
                <a:lnTo>
                  <a:pt x="0" y="21600"/>
                </a:lnTo>
                <a:close/>
              </a:path>
              <a:path fill="lightenLess" w="43092" h="21600">
                <a:moveTo>
                  <a:pt x="0" y="0"/>
                </a:moveTo>
                <a:lnTo>
                  <a:pt x="43092" y="0"/>
                </a:lnTo>
                <a:lnTo>
                  <a:pt x="41692" y="1400"/>
                </a:lnTo>
                <a:lnTo>
                  <a:pt x="1400" y="1400"/>
                </a:lnTo>
                <a:close/>
              </a:path>
              <a:path fill="darken" w="43092" h="21600">
                <a:moveTo>
                  <a:pt x="43092" y="0"/>
                </a:moveTo>
                <a:lnTo>
                  <a:pt x="43092" y="21600"/>
                </a:lnTo>
                <a:lnTo>
                  <a:pt x="41692" y="20200"/>
                </a:lnTo>
                <a:lnTo>
                  <a:pt x="41692" y="1400"/>
                </a:lnTo>
                <a:close/>
              </a:path>
              <a:path fill="darkenLess" w="43092" h="21600">
                <a:moveTo>
                  <a:pt x="430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92" y="20200"/>
                </a:lnTo>
                <a:close/>
              </a:path>
              <a:path fill="lighten" w="430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92" h="21600">
                <a:moveTo>
                  <a:pt x="14540" y="3794"/>
                </a:moveTo>
                <a:lnTo>
                  <a:pt x="28553" y="10800"/>
                </a:lnTo>
                <a:lnTo>
                  <a:pt x="14540" y="17806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G Produc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0 L -0.64723 0.35694 E">
                                      <p:cBhvr>
                                        <p:cTn id="892" dur="2000" fill="hold"/>
                                        <p:tgtEl>
                                          <p:spTgt spid="6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93" restart="whenNotActive" nodeType="interactiveSeq" fill="hold">
                <p:stCondLst>
                  <p:cond evt="onClick">
                    <p:tgtEl>
                      <p:spTgt spid="610"/>
                    </p:tgtEl>
                  </p:cond>
                </p:stCondLst>
                <p:childTnLst>
                  <p:par>
                    <p:cTn id="894" fill="hold">
                      <p:stCondLst>
                        <p:cond evt="onClick">
                          <p:tgtEl>
                            <p:spTgt spid="610"/>
                          </p:tgtEl>
                        </p:cond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46945E-018 2.59259E-006 C -0.00364 0.00162 -0.00746 0.00231 -0.01076 0.00462 C -0.01475 0.0074 -0.03385 0.03287 -0.03402 0.03333 C -0.03524 0.03564 -0.03593 0.03842 -0.0375 0.0405 C -0.03958 0.04328 -0.04236 0.0449 -0.04461 0.04745 C -0.05434 0.05925 -0.06232 0.07337 -0.07326 0.08333 C -0.07864 0.09398 -0.08507 0.10231 -0.09288 0.10949 C -0.09548 0.12037 -0.09826 0.12384 -0.10538 0.13078 C -0.11059 0.14467 -0.11892 0.15787 -0.12864 0.16666 C -0.13402 0.17777 -0.14114 0.18819 -0.14826 0.19745 C -0.15156 0.21134 -0.1585 0.22314 -0.16614 0.23333 C -0.17048 0.25138 -0.16406 0.22986 -0.17326 0.24513 C -0.17448 0.24699 -0.17395 0.25023 -0.175 0.25231 C -0.17691 0.25601 -0.17986 0.25833 -0.18211 0.2618 C -0.18767 0.2706 -0.18472 0.26921 -0.18941 0.28078 C -0.19357 0.29074 -0.19757 0.29907 -0.20364 0.30717 C -0.2059 0.31967 -0.21145 0.32685 -0.21614 0.33796 C -0.22239 0.35324 -0.22951 0.36689 -0.2375 0.38078 C -0.2427 0.39004 -0.24253 0.3956 -0.25 0.40231 C -0.25295 0.41342 -0.26961 0.43564 -0.27691 0.44513 C -0.28055 0.45486 -0.28437 0.4625 -0.28941 0.47129 C -0.29201 0.48518 -0.29513 0.48634 -0.30191 0.49745 C -0.30468 0.50185 -0.30902 0.5118 -0.30902 0.5118 C -0.31111 0.52361 -0.31597 0.52824 -0.32152 0.53796 C -0.3243 0.5537 -0.33125 0.56944 -0.3375 0.58333 C -0.33975 0.58819 -0.34323 0.59212 -0.34461 0.59745 C -0.34635 0.60462 -0.34826 0.6118 -0.35 0.61898 C -0.35069 0.62129 -0.35191 0.62615 -0.35191 0.62615 C -0.35121 0.64513 -0.35156 0.66435 -0.35 0.68333 C -0.34895 0.69513 -0.33715 0.70717 -0.33038 0.7118 C -0.32083 0.71828 -0.31198 0.72847 -0.30191 0.73333 C -0.28993 0.73912 -0.27708 0.74097 -0.26441 0.74282 C -0.23385 0.75254 -0.19114 0.74351 -0.16441 0.74282 C -0.15277 0.73912 -0.14166 0.73356 -0.13038 0.72847 C -0.12725 0.72708 -0.121 0.72592 -0.11788 0.72384 C -0.11475 0.72175 -0.11215 0.71851 -0.10902 0.71666 C -0.0993 0.71087 -0.08819 0.70856 -0.07864 0.70231 C -0.06128 0.69097 -0.07638 0.69814 -0.06441 0.69282 C -0.04739 0.67754 -0.02708 0.66921 -0.01076 0.65231 C 0.01268 0.628 0.03247 0.59699 0.05348 0.56898 C 0.05747 0.56365 0.05955 0.5537 0.0625 0.54745 C 0.06806 0.53564 0.0757 0.52592 0.07848 0.5118 C 0.08108 0.49907 0.08629 0.48287 0.09098 0.47129 C 0.10504 0.4368 0.09254 0.47523 0.10174 0.44513 C 0.10365 0.42986 0.1066 0.41666 0.11059 0.40231 C 0.11372 0.39143 0.11146 0.39282 0.11424 0.38078 C 0.12153 0.34814 0.11945 0.35439 0.12674 0.33564 C 0.12813 0.31296 0.13039 0.29791 0.13386 0.27615 C 0.13802 0.20763 0.14532 0.12916 0.1125 0.07129 C 0.10747 0.05231 0.11493 0.07708 0.10539 0.05717 C 0.09462 0.03449 0.10417 0.04074 0.09289 0.03564 C 0.09167 0.0324 0.09098 0.02893 0.08924 0.02615 C 0.08334 0.01666 0.07049 0.01689 0.0625 0.0118 C 0.05243 0.00532 0.06198 0.00856 0.05174 0.00462 C 0.04375 0.00162 0.04653 0.00115 0.04098 0.00462 E">
                                      <p:cBhvr>
                                        <p:cTn id="897" dur="2000" fill="hold"/>
                                        <p:tgtEl>
                                          <p:spTgt spid="6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98" restart="whenNotActive" nodeType="interactiveSeq" fill="hold">
                <p:stCondLst>
                  <p:cond evt="onClick">
                    <p:tgtEl>
                      <p:spTgt spid="611"/>
                    </p:tgtEl>
                  </p:cond>
                </p:stCondLst>
                <p:childTnLst>
                  <p:par>
                    <p:cTn id="899" fill="hold">
                      <p:stCondLst>
                        <p:cond evt="onClick">
                          <p:tgtEl>
                            <p:spTgt spid="611"/>
                          </p:tgtEl>
                        </p:cond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3.33333E-006 C -0.12986 0.0169 -0.26094 -0.00254 -0.39115 0.00718 C -0.39913 0.01135 -0.40608 0.01644 -0.41441 0.01898 C -0.42188 0.02593 -0.43212 0.03033 -0.44115 0.03334 C -0.45174 0.04746 -0.44115 0.03565 -0.45191 0.04283 C -0.46042 0.04861 -0.45903 0.05348 -0.46962 0.05718 C -0.47865 0.06528 -0.48281 0.06991 -0.48941 0.08102 C -0.4934 0.08773 -0.49549 0.0963 -0.5 0.10232 C -0.50694 0.11158 -0.50399 0.10672 -0.50903 0.11667 C -0.51163 0.12778 -0.51632 0.13843 -0.52153 0.14769 C -0.52396 0.16065 -0.52969 0.17686 -0.53576 0.18797 C -0.53733 0.19074 -0.53958 0.19236 -0.54115 0.19514 C -0.54375 0.19977 -0.54826 0.20949 -0.54826 0.20973 C -0.55156 0.22732 -0.54792 0.21065 -0.55365 0.22848 C -0.5566 0.23773 -0.55625 0.24607 -0.56076 0.25463 C -0.56267 0.275 -0.56441 0.29445 -0.56788 0.31436 C -0.57222 0.3676 -0.57552 0.42107 -0.58038 0.47385 C -0.58333 0.50695 -0.58299 0.54375 -0.58941 0.57616 C -0.59201 0.6125 -0.59306 0.61574 -0.58941 0.66436 C -0.58906 0.66783 -0.58142 0.67662 -0.58038 0.67848 C -0.5658 0.70209 -0.54253 0.71088 -0.51962 0.71181 C -0.48281 0.71343 -0.44583 0.71505 -0.40903 0.71667 C -0.39427 0.72037 -0.37934 0.72199 -0.36441 0.72385 C -0.29688 0.75301 -0.22031 0.74584 -0.15208 0.7213 C -0.14792 0.71783 -0.14323 0.71574 -0.13941 0.71181 C -0.12604 0.69838 -0.13785 0.70486 -0.12708 0.7 C -0.12448 0.69676 -0.1224 0.69329 -0.11979 0.69051 C -0.11632 0.68704 -0.10903 0.68102 -0.10903 0.68125 C -0.10608 0.67477 -0.10365 0.6676 -0.10017 0.66181 C -0.09809 0.6588 -0.09497 0.65741 -0.09288 0.65463 C -0.08906 0.64954 -0.08559 0.64375 -0.08212 0.63797 C -0.07604 0.62801 -0.07309 0.61875 -0.06615 0.60949 C -0.06354 0.60093 -0.06233 0.59144 -0.05903 0.58334 C -0.05729 0.57894 -0.05382 0.5757 -0.05191 0.5713 C -0.04392 0.55348 -0.05174 0.56598 -0.04653 0.55 C -0.04566 0.54746 -0.04392 0.54537 -0.04288 0.54283 C -0.04149 0.53912 -0.04063 0.53496 -0.03941 0.53102 C -0.03646 0.50834 -0.02882 0.48889 -0.025 0.46667 C -0.01944 0.43473 -0.01337 0.40301 -0.00712 0.3713 C -0.0066 0.36505 -0.00625 0.35857 -0.00538 0.35232 C -0.0033 0.33635 0.00174 0.30463 0.00174 0.30486 C 0.0026 0.20834 0.00712 0.11436 0.00712 0.01898 E">
                                      <p:cBhvr>
                                        <p:cTn id="902" dur="3000" fill="hold"/>
                                        <p:tgtEl>
                                          <p:spTgt spid="6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03" restart="whenNotActive" nodeType="interactiveSeq" fill="hold">
                <p:stCondLst>
                  <p:cond evt="onClick">
                    <p:tgtEl>
                      <p:spTgt spid="612"/>
                    </p:tgtEl>
                  </p:cond>
                </p:stCondLst>
                <p:childTnLst>
                  <p:par>
                    <p:cTn id="904" fill="hold">
                      <p:stCondLst>
                        <p:cond evt="onClick">
                          <p:tgtEl>
                            <p:spTgt spid="612"/>
                          </p:tgtEl>
                        </p:cond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path" presetID="28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17 0 0.031 0.01867 0.031 0.04133 C 0.031 0.06533 0.017 0.084 0 0.084 C -0.017 0.084 -0.031 0.10267 -0.031 0.12533 C -0.031 0.148 -0.017 0.16667 0 0.16667 C 0.017 0.16667 0.031 0.18533 0.031 0.208 C 0.031 0.23067 0.017 0.24933 0 0.24933 C -0.017 0.24933 -0.031 0.268 -0.031 0.292 C -0.031 0.31467 -0.017 0.33333 0 0.33333 C 0.017 0.33333 0.031 0.31467 0.031 0.292 C 0.031 0.268 0.017 0.24933 0 0.24933 C -0.017 0.24933 -0.031 0.23067 -0.031 0.208 C -0.031 0.18533 -0.017 0.16667 0 0.16667 C 0.017 0.16667 0.031 0.148 0.031 0.12533 C 0.031 0.10267 0.017 0.084 0 0.084 C -0.017 0.084 -0.031 0.06533 -0.031 0.04133 C -0.031 0.01867 -0.017 0 0 0 Z">
                                      <p:cBhvr>
                                        <p:cTn id="907" dur="2000" fill="hold"/>
                                        <p:tgtEl>
                                          <p:spTgt spid="6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08" restart="whenNotActive" nodeType="interactiveSeq" fill="hold">
                <p:stCondLst>
                  <p:cond evt="onClick">
                    <p:tgtEl>
                      <p:spTgt spid="613"/>
                    </p:tgtEl>
                  </p:cond>
                </p:stCondLst>
                <p:childTnLst>
                  <p:par>
                    <p:cTn id="909" fill="hold">
                      <p:stCondLst>
                        <p:cond evt="onClick">
                          <p:tgtEl>
                            <p:spTgt spid="613"/>
                          </p:tgtEl>
                        </p:cond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path" presetID="3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17 -0.08667 C 0.034 -0.15733 0.061 -0.18533 0.1 -0.18533 C 0.12 -0.18533 0.138 -0.17467 0.152 -0.15733 C 0.162 -0.14533 0.174 -0.13867 0.187 -0.13867 C 0.212 -0.13867 0.233 -0.16267 0.241 -0.19733 L 0.25 -0.23867 L 0.232 -0.15067 C 0.215 -0.08133 0.188 -0.05333 0.15 -0.05333 C 0.13 -0.05333 0.111 -0.064 0.096 -0.08267 C 0.087 -0.09333 0.075 -0.1 0.063 -0.1 C 0.038 -0.1 0.017 -0.076 0.009 -0.04133 L 0 0 Z">
                                      <p:cBhvr>
                                        <p:cTn id="912" dur="2000" fill="hold"/>
                                        <p:tgtEl>
                                          <p:spTgt spid="6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13" restart="whenNotActive" nodeType="interactiveSeq" fill="hold">
                <p:stCondLst>
                  <p:cond evt="onClick">
                    <p:tgtEl>
                      <p:spTgt spid="614"/>
                    </p:tgtEl>
                  </p:cond>
                </p:stCondLst>
                <p:childTnLst>
                  <p:par>
                    <p:cTn id="914" fill="hold">
                      <p:stCondLst>
                        <p:cond evt="onClick">
                          <p:tgtEl>
                            <p:spTgt spid="614"/>
                          </p:tgtEl>
                        </p:cond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path" presetID="2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 -0.04267 0.026 -0.07733 0.058 -0.07733 L 0.192 -0.07733 C 0.224 -0.07733 0.25 -0.04267 0.25 0 L 0.25 0.176 C 0.25 0.21867 0.224 0.25467 0.192 0.25467 L 0.058 0.25467 C 0.026 0.25467 0 0.21867 0 0.176 Z">
                                      <p:cBhvr>
                                        <p:cTn id="917" dur="2000" fill="hold"/>
                                        <p:tgtEl>
                                          <p:spTgt spid="6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194000" cy="6629400"/>
          </a:xfrm>
          <a:prstGeom prst="rect">
            <a:avLst/>
          </a:prstGeom>
          <a:ln w="0">
            <a:noFill/>
          </a:ln>
        </p:spPr>
      </p:pic>
      <p:pic>
        <p:nvPicPr>
          <p:cNvPr id="806" name="" descr=""/>
          <p:cNvPicPr/>
          <p:nvPr/>
        </p:nvPicPr>
        <p:blipFill>
          <a:blip r:embed="rId2"/>
          <a:stretch/>
        </p:blipFill>
        <p:spPr>
          <a:xfrm>
            <a:off x="7095960" y="1981080"/>
            <a:ext cx="1057320" cy="1293840"/>
          </a:xfrm>
          <a:prstGeom prst="rect">
            <a:avLst/>
          </a:prstGeom>
          <a:ln w="0">
            <a:noFill/>
          </a:ln>
        </p:spPr>
      </p:pic>
      <p:pic>
        <p:nvPicPr>
          <p:cNvPr id="807" name="" descr=""/>
          <p:cNvPicPr/>
          <p:nvPr/>
        </p:nvPicPr>
        <p:blipFill>
          <a:blip r:embed="rId3"/>
          <a:stretch/>
        </p:blipFill>
        <p:spPr>
          <a:xfrm>
            <a:off x="4419720" y="1973160"/>
            <a:ext cx="1057320" cy="1303560"/>
          </a:xfrm>
          <a:prstGeom prst="rect">
            <a:avLst/>
          </a:prstGeom>
          <a:ln w="0">
            <a:noFill/>
          </a:ln>
        </p:spPr>
      </p:pic>
      <p:pic>
        <p:nvPicPr>
          <p:cNvPr id="808" name="" descr=""/>
          <p:cNvPicPr/>
          <p:nvPr/>
        </p:nvPicPr>
        <p:blipFill>
          <a:blip r:embed="rId4"/>
          <a:stretch/>
        </p:blipFill>
        <p:spPr>
          <a:xfrm>
            <a:off x="5791320" y="1979640"/>
            <a:ext cx="1057320" cy="1220760"/>
          </a:xfrm>
          <a:prstGeom prst="rect">
            <a:avLst/>
          </a:prstGeom>
          <a:ln w="0">
            <a:noFill/>
          </a:ln>
        </p:spPr>
      </p:pic>
      <p:pic>
        <p:nvPicPr>
          <p:cNvPr id="809" name="" descr=""/>
          <p:cNvPicPr/>
          <p:nvPr/>
        </p:nvPicPr>
        <p:blipFill>
          <a:blip r:embed="rId5"/>
          <a:stretch/>
        </p:blipFill>
        <p:spPr>
          <a:xfrm>
            <a:off x="4419720" y="3801960"/>
            <a:ext cx="1057320" cy="1303560"/>
          </a:xfrm>
          <a:prstGeom prst="rect">
            <a:avLst/>
          </a:prstGeom>
          <a:ln w="0">
            <a:noFill/>
          </a:ln>
        </p:spPr>
      </p:pic>
      <p:pic>
        <p:nvPicPr>
          <p:cNvPr id="810" name="" descr=""/>
          <p:cNvPicPr/>
          <p:nvPr/>
        </p:nvPicPr>
        <p:blipFill>
          <a:blip r:embed="rId6"/>
          <a:stretch/>
        </p:blipFill>
        <p:spPr>
          <a:xfrm>
            <a:off x="5800680" y="3809880"/>
            <a:ext cx="1057320" cy="1274760"/>
          </a:xfrm>
          <a:prstGeom prst="rect">
            <a:avLst/>
          </a:prstGeom>
          <a:ln w="0">
            <a:noFill/>
          </a:ln>
        </p:spPr>
      </p:pic>
      <p:pic>
        <p:nvPicPr>
          <p:cNvPr id="811" name="" descr=""/>
          <p:cNvPicPr/>
          <p:nvPr/>
        </p:nvPicPr>
        <p:blipFill>
          <a:blip r:embed="rId7"/>
          <a:stretch/>
        </p:blipFill>
        <p:spPr>
          <a:xfrm>
            <a:off x="7086600" y="3809880"/>
            <a:ext cx="1057320" cy="1206720"/>
          </a:xfrm>
          <a:prstGeom prst="rect">
            <a:avLst/>
          </a:prstGeom>
          <a:ln w="0">
            <a:noFill/>
          </a:ln>
        </p:spPr>
      </p:pic>
      <p:pic>
        <p:nvPicPr>
          <p:cNvPr id="812" name="" descr=""/>
          <p:cNvPicPr/>
          <p:nvPr/>
        </p:nvPicPr>
        <p:blipFill>
          <a:blip r:embed="rId8"/>
          <a:stretch/>
        </p:blipFill>
        <p:spPr>
          <a:xfrm>
            <a:off x="1371600" y="5029200"/>
            <a:ext cx="1058760" cy="1371600"/>
          </a:xfrm>
          <a:prstGeom prst="rect">
            <a:avLst/>
          </a:prstGeom>
          <a:ln w="0">
            <a:noFill/>
          </a:ln>
        </p:spPr>
      </p:pic>
      <p:sp>
        <p:nvSpPr>
          <p:cNvPr id="813" name=""/>
          <p:cNvSpPr/>
          <p:nvPr/>
        </p:nvSpPr>
        <p:spPr>
          <a:xfrm>
            <a:off x="4267080" y="5410080"/>
            <a:ext cx="38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ampionne 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4038480" y="0"/>
            <a:ext cx="411480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 Black"/>
              </a:rPr>
              <a:t>Diapositive N° 6 - Résultat</a:t>
            </a:r>
            <a:br>
              <a:rPr sz="2400"/>
            </a:br>
            <a:r>
              <a:rPr b="0" lang="en-US" sz="2400" spc="-1" strike="noStrike">
                <a:solidFill>
                  <a:srgbClr val="0033cc"/>
                </a:solidFill>
                <a:latin typeface="Arial Black"/>
              </a:rPr>
              <a:t>Score final = 6 points</a:t>
            </a:r>
            <a:endParaRPr b="0" lang="en-US" sz="2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15" name=""/>
          <p:cNvSpPr/>
          <p:nvPr/>
        </p:nvSpPr>
        <p:spPr>
          <a:xfrm>
            <a:off x="6248520" y="137160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Lucida Handwriting"/>
              </a:rPr>
              <a:t>GAG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6781680" y="1905120"/>
            <a:ext cx="1600200" cy="144756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5791320" y="6348240"/>
            <a:ext cx="1008000" cy="505080"/>
          </a:xfrm>
          <a:custGeom>
            <a:avLst/>
            <a:gdLst>
              <a:gd name="textAreaLeft" fmla="*/ 32760 w 1008000"/>
              <a:gd name="textAreaRight" fmla="*/ 975600 w 1008000"/>
              <a:gd name="textAreaTop" fmla="*/ 32760 h 505080"/>
              <a:gd name="textAreaBottom" fmla="*/ 472680 h 505080"/>
            </a:gdLst>
            <a:ahLst/>
            <a:rect l="textAreaLeft" t="textAreaTop" r="textAreaRight" b="textAreaBottom"/>
            <a:pathLst>
              <a:path w="43092" h="21600">
                <a:moveTo>
                  <a:pt x="0" y="0"/>
                </a:moveTo>
                <a:lnTo>
                  <a:pt x="43092" y="0"/>
                </a:lnTo>
                <a:lnTo>
                  <a:pt x="43092" y="21600"/>
                </a:lnTo>
                <a:lnTo>
                  <a:pt x="0" y="21600"/>
                </a:lnTo>
                <a:close/>
              </a:path>
              <a:path fill="lightenLess" w="43092" h="21600">
                <a:moveTo>
                  <a:pt x="0" y="0"/>
                </a:moveTo>
                <a:lnTo>
                  <a:pt x="43092" y="0"/>
                </a:lnTo>
                <a:lnTo>
                  <a:pt x="41692" y="1400"/>
                </a:lnTo>
                <a:lnTo>
                  <a:pt x="1400" y="1400"/>
                </a:lnTo>
                <a:close/>
              </a:path>
              <a:path fill="darken" w="43092" h="21600">
                <a:moveTo>
                  <a:pt x="43092" y="0"/>
                </a:moveTo>
                <a:lnTo>
                  <a:pt x="43092" y="21600"/>
                </a:lnTo>
                <a:lnTo>
                  <a:pt x="41692" y="20200"/>
                </a:lnTo>
                <a:lnTo>
                  <a:pt x="41692" y="1400"/>
                </a:lnTo>
                <a:close/>
              </a:path>
              <a:path fill="darkenLess" w="43092" h="21600">
                <a:moveTo>
                  <a:pt x="430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92" y="20200"/>
                </a:lnTo>
                <a:close/>
              </a:path>
              <a:path fill="lighten" w="430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92" h="21600">
                <a:moveTo>
                  <a:pt x="14540" y="3794"/>
                </a:moveTo>
                <a:lnTo>
                  <a:pt x="28553" y="10800"/>
                </a:lnTo>
                <a:lnTo>
                  <a:pt x="14540" y="17806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G Produc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0 L -0.64723 0.35694 E">
                                      <p:cBhvr>
                                        <p:cTn id="923" dur="2000" fill="hold"/>
                                        <p:tgtEl>
                                          <p:spTgt spid="6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4" restart="whenNotActive" nodeType="interactiveSeq" fill="hold">
                <p:stCondLst>
                  <p:cond evt="onClick">
                    <p:tgtEl>
                      <p:spTgt spid="610"/>
                    </p:tgtEl>
                  </p:cond>
                </p:stCondLst>
                <p:childTnLst>
                  <p:par>
                    <p:cTn id="925" fill="hold">
                      <p:stCondLst>
                        <p:cond evt="onClick">
                          <p:tgtEl>
                            <p:spTgt spid="610"/>
                          </p:tgtEl>
                        </p:cond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46945E-018 2.59259E-006 C -0.00364 0.00162 -0.00746 0.00231 -0.01076 0.00462 C -0.01475 0.0074 -0.03385 0.03287 -0.03402 0.03333 C -0.03524 0.03564 -0.03593 0.03842 -0.0375 0.0405 C -0.03958 0.04328 -0.04236 0.0449 -0.04461 0.04745 C -0.05434 0.05925 -0.06232 0.07337 -0.07326 0.08333 C -0.07864 0.09398 -0.08507 0.10231 -0.09288 0.10949 C -0.09548 0.12037 -0.09826 0.12384 -0.10538 0.13078 C -0.11059 0.14467 -0.11892 0.15787 -0.12864 0.16666 C -0.13402 0.17777 -0.14114 0.18819 -0.14826 0.19745 C -0.15156 0.21134 -0.1585 0.22314 -0.16614 0.23333 C -0.17048 0.25138 -0.16406 0.22986 -0.17326 0.24513 C -0.17448 0.24699 -0.17395 0.25023 -0.175 0.25231 C -0.17691 0.25601 -0.17986 0.25833 -0.18211 0.2618 C -0.18767 0.2706 -0.18472 0.26921 -0.18941 0.28078 C -0.19357 0.29074 -0.19757 0.29907 -0.20364 0.30717 C -0.2059 0.31967 -0.21145 0.32685 -0.21614 0.33796 C -0.22239 0.35324 -0.22951 0.36689 -0.2375 0.38078 C -0.2427 0.39004 -0.24253 0.3956 -0.25 0.40231 C -0.25295 0.41342 -0.26961 0.43564 -0.27691 0.44513 C -0.28055 0.45486 -0.28437 0.4625 -0.28941 0.47129 C -0.29201 0.48518 -0.29513 0.48634 -0.30191 0.49745 C -0.30468 0.50185 -0.30902 0.5118 -0.30902 0.5118 C -0.31111 0.52361 -0.31597 0.52824 -0.32152 0.53796 C -0.3243 0.5537 -0.33125 0.56944 -0.3375 0.58333 C -0.33975 0.58819 -0.34323 0.59212 -0.34461 0.59745 C -0.34635 0.60462 -0.34826 0.6118 -0.35 0.61898 C -0.35069 0.62129 -0.35191 0.62615 -0.35191 0.62615 C -0.35121 0.64513 -0.35156 0.66435 -0.35 0.68333 C -0.34895 0.69513 -0.33715 0.70717 -0.33038 0.7118 C -0.32083 0.71828 -0.31198 0.72847 -0.30191 0.73333 C -0.28993 0.73912 -0.27708 0.74097 -0.26441 0.74282 C -0.23385 0.75254 -0.19114 0.74351 -0.16441 0.74282 C -0.15277 0.73912 -0.14166 0.73356 -0.13038 0.72847 C -0.12725 0.72708 -0.121 0.72592 -0.11788 0.72384 C -0.11475 0.72175 -0.11215 0.71851 -0.10902 0.71666 C -0.0993 0.71087 -0.08819 0.70856 -0.07864 0.70231 C -0.06128 0.69097 -0.07638 0.69814 -0.06441 0.69282 C -0.04739 0.67754 -0.02708 0.66921 -0.01076 0.65231 C 0.01268 0.628 0.03247 0.59699 0.05348 0.56898 C 0.05747 0.56365 0.05955 0.5537 0.0625 0.54745 C 0.06806 0.53564 0.0757 0.52592 0.07848 0.5118 C 0.08108 0.49907 0.08629 0.48287 0.09098 0.47129 C 0.10504 0.4368 0.09254 0.47523 0.10174 0.44513 C 0.10365 0.42986 0.1066 0.41666 0.11059 0.40231 C 0.11372 0.39143 0.11146 0.39282 0.11424 0.38078 C 0.12153 0.34814 0.11945 0.35439 0.12674 0.33564 C 0.12813 0.31296 0.13039 0.29791 0.13386 0.27615 C 0.13802 0.20763 0.14532 0.12916 0.1125 0.07129 C 0.10747 0.05231 0.11493 0.07708 0.10539 0.05717 C 0.09462 0.03449 0.10417 0.04074 0.09289 0.03564 C 0.09167 0.0324 0.09098 0.02893 0.08924 0.02615 C 0.08334 0.01666 0.07049 0.01689 0.0625 0.0118 C 0.05243 0.00532 0.06198 0.00856 0.05174 0.00462 C 0.04375 0.00162 0.04653 0.00115 0.04098 0.00462 E">
                                      <p:cBhvr>
                                        <p:cTn id="928" dur="2000" fill="hold"/>
                                        <p:tgtEl>
                                          <p:spTgt spid="6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9" restart="whenNotActive" nodeType="interactiveSeq" fill="hold">
                <p:stCondLst>
                  <p:cond evt="onClick">
                    <p:tgtEl>
                      <p:spTgt spid="611"/>
                    </p:tgtEl>
                  </p:cond>
                </p:stCondLst>
                <p:childTnLst>
                  <p:par>
                    <p:cTn id="930" fill="hold">
                      <p:stCondLst>
                        <p:cond evt="onClick">
                          <p:tgtEl>
                            <p:spTgt spid="611"/>
                          </p:tgtEl>
                        </p:cond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3.33333E-006 C -0.12986 0.0169 -0.26094 -0.00254 -0.39115 0.00718 C -0.39913 0.01135 -0.40608 0.01644 -0.41441 0.01898 C -0.42188 0.02593 -0.43212 0.03033 -0.44115 0.03334 C -0.45174 0.04746 -0.44115 0.03565 -0.45191 0.04283 C -0.46042 0.04861 -0.45903 0.05348 -0.46962 0.05718 C -0.47865 0.06528 -0.48281 0.06991 -0.48941 0.08102 C -0.4934 0.08773 -0.49549 0.0963 -0.5 0.10232 C -0.50694 0.11158 -0.50399 0.10672 -0.50903 0.11667 C -0.51163 0.12778 -0.51632 0.13843 -0.52153 0.14769 C -0.52396 0.16065 -0.52969 0.17686 -0.53576 0.18797 C -0.53733 0.19074 -0.53958 0.19236 -0.54115 0.19514 C -0.54375 0.19977 -0.54826 0.20949 -0.54826 0.20973 C -0.55156 0.22732 -0.54792 0.21065 -0.55365 0.22848 C -0.5566 0.23773 -0.55625 0.24607 -0.56076 0.25463 C -0.56267 0.275 -0.56441 0.29445 -0.56788 0.31436 C -0.57222 0.3676 -0.57552 0.42107 -0.58038 0.47385 C -0.58333 0.50695 -0.58299 0.54375 -0.58941 0.57616 C -0.59201 0.6125 -0.59306 0.61574 -0.58941 0.66436 C -0.58906 0.66783 -0.58142 0.67662 -0.58038 0.67848 C -0.5658 0.70209 -0.54253 0.71088 -0.51962 0.71181 C -0.48281 0.71343 -0.44583 0.71505 -0.40903 0.71667 C -0.39427 0.72037 -0.37934 0.72199 -0.36441 0.72385 C -0.29688 0.75301 -0.22031 0.74584 -0.15208 0.7213 C -0.14792 0.71783 -0.14323 0.71574 -0.13941 0.71181 C -0.12604 0.69838 -0.13785 0.70486 -0.12708 0.7 C -0.12448 0.69676 -0.1224 0.69329 -0.11979 0.69051 C -0.11632 0.68704 -0.10903 0.68102 -0.10903 0.68125 C -0.10608 0.67477 -0.10365 0.6676 -0.10017 0.66181 C -0.09809 0.6588 -0.09497 0.65741 -0.09288 0.65463 C -0.08906 0.64954 -0.08559 0.64375 -0.08212 0.63797 C -0.07604 0.62801 -0.07309 0.61875 -0.06615 0.60949 C -0.06354 0.60093 -0.06233 0.59144 -0.05903 0.58334 C -0.05729 0.57894 -0.05382 0.5757 -0.05191 0.5713 C -0.04392 0.55348 -0.05174 0.56598 -0.04653 0.55 C -0.04566 0.54746 -0.04392 0.54537 -0.04288 0.54283 C -0.04149 0.53912 -0.04063 0.53496 -0.03941 0.53102 C -0.03646 0.50834 -0.02882 0.48889 -0.025 0.46667 C -0.01944 0.43473 -0.01337 0.40301 -0.00712 0.3713 C -0.0066 0.36505 -0.00625 0.35857 -0.00538 0.35232 C -0.0033 0.33635 0.00174 0.30463 0.00174 0.30486 C 0.0026 0.20834 0.00712 0.11436 0.00712 0.01898 E">
                                      <p:cBhvr>
                                        <p:cTn id="933" dur="3000" fill="hold"/>
                                        <p:tgtEl>
                                          <p:spTgt spid="6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34" restart="whenNotActive" nodeType="interactiveSeq" fill="hold">
                <p:stCondLst>
                  <p:cond evt="onClick">
                    <p:tgtEl>
                      <p:spTgt spid="612"/>
                    </p:tgtEl>
                  </p:cond>
                </p:stCondLst>
                <p:childTnLst>
                  <p:par>
                    <p:cTn id="935" fill="hold">
                      <p:stCondLst>
                        <p:cond evt="onClick">
                          <p:tgtEl>
                            <p:spTgt spid="612"/>
                          </p:tgtEl>
                        </p:cond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path" presetID="28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17 0 0.031 0.01867 0.031 0.04133 C 0.031 0.06533 0.017 0.084 0 0.084 C -0.017 0.084 -0.031 0.10267 -0.031 0.12533 C -0.031 0.148 -0.017 0.16667 0 0.16667 C 0.017 0.16667 0.031 0.18533 0.031 0.208 C 0.031 0.23067 0.017 0.24933 0 0.24933 C -0.017 0.24933 -0.031 0.268 -0.031 0.292 C -0.031 0.31467 -0.017 0.33333 0 0.33333 C 0.017 0.33333 0.031 0.31467 0.031 0.292 C 0.031 0.268 0.017 0.24933 0 0.24933 C -0.017 0.24933 -0.031 0.23067 -0.031 0.208 C -0.031 0.18533 -0.017 0.16667 0 0.16667 C 0.017 0.16667 0.031 0.148 0.031 0.12533 C 0.031 0.10267 0.017 0.084 0 0.084 C -0.017 0.084 -0.031 0.06533 -0.031 0.04133 C -0.031 0.01867 -0.017 0 0 0 Z">
                                      <p:cBhvr>
                                        <p:cTn id="938" dur="2000" fill="hold"/>
                                        <p:tgtEl>
                                          <p:spTgt spid="6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39" restart="whenNotActive" nodeType="interactiveSeq" fill="hold">
                <p:stCondLst>
                  <p:cond evt="onClick">
                    <p:tgtEl>
                      <p:spTgt spid="613"/>
                    </p:tgtEl>
                  </p:cond>
                </p:stCondLst>
                <p:childTnLst>
                  <p:par>
                    <p:cTn id="940" fill="hold">
                      <p:stCondLst>
                        <p:cond evt="onClick">
                          <p:tgtEl>
                            <p:spTgt spid="613"/>
                          </p:tgtEl>
                        </p:cond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path" presetID="3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17 -0.08667 C 0.034 -0.15733 0.061 -0.18533 0.1 -0.18533 C 0.12 -0.18533 0.138 -0.17467 0.152 -0.15733 C 0.162 -0.14533 0.174 -0.13867 0.187 -0.13867 C 0.212 -0.13867 0.233 -0.16267 0.241 -0.19733 L 0.25 -0.23867 L 0.232 -0.15067 C 0.215 -0.08133 0.188 -0.05333 0.15 -0.05333 C 0.13 -0.05333 0.111 -0.064 0.096 -0.08267 C 0.087 -0.09333 0.075 -0.1 0.063 -0.1 C 0.038 -0.1 0.017 -0.076 0.009 -0.04133 L 0 0 Z">
                                      <p:cBhvr>
                                        <p:cTn id="943" dur="2000" fill="hold"/>
                                        <p:tgtEl>
                                          <p:spTgt spid="6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44" restart="whenNotActive" nodeType="interactiveSeq" fill="hold">
                <p:stCondLst>
                  <p:cond evt="onClick">
                    <p:tgtEl>
                      <p:spTgt spid="614"/>
                    </p:tgtEl>
                  </p:cond>
                </p:stCondLst>
                <p:childTnLst>
                  <p:par>
                    <p:cTn id="945" fill="hold">
                      <p:stCondLst>
                        <p:cond evt="onClick">
                          <p:tgtEl>
                            <p:spTgt spid="614"/>
                          </p:tgtEl>
                        </p:cond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path" presetID="2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 -0.04267 0.026 -0.07733 0.058 -0.07733 L 0.192 -0.07733 C 0.224 -0.07733 0.25 -0.04267 0.25 0 L 0.25 0.176 C 0.25 0.21867 0.224 0.25467 0.192 0.25467 L 0.058 0.25467 C 0.026 0.25467 0 0.21867 0 0.176 Z">
                                      <p:cBhvr>
                                        <p:cTn id="948" dur="2000" fill="hold"/>
                                        <p:tgtEl>
                                          <p:spTgt spid="6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/>
          </p:nvPr>
        </p:nvSpPr>
        <p:spPr>
          <a:xfrm>
            <a:off x="609480" y="1294920"/>
            <a:ext cx="73152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/6 : Intéressez-vous  plutôt au trico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/6 : Avez-vous déjà vu un homme nu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/6 : Regardez de plus prè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/6 : Vous n’êtes pas très observatri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/6 : Cette chose vous est manifestement familiè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/6 : Vous êtes une femme expérimenté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/6 : Rien à dire! C’est la classe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 type="title"/>
          </p:nvPr>
        </p:nvSpPr>
        <p:spPr>
          <a:xfrm>
            <a:off x="2286000" y="271800"/>
            <a:ext cx="4114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Comic Sans MS"/>
              </a:rPr>
              <a:t>Résultats : 0/6</a:t>
            </a:r>
            <a:endParaRPr b="0" lang="en-US" sz="36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20" name=""/>
          <p:cNvSpPr/>
          <p:nvPr/>
        </p:nvSpPr>
        <p:spPr>
          <a:xfrm>
            <a:off x="1371600" y="5410080"/>
            <a:ext cx="57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9900"/>
                </a:solidFill>
                <a:latin typeface="Arial"/>
              </a:rPr>
              <a:t>Et, ce ne sera pas un tricot pour homme 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76320" y="1447920"/>
            <a:ext cx="457200" cy="152280"/>
          </a:xfrm>
          <a:prstGeom prst="rightArrow">
            <a:avLst>
              <a:gd name="adj1" fmla="val 50000"/>
              <a:gd name="adj2" fmla="val 75059"/>
            </a:avLst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6629400" y="6248520"/>
            <a:ext cx="1008000" cy="504720"/>
          </a:xfrm>
          <a:custGeom>
            <a:avLst/>
            <a:gdLst>
              <a:gd name="textAreaLeft" fmla="*/ 32400 w 1008000"/>
              <a:gd name="textAreaRight" fmla="*/ 975600 w 1008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43123" h="21600">
                <a:moveTo>
                  <a:pt x="0" y="0"/>
                </a:moveTo>
                <a:lnTo>
                  <a:pt x="43123" y="0"/>
                </a:lnTo>
                <a:lnTo>
                  <a:pt x="43123" y="21600"/>
                </a:lnTo>
                <a:lnTo>
                  <a:pt x="0" y="21600"/>
                </a:lnTo>
                <a:close/>
              </a:path>
              <a:path fill="lightenLess" w="43123" h="21600">
                <a:moveTo>
                  <a:pt x="0" y="0"/>
                </a:moveTo>
                <a:lnTo>
                  <a:pt x="43123" y="0"/>
                </a:lnTo>
                <a:lnTo>
                  <a:pt x="41723" y="1400"/>
                </a:lnTo>
                <a:lnTo>
                  <a:pt x="1400" y="1400"/>
                </a:lnTo>
                <a:close/>
              </a:path>
              <a:path fill="darken" w="43123" h="21600">
                <a:moveTo>
                  <a:pt x="43123" y="0"/>
                </a:moveTo>
                <a:lnTo>
                  <a:pt x="43123" y="21600"/>
                </a:lnTo>
                <a:lnTo>
                  <a:pt x="41723" y="20200"/>
                </a:lnTo>
                <a:lnTo>
                  <a:pt x="41723" y="1400"/>
                </a:lnTo>
                <a:close/>
              </a:path>
              <a:path fill="darkenLess" w="43123" h="21600">
                <a:moveTo>
                  <a:pt x="431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23" y="20200"/>
                </a:lnTo>
                <a:close/>
              </a:path>
              <a:path fill="lighten" w="431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23" h="21600">
                <a:moveTo>
                  <a:pt x="14555" y="3794"/>
                </a:moveTo>
                <a:lnTo>
                  <a:pt x="28568" y="10800"/>
                </a:lnTo>
                <a:lnTo>
                  <a:pt x="14555" y="17806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G Produc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/>
          </p:nvPr>
        </p:nvSpPr>
        <p:spPr>
          <a:xfrm>
            <a:off x="609480" y="1294920"/>
            <a:ext cx="73152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/6 : Intéressez-vous  plutôt au trico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/6 : Avez-vous déjà vu un homme nu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/6 : Regardez de plus prè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/6 : Vous n’êtes pas très observatri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/6 : Cette chose vous est manifestement familiè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/6 : Vous êtes une femme expérimenté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/6 : Rien à dire! C’est la classe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 type="title"/>
          </p:nvPr>
        </p:nvSpPr>
        <p:spPr>
          <a:xfrm>
            <a:off x="2286000" y="271800"/>
            <a:ext cx="4114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Comic Sans MS"/>
              </a:rPr>
              <a:t>Résultats : 1/6</a:t>
            </a:r>
            <a:endParaRPr b="0" lang="en-US" sz="36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25" name=""/>
          <p:cNvSpPr/>
          <p:nvPr/>
        </p:nvSpPr>
        <p:spPr>
          <a:xfrm>
            <a:off x="1371600" y="5410080"/>
            <a:ext cx="57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9900"/>
                </a:solidFill>
                <a:latin typeface="Arial"/>
              </a:rPr>
              <a:t>Moi, j’en doute 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76320" y="1828800"/>
            <a:ext cx="457200" cy="152280"/>
          </a:xfrm>
          <a:prstGeom prst="rightArrow">
            <a:avLst>
              <a:gd name="adj1" fmla="val 50000"/>
              <a:gd name="adj2" fmla="val 75059"/>
            </a:avLst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6629400" y="6248520"/>
            <a:ext cx="1008000" cy="504720"/>
          </a:xfrm>
          <a:custGeom>
            <a:avLst/>
            <a:gdLst>
              <a:gd name="textAreaLeft" fmla="*/ 32400 w 1008000"/>
              <a:gd name="textAreaRight" fmla="*/ 975600 w 1008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43123" h="21600">
                <a:moveTo>
                  <a:pt x="0" y="0"/>
                </a:moveTo>
                <a:lnTo>
                  <a:pt x="43123" y="0"/>
                </a:lnTo>
                <a:lnTo>
                  <a:pt x="43123" y="21600"/>
                </a:lnTo>
                <a:lnTo>
                  <a:pt x="0" y="21600"/>
                </a:lnTo>
                <a:close/>
              </a:path>
              <a:path fill="lightenLess" w="43123" h="21600">
                <a:moveTo>
                  <a:pt x="0" y="0"/>
                </a:moveTo>
                <a:lnTo>
                  <a:pt x="43123" y="0"/>
                </a:lnTo>
                <a:lnTo>
                  <a:pt x="41723" y="1400"/>
                </a:lnTo>
                <a:lnTo>
                  <a:pt x="1400" y="1400"/>
                </a:lnTo>
                <a:close/>
              </a:path>
              <a:path fill="darken" w="43123" h="21600">
                <a:moveTo>
                  <a:pt x="43123" y="0"/>
                </a:moveTo>
                <a:lnTo>
                  <a:pt x="43123" y="21600"/>
                </a:lnTo>
                <a:lnTo>
                  <a:pt x="41723" y="20200"/>
                </a:lnTo>
                <a:lnTo>
                  <a:pt x="41723" y="1400"/>
                </a:lnTo>
                <a:close/>
              </a:path>
              <a:path fill="darkenLess" w="43123" h="21600">
                <a:moveTo>
                  <a:pt x="431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23" y="20200"/>
                </a:lnTo>
                <a:close/>
              </a:path>
              <a:path fill="lighten" w="431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23" h="21600">
                <a:moveTo>
                  <a:pt x="14555" y="3794"/>
                </a:moveTo>
                <a:lnTo>
                  <a:pt x="28568" y="10800"/>
                </a:lnTo>
                <a:lnTo>
                  <a:pt x="14555" y="17806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G Produc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/>
          </p:nvPr>
        </p:nvSpPr>
        <p:spPr>
          <a:xfrm>
            <a:off x="609480" y="1294920"/>
            <a:ext cx="73152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/6 : Intéressez-vous  plutôt au trico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/6 : Avez-vous déjà vu un homme nu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/6 : Regardez de plus prè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/6 : Vous n’êtes pas très observatri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/6 : Cette chose vous est manifestement familiè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/6 : Vous êtes une femme expérimenté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/6 : Rien à dire! C’est la classe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 type="title"/>
          </p:nvPr>
        </p:nvSpPr>
        <p:spPr>
          <a:xfrm>
            <a:off x="2286000" y="271800"/>
            <a:ext cx="4114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Comic Sans MS"/>
              </a:rPr>
              <a:t>Résultats : 2/6</a:t>
            </a:r>
            <a:endParaRPr b="0" lang="en-US" sz="36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30" name=""/>
          <p:cNvSpPr/>
          <p:nvPr/>
        </p:nvSpPr>
        <p:spPr>
          <a:xfrm>
            <a:off x="1371600" y="5410080"/>
            <a:ext cx="57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9900"/>
                </a:solidFill>
                <a:latin typeface="Arial"/>
              </a:rPr>
              <a:t>A partir de maintenant, n’éteints plus la lumière 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76320" y="2209680"/>
            <a:ext cx="457200" cy="152640"/>
          </a:xfrm>
          <a:prstGeom prst="rightArrow">
            <a:avLst>
              <a:gd name="adj1" fmla="val 50000"/>
              <a:gd name="adj2" fmla="val 74882"/>
            </a:avLst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6629400" y="6248520"/>
            <a:ext cx="1008000" cy="504720"/>
          </a:xfrm>
          <a:custGeom>
            <a:avLst/>
            <a:gdLst>
              <a:gd name="textAreaLeft" fmla="*/ 32400 w 1008000"/>
              <a:gd name="textAreaRight" fmla="*/ 975600 w 1008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43123" h="21600">
                <a:moveTo>
                  <a:pt x="0" y="0"/>
                </a:moveTo>
                <a:lnTo>
                  <a:pt x="43123" y="0"/>
                </a:lnTo>
                <a:lnTo>
                  <a:pt x="43123" y="21600"/>
                </a:lnTo>
                <a:lnTo>
                  <a:pt x="0" y="21600"/>
                </a:lnTo>
                <a:close/>
              </a:path>
              <a:path fill="lightenLess" w="43123" h="21600">
                <a:moveTo>
                  <a:pt x="0" y="0"/>
                </a:moveTo>
                <a:lnTo>
                  <a:pt x="43123" y="0"/>
                </a:lnTo>
                <a:lnTo>
                  <a:pt x="41723" y="1400"/>
                </a:lnTo>
                <a:lnTo>
                  <a:pt x="1400" y="1400"/>
                </a:lnTo>
                <a:close/>
              </a:path>
              <a:path fill="darken" w="43123" h="21600">
                <a:moveTo>
                  <a:pt x="43123" y="0"/>
                </a:moveTo>
                <a:lnTo>
                  <a:pt x="43123" y="21600"/>
                </a:lnTo>
                <a:lnTo>
                  <a:pt x="41723" y="20200"/>
                </a:lnTo>
                <a:lnTo>
                  <a:pt x="41723" y="1400"/>
                </a:lnTo>
                <a:close/>
              </a:path>
              <a:path fill="darkenLess" w="43123" h="21600">
                <a:moveTo>
                  <a:pt x="431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23" y="20200"/>
                </a:lnTo>
                <a:close/>
              </a:path>
              <a:path fill="lighten" w="431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23" h="21600">
                <a:moveTo>
                  <a:pt x="14555" y="3794"/>
                </a:moveTo>
                <a:lnTo>
                  <a:pt x="28568" y="10800"/>
                </a:lnTo>
                <a:lnTo>
                  <a:pt x="14555" y="17806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G Produc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/>
          </p:nvPr>
        </p:nvSpPr>
        <p:spPr>
          <a:xfrm>
            <a:off x="609480" y="1294920"/>
            <a:ext cx="73152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/6 : Intéressez-vous  plutôt au trico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/6 : Avez-vous déjà vu un homme nu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/6 : Regardez de plus prè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/6 : Vous n’êtes pas très observatri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/6 : Cette chose vous est manifestement familiè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/6 : Vous êtes une femme expérimenté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/6 : Rien à dire! C’est la classe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 type="title"/>
          </p:nvPr>
        </p:nvSpPr>
        <p:spPr>
          <a:xfrm>
            <a:off x="2286000" y="271800"/>
            <a:ext cx="4114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Comic Sans MS"/>
              </a:rPr>
              <a:t>Résultats : 3/6</a:t>
            </a:r>
            <a:endParaRPr b="0" lang="en-US" sz="36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35" name=""/>
          <p:cNvSpPr/>
          <p:nvPr/>
        </p:nvSpPr>
        <p:spPr>
          <a:xfrm>
            <a:off x="1371600" y="5410080"/>
            <a:ext cx="57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9900"/>
                </a:solidFill>
                <a:latin typeface="Arial"/>
              </a:rPr>
              <a:t>Je pense que tu as besoin de lunettes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76320" y="2590920"/>
            <a:ext cx="457200" cy="152280"/>
          </a:xfrm>
          <a:prstGeom prst="rightArrow">
            <a:avLst>
              <a:gd name="adj1" fmla="val 50000"/>
              <a:gd name="adj2" fmla="val 75059"/>
            </a:avLst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6629400" y="6248520"/>
            <a:ext cx="1008000" cy="504720"/>
          </a:xfrm>
          <a:custGeom>
            <a:avLst/>
            <a:gdLst>
              <a:gd name="textAreaLeft" fmla="*/ 32400 w 1008000"/>
              <a:gd name="textAreaRight" fmla="*/ 975600 w 1008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43123" h="21600">
                <a:moveTo>
                  <a:pt x="0" y="0"/>
                </a:moveTo>
                <a:lnTo>
                  <a:pt x="43123" y="0"/>
                </a:lnTo>
                <a:lnTo>
                  <a:pt x="43123" y="21600"/>
                </a:lnTo>
                <a:lnTo>
                  <a:pt x="0" y="21600"/>
                </a:lnTo>
                <a:close/>
              </a:path>
              <a:path fill="lightenLess" w="43123" h="21600">
                <a:moveTo>
                  <a:pt x="0" y="0"/>
                </a:moveTo>
                <a:lnTo>
                  <a:pt x="43123" y="0"/>
                </a:lnTo>
                <a:lnTo>
                  <a:pt x="41723" y="1400"/>
                </a:lnTo>
                <a:lnTo>
                  <a:pt x="1400" y="1400"/>
                </a:lnTo>
                <a:close/>
              </a:path>
              <a:path fill="darken" w="43123" h="21600">
                <a:moveTo>
                  <a:pt x="43123" y="0"/>
                </a:moveTo>
                <a:lnTo>
                  <a:pt x="43123" y="21600"/>
                </a:lnTo>
                <a:lnTo>
                  <a:pt x="41723" y="20200"/>
                </a:lnTo>
                <a:lnTo>
                  <a:pt x="41723" y="1400"/>
                </a:lnTo>
                <a:close/>
              </a:path>
              <a:path fill="darkenLess" w="43123" h="21600">
                <a:moveTo>
                  <a:pt x="431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23" y="20200"/>
                </a:lnTo>
                <a:close/>
              </a:path>
              <a:path fill="lighten" w="431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23" h="21600">
                <a:moveTo>
                  <a:pt x="14555" y="3794"/>
                </a:moveTo>
                <a:lnTo>
                  <a:pt x="28568" y="10800"/>
                </a:lnTo>
                <a:lnTo>
                  <a:pt x="14555" y="17806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G Produc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/>
          </p:nvPr>
        </p:nvSpPr>
        <p:spPr>
          <a:xfrm>
            <a:off x="609480" y="1294920"/>
            <a:ext cx="73152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/6 : Intéressez-vous  plutôt au trico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/6 : Avez-vous déjà vu un homme nu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/6 : Regardez de plus prè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/6 : Vous n’êtes pas très observatri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/6 : Cette chose vous est manifestement familiè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/6 : Vous êtes une femme expérimenté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/6 : Rien à dire! C’est la classe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 type="title"/>
          </p:nvPr>
        </p:nvSpPr>
        <p:spPr>
          <a:xfrm>
            <a:off x="2286000" y="271800"/>
            <a:ext cx="4114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Comic Sans MS"/>
              </a:rPr>
              <a:t>Résultats : 4/6</a:t>
            </a:r>
            <a:endParaRPr b="0" lang="en-US" sz="36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40" name=""/>
          <p:cNvSpPr/>
          <p:nvPr/>
        </p:nvSpPr>
        <p:spPr>
          <a:xfrm>
            <a:off x="1066680" y="5410080"/>
            <a:ext cx="601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9900"/>
                </a:solidFill>
                <a:latin typeface="Arial"/>
              </a:rPr>
              <a:t>Mais, un peu plus d’observation serait nécessaire 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76320" y="2971800"/>
            <a:ext cx="457200" cy="152280"/>
          </a:xfrm>
          <a:prstGeom prst="rightArrow">
            <a:avLst>
              <a:gd name="adj1" fmla="val 50000"/>
              <a:gd name="adj2" fmla="val 75059"/>
            </a:avLst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6629400" y="6248520"/>
            <a:ext cx="1008000" cy="504720"/>
          </a:xfrm>
          <a:custGeom>
            <a:avLst/>
            <a:gdLst>
              <a:gd name="textAreaLeft" fmla="*/ 32400 w 1008000"/>
              <a:gd name="textAreaRight" fmla="*/ 975600 w 1008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43123" h="21600">
                <a:moveTo>
                  <a:pt x="0" y="0"/>
                </a:moveTo>
                <a:lnTo>
                  <a:pt x="43123" y="0"/>
                </a:lnTo>
                <a:lnTo>
                  <a:pt x="43123" y="21600"/>
                </a:lnTo>
                <a:lnTo>
                  <a:pt x="0" y="21600"/>
                </a:lnTo>
                <a:close/>
              </a:path>
              <a:path fill="lightenLess" w="43123" h="21600">
                <a:moveTo>
                  <a:pt x="0" y="0"/>
                </a:moveTo>
                <a:lnTo>
                  <a:pt x="43123" y="0"/>
                </a:lnTo>
                <a:lnTo>
                  <a:pt x="41723" y="1400"/>
                </a:lnTo>
                <a:lnTo>
                  <a:pt x="1400" y="1400"/>
                </a:lnTo>
                <a:close/>
              </a:path>
              <a:path fill="darken" w="43123" h="21600">
                <a:moveTo>
                  <a:pt x="43123" y="0"/>
                </a:moveTo>
                <a:lnTo>
                  <a:pt x="43123" y="21600"/>
                </a:lnTo>
                <a:lnTo>
                  <a:pt x="41723" y="20200"/>
                </a:lnTo>
                <a:lnTo>
                  <a:pt x="41723" y="1400"/>
                </a:lnTo>
                <a:close/>
              </a:path>
              <a:path fill="darkenLess" w="43123" h="21600">
                <a:moveTo>
                  <a:pt x="431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23" y="20200"/>
                </a:lnTo>
                <a:close/>
              </a:path>
              <a:path fill="lighten" w="431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23" h="21600">
                <a:moveTo>
                  <a:pt x="14555" y="3794"/>
                </a:moveTo>
                <a:lnTo>
                  <a:pt x="28568" y="10800"/>
                </a:lnTo>
                <a:lnTo>
                  <a:pt x="14555" y="17806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G Produc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4648320" y="4952880"/>
            <a:ext cx="326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élicitation, seconde bonne réponse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385920" y="380880"/>
            <a:ext cx="3900240" cy="60483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5181480" y="1219320"/>
            <a:ext cx="679680" cy="8953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6858000" y="3352680"/>
            <a:ext cx="789120" cy="9003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4"/>
          <a:stretch/>
        </p:blipFill>
        <p:spPr>
          <a:xfrm>
            <a:off x="5181480" y="3352680"/>
            <a:ext cx="825480" cy="9003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5"/>
          <a:stretch/>
        </p:blipFill>
        <p:spPr>
          <a:xfrm>
            <a:off x="5181480" y="2274840"/>
            <a:ext cx="669960" cy="90000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6"/>
          <a:stretch/>
        </p:blipFill>
        <p:spPr>
          <a:xfrm>
            <a:off x="6857280" y="1219320"/>
            <a:ext cx="825480" cy="90000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7"/>
          <a:stretch/>
        </p:blipFill>
        <p:spPr>
          <a:xfrm>
            <a:off x="6858000" y="2286000"/>
            <a:ext cx="750960" cy="90000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8"/>
          <a:stretch/>
        </p:blipFill>
        <p:spPr>
          <a:xfrm>
            <a:off x="2133720" y="5181480"/>
            <a:ext cx="650880" cy="86040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429000" y="73080"/>
            <a:ext cx="464832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 Black"/>
              </a:rPr>
              <a:t>Diapositive N° 2 - Résultat</a:t>
            </a:r>
            <a:br>
              <a:rPr sz="2400"/>
            </a:br>
            <a:r>
              <a:rPr b="0" lang="en-US" sz="2400" spc="-1" strike="noStrike">
                <a:solidFill>
                  <a:srgbClr val="0033cc"/>
                </a:solidFill>
                <a:latin typeface="Arial Black"/>
              </a:rPr>
              <a:t>Score actuel = 2 points</a:t>
            </a:r>
            <a:endParaRPr b="0" lang="en-US" sz="2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46" name=""/>
          <p:cNvSpPr/>
          <p:nvPr/>
        </p:nvSpPr>
        <p:spPr>
          <a:xfrm>
            <a:off x="5883120" y="83808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Lucida Handwriting"/>
              </a:rPr>
              <a:t>BRAVO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>
            <a:hlinkClick r:id="rId9" action="ppaction://hlinksldjump"/>
          </p:cNvPr>
          <p:cNvSpPr/>
          <p:nvPr/>
        </p:nvSpPr>
        <p:spPr>
          <a:xfrm>
            <a:off x="4630680" y="6124680"/>
            <a:ext cx="1008000" cy="504720"/>
          </a:xfrm>
          <a:custGeom>
            <a:avLst/>
            <a:gdLst>
              <a:gd name="textAreaLeft" fmla="*/ 32400 w 1008000"/>
              <a:gd name="textAreaRight" fmla="*/ 975600 w 1008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43123" h="21600">
                <a:moveTo>
                  <a:pt x="0" y="0"/>
                </a:moveTo>
                <a:lnTo>
                  <a:pt x="43123" y="0"/>
                </a:lnTo>
                <a:lnTo>
                  <a:pt x="43123" y="21600"/>
                </a:lnTo>
                <a:lnTo>
                  <a:pt x="0" y="21600"/>
                </a:lnTo>
                <a:close/>
              </a:path>
              <a:path fill="lightenLess" w="43123" h="21600">
                <a:moveTo>
                  <a:pt x="0" y="0"/>
                </a:moveTo>
                <a:lnTo>
                  <a:pt x="43123" y="0"/>
                </a:lnTo>
                <a:lnTo>
                  <a:pt x="41723" y="1400"/>
                </a:lnTo>
                <a:lnTo>
                  <a:pt x="1400" y="1400"/>
                </a:lnTo>
                <a:close/>
              </a:path>
              <a:path fill="darken" w="43123" h="21600">
                <a:moveTo>
                  <a:pt x="43123" y="0"/>
                </a:moveTo>
                <a:lnTo>
                  <a:pt x="43123" y="21600"/>
                </a:lnTo>
                <a:lnTo>
                  <a:pt x="41723" y="20200"/>
                </a:lnTo>
                <a:lnTo>
                  <a:pt x="41723" y="1400"/>
                </a:lnTo>
                <a:close/>
              </a:path>
              <a:path fill="darkenLess" w="43123" h="21600">
                <a:moveTo>
                  <a:pt x="431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23" y="20200"/>
                </a:lnTo>
                <a:close/>
              </a:path>
              <a:path fill="lighten" w="431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23" h="21600">
                <a:moveTo>
                  <a:pt x="14555" y="3794"/>
                </a:moveTo>
                <a:lnTo>
                  <a:pt x="28568" y="10800"/>
                </a:lnTo>
                <a:lnTo>
                  <a:pt x="14555" y="17806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724280" y="914400"/>
            <a:ext cx="1447920" cy="137160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G Produc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/>
          </p:nvPr>
        </p:nvSpPr>
        <p:spPr>
          <a:xfrm>
            <a:off x="609480" y="1294920"/>
            <a:ext cx="73152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/6 : Intéressez-vous  plutôt au trico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/6 : Avez-vous déjà vu un homme nu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/6 : Regardez de plus prè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/6 : Vous n’êtes pas très observatri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/6 : Cette chose vous est manifestement familiè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/6 : Vous êtes une femme expérimenté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/6 : Rien à dire! C’est la classe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 type="title"/>
          </p:nvPr>
        </p:nvSpPr>
        <p:spPr>
          <a:xfrm>
            <a:off x="2286000" y="271800"/>
            <a:ext cx="4114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Comic Sans MS"/>
              </a:rPr>
              <a:t>Résultats : 5/6</a:t>
            </a:r>
            <a:endParaRPr b="0" lang="en-US" sz="36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45" name=""/>
          <p:cNvSpPr/>
          <p:nvPr/>
        </p:nvSpPr>
        <p:spPr>
          <a:xfrm>
            <a:off x="76320" y="3429000"/>
            <a:ext cx="457200" cy="152280"/>
          </a:xfrm>
          <a:prstGeom prst="rightArrow">
            <a:avLst>
              <a:gd name="adj1" fmla="val 50000"/>
              <a:gd name="adj2" fmla="val 75059"/>
            </a:avLst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1066680" y="5410080"/>
            <a:ext cx="601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9900"/>
                </a:solidFill>
                <a:latin typeface="Arial"/>
              </a:rPr>
              <a:t>Très expérimentée même 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6629400" y="6248520"/>
            <a:ext cx="1008000" cy="504720"/>
          </a:xfrm>
          <a:custGeom>
            <a:avLst/>
            <a:gdLst>
              <a:gd name="textAreaLeft" fmla="*/ 32400 w 1008000"/>
              <a:gd name="textAreaRight" fmla="*/ 975600 w 1008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43123" h="21600">
                <a:moveTo>
                  <a:pt x="0" y="0"/>
                </a:moveTo>
                <a:lnTo>
                  <a:pt x="43123" y="0"/>
                </a:lnTo>
                <a:lnTo>
                  <a:pt x="43123" y="21600"/>
                </a:lnTo>
                <a:lnTo>
                  <a:pt x="0" y="21600"/>
                </a:lnTo>
                <a:close/>
              </a:path>
              <a:path fill="lightenLess" w="43123" h="21600">
                <a:moveTo>
                  <a:pt x="0" y="0"/>
                </a:moveTo>
                <a:lnTo>
                  <a:pt x="43123" y="0"/>
                </a:lnTo>
                <a:lnTo>
                  <a:pt x="41723" y="1400"/>
                </a:lnTo>
                <a:lnTo>
                  <a:pt x="1400" y="1400"/>
                </a:lnTo>
                <a:close/>
              </a:path>
              <a:path fill="darken" w="43123" h="21600">
                <a:moveTo>
                  <a:pt x="43123" y="0"/>
                </a:moveTo>
                <a:lnTo>
                  <a:pt x="43123" y="21600"/>
                </a:lnTo>
                <a:lnTo>
                  <a:pt x="41723" y="20200"/>
                </a:lnTo>
                <a:lnTo>
                  <a:pt x="41723" y="1400"/>
                </a:lnTo>
                <a:close/>
              </a:path>
              <a:path fill="darkenLess" w="43123" h="21600">
                <a:moveTo>
                  <a:pt x="431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23" y="20200"/>
                </a:lnTo>
                <a:close/>
              </a:path>
              <a:path fill="lighten" w="431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23" h="21600">
                <a:moveTo>
                  <a:pt x="14555" y="3794"/>
                </a:moveTo>
                <a:lnTo>
                  <a:pt x="28568" y="10800"/>
                </a:lnTo>
                <a:lnTo>
                  <a:pt x="14555" y="17806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G Produc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/>
          </p:nvPr>
        </p:nvSpPr>
        <p:spPr>
          <a:xfrm>
            <a:off x="609480" y="1294920"/>
            <a:ext cx="73152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/6 : Intéressez-vous  plutôt au trico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/6 : Avez-vous déjà vu un homme nu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/6 : Regardez de plus prè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/6 : Vous n’êtes pas très observatri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/6 : Cette chose vous est manifestement familiè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/6 : Vous êtes une femme expérimenté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/6 : Rien à dire! C’est la classe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 type="title"/>
          </p:nvPr>
        </p:nvSpPr>
        <p:spPr>
          <a:xfrm>
            <a:off x="2286000" y="271800"/>
            <a:ext cx="4114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Comic Sans MS"/>
              </a:rPr>
              <a:t>Résultats : 6/6</a:t>
            </a:r>
            <a:endParaRPr b="0" lang="en-US" sz="36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50" name=""/>
          <p:cNvSpPr/>
          <p:nvPr/>
        </p:nvSpPr>
        <p:spPr>
          <a:xfrm>
            <a:off x="76320" y="3809880"/>
            <a:ext cx="457200" cy="152640"/>
          </a:xfrm>
          <a:prstGeom prst="rightArrow">
            <a:avLst>
              <a:gd name="adj1" fmla="val 50000"/>
              <a:gd name="adj2" fmla="val 74882"/>
            </a:avLst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1066680" y="5410080"/>
            <a:ext cx="601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9900"/>
                </a:solidFill>
                <a:latin typeface="Arial"/>
              </a:rPr>
              <a:t>N’es-tu pas un peu obsédée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6629400" y="6248520"/>
            <a:ext cx="1008000" cy="504720"/>
          </a:xfrm>
          <a:custGeom>
            <a:avLst/>
            <a:gdLst>
              <a:gd name="textAreaLeft" fmla="*/ 32400 w 1008000"/>
              <a:gd name="textAreaRight" fmla="*/ 975600 w 1008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43123" h="21600">
                <a:moveTo>
                  <a:pt x="0" y="0"/>
                </a:moveTo>
                <a:lnTo>
                  <a:pt x="43123" y="0"/>
                </a:lnTo>
                <a:lnTo>
                  <a:pt x="43123" y="21600"/>
                </a:lnTo>
                <a:lnTo>
                  <a:pt x="0" y="21600"/>
                </a:lnTo>
                <a:close/>
              </a:path>
              <a:path fill="lightenLess" w="43123" h="21600">
                <a:moveTo>
                  <a:pt x="0" y="0"/>
                </a:moveTo>
                <a:lnTo>
                  <a:pt x="43123" y="0"/>
                </a:lnTo>
                <a:lnTo>
                  <a:pt x="41723" y="1400"/>
                </a:lnTo>
                <a:lnTo>
                  <a:pt x="1400" y="1400"/>
                </a:lnTo>
                <a:close/>
              </a:path>
              <a:path fill="darken" w="43123" h="21600">
                <a:moveTo>
                  <a:pt x="43123" y="0"/>
                </a:moveTo>
                <a:lnTo>
                  <a:pt x="43123" y="21600"/>
                </a:lnTo>
                <a:lnTo>
                  <a:pt x="41723" y="20200"/>
                </a:lnTo>
                <a:lnTo>
                  <a:pt x="41723" y="1400"/>
                </a:lnTo>
                <a:close/>
              </a:path>
              <a:path fill="darkenLess" w="43123" h="21600">
                <a:moveTo>
                  <a:pt x="431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23" y="20200"/>
                </a:lnTo>
                <a:close/>
              </a:path>
              <a:path fill="lighten" w="431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23" h="21600">
                <a:moveTo>
                  <a:pt x="14555" y="3794"/>
                </a:moveTo>
                <a:lnTo>
                  <a:pt x="28568" y="10800"/>
                </a:lnTo>
                <a:lnTo>
                  <a:pt x="14555" y="17806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G Produc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0" y="74160"/>
            <a:ext cx="7848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00"/>
                </a:solidFill>
                <a:latin typeface="Arial Black"/>
              </a:rPr>
              <a:t>Que souhaites-tu faire maintenant ?</a:t>
            </a:r>
            <a:endParaRPr b="0" lang="en-US" sz="3000" spc="-1" strike="noStrike">
              <a:solidFill>
                <a:srgbClr val="003300"/>
              </a:solidFill>
              <a:latin typeface="Arial Black"/>
            </a:endParaRPr>
          </a:p>
        </p:txBody>
      </p:sp>
      <p:pic>
        <p:nvPicPr>
          <p:cNvPr id="854" name="" descr=""/>
          <p:cNvPicPr/>
          <p:nvPr/>
        </p:nvPicPr>
        <p:blipFill>
          <a:blip r:embed="rId1"/>
          <a:stretch/>
        </p:blipFill>
        <p:spPr>
          <a:xfrm>
            <a:off x="762120" y="533520"/>
            <a:ext cx="6588000" cy="5921280"/>
          </a:xfrm>
          <a:prstGeom prst="rect">
            <a:avLst/>
          </a:prstGeom>
          <a:ln w="0">
            <a:noFill/>
          </a:ln>
        </p:spPr>
      </p:pic>
      <p:sp>
        <p:nvSpPr>
          <p:cNvPr id="855" name=""/>
          <p:cNvSpPr/>
          <p:nvPr/>
        </p:nvSpPr>
        <p:spPr>
          <a:xfrm>
            <a:off x="457200" y="5891040"/>
            <a:ext cx="1500120" cy="662040"/>
          </a:xfrm>
          <a:custGeom>
            <a:avLst/>
            <a:gdLst>
              <a:gd name="textAreaLeft" fmla="*/ 165240 w 1500120"/>
              <a:gd name="textAreaRight" fmla="*/ 1334880 w 1500120"/>
              <a:gd name="textAreaTop" fmla="*/ 165240 h 662040"/>
              <a:gd name="textAreaBottom" fmla="*/ 496800 h 662040"/>
            </a:gdLst>
            <a:ahLst/>
            <a:rect l="textAreaLeft" t="textAreaTop" r="textAreaRight" b="textAreaBottom"/>
            <a:pathLst>
              <a:path w="48929" h="21600">
                <a:moveTo>
                  <a:pt x="0" y="0"/>
                </a:moveTo>
                <a:lnTo>
                  <a:pt x="48929" y="0"/>
                </a:lnTo>
                <a:lnTo>
                  <a:pt x="48929" y="21600"/>
                </a:lnTo>
                <a:lnTo>
                  <a:pt x="0" y="21600"/>
                </a:lnTo>
                <a:close/>
              </a:path>
              <a:path fill="lightenLess" w="48929" h="21600">
                <a:moveTo>
                  <a:pt x="0" y="0"/>
                </a:moveTo>
                <a:lnTo>
                  <a:pt x="48929" y="0"/>
                </a:lnTo>
                <a:lnTo>
                  <a:pt x="43529" y="5400"/>
                </a:lnTo>
                <a:lnTo>
                  <a:pt x="5400" y="5400"/>
                </a:lnTo>
                <a:close/>
              </a:path>
              <a:path fill="darken" w="48929" h="21600">
                <a:moveTo>
                  <a:pt x="48929" y="0"/>
                </a:moveTo>
                <a:lnTo>
                  <a:pt x="48929" y="21600"/>
                </a:lnTo>
                <a:lnTo>
                  <a:pt x="43529" y="16200"/>
                </a:lnTo>
                <a:lnTo>
                  <a:pt x="43529" y="5400"/>
                </a:lnTo>
                <a:close/>
              </a:path>
              <a:path fill="darkenLess" w="48929" h="21600">
                <a:moveTo>
                  <a:pt x="48929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43529" y="16200"/>
                </a:lnTo>
                <a:close/>
              </a:path>
              <a:path fill="lighten" w="48929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jou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>
            <a:hlinkClick r:id="" action="ppaction://hlinkshowjump?jump=endshow"/>
          </p:cNvPr>
          <p:cNvSpPr/>
          <p:nvPr/>
        </p:nvSpPr>
        <p:spPr>
          <a:xfrm>
            <a:off x="5791320" y="5943600"/>
            <a:ext cx="1500120" cy="662040"/>
          </a:xfrm>
          <a:custGeom>
            <a:avLst/>
            <a:gdLst>
              <a:gd name="textAreaLeft" fmla="*/ 165240 w 1500120"/>
              <a:gd name="textAreaRight" fmla="*/ 1334880 w 1500120"/>
              <a:gd name="textAreaTop" fmla="*/ 165240 h 662040"/>
              <a:gd name="textAreaBottom" fmla="*/ 496800 h 662040"/>
            </a:gdLst>
            <a:ahLst/>
            <a:rect l="textAreaLeft" t="textAreaTop" r="textAreaRight" b="textAreaBottom"/>
            <a:pathLst>
              <a:path w="48929" h="21600">
                <a:moveTo>
                  <a:pt x="0" y="0"/>
                </a:moveTo>
                <a:lnTo>
                  <a:pt x="48929" y="0"/>
                </a:lnTo>
                <a:lnTo>
                  <a:pt x="48929" y="21600"/>
                </a:lnTo>
                <a:lnTo>
                  <a:pt x="0" y="21600"/>
                </a:lnTo>
                <a:close/>
              </a:path>
              <a:path fill="lightenLess" w="48929" h="21600">
                <a:moveTo>
                  <a:pt x="0" y="0"/>
                </a:moveTo>
                <a:lnTo>
                  <a:pt x="48929" y="0"/>
                </a:lnTo>
                <a:lnTo>
                  <a:pt x="43529" y="5400"/>
                </a:lnTo>
                <a:lnTo>
                  <a:pt x="5400" y="5400"/>
                </a:lnTo>
                <a:close/>
              </a:path>
              <a:path fill="darken" w="48929" h="21600">
                <a:moveTo>
                  <a:pt x="48929" y="0"/>
                </a:moveTo>
                <a:lnTo>
                  <a:pt x="48929" y="21600"/>
                </a:lnTo>
                <a:lnTo>
                  <a:pt x="43529" y="16200"/>
                </a:lnTo>
                <a:lnTo>
                  <a:pt x="43529" y="5400"/>
                </a:lnTo>
                <a:close/>
              </a:path>
              <a:path fill="darkenLess" w="48929" h="21600">
                <a:moveTo>
                  <a:pt x="48929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43529" y="16200"/>
                </a:lnTo>
                <a:close/>
              </a:path>
              <a:path fill="lighten" w="48929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it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G Produc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4648320" y="4952880"/>
            <a:ext cx="326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élicitation, enfin une bonne réponse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385920" y="380880"/>
            <a:ext cx="3900240" cy="604836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5181480" y="1219320"/>
            <a:ext cx="679680" cy="89532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3"/>
          <a:stretch/>
        </p:blipFill>
        <p:spPr>
          <a:xfrm>
            <a:off x="6858000" y="3352680"/>
            <a:ext cx="789120" cy="90036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4"/>
          <a:stretch/>
        </p:blipFill>
        <p:spPr>
          <a:xfrm>
            <a:off x="5181480" y="3352680"/>
            <a:ext cx="825480" cy="90036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5"/>
          <a:stretch/>
        </p:blipFill>
        <p:spPr>
          <a:xfrm>
            <a:off x="5181480" y="2274840"/>
            <a:ext cx="669960" cy="90000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6"/>
          <a:stretch/>
        </p:blipFill>
        <p:spPr>
          <a:xfrm>
            <a:off x="6857280" y="1219320"/>
            <a:ext cx="825480" cy="90000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7"/>
          <a:stretch/>
        </p:blipFill>
        <p:spPr>
          <a:xfrm>
            <a:off x="6858000" y="2286000"/>
            <a:ext cx="750960" cy="90000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8"/>
          <a:stretch/>
        </p:blipFill>
        <p:spPr>
          <a:xfrm>
            <a:off x="2133720" y="5181480"/>
            <a:ext cx="650880" cy="86040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429000" y="73080"/>
            <a:ext cx="464832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 Black"/>
              </a:rPr>
              <a:t>Diapositive N° 2 - Résultat</a:t>
            </a:r>
            <a:br>
              <a:rPr sz="2400"/>
            </a:br>
            <a:r>
              <a:rPr b="0" lang="en-US" sz="2400" spc="-1" strike="noStrike">
                <a:solidFill>
                  <a:srgbClr val="0033cc"/>
                </a:solidFill>
                <a:latin typeface="Arial Black"/>
              </a:rPr>
              <a:t>Score actuel = 1 point</a:t>
            </a:r>
            <a:endParaRPr b="0" lang="en-US" sz="2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59" name=""/>
          <p:cNvSpPr/>
          <p:nvPr/>
        </p:nvSpPr>
        <p:spPr>
          <a:xfrm>
            <a:off x="5883120" y="83808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Lucida Handwriting"/>
              </a:rPr>
              <a:t>BRAVO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>
            <a:hlinkClick r:id="rId9" action="ppaction://hlinksldjump"/>
          </p:cNvPr>
          <p:cNvSpPr/>
          <p:nvPr/>
        </p:nvSpPr>
        <p:spPr>
          <a:xfrm>
            <a:off x="4630680" y="6124680"/>
            <a:ext cx="1008000" cy="504720"/>
          </a:xfrm>
          <a:custGeom>
            <a:avLst/>
            <a:gdLst>
              <a:gd name="textAreaLeft" fmla="*/ 32400 w 1008000"/>
              <a:gd name="textAreaRight" fmla="*/ 975600 w 1008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43123" h="21600">
                <a:moveTo>
                  <a:pt x="0" y="0"/>
                </a:moveTo>
                <a:lnTo>
                  <a:pt x="43123" y="0"/>
                </a:lnTo>
                <a:lnTo>
                  <a:pt x="43123" y="21600"/>
                </a:lnTo>
                <a:lnTo>
                  <a:pt x="0" y="21600"/>
                </a:lnTo>
                <a:close/>
              </a:path>
              <a:path fill="lightenLess" w="43123" h="21600">
                <a:moveTo>
                  <a:pt x="0" y="0"/>
                </a:moveTo>
                <a:lnTo>
                  <a:pt x="43123" y="0"/>
                </a:lnTo>
                <a:lnTo>
                  <a:pt x="41723" y="1400"/>
                </a:lnTo>
                <a:lnTo>
                  <a:pt x="1400" y="1400"/>
                </a:lnTo>
                <a:close/>
              </a:path>
              <a:path fill="darken" w="43123" h="21600">
                <a:moveTo>
                  <a:pt x="43123" y="0"/>
                </a:moveTo>
                <a:lnTo>
                  <a:pt x="43123" y="21600"/>
                </a:lnTo>
                <a:lnTo>
                  <a:pt x="41723" y="20200"/>
                </a:lnTo>
                <a:lnTo>
                  <a:pt x="41723" y="1400"/>
                </a:lnTo>
                <a:close/>
              </a:path>
              <a:path fill="darkenLess" w="43123" h="21600">
                <a:moveTo>
                  <a:pt x="431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23" y="20200"/>
                </a:lnTo>
                <a:close/>
              </a:path>
              <a:path fill="lighten" w="431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23" h="21600">
                <a:moveTo>
                  <a:pt x="14555" y="3794"/>
                </a:moveTo>
                <a:lnTo>
                  <a:pt x="28568" y="10800"/>
                </a:lnTo>
                <a:lnTo>
                  <a:pt x="14555" y="17806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724280" y="990720"/>
            <a:ext cx="1447920" cy="137160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G Produc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4648320" y="4952880"/>
            <a:ext cx="326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Tu n’es pas très observatrice 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385920" y="380880"/>
            <a:ext cx="3900240" cy="604836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5181480" y="1219320"/>
            <a:ext cx="679680" cy="89532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6858000" y="3352680"/>
            <a:ext cx="789120" cy="90036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4"/>
          <a:stretch/>
        </p:blipFill>
        <p:spPr>
          <a:xfrm>
            <a:off x="5181480" y="3352680"/>
            <a:ext cx="825480" cy="90036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5"/>
          <a:stretch/>
        </p:blipFill>
        <p:spPr>
          <a:xfrm>
            <a:off x="5181480" y="2274840"/>
            <a:ext cx="669960" cy="90000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6"/>
          <a:stretch/>
        </p:blipFill>
        <p:spPr>
          <a:xfrm>
            <a:off x="6857280" y="1219320"/>
            <a:ext cx="825480" cy="90000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7"/>
          <a:stretch/>
        </p:blipFill>
        <p:spPr>
          <a:xfrm>
            <a:off x="6858000" y="2286000"/>
            <a:ext cx="750960" cy="90000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8"/>
          <a:stretch/>
        </p:blipFill>
        <p:spPr>
          <a:xfrm>
            <a:off x="2133720" y="5181480"/>
            <a:ext cx="650880" cy="8604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429000" y="73080"/>
            <a:ext cx="464832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 Black"/>
              </a:rPr>
              <a:t>Diapositive N° 2 - Résultat</a:t>
            </a:r>
            <a:br>
              <a:rPr sz="2400"/>
            </a:br>
            <a:r>
              <a:rPr b="0" lang="en-US" sz="2400" spc="-1" strike="noStrike">
                <a:solidFill>
                  <a:srgbClr val="0033cc"/>
                </a:solidFill>
                <a:latin typeface="Arial Black"/>
              </a:rPr>
              <a:t>Score actuel = 1 point</a:t>
            </a:r>
            <a:endParaRPr b="0" lang="en-US" sz="2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72" name=""/>
          <p:cNvSpPr/>
          <p:nvPr/>
        </p:nvSpPr>
        <p:spPr>
          <a:xfrm>
            <a:off x="6111720" y="83808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Lucida Handwriting"/>
              </a:rPr>
              <a:t>Perd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724280" y="1066680"/>
            <a:ext cx="1447920" cy="137160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>
            <a:hlinkClick r:id="rId9" action="ppaction://hlinksldjump"/>
          </p:cNvPr>
          <p:cNvSpPr/>
          <p:nvPr/>
        </p:nvSpPr>
        <p:spPr>
          <a:xfrm>
            <a:off x="4630680" y="6124680"/>
            <a:ext cx="1008000" cy="504720"/>
          </a:xfrm>
          <a:custGeom>
            <a:avLst/>
            <a:gdLst>
              <a:gd name="textAreaLeft" fmla="*/ 32400 w 1008000"/>
              <a:gd name="textAreaRight" fmla="*/ 975600 w 1008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43123" h="21600">
                <a:moveTo>
                  <a:pt x="0" y="0"/>
                </a:moveTo>
                <a:lnTo>
                  <a:pt x="43123" y="0"/>
                </a:lnTo>
                <a:lnTo>
                  <a:pt x="43123" y="21600"/>
                </a:lnTo>
                <a:lnTo>
                  <a:pt x="0" y="21600"/>
                </a:lnTo>
                <a:close/>
              </a:path>
              <a:path fill="lightenLess" w="43123" h="21600">
                <a:moveTo>
                  <a:pt x="0" y="0"/>
                </a:moveTo>
                <a:lnTo>
                  <a:pt x="43123" y="0"/>
                </a:lnTo>
                <a:lnTo>
                  <a:pt x="41723" y="1400"/>
                </a:lnTo>
                <a:lnTo>
                  <a:pt x="1400" y="1400"/>
                </a:lnTo>
                <a:close/>
              </a:path>
              <a:path fill="darken" w="43123" h="21600">
                <a:moveTo>
                  <a:pt x="43123" y="0"/>
                </a:moveTo>
                <a:lnTo>
                  <a:pt x="43123" y="21600"/>
                </a:lnTo>
                <a:lnTo>
                  <a:pt x="41723" y="20200"/>
                </a:lnTo>
                <a:lnTo>
                  <a:pt x="41723" y="1400"/>
                </a:lnTo>
                <a:close/>
              </a:path>
              <a:path fill="darkenLess" w="43123" h="21600">
                <a:moveTo>
                  <a:pt x="431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23" y="20200"/>
                </a:lnTo>
                <a:close/>
              </a:path>
              <a:path fill="lighten" w="431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23" h="21600">
                <a:moveTo>
                  <a:pt x="14555" y="3794"/>
                </a:moveTo>
                <a:lnTo>
                  <a:pt x="28568" y="10800"/>
                </a:lnTo>
                <a:lnTo>
                  <a:pt x="14555" y="17806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G Produc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6T13:26:37Z</dcterms:created>
  <dc:creator>Michel</dc:creator>
  <dc:description/>
  <dc:language>en-US</dc:language>
  <cp:lastModifiedBy>Michel GUIANVARCH</cp:lastModifiedBy>
  <dcterms:modified xsi:type="dcterms:W3CDTF">2005-04-30T05:16:23Z</dcterms:modified>
  <cp:revision>90</cp:revision>
  <dc:subject>Pour femme</dc:subject>
  <dc:title>A chacun son truc…</dc:title>
</cp:coreProperties>
</file>