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06F4-16F0-4216-8053-A1993C48D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6994-83D3-4FBB-8C89-980DDFAAE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E89C-5949-4897-B631-06E9F5A96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78E1-7D9D-474F-B27F-DA3A06920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4B81-2035-4237-A063-C19FF951E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ABA7-0A49-4509-91F9-2A1ACBAD8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7B95-5132-4133-9B8B-C2EEC9A62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13E5-0D5E-4DDF-9CDD-103A6C0DF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9C17-2646-41B1-918B-6FE44454C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C055-03BB-43B2-AE96-2F76C3E0C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ABA8-C2F2-40EA-8E08-2F619405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E5C0-CCDE-4524-BC31-4C086D14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D4566-9A69-424E-BF67-146BAD4EF80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22320" y="189000"/>
            <a:ext cx="9166320" cy="646092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979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22320" y="-17640"/>
            <a:ext cx="9166320" cy="687564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240" y="-485640"/>
            <a:ext cx="9140760" cy="734364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-22320" y="0"/>
            <a:ext cx="91663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-25560" y="-14400"/>
            <a:ext cx="9169560" cy="687240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7520" cy="687564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-22320" y="0"/>
            <a:ext cx="9166320" cy="687564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-22320" y="0"/>
            <a:ext cx="9166320" cy="687564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-22320" y="0"/>
            <a:ext cx="91663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22320" y="0"/>
            <a:ext cx="9166320" cy="687564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22320" y="0"/>
            <a:ext cx="9166320" cy="687564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22320" y="0"/>
            <a:ext cx="91663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9600" y="28440"/>
            <a:ext cx="9753840" cy="682956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240" y="0"/>
            <a:ext cx="91407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22320" y="0"/>
            <a:ext cx="9166320" cy="687564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4T21:35:32Z</dcterms:created>
  <dc:creator>*</dc:creator>
  <dc:description/>
  <dc:language>en-US</dc:language>
  <cp:lastModifiedBy>03690680</cp:lastModifiedBy>
  <dcterms:modified xsi:type="dcterms:W3CDTF">2006-12-21T08:52:40Z</dcterms:modified>
  <cp:revision>6</cp:revision>
  <dc:subject/>
  <dc:title>vision rapprochee</dc:title>
</cp:coreProperties>
</file>