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818-F531-41B2-850B-759790CB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72A-217B-4665-ACE6-12F3D24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E1E-4B4F-4C79-9334-61756D0E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EE2-E8A1-4148-A49D-A4BBE598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43B-5D15-4FF2-97A6-1B5FBBBA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D7A-D948-4037-8789-13759ECB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0A3-9B67-4A57-BBE7-1C27CCDF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463-9D41-4539-88EE-63F9149D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3E4-3A0B-4D37-A792-51927BA7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180-DABA-4D1D-AD22-131C86A0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588-5D8E-43FD-B9BF-1550A5C9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DAA-F5CB-49A4-9845-94250889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444C-1B32-428B-A029-04CFD79994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2320" y="189000"/>
            <a:ext cx="9166320" cy="64609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9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2320" y="-1764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" y="-485640"/>
            <a:ext cx="9140760" cy="7343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5560" y="-14400"/>
            <a:ext cx="916956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75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600" y="28440"/>
            <a:ext cx="9753840" cy="68295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21:35:32Z</dcterms:created>
  <dc:creator>*</dc:creator>
  <dc:description/>
  <dc:language>en-US</dc:language>
  <cp:lastModifiedBy>03690680</cp:lastModifiedBy>
  <dcterms:modified xsi:type="dcterms:W3CDTF">2006-12-21T08:52:40Z</dcterms:modified>
  <cp:revision>6</cp:revision>
  <dc:subject/>
  <dc:title>vision rapprochee</dc:title>
</cp:coreProperties>
</file>