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Jazz%208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1A6-3C3B-4909-8455-67DFC563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FBB-E44D-47F7-BA6A-F3DAF57A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900-3B86-4F55-BDB8-D9296A26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CD93-5CE1-41DC-8B50-37ABC17B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B96-94FD-4D47-8383-80513004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562-EC81-41AE-B3C6-28D8A88F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AD4-7D25-459C-957A-0AEFD450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F60-553B-4446-8DAF-5FF29483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06B-FAFC-43E3-9143-11E72E20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6C8-ADF2-4320-AD99-2BFA969D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DF8-8EF4-4E9E-B681-43D69A63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79C-D4EE-4E46-931D-43B3B4FE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CCEB-6412-4947-9D23-A19C8F2371FA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Jazz%208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413000"/>
            <a:ext cx="6769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ffffff"/>
                </a:solidFill>
                <a:latin typeface="Anklepants"/>
              </a:rPr>
              <a:t>As Escolha da sema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8200" y="3067200"/>
            <a:ext cx="1047600" cy="723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84720" y="5734080"/>
            <a:ext cx="208908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04000" y="6381720"/>
            <a:ext cx="187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Levanta o som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8240" y="619200"/>
            <a:ext cx="8867520" cy="5618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2400" y="615960"/>
            <a:ext cx="8899200" cy="5626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-3240"/>
            <a:ext cx="8305920" cy="69278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59160" y="0"/>
            <a:ext cx="42256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87600" y="0"/>
            <a:ext cx="41688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360" y="352440"/>
            <a:ext cx="8909280" cy="61516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48000" y="2637000"/>
            <a:ext cx="25192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200" spc="-1" strike="noStrike">
                <a:solidFill>
                  <a:srgbClr val="ffffff"/>
                </a:solidFill>
                <a:latin typeface="NicolasCocTBla"/>
              </a:rPr>
              <a:t>fi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3000"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28840" y="0"/>
            <a:ext cx="4486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0040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0040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0040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0040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30280" y="0"/>
            <a:ext cx="44834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63840" y="0"/>
            <a:ext cx="4216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9160" y="460440"/>
            <a:ext cx="8905680" cy="59371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1:19:59Z</dcterms:created>
  <dc:creator>James</dc:creator>
  <dc:description/>
  <dc:language>en-US</dc:language>
  <cp:lastModifiedBy>James</cp:lastModifiedBy>
  <dcterms:modified xsi:type="dcterms:W3CDTF">2006-08-14T15:26:20Z</dcterms:modified>
  <cp:revision>3</cp:revision>
  <dc:subject/>
  <dc:title>Aucun titre de diapositive</dc:title>
</cp:coreProperties>
</file>