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Jazz%208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D5E-44AD-4137-BC8E-5441E9E8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DB7-10F1-469E-BB04-33BE3EB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D83-D690-4060-947E-8B14DFED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0C1-EC0A-4433-9A9F-5B67CD03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92B-5CA2-4B5E-955B-CC749868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63F-932E-491B-9F6C-BC56A868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B2B-45C2-4125-BA30-502F27A9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8A3-B9BF-4682-8755-9689B67D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9A3-8A8B-4085-9933-078F6805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8A0-FC45-4FA3-BD47-69A4198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9B9-57E6-4B6A-AE68-E524D1F5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12C-F1F0-45F5-A711-2615AB39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CFCD-846A-4B26-BA4B-CD89E7386EA4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Jazz%208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413000"/>
            <a:ext cx="676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ffffff"/>
                </a:solidFill>
                <a:latin typeface="Anklepants"/>
              </a:rPr>
              <a:t>As Escolha da sema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8200" y="3067200"/>
            <a:ext cx="1047600" cy="723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84720" y="5734080"/>
            <a:ext cx="208908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04000" y="6381720"/>
            <a:ext cx="187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Levanta o som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8240" y="619200"/>
            <a:ext cx="8867520" cy="5618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400" y="615960"/>
            <a:ext cx="8899200" cy="5626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-3240"/>
            <a:ext cx="8305920" cy="6927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59160" y="0"/>
            <a:ext cx="42256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7600" y="0"/>
            <a:ext cx="4168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360" y="352440"/>
            <a:ext cx="8909280" cy="6151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48000" y="2637000"/>
            <a:ext cx="25192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ffffff"/>
                </a:solidFill>
                <a:latin typeface="NicolasCocTBla"/>
              </a:rPr>
              <a:t>fi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3000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2884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004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3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63840" y="0"/>
            <a:ext cx="4216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9160" y="460440"/>
            <a:ext cx="8905680" cy="59371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1:19:59Z</dcterms:created>
  <dc:creator>James</dc:creator>
  <dc:description/>
  <dc:language>en-US</dc:language>
  <cp:lastModifiedBy>James</cp:lastModifiedBy>
  <dcterms:modified xsi:type="dcterms:W3CDTF">2006-08-14T15:26:20Z</dcterms:modified>
  <cp:revision>3</cp:revision>
  <dc:subject/>
  <dc:title>Aucun titre de diapositive</dc:title>
</cp:coreProperties>
</file>