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2.gif" ContentType="image/gif"/>
  <Override PartName="/ppt/media/image6.jpeg" ContentType="image/jpeg"/>
  <Override PartName="/ppt/media/image27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0314-7503-4643-8581-55B6EC7C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05B1-5BF1-4BE8-A9AA-CA3E847A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DB08-2304-4706-97F0-90954772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C97A-1633-4122-BEAF-E79C7070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5B72-A0DC-41E1-919A-E04C917D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02A2-46C0-4D31-8579-149E32E7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0DC-C0C6-4B2E-A810-177D5CD4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0544-C83F-41CA-8068-D55A5BE5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B6E8-F73F-4FD1-BDE5-0E99D87C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E858-3EAA-4DE5-AC14-C2730335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3B3B-0E55-4EB2-9594-53110A89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4049-99EE-488B-8153-500D5A30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53B1-B459-446C-AE2A-059A237A1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60440" y="0"/>
            <a:ext cx="46213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182080" y="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38240" cy="15620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3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71600" y="0"/>
            <a:ext cx="4599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71600" y="0"/>
            <a:ext cx="4599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62240" y="0"/>
            <a:ext cx="46195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66920" y="0"/>
            <a:ext cx="4610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52440"/>
            <a:ext cx="9144000" cy="61531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85920"/>
            <a:ext cx="9144000" cy="6084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60440" y="0"/>
            <a:ext cx="46213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06360"/>
            <a:ext cx="9144000" cy="6243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85920"/>
            <a:ext cx="9144000" cy="6084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85920"/>
            <a:ext cx="9144000" cy="6084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16080"/>
            <a:ext cx="9144000" cy="6224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468360" y="0"/>
            <a:ext cx="10369440" cy="70246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0476000" cy="697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10404360" cy="6923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541440" y="-100080"/>
            <a:ext cx="10153800" cy="7045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396720" y="0"/>
            <a:ext cx="10729800" cy="714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885080" y="0"/>
            <a:ext cx="1258920" cy="977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5440" cy="952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5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35240" y="0"/>
            <a:ext cx="46735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41720" y="0"/>
            <a:ext cx="46591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47840" y="0"/>
            <a:ext cx="46465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44600" y="0"/>
            <a:ext cx="46548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0:47:33Z</dcterms:created>
  <dc:creator>Ge</dc:creator>
  <dc:description/>
  <dc:language>en-US</dc:language>
  <cp:lastModifiedBy>Ge</cp:lastModifiedBy>
  <dcterms:modified xsi:type="dcterms:W3CDTF">2011-01-13T20:52:53Z</dcterms:modified>
  <cp:revision>7</cp:revision>
  <dc:subject/>
  <dc:title>Dia 1</dc:title>
</cp:coreProperties>
</file>