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D2D-71B3-4A8A-806A-8E2DA09B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E81-568B-4D15-BC14-3F6DCC25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63A-608A-4FD0-8ECC-6FCACCF5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C92-AB0C-4E23-9978-5AE0F115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9A7-67DE-4AEB-BCAA-9E3D2755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3B2-7AA1-4B6B-81B3-C8E9DA6D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F671-D579-4346-9418-0DF40DC1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8B4-3CFA-4FBE-B640-50FEB97B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4A2-518C-4FD8-BE6E-9236F85F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49B-28BB-4C4E-8FA2-0BEE0325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45E-12A8-4DEA-AC94-67990793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A10-0F38-4A09-BB85-84614713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26E9-151C-4BC4-A9F2-B39FA426A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0440" y="0"/>
            <a:ext cx="4621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182080" y="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38240" cy="15620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3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71600" y="0"/>
            <a:ext cx="4599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71600" y="0"/>
            <a:ext cx="4599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2240" y="0"/>
            <a:ext cx="46195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6920" y="0"/>
            <a:ext cx="4610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52440"/>
            <a:ext cx="9144000" cy="615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5920"/>
            <a:ext cx="9144000" cy="6084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0440" y="0"/>
            <a:ext cx="4621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06360"/>
            <a:ext cx="9144000" cy="6243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5920"/>
            <a:ext cx="9144000" cy="6084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85920"/>
            <a:ext cx="9144000" cy="6084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16080"/>
            <a:ext cx="9144000" cy="622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468360" y="0"/>
            <a:ext cx="10369440" cy="7024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0476000" cy="697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10404360" cy="6923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541440" y="-100080"/>
            <a:ext cx="10153800" cy="7045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396720" y="0"/>
            <a:ext cx="10729800" cy="714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885080" y="0"/>
            <a:ext cx="1258920" cy="977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5440" cy="952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35240" y="0"/>
            <a:ext cx="46735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9240" y="0"/>
            <a:ext cx="4564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41720" y="0"/>
            <a:ext cx="46591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47840" y="0"/>
            <a:ext cx="46465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44600" y="0"/>
            <a:ext cx="46548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0:47:33Z</dcterms:created>
  <dc:creator>Ge</dc:creator>
  <dc:description/>
  <dc:language>en-US</dc:language>
  <cp:lastModifiedBy>Ge</cp:lastModifiedBy>
  <dcterms:modified xsi:type="dcterms:W3CDTF">2011-01-13T20:52:53Z</dcterms:modified>
  <cp:revision>7</cp:revision>
  <dc:subject/>
  <dc:title>Dia 1</dc:title>
</cp:coreProperties>
</file>