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CFC-3278-4ADC-82F4-C89DE7FD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9CA-2C1F-4DA6-BD1B-0902B5AC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B90-F0DE-4912-A19F-E6E99CD7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468-DDD6-48CA-BB15-51BB87FB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61E-A992-401F-BD64-4391A175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6A1-E3F0-4126-A17D-6F88EA46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175-CAAF-4686-8282-3411ECAF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D74-62D3-4F0E-A439-49E51179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5AA-48A2-42AB-8322-88D00305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12E-853E-4192-8CEE-E8A6519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47E-2FC3-4007-A766-9D12170C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A33-B4A9-4719-B0CF-B0D6B066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217B-9361-44DF-8FA5-53DCF094EA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7:44:36Z</dcterms:created>
  <dc:creator>Ge -- http://groups.yahoo.com/group/adultPPSfiles/</dc:creator>
  <dc:description/>
  <dc:language>en-US</dc:language>
  <cp:lastModifiedBy>Administrador</cp:lastModifiedBy>
  <dcterms:modified xsi:type="dcterms:W3CDTF">2007-08-18T14:40:32Z</dcterms:modified>
  <cp:revision>13</cp:revision>
  <dc:subject/>
  <dc:title>Dia 1</dc:title>
</cp:coreProperties>
</file>