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355-9045-4F36-B7E3-4A56CB36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B3C-6C1D-486B-A0DF-31D0880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A76-B2CD-4B8C-ADDE-D9BF251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C92-D58D-4A27-9861-9FED3375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945-AFC5-47E8-9FDA-F4E06D39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6B0-03A3-4763-A84A-E686602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45A-3B44-49B1-A1BF-D568B0F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2FC-44B3-43F9-AECA-A5878CB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6F-2E81-431E-9BA8-A68826E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DDE-4360-4C6E-9815-0669D77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B1E-309D-45AA-9395-0F7D5B9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540-C226-4EBC-AEFA-987BFAD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CE7-E644-4D00-A085-25D56C0D10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7:44:36Z</dcterms:created>
  <dc:creator>Ge -- http://groups.yahoo.com/group/adultPPSfiles/</dc:creator>
  <dc:description/>
  <dc:language>en-US</dc:language>
  <cp:lastModifiedBy>Administrador</cp:lastModifiedBy>
  <dcterms:modified xsi:type="dcterms:W3CDTF">2007-08-18T14:40:32Z</dcterms:modified>
  <cp:revision>13</cp:revision>
  <dc:subject/>
  <dc:title>Dia 1</dc:title>
</cp:coreProperties>
</file>