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0058400" cy="6858000"/>
  <p:notesSz cx="67611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0D1C-5442-4C94-87E3-C29D1B9E3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4200" y="151920"/>
            <a:ext cx="7557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53840" y="1828800"/>
            <a:ext cx="8466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53840" y="3739320"/>
            <a:ext cx="8466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FDDC-A12A-4D8B-BD30-41DCAB4ED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4200" y="151920"/>
            <a:ext cx="7557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3840" y="1828800"/>
            <a:ext cx="413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92200" y="1828800"/>
            <a:ext cx="413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53840" y="3739320"/>
            <a:ext cx="413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92200" y="3739320"/>
            <a:ext cx="413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36AD-8C12-41E4-83ED-EED772112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4200" y="151920"/>
            <a:ext cx="7557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53840" y="1828800"/>
            <a:ext cx="2725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16560" y="1828800"/>
            <a:ext cx="2725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478920" y="1828800"/>
            <a:ext cx="2725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53840" y="3739320"/>
            <a:ext cx="2725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16560" y="3739320"/>
            <a:ext cx="2725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478920" y="3739320"/>
            <a:ext cx="2725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4505-6E5E-46F3-BB1A-374035B9C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00D06-A15B-4DEC-AF16-B09E68E85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4200" y="151920"/>
            <a:ext cx="7557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753840" y="1828800"/>
            <a:ext cx="846612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7101F-8954-4C8A-824F-70EB95BDB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54200" y="151920"/>
            <a:ext cx="7557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53840" y="1828800"/>
            <a:ext cx="8466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4A2C6-4069-4400-B378-3925CDB5E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54200" y="151920"/>
            <a:ext cx="7557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53840" y="1828800"/>
            <a:ext cx="413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92200" y="1828800"/>
            <a:ext cx="413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E4514-102C-414E-AA14-9581921C4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54200" y="151920"/>
            <a:ext cx="7557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4F0EB-D40B-491D-8770-816E192CE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754200" y="151920"/>
            <a:ext cx="755784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C93F9-EB8C-46B6-9E11-1D51C7FF3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54200" y="151920"/>
            <a:ext cx="7557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53840" y="1828800"/>
            <a:ext cx="413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92200" y="1828800"/>
            <a:ext cx="413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753840" y="3739320"/>
            <a:ext cx="413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2A566-F301-4EF7-859B-47FDD4E8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4200" y="151920"/>
            <a:ext cx="7557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53840" y="1828800"/>
            <a:ext cx="846612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5392-8604-4277-8747-D7A146556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54200" y="151920"/>
            <a:ext cx="7557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53840" y="1828800"/>
            <a:ext cx="413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092200" y="1828800"/>
            <a:ext cx="413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092200" y="3739320"/>
            <a:ext cx="413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5F477-DC5F-4E65-9C94-835B0F12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54200" y="151920"/>
            <a:ext cx="7557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53840" y="1828800"/>
            <a:ext cx="413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92200" y="1828800"/>
            <a:ext cx="413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753840" y="3739320"/>
            <a:ext cx="8466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26995-0708-4687-ADBF-339B3AD5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4200" y="151920"/>
            <a:ext cx="7557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53840" y="1828800"/>
            <a:ext cx="8466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753840" y="3739320"/>
            <a:ext cx="8466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8E6B0-6F19-48F8-8976-A3B11EE73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54200" y="151920"/>
            <a:ext cx="7557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53840" y="1828800"/>
            <a:ext cx="413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092200" y="1828800"/>
            <a:ext cx="413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753840" y="3739320"/>
            <a:ext cx="413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092200" y="3739320"/>
            <a:ext cx="413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1D227-6210-4A67-9BE9-CA1E1ABE4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54200" y="151920"/>
            <a:ext cx="7557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53840" y="1828800"/>
            <a:ext cx="2725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616560" y="1828800"/>
            <a:ext cx="2725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478920" y="1828800"/>
            <a:ext cx="2725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753840" y="3739320"/>
            <a:ext cx="2725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616560" y="3739320"/>
            <a:ext cx="2725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478920" y="3739320"/>
            <a:ext cx="2725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382CE-8B0E-4DA6-B49B-D6397D3FF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4200" y="151920"/>
            <a:ext cx="7557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53840" y="1828800"/>
            <a:ext cx="8466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68B7-82ED-4C3B-851C-F8C44CD41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4200" y="151920"/>
            <a:ext cx="7557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3840" y="1828800"/>
            <a:ext cx="413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92200" y="1828800"/>
            <a:ext cx="413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8B1B-A547-4194-A248-E58CBCBD0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4200" y="151920"/>
            <a:ext cx="7557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F146-2918-46CF-A5CB-83E1FFE40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54200" y="151920"/>
            <a:ext cx="755784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8200-4D98-465D-A29C-B914E9D56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4200" y="151920"/>
            <a:ext cx="7557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53840" y="1828800"/>
            <a:ext cx="413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92200" y="1828800"/>
            <a:ext cx="413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53840" y="3739320"/>
            <a:ext cx="413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263D-E52A-44DC-88EE-683DB759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4200" y="151920"/>
            <a:ext cx="7557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53840" y="1828800"/>
            <a:ext cx="413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92200" y="1828800"/>
            <a:ext cx="413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92200" y="3739320"/>
            <a:ext cx="413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E40C-725B-484D-A337-0AC2AF8F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54200" y="151920"/>
            <a:ext cx="7557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53840" y="1828800"/>
            <a:ext cx="413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92200" y="1828800"/>
            <a:ext cx="413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53840" y="3739320"/>
            <a:ext cx="8466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0BE3-BD0A-4986-BE88-86788F59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8613360" y="-119160"/>
            <a:ext cx="1162080" cy="229248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54200" y="151920"/>
            <a:ext cx="7557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53840" y="1828800"/>
            <a:ext cx="8466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07680" y="6248520"/>
            <a:ext cx="2095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911400" y="6248520"/>
            <a:ext cx="3184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389360" y="6248520"/>
            <a:ext cx="2095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6B914-ABE7-43CC-B262-354502B2DEB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8709840" y="-79920"/>
            <a:ext cx="1164960" cy="230652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8665200" y="113040"/>
            <a:ext cx="1025640" cy="172872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9360" y="5540400"/>
            <a:ext cx="1961280" cy="1246320"/>
            <a:chOff x="9360" y="5540400"/>
            <a:chExt cx="1961280" cy="1246320"/>
          </a:xfrm>
        </p:grpSpPr>
        <p:sp>
          <p:nvSpPr>
            <p:cNvPr id="9" name=""/>
            <p:cNvSpPr/>
            <p:nvPr/>
          </p:nvSpPr>
          <p:spPr>
            <a:xfrm>
              <a:off x="42480" y="5564160"/>
              <a:ext cx="190080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784520" y="5686560"/>
              <a:ext cx="12384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80" y="5991120"/>
              <a:ext cx="138276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25720" y="6045120"/>
              <a:ext cx="9162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47080" y="5607000"/>
              <a:ext cx="23544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119600" y="6608880"/>
              <a:ext cx="13248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80560" y="5726160"/>
              <a:ext cx="33660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66760" y="5699160"/>
              <a:ext cx="63504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06240" y="5862600"/>
              <a:ext cx="27216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9360" y="5540400"/>
              <a:ext cx="1961280" cy="1238400"/>
              <a:chOff x="9360" y="5540400"/>
              <a:chExt cx="196128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871200" y="5654520"/>
                <a:ext cx="956160" cy="1124280"/>
                <a:chOff x="871200" y="5654520"/>
                <a:chExt cx="95616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871200" y="5694480"/>
                  <a:ext cx="27396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110600" y="6567480"/>
                  <a:ext cx="200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752480" y="5654520"/>
                  <a:ext cx="7488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33200" y="5924520"/>
                <a:ext cx="10382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54320" y="6168960"/>
                <a:ext cx="42552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986400" y="5842080"/>
                <a:ext cx="18648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9360" y="5540400"/>
                <a:ext cx="1961280" cy="1076400"/>
                <a:chOff x="9360" y="5540400"/>
                <a:chExt cx="196128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167840" y="6426360"/>
                  <a:ext cx="13068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360" y="5918040"/>
                  <a:ext cx="146916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85400" y="5985000"/>
                  <a:ext cx="1396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84080" y="5540400"/>
                  <a:ext cx="5616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009080" y="5794200"/>
                  <a:ext cx="16704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72760" y="5762520"/>
                  <a:ext cx="3402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148760" y="5616720"/>
                  <a:ext cx="82188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251720" y="5724360"/>
                  <a:ext cx="42732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9548280" y="2116080"/>
            <a:ext cx="423720" cy="4308480"/>
            <a:chOff x="9548280" y="2116080"/>
            <a:chExt cx="423720" cy="4308480"/>
          </a:xfrm>
        </p:grpSpPr>
        <p:sp>
          <p:nvSpPr>
            <p:cNvPr id="36" name=""/>
            <p:cNvSpPr/>
            <p:nvPr/>
          </p:nvSpPr>
          <p:spPr>
            <a:xfrm flipH="1">
              <a:off x="9547920" y="4159080"/>
              <a:ext cx="35748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9614160" y="2116080"/>
              <a:ext cx="35748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925040" y="-151200"/>
            <a:ext cx="2596320" cy="2374920"/>
            <a:chOff x="7925040" y="-151200"/>
            <a:chExt cx="2596320" cy="2374920"/>
          </a:xfrm>
        </p:grpSpPr>
        <p:grpSp>
          <p:nvGrpSpPr>
            <p:cNvPr id="39" name=""/>
            <p:cNvGrpSpPr/>
            <p:nvPr/>
          </p:nvGrpSpPr>
          <p:grpSpPr>
            <a:xfrm>
              <a:off x="7925040" y="-151200"/>
              <a:ext cx="2596320" cy="2374920"/>
              <a:chOff x="7925040" y="-151200"/>
              <a:chExt cx="2596320" cy="23749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9486000" y="1701000"/>
                <a:ext cx="98640" cy="50256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925040" y="-151200"/>
                <a:ext cx="2596320" cy="2374920"/>
                <a:chOff x="7925040" y="-151200"/>
                <a:chExt cx="2596320" cy="23749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8683200" y="102240"/>
                  <a:ext cx="243000" cy="21816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836200" y="491760"/>
                  <a:ext cx="427320" cy="7639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8523000" y="217080"/>
                  <a:ext cx="801720" cy="156708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8621280" y="-136080"/>
                  <a:ext cx="1203480" cy="234504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9262800" y="1413360"/>
                  <a:ext cx="268200" cy="21276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9187200" y="1267200"/>
                  <a:ext cx="287640" cy="25128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8718480" y="321480"/>
                  <a:ext cx="287280" cy="25668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8654760" y="213840"/>
                  <a:ext cx="284040" cy="2404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8503920" y="133200"/>
              <a:ext cx="73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2320" y="12600"/>
            <a:ext cx="978696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08040" y="1510920"/>
            <a:ext cx="704232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754200" y="6248520"/>
            <a:ext cx="209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436920" y="6248520"/>
            <a:ext cx="3184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7209000" y="6248520"/>
            <a:ext cx="209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C9181-143B-41F5-A21B-95897BE07CB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14200" y="235080"/>
            <a:ext cx="4166640" cy="1778040"/>
            <a:chOff x="214200" y="235080"/>
            <a:chExt cx="4166640" cy="1778040"/>
          </a:xfrm>
        </p:grpSpPr>
        <p:sp>
          <p:nvSpPr>
            <p:cNvPr id="93" name=""/>
            <p:cNvSpPr/>
            <p:nvPr/>
          </p:nvSpPr>
          <p:spPr>
            <a:xfrm>
              <a:off x="308520" y="281160"/>
              <a:ext cx="392904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89440" y="414360"/>
              <a:ext cx="391896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27280" y="546120"/>
              <a:ext cx="259884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214200" y="235080"/>
              <a:ext cx="4166640" cy="1716120"/>
              <a:chOff x="214200" y="235080"/>
              <a:chExt cx="416664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500640" y="1482840"/>
                <a:ext cx="37008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14200" y="235080"/>
                <a:ext cx="416664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65200" y="250920"/>
                <a:ext cx="294408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13880" y="398520"/>
                <a:ext cx="396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477080" y="851040"/>
                <a:ext cx="120636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8605440" y="4305600"/>
            <a:ext cx="1020960" cy="1185120"/>
            <a:chOff x="8605440" y="4305600"/>
            <a:chExt cx="1020960" cy="1185120"/>
          </a:xfrm>
        </p:grpSpPr>
        <p:sp>
          <p:nvSpPr>
            <p:cNvPr id="103" name=""/>
            <p:cNvSpPr/>
            <p:nvPr/>
          </p:nvSpPr>
          <p:spPr>
            <a:xfrm rot="7320000">
              <a:off x="8621280" y="4637520"/>
              <a:ext cx="998640" cy="5108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8594280" y="4616640"/>
              <a:ext cx="995400" cy="505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8762400" y="4602600"/>
              <a:ext cx="660600" cy="4618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8605440" y="4305600"/>
              <a:ext cx="1020960" cy="1185120"/>
              <a:chOff x="8605440" y="4305600"/>
              <a:chExt cx="1020960" cy="118512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8713080" y="5059440"/>
                <a:ext cx="93960" cy="10620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8586360" y="4627080"/>
                <a:ext cx="1058760" cy="5421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875440" y="4743720"/>
                <a:ext cx="749520" cy="306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9369000" y="4552200"/>
                <a:ext cx="99720" cy="205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984160" y="4753800"/>
                <a:ext cx="306360" cy="1807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92160" y="5054760"/>
            <a:ext cx="748836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84520" y="1930320"/>
            <a:ext cx="97812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54200" y="-481320"/>
            <a:ext cx="7557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53840" y="549360"/>
            <a:ext cx="846612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0000"/>
                </a:solidFill>
                <a:latin typeface="Comic Sans MS"/>
              </a:rPr>
              <a:t>MANAGEMENTUL CAL</a:t>
            </a:r>
            <a:r>
              <a:rPr b="1" i="1" lang="ro-RO" sz="40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1" i="1" lang="en-GB" sz="40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1" i="1" lang="ro-RO" sz="4000" spc="-1" strike="noStrike">
                <a:solidFill>
                  <a:srgbClr val="000000"/>
                </a:solidFill>
                <a:latin typeface="Comic Sans MS"/>
              </a:rPr>
              <a:t>ĂŢII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CF6C-193F-4BBE-8521-02FA1037A037}" type="slidenum">
              <a:t>1</a:t>
            </a:fld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8120" y="399240"/>
            <a:ext cx="773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53840" y="1125360"/>
            <a:ext cx="8466120" cy="43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5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omic Sans MS"/>
              </a:rPr>
              <a:t>Parker G.W. – Costurile calităţii,</a:t>
            </a:r>
            <a:r>
              <a:rPr b="0" i="1" lang="ro-RO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omic Sans MS"/>
              </a:rPr>
              <a:t>Editura Codecs, Bucureşti 1998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35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omic Sans MS"/>
              </a:rPr>
              <a:t>Avasilicăi S; Huţu C. – De la asigurarea calităţii la excelenţa organizaţională, Ed. Economică, 200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3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56CA-5F65-42EC-B2CE-DEF4C88E2C99}" type="slidenum">
              <a:t>10</a:t>
            </a:fld>
          </a:p>
        </p:txBody>
      </p:sp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81200" y="193680"/>
            <a:ext cx="7557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53840" y="907920"/>
            <a:ext cx="8466120" cy="45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omic Sans MS"/>
              </a:rPr>
              <a:t>Olaru M. – Managementul calităţii, Ed. Economică, 1999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omic Sans MS"/>
              </a:rPr>
              <a:t>Sarbu R. – Auditare, certificare şi gestiunea costurilor calităţii, Ed. A.S.E., 200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omic Sans MS"/>
              </a:rPr>
              <a:t>Ioniţă M. – Managementul calităţii şi ingineria valorii, Ed. A.S.E., 2008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439E-712A-49B8-B3EF-BD6E29C68013}" type="slidenum">
              <a:t>11</a:t>
            </a:fld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503280" y="549360"/>
            <a:ext cx="90518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0000"/>
                </a:solidFill>
                <a:latin typeface="Tahoma"/>
              </a:rPr>
              <a:t>CUPRI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15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o-RO" sz="2800" spc="-1" strike="noStrike">
                <a:solidFill>
                  <a:srgbClr val="000000"/>
                </a:solidFill>
                <a:latin typeface="Tahoma"/>
              </a:rPr>
              <a:t>Incursiune în definirea şi abordarea calităţii de-a lungul vremi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15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it-IT" sz="2800" spc="-1" strike="noStrike">
                <a:solidFill>
                  <a:srgbClr val="000000"/>
                </a:solidFill>
                <a:latin typeface="Tahoma"/>
              </a:rPr>
              <a:t>Orientări actuale privind definirea calităţii produselo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15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o-RO" sz="2800" spc="-1" strike="noStrike">
                <a:solidFill>
                  <a:srgbClr val="000000"/>
                </a:solidFill>
                <a:latin typeface="Tahoma"/>
              </a:rPr>
              <a:t>Etape esenţiale ale conceptului“calitate”  în secolul XX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6490-76AC-4062-9A11-5C7ACAD19912}" type="slidenum">
              <a:t>2</a:t>
            </a:fld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03280" y="188640"/>
            <a:ext cx="905184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20000"/>
              </a:lnSpc>
              <a:spcBef>
                <a:spcPts val="799"/>
              </a:spcBef>
              <a:buSzPct val="15943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o-RO" sz="3200" spc="-1" strike="noStrike">
                <a:solidFill>
                  <a:srgbClr val="000000"/>
                </a:solidFill>
                <a:latin typeface="Tahoma"/>
              </a:rPr>
              <a:t>Cadrul conceptual al calităţii produselor şi serviciilor definit de  standardele ISO 900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30000"/>
              </a:lnSpc>
              <a:spcBef>
                <a:spcPts val="799"/>
              </a:spcBef>
              <a:buSzPct val="15943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o-RO" sz="3200" spc="-1" strike="noStrike">
                <a:solidFill>
                  <a:srgbClr val="000000"/>
                </a:solidFill>
                <a:latin typeface="Tahoma"/>
              </a:rPr>
              <a:t>Caracteristicile ediţiei 2000 a standardelor ISO 900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30000"/>
              </a:lnSpc>
              <a:spcBef>
                <a:spcPts val="799"/>
              </a:spcBef>
              <a:buSzPct val="15943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o-RO" sz="3200" spc="-1" strike="noStrike">
                <a:solidFill>
                  <a:srgbClr val="000000"/>
                </a:solidFill>
                <a:latin typeface="Tahoma"/>
              </a:rPr>
              <a:t>Relaţia dintre sistemul de  management al calităţii şi premiile de excelenţă şi calita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7CD0-40DF-4231-B572-E0A340195642}" type="slidenum">
              <a:t>3</a:t>
            </a:fld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515880" y="549000"/>
            <a:ext cx="902808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SzPct val="15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ro-RO" sz="3200" spc="-1" strike="noStrike">
                <a:solidFill>
                  <a:srgbClr val="000000"/>
                </a:solidFill>
                <a:latin typeface="Comic Sans MS"/>
              </a:rPr>
              <a:t>Personalităţi în domeniul teoriei şi practicii calităţi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SzPct val="15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ro-RO" sz="32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i="1" lang="it-IT" sz="3200" spc="-1" strike="noStrike">
                <a:solidFill>
                  <a:srgbClr val="000000"/>
                </a:solidFill>
                <a:latin typeface="Comic Sans MS"/>
              </a:rPr>
              <a:t>lanificarea  şi organizarea activităţilor referitoare la calita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SzPct val="15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ro-RO" sz="3200" spc="-1" strike="noStrike">
                <a:solidFill>
                  <a:srgbClr val="000000"/>
                </a:solidFill>
                <a:latin typeface="Comic Sans MS"/>
              </a:rPr>
              <a:t>Coordonatele politicii calităţii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9995-0D81-4241-B101-1C1CB65E57D6}" type="slidenum">
              <a:t>4</a:t>
            </a:fld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54200" y="-443160"/>
            <a:ext cx="7557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53840" y="620640"/>
            <a:ext cx="846612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SzPct val="15943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ro-RO" sz="32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i="1" lang="it-IT" sz="3200" spc="-1" strike="noStrike">
                <a:solidFill>
                  <a:srgbClr val="000000"/>
                </a:solidFill>
                <a:latin typeface="Comic Sans MS"/>
              </a:rPr>
              <a:t>odele de sisteme de management al calităţii </a:t>
            </a:r>
            <a:r>
              <a:rPr b="0" i="1" lang="ro-RO" sz="3200" spc="-1" strike="noStrike">
                <a:solidFill>
                  <a:srgbClr val="000000"/>
                </a:solidFill>
                <a:latin typeface="Comic Sans MS"/>
              </a:rPr>
              <a:t>ISO </a:t>
            </a:r>
            <a:r>
              <a:rPr b="0" i="1" lang="it-IT" sz="3200" spc="-1" strike="noStrike">
                <a:solidFill>
                  <a:srgbClr val="000000"/>
                </a:solidFill>
                <a:latin typeface="Comic Sans MS"/>
              </a:rPr>
              <a:t>900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SzPct val="15943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ro-RO" sz="3200" spc="-1" strike="noStrike">
                <a:solidFill>
                  <a:srgbClr val="000000"/>
                </a:solidFill>
                <a:latin typeface="Comic Sans MS"/>
              </a:rPr>
              <a:t>Benchmark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SzPct val="15943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ro-RO" sz="3200" spc="-1" strike="noStrike">
                <a:solidFill>
                  <a:srgbClr val="000000"/>
                </a:solidFill>
                <a:latin typeface="Comic Sans MS"/>
              </a:rPr>
              <a:t>Auditul calităţi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SzPct val="15943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ro-RO" sz="3200" spc="-1" strike="noStrike">
                <a:solidFill>
                  <a:srgbClr val="000000"/>
                </a:solidFill>
                <a:latin typeface="Comic Sans MS"/>
              </a:rPr>
              <a:t>Costurile referitoare la calitat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SzPct val="15943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ro-RO" sz="3200" spc="-1" strike="noStrike">
                <a:solidFill>
                  <a:srgbClr val="000000"/>
                </a:solidFill>
                <a:latin typeface="Comic Sans MS"/>
              </a:rPr>
              <a:t>Managementul calităţii tota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253B-A44D-4060-BDE5-AE9F11A6304D}" type="slidenum">
              <a:t>5</a:t>
            </a:fld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250920" y="-360"/>
            <a:ext cx="9556560" cy="638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2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800" spc="-1" strike="noStrike">
                <a:solidFill>
                  <a:srgbClr val="000000"/>
                </a:solidFill>
                <a:latin typeface="Comic Sans MS"/>
              </a:rPr>
              <a:t>Evalua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800" spc="-1" strike="noStrike">
                <a:solidFill>
                  <a:srgbClr val="000000"/>
                </a:solidFill>
                <a:latin typeface="Comic Sans MS"/>
              </a:rPr>
              <a:t>Punctaj maxim 100 puncte ( echivalent 10,00) format din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800" spc="-1" strike="noStrike">
                <a:solidFill>
                  <a:srgbClr val="000000"/>
                </a:solidFill>
                <a:latin typeface="Comic Sans MS"/>
              </a:rPr>
              <a:t>Activitate la seminar 50 puncte: 20 puncte participare activă şi 30 puncte prezentarea unui referat sau recenzia unei lucrări consacrate în domeniu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800" spc="-1" strike="noStrike">
                <a:solidFill>
                  <a:srgbClr val="000000"/>
                </a:solidFill>
                <a:latin typeface="Comic Sans MS"/>
              </a:rPr>
              <a:t>Evaluare examen 50 punc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AFEE-7EFE-4591-9FA0-1C1705EEADD9}" type="slidenum">
              <a:t>6</a:t>
            </a:fld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293760" y="980640"/>
            <a:ext cx="947088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omic Sans MS"/>
              </a:rPr>
              <a:t>Bibliografie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35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omic Sans MS"/>
              </a:rPr>
              <a:t>J.M. Juran – Planificarea calităţii, Ed. Teora, 200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3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35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omic Sans MS"/>
              </a:rPr>
              <a:t>J.M. Juran – Supremaţia prin calitate: manualul directorului de firmă, Ed. Teora, 200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42E2-7E9E-4327-B8F5-5737F875C643}" type="slidenum">
              <a:t>7</a:t>
            </a:fld>
          </a:p>
        </p:txBody>
      </p: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18680" y="-146520"/>
            <a:ext cx="938844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o-RO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92120" y="692280"/>
            <a:ext cx="907416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135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E. Deming, K. Vasudha -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ig book of leadership games, The : quick, fun activities to improve communication, increase productivity and bring out the best in your employees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cGraw-Hill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w York, 2004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135000"/>
              </a:lnSpc>
              <a:spcBef>
                <a:spcPts val="7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Chen C., Roth – Hadley Big Book of Six Sigma Training Games, The Creative Ways To Teach Basic DMAIC Principles And Quality Improvement,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cGraw-Hill, 2005</a:t>
            </a:r>
            <a:r>
              <a:rPr b="0" lang="ro-RO" sz="2800" spc="-1" strike="noStrike">
                <a:solidFill>
                  <a:srgbClr val="000000"/>
                </a:solidFill>
                <a:latin typeface="Comic Sans MS"/>
              </a:rPr>
              <a:t>;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0C20-D48D-4194-B50A-A57750BBC187}" type="slidenum">
              <a:t>8</a:t>
            </a:fld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54200" y="-443160"/>
            <a:ext cx="7557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53840" y="475920"/>
            <a:ext cx="846612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omic Sans MS"/>
              </a:rPr>
              <a:t>Mirams M, McElheron P.– Certificarea ISO 9000, Ed. Teora 1999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omic Sans MS"/>
              </a:rPr>
              <a:t>Rusu C. Robledo Ch. – Costurile calităţii, Ed. Economică, 200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omic Sans MS"/>
              </a:rPr>
              <a:t>Kessler S. – Customer satisfaction Toolkit for ISO 9001:2000, ASQ Quality Press, 200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3F57-0CC2-40CD-8DC9-F71E502FA8B1}" type="slidenum">
              <a:t>9</a:t>
            </a:fld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7T19:25:32Z</dcterms:created>
  <dc:creator>Vio</dc:creator>
  <dc:description/>
  <dc:language>en-US</dc:language>
  <cp:lastModifiedBy>comert</cp:lastModifiedBy>
  <dcterms:modified xsi:type="dcterms:W3CDTF">2008-10-01T10:42:39Z</dcterms:modified>
  <cp:revision>173</cp:revision>
  <dc:subject/>
  <dc:title>Evoluţii şi reducţii în domeniul noţiunii de calitate cu impact asupra mărfurilor </dc:title>
</cp:coreProperties>
</file>