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0C46-8215-4314-9B0B-C63A0DDDB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3B1DB-0385-41E8-85D2-393B1AF7C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28D47-5298-4257-BFA3-B6F967F4C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C28A-B4E6-48F9-BED1-89FF83444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C14A6-CA22-4127-A7FC-C9105F9BE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B6C6-2305-4BB4-991B-EF9D4C471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27B7F-179A-4614-9D19-EA73C309F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FD514-F531-4EFF-9A0E-441C4E8E3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02BC-4BAF-4C94-8A80-AB62FEB00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07F82-CF56-424F-816A-DB2789A75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BF5EB-AFC2-490B-ADCB-A0A776DF8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01742-6CCB-459F-9A92-E85930D2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5C684-D933-418B-BB56-B2BB15DE6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2989E-AC71-489A-90B1-CC6ABAFA9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41AFF-D6C8-4753-958C-1FADA9514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CDD4A-9665-4132-A537-30C5E5115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1597F-E117-4F5A-B08F-46EAFCE21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BC64B-271D-4751-952D-88CB1B86E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638D0-79F1-479C-A5D8-F1EDD4C6C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3D5BD-E28F-4E75-95C5-ED3A6ECC9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35A72-ADC6-42DC-BCFA-9DD6DCEE2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D325F-8660-4559-A73B-09C144701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B56D-CE58-4038-9AE1-520065258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9ADD0-64B5-4BB6-88F5-5CDB42B3B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9EE7F-711C-4325-9D54-00D397F86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A59C6-8788-443B-B35D-03F86CDD0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0629B-A1BE-40A3-A565-53A4BDE76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F470C-010B-4DA6-8F1F-2373AF119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C09AB-80B5-4522-B4EE-C9AE29381C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A51FA-11C4-471F-BC67-56382FF24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0284ED-6F7B-49BD-8F74-59551BEDF0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D0346-1C18-4A68-A497-2F03ED2F7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EA07B-A761-4DDC-B622-5626E80EC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ECB7-EA33-486D-8A69-09E5B7DC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B6475-B296-4477-A0B6-7894C2DA0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D1337-E859-4EFA-B21B-94F8302E5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5B78C-12A9-46B9-B1F2-11D150EBD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A4BF8-4DE6-4AF1-AC41-6D97BA196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58917-1BB6-4698-9C5C-79A68DE35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53F1C-0C5C-4EE9-8502-5FAEDC400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C8B36-8EB2-45FB-B3CD-710FA5FD2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FA077-06DA-4AA9-BB28-4277BEEB7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0E745B-6373-4C54-8FDB-F9CF4468E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21C9-F3F9-4BA5-8E9C-B25F5264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B5BDC-36C2-40DF-A524-AC7230FF3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0543-736A-45CB-A09E-CDB42AFD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75ED3-B066-4BE3-BC24-1EB112A0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33F1-8E3C-473D-874A-73D6D8DCF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68E0-9AE1-4679-8A3A-7CA650CFECE0}" type="slidenum">
              <a:rPr b="0" lang="pt-B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upo 1"/>
          <p:cNvGrpSpPr/>
          <p:nvPr/>
        </p:nvGrpSpPr>
        <p:grpSpPr>
          <a:xfrm>
            <a:off x="-19080" y="203040"/>
            <a:ext cx="9181080" cy="648000"/>
            <a:chOff x="-19080" y="203040"/>
            <a:chExt cx="9181080" cy="648000"/>
          </a:xfrm>
        </p:grpSpPr>
        <p:grpSp>
          <p:nvGrpSpPr>
            <p:cNvPr id="8" name="Forma livre 11"/>
            <p:cNvGrpSpPr/>
            <p:nvPr/>
          </p:nvGrpSpPr>
          <p:grpSpPr>
            <a:xfrm>
              <a:off x="-19080" y="203040"/>
              <a:ext cx="9162720" cy="648000"/>
              <a:chOff x="-19080" y="203040"/>
              <a:chExt cx="9162720" cy="648000"/>
            </a:xfrm>
          </p:grpSpPr>
          <p:pic>
            <p:nvPicPr>
              <p:cNvPr id="9" name="Forma liv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a livre 12"/>
            <p:cNvGrpSpPr/>
            <p:nvPr/>
          </p:nvGrpSpPr>
          <p:grpSpPr>
            <a:xfrm>
              <a:off x="-19080" y="248040"/>
              <a:ext cx="9181080" cy="561600"/>
              <a:chOff x="-19080" y="248040"/>
              <a:chExt cx="9181080" cy="561600"/>
            </a:xfrm>
          </p:grpSpPr>
          <p:pic>
            <p:nvPicPr>
              <p:cNvPr id="12" name="Forma liv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upo 1"/>
          <p:cNvGrpSpPr/>
          <p:nvPr/>
        </p:nvGrpSpPr>
        <p:grpSpPr>
          <a:xfrm>
            <a:off x="-19080" y="203040"/>
            <a:ext cx="9181080" cy="648000"/>
            <a:chOff x="-19080" y="203040"/>
            <a:chExt cx="9181080" cy="648000"/>
          </a:xfrm>
        </p:grpSpPr>
        <p:grpSp>
          <p:nvGrpSpPr>
            <p:cNvPr id="53" name="Forma livre 11"/>
            <p:cNvGrpSpPr/>
            <p:nvPr/>
          </p:nvGrpSpPr>
          <p:grpSpPr>
            <a:xfrm>
              <a:off x="-19080" y="203040"/>
              <a:ext cx="9162720" cy="648000"/>
              <a:chOff x="-19080" y="203040"/>
              <a:chExt cx="9162720" cy="648000"/>
            </a:xfrm>
          </p:grpSpPr>
          <p:pic>
            <p:nvPicPr>
              <p:cNvPr id="54" name="Forma liv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a livre 12"/>
            <p:cNvGrpSpPr/>
            <p:nvPr/>
          </p:nvGrpSpPr>
          <p:grpSpPr>
            <a:xfrm>
              <a:off x="-19080" y="248040"/>
              <a:ext cx="9181080" cy="561600"/>
              <a:chOff x="-19080" y="248040"/>
              <a:chExt cx="9181080" cy="561600"/>
            </a:xfrm>
          </p:grpSpPr>
          <p:pic>
            <p:nvPicPr>
              <p:cNvPr id="57" name="Forma liv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A342-50B5-4EEA-A261-29152E94526C}" type="slidenum">
              <a:rPr b="0" lang="pt-B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a liv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a liv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upo 1"/>
          <p:cNvGrpSpPr/>
          <p:nvPr/>
        </p:nvGrpSpPr>
        <p:grpSpPr>
          <a:xfrm>
            <a:off x="-19080" y="203040"/>
            <a:ext cx="9181080" cy="648000"/>
            <a:chOff x="-19080" y="203040"/>
            <a:chExt cx="9181080" cy="648000"/>
          </a:xfrm>
        </p:grpSpPr>
        <p:grpSp>
          <p:nvGrpSpPr>
            <p:cNvPr id="103" name="Forma livre 11"/>
            <p:cNvGrpSpPr/>
            <p:nvPr/>
          </p:nvGrpSpPr>
          <p:grpSpPr>
            <a:xfrm>
              <a:off x="-19080" y="203040"/>
              <a:ext cx="9162720" cy="648000"/>
              <a:chOff x="-19080" y="203040"/>
              <a:chExt cx="9162720" cy="648000"/>
            </a:xfrm>
          </p:grpSpPr>
          <p:pic>
            <p:nvPicPr>
              <p:cNvPr id="104" name="Forma liv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a livre 12"/>
            <p:cNvGrpSpPr/>
            <p:nvPr/>
          </p:nvGrpSpPr>
          <p:grpSpPr>
            <a:xfrm>
              <a:off x="-19080" y="248040"/>
              <a:ext cx="9181080" cy="561600"/>
              <a:chOff x="-19080" y="248040"/>
              <a:chExt cx="9181080" cy="561600"/>
            </a:xfrm>
          </p:grpSpPr>
          <p:pic>
            <p:nvPicPr>
              <p:cNvPr id="107" name="Forma liv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5B7A-9CC0-404B-A46C-A7FCFDE8E80D}" type="slidenum">
              <a:rPr b="0" lang="pt-B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tângulo com Único Canto Aparado e Arredondad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ângulo retângu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a liv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a liv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429C-BCDF-4DA7-814C-4BA8267CA40A}" type="slidenum">
              <a:rPr b="0" lang="pt-B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ítulo 1" descr=""/>
          <p:cNvPicPr/>
          <p:nvPr/>
        </p:nvPicPr>
        <p:blipFill>
          <a:blip r:embed="rId1"/>
          <a:stretch/>
        </p:blipFill>
        <p:spPr>
          <a:xfrm>
            <a:off x="493560" y="281160"/>
            <a:ext cx="8217000" cy="1895400"/>
          </a:xfrm>
          <a:prstGeom prst="rect">
            <a:avLst/>
          </a:prstGeom>
          <a:ln w="0">
            <a:noFill/>
          </a:ln>
        </p:spPr>
      </p:pic>
      <p:sp>
        <p:nvSpPr>
          <p:cNvPr id="196" name="PlaceHolder 1"/>
          <p:cNvSpPr>
            <a:spLocks noGrp="1"/>
          </p:cNvSpPr>
          <p:nvPr>
            <p:ph type="subTitle"/>
          </p:nvPr>
        </p:nvSpPr>
        <p:spPr>
          <a:xfrm>
            <a:off x="533160" y="1642680"/>
            <a:ext cx="7854840" cy="4714920"/>
          </a:xfrm>
          <a:prstGeom prst="rect">
            <a:avLst/>
          </a:prstGeom>
          <a:noFill/>
          <a:ln w="0">
            <a:noFill/>
          </a:ln>
        </p:spPr>
        <p:txBody>
          <a:bodyPr lIns="0" rIns="18360" anchor="t">
            <a:noAutofit/>
          </a:bodyPr>
          <a:p>
            <a:pPr marL="514440" indent="-514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Internacional</a:t>
            </a:r>
            <a:r>
              <a:rPr b="1" i="1" lang="pt-BR" sz="2400" spc="-1" strike="noStrike">
                <a:solidFill>
                  <a:srgbClr val="ffffff"/>
                </a:solidFill>
                <a:latin typeface="Constantia"/>
              </a:rPr>
              <a:t>: rumo das Eleições Européias; Barack Obama – Nobel da Paz; Berlusconi na berlinda?; negociações rumo a Conferência da ONU sobre o Clima em Copenhague em 2012</a:t>
            </a:r>
            <a:r>
              <a:rPr b="0" lang="pt-BR" sz="2400" spc="-1" strike="noStrike">
                <a:solidFill>
                  <a:srgbClr val="ffffff"/>
                </a:solidFill>
                <a:latin typeface="Arial"/>
              </a:rPr>
              <a:t>; </a:t>
            </a:r>
            <a:r>
              <a:rPr b="1" i="1" lang="pt-BR" sz="2400" spc="-1" strike="noStrike">
                <a:solidFill>
                  <a:srgbClr val="ffffff"/>
                </a:solidFill>
                <a:latin typeface="Constantia"/>
              </a:rPr>
              <a:t>Honduras.</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Nacional</a:t>
            </a:r>
            <a:r>
              <a:rPr b="1" i="1" lang="pt-BR" sz="2400" spc="-1" strike="noStrike">
                <a:solidFill>
                  <a:srgbClr val="ffffff"/>
                </a:solidFill>
                <a:latin typeface="Constantia"/>
              </a:rPr>
              <a:t>: o significado para o Brasil da escolha do Rio de Janeiro para as Olimpíadas de 2016; solicitação da Igreja Regina Mundi, de Soweto, África do Sul;</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Movimentos Sociais do Campo:</a:t>
            </a:r>
            <a:r>
              <a:rPr b="1" i="1" lang="pt-BR" sz="2400" spc="-1" strike="noStrike">
                <a:solidFill>
                  <a:srgbClr val="ffffff"/>
                </a:solidFill>
                <a:latin typeface="Constantia"/>
              </a:rPr>
              <a:t> MST e visita de Lula às obras no rio São Francisco</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ffff"/>
                </a:solidFill>
                <a:uFillTx/>
                <a:latin typeface="Constantia"/>
              </a:rPr>
              <a:t>Notícias do Congresso Nacional</a:t>
            </a:r>
            <a:endParaRPr b="0" lang="en-US" sz="2400" spc="-1" strike="noStrike">
              <a:solidFill>
                <a:srgbClr val="ffffff"/>
              </a:solidFill>
              <a:latin typeface="Constantia"/>
            </a:endParaRPr>
          </a:p>
          <a:p>
            <a:pPr marL="514440" indent="-51444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514440" indent="-514440" algn="just">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gtEl>
                                        <p:attrNameLst>
                                          <p:attrName>style.visibility</p:attrName>
                                        </p:attrNameLst>
                                      </p:cBhvr>
                                      <p:to>
                                        <p:strVal val="visible"/>
                                      </p:to>
                                    </p:set>
                                    <p:animEffect filter="box(in)" transition="in">
                                      <p:cBhvr additive="repl">
                                        <p:cTn id="7" dur="500"/>
                                        <p:tgtEl>
                                          <p:spTgt spid="1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6">
                                            <p:txEl>
                                              <p:pRg st="1" end="1"/>
                                            </p:txEl>
                                          </p:spTgt>
                                        </p:tgtEl>
                                        <p:attrNameLst>
                                          <p:attrName>style.visibility</p:attrName>
                                        </p:attrNameLst>
                                      </p:cBhvr>
                                      <p:to>
                                        <p:strVal val="visible"/>
                                      </p:to>
                                    </p:set>
                                    <p:animEffect filter="box(in)" transition="in">
                                      <p:cBhvr additive="repl">
                                        <p:cTn id="12" dur="500"/>
                                        <p:tgtEl>
                                          <p:spTgt spid="1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7" dur="500"/>
                                        <p:tgtEl>
                                          <p:spTgt spid="1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6">
                                            <p:txEl>
                                              <p:pRg st="3" end="3"/>
                                            </p:txEl>
                                          </p:spTgt>
                                        </p:tgtEl>
                                        <p:attrNameLst>
                                          <p:attrName>style.visibility</p:attrName>
                                        </p:attrNameLst>
                                      </p:cBhvr>
                                      <p:to>
                                        <p:strVal val="visible"/>
                                      </p:to>
                                    </p:set>
                                    <p:animEffect filter="box(in)" transition="in">
                                      <p:cBhvr additive="repl">
                                        <p:cTn id="22" dur="500"/>
                                        <p:tgtEl>
                                          <p:spTgt spid="1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27"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ítulo 1" descr=""/>
          <p:cNvPicPr/>
          <p:nvPr/>
        </p:nvPicPr>
        <p:blipFill>
          <a:blip r:embed="rId1"/>
          <a:stretch/>
        </p:blipFill>
        <p:spPr>
          <a:xfrm>
            <a:off x="493560" y="281160"/>
            <a:ext cx="8339400" cy="1876320"/>
          </a:xfrm>
          <a:prstGeom prst="rect">
            <a:avLst/>
          </a:prstGeom>
          <a:ln w="0">
            <a:noFill/>
          </a:ln>
        </p:spPr>
      </p:pic>
      <p:sp>
        <p:nvSpPr>
          <p:cNvPr id="214" name="PlaceHolder 1"/>
          <p:cNvSpPr>
            <a:spLocks noGrp="1"/>
          </p:cNvSpPr>
          <p:nvPr>
            <p:ph type="subTitle"/>
          </p:nvPr>
        </p:nvSpPr>
        <p:spPr>
          <a:xfrm>
            <a:off x="571320" y="2214720"/>
            <a:ext cx="7854840" cy="4643280"/>
          </a:xfrm>
          <a:prstGeom prst="rect">
            <a:avLst/>
          </a:prstGeom>
          <a:noFill/>
          <a:ln w="0">
            <a:noFill/>
          </a:ln>
        </p:spPr>
        <p:txBody>
          <a:bodyPr lIns="0" rIns="18360" anchor="t">
            <a:noAutofit/>
          </a:bodyPr>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0. A posição dos países em desenvolvimento em torno do princípio da responsabilidade comum, mas diferenciada, exige no mínimo, que tenham planos e investimentos que sinalizem a capacidade de enfrentar as consequencias das mudanças de clima que já se manifestam em diferentes setores da produção, atingindo fortemente as populações mais pobres.</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1. O maior desafio para o Brasil é continuar o desenvolvimento sem aumentar a emissão de gases de efeito estufa. Incluir socialmente grandes segmentos da população sem aumentar a crise do clima. Coloca-se aí o maior dos impasses: o debate e a construção de outro paradigma de desenvolvimento que seja justo, sustentável e responsável com as futuras gerações.  </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12. As alterações climáticas são mais que uma questão ambiental: elas são principalmente um problema ético de justiça global e equidade. Atingem a todos, mas não de forma igual. Os mais pobres são os que já estão sofrendo os maiores impactos. Nesta tarefa, que é de todos, situa-se um compromisso para as religiões. </a:t>
            </a:r>
            <a:endParaRPr b="0" lang="en-US" sz="1900" spc="-1" strike="noStrike">
              <a:solidFill>
                <a:srgbClr val="ffffff"/>
              </a:solidFill>
              <a:latin typeface="Constantia"/>
            </a:endParaRPr>
          </a:p>
          <a:p>
            <a:pPr marL="514440" indent="-51444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900" spc="-1" strike="noStrike">
                <a:solidFill>
                  <a:srgbClr val="ffffff"/>
                </a:solidFill>
                <a:latin typeface="Constantia"/>
              </a:rPr>
              <a:t>.</a:t>
            </a:r>
            <a:endParaRPr b="0" lang="en-US" sz="1900" spc="-1" strike="noStrike">
              <a:solidFill>
                <a:srgbClr val="ffffff"/>
              </a:solidFill>
              <a:latin typeface="Constantia"/>
            </a:endParaRPr>
          </a:p>
          <a:p>
            <a:pPr marL="514440" indent="-514440" algn="just">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13"/>
                                        </p:tgtEl>
                                        <p:attrNameLst>
                                          <p:attrName>style.visibility</p:attrName>
                                        </p:attrNameLst>
                                      </p:cBhvr>
                                      <p:to>
                                        <p:strVal val="visible"/>
                                      </p:to>
                                    </p:set>
                                    <p:animEffect filter="box(in)" transition="in">
                                      <p:cBhvr additive="repl">
                                        <p:cTn id="235" dur="500"/>
                                        <p:tgtEl>
                                          <p:spTgt spid="21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240" dur="500"/>
                                        <p:tgtEl>
                                          <p:spTgt spid="21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245" dur="500"/>
                                        <p:tgtEl>
                                          <p:spTgt spid="214">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250" dur="500"/>
                                        <p:tgtEl>
                                          <p:spTgt spid="214">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255"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ítulo 1" descr=""/>
          <p:cNvPicPr/>
          <p:nvPr/>
        </p:nvPicPr>
        <p:blipFill>
          <a:blip r:embed="rId1"/>
          <a:stretch/>
        </p:blipFill>
        <p:spPr>
          <a:xfrm>
            <a:off x="493560" y="281160"/>
            <a:ext cx="8339400" cy="1876320"/>
          </a:xfrm>
          <a:prstGeom prst="rect">
            <a:avLst/>
          </a:prstGeom>
          <a:ln w="0">
            <a:noFill/>
          </a:ln>
        </p:spPr>
      </p:pic>
      <p:sp>
        <p:nvSpPr>
          <p:cNvPr id="21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Começa a parecer que a era latino-americana dos golpes de Estado vai chegando ao fim. Mesmo um golpe paramentado juridicamente e com baixo teor de violência direta e imediata em termos de nossa história, não “vinga” mai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Brasil entrou num jogo de alto risco e cacife, ao acolher Zelaya na sua Embaixada. Importa pouco se o presidente e o ministro do Exterior sabiam de antemão do pedido de Zelaya (que tecnicamente não é de refúgio nem de asilo; digamos, de acolhimento). Mas com este gesto o Brasil afirmou sua intenção de presença atuante na América Latin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iante da ambigüidade dos EUA (Obama e aparelho de Estado em queda de braço), aumentaram as chances de sucesso do Brasil; talvez não na volta de Zelaya; mas na afirmação do respeito aos legítimos processos democráticos na América Latina e Caribe</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5"/>
                                        </p:tgtEl>
                                        <p:attrNameLst>
                                          <p:attrName>style.visibility</p:attrName>
                                        </p:attrNameLst>
                                      </p:cBhvr>
                                      <p:to>
                                        <p:strVal val="visible"/>
                                      </p:to>
                                    </p:set>
                                    <p:animEffect filter="box(in)" transition="in">
                                      <p:cBhvr additive="repl">
                                        <p:cTn id="262" dur="500"/>
                                        <p:tgtEl>
                                          <p:spTgt spid="21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267" dur="500"/>
                                        <p:tgtEl>
                                          <p:spTgt spid="21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16">
                                            <p:txEl>
                                              <p:pRg st="1" end="1"/>
                                            </p:txEl>
                                          </p:spTgt>
                                        </p:tgtEl>
                                        <p:attrNameLst>
                                          <p:attrName>style.visibility</p:attrName>
                                        </p:attrNameLst>
                                      </p:cBhvr>
                                      <p:to>
                                        <p:strVal val="visible"/>
                                      </p:to>
                                    </p:set>
                                    <p:animEffect filter="box(in)" transition="in">
                                      <p:cBhvr additive="repl">
                                        <p:cTn id="272" dur="500"/>
                                        <p:tgtEl>
                                          <p:spTgt spid="216">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16">
                                            <p:txEl>
                                              <p:pRg st="2" end="2"/>
                                            </p:txEl>
                                          </p:spTgt>
                                        </p:tgtEl>
                                        <p:attrNameLst>
                                          <p:attrName>style.visibility</p:attrName>
                                        </p:attrNameLst>
                                      </p:cBhvr>
                                      <p:to>
                                        <p:strVal val="visible"/>
                                      </p:to>
                                    </p:set>
                                    <p:animEffect filter="box(in)" transition="in">
                                      <p:cBhvr additive="repl">
                                        <p:cTn id="277" dur="500"/>
                                        <p:tgtEl>
                                          <p:spTgt spid="216">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16">
                                            <p:txEl>
                                              <p:pRg st="3" end="3"/>
                                            </p:txEl>
                                          </p:spTgt>
                                        </p:tgtEl>
                                        <p:attrNameLst>
                                          <p:attrName>style.visibility</p:attrName>
                                        </p:attrNameLst>
                                      </p:cBhvr>
                                      <p:to>
                                        <p:strVal val="visible"/>
                                      </p:to>
                                    </p:set>
                                    <p:animEffect filter="box(in)" transition="in">
                                      <p:cBhvr additive="repl">
                                        <p:cTn id="28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ítulo 1" descr=""/>
          <p:cNvPicPr/>
          <p:nvPr/>
        </p:nvPicPr>
        <p:blipFill>
          <a:blip r:embed="rId1"/>
          <a:stretch/>
        </p:blipFill>
        <p:spPr>
          <a:xfrm>
            <a:off x="493560" y="281160"/>
            <a:ext cx="8150400" cy="1876320"/>
          </a:xfrm>
          <a:prstGeom prst="rect">
            <a:avLst/>
          </a:prstGeom>
          <a:ln w="0">
            <a:noFill/>
          </a:ln>
        </p:spPr>
      </p:pic>
      <p:sp>
        <p:nvSpPr>
          <p:cNvPr id="21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controvertido dramaturgo Nelson Rodrigues cunhou a expressão “complexo de viralata” para se referir ao trauma sofrido pelos brasileiros, quando a seleção brasileira foi derrotada pela Uruguaia no Maracanã em 1950. Esse sentimento de inferioridade foi superado no futebol ao vencer a copa do mundo de 1958, fazendo do Brasil uma potência futebolística. Entretanto, o “complexo de viralata” perdura, indo além do futebol e contaminando setores expressivos da sociedade brasileir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se sentimento de inferioridade remonta a origem nacional, todavia, foi revigorado nos últimos 20 anos do século passado, coincidindo com o auge do neoliberalismo no Brasil. Por vezes, nesse período, tinha-se a impressão de que o país estivesse com as fragilidades do inicio do século passado: menos de 20 milhões de habitantes, basicamente distribuídos no litoral, com população majoritariamente rural, sendo que o setor industrial ainda era incipiente e exportava matérias prim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7"/>
                                        </p:tgtEl>
                                        <p:attrNameLst>
                                          <p:attrName>style.visibility</p:attrName>
                                        </p:attrNameLst>
                                      </p:cBhvr>
                                      <p:to>
                                        <p:strVal val="visible"/>
                                      </p:to>
                                    </p:set>
                                    <p:animEffect filter="box(in)" transition="in">
                                      <p:cBhvr additive="repl">
                                        <p:cTn id="289" dur="500"/>
                                        <p:tgtEl>
                                          <p:spTgt spid="21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294" dur="500"/>
                                        <p:tgtEl>
                                          <p:spTgt spid="21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299" dur="500"/>
                                        <p:tgtEl>
                                          <p:spTgt spid="218">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8">
                                            <p:txEl>
                                              <p:pRg st="2" end="2"/>
                                            </p:txEl>
                                          </p:spTgt>
                                        </p:tgtEl>
                                        <p:attrNameLst>
                                          <p:attrName>style.visibility</p:attrName>
                                        </p:attrNameLst>
                                      </p:cBhvr>
                                      <p:to>
                                        <p:strVal val="visible"/>
                                      </p:to>
                                    </p:set>
                                    <p:animEffect filter="box(in)" transition="in">
                                      <p:cBhvr additive="repl">
                                        <p:cTn id="304" dur="5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ítulo 1" descr=""/>
          <p:cNvPicPr/>
          <p:nvPr/>
        </p:nvPicPr>
        <p:blipFill>
          <a:blip r:embed="rId1"/>
          <a:stretch/>
        </p:blipFill>
        <p:spPr>
          <a:xfrm>
            <a:off x="493560" y="281160"/>
            <a:ext cx="8150400" cy="1876320"/>
          </a:xfrm>
          <a:prstGeom prst="rect">
            <a:avLst/>
          </a:prstGeom>
          <a:ln w="0">
            <a:noFill/>
          </a:ln>
        </p:spPr>
      </p:pic>
      <p:sp>
        <p:nvSpPr>
          <p:cNvPr id="22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3. Assim, o melhor a se fazer diante desse sentimento seria se adaptar a inexorabilidade da globalização tirando dela vantagens na exportação de </a:t>
            </a:r>
            <a:r>
              <a:rPr b="0" lang="pt-BR" sz="2000" spc="-1" strike="noStrike">
                <a:solidFill>
                  <a:srgbClr val="ffffff"/>
                </a:solidFill>
                <a:latin typeface="Constantia"/>
              </a:rPr>
              <a:t>commodities</a:t>
            </a:r>
            <a:r>
              <a:rPr b="0" i="1" lang="pt-BR" sz="2000" spc="-1" strike="noStrike">
                <a:solidFill>
                  <a:srgbClr val="ffffff"/>
                </a:solidFill>
                <a:latin typeface="Constantia"/>
              </a:rPr>
              <a:t>, e atraindo investimentos externos. Dentro do figurino de país “sério e comportado” cumpriríamos o papel subalterno na política mundial, consciente das limitações impostas e da nossa “inferioridade cultural”. Inferioridade essa que teve seu momento símbolo, quando o chanceler brasileiro, sujeitou-se a tirar os sapatos e ficar descalço, a fim de ser revistado por seguranças do aeroporto, ao desembarcar em Miami.</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Na era neoliberal, aprofundou-se o desmonte do Estado por meio das privatizações de empresas públicas e a desnacionalização acelerada da economia. Isso sem deixar de mencionar os efeitos nocivos à economia brasileira das crises financeiras na Rússia e nos “tigres asiáticos”, bem como a desvalorização do Real em 1999 que levou o aumento exponencial da pobreza, a proliferação da violência e outros dramas sociai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9"/>
                                        </p:tgtEl>
                                        <p:attrNameLst>
                                          <p:attrName>style.visibility</p:attrName>
                                        </p:attrNameLst>
                                      </p:cBhvr>
                                      <p:to>
                                        <p:strVal val="visible"/>
                                      </p:to>
                                    </p:set>
                                    <p:animEffect filter="box(in)" transition="in">
                                      <p:cBhvr additive="repl">
                                        <p:cTn id="311" dur="500"/>
                                        <p:tgtEl>
                                          <p:spTgt spid="21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16" dur="500"/>
                                        <p:tgtEl>
                                          <p:spTgt spid="22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321"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ítulo 1" descr=""/>
          <p:cNvPicPr/>
          <p:nvPr/>
        </p:nvPicPr>
        <p:blipFill>
          <a:blip r:embed="rId1"/>
          <a:stretch/>
        </p:blipFill>
        <p:spPr>
          <a:xfrm>
            <a:off x="493560" y="281160"/>
            <a:ext cx="8150400" cy="1876320"/>
          </a:xfrm>
          <a:prstGeom prst="rect">
            <a:avLst/>
          </a:prstGeom>
          <a:ln w="0">
            <a:noFill/>
          </a:ln>
        </p:spPr>
      </p:pic>
      <p:sp>
        <p:nvSpPr>
          <p:cNvPr id="22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Desse modo, decresceu a estima nacional e rebaixou-se a utopia para os limites do controle inflacionário e da estabilidade monetária, tornando-se um país bloqueado e destinado à mediocridade. Embora paradoxalmente o Brasil, juntamente com os Estados Unidos e a China, compõe uma lista de nações de maior território, mais populoso e de maior Produto Interno Bruto (PIB). Além disso, possui privilegiada localização geográfica, estoque de biodiversidade e de água potável, idioma único falado de norte a sul, uma vibrante sociedade civil.</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Na era Vargas e JK, como também nas fortes mobilizações pelas reformas de base, por exemplo, foi grande o otimismo nacional. Nesse período, o país foi um dos que mais cresceu no mundo. Ainda que este modelo fosse baseado na concentração de renda e poder, porém, possibilitava uma dinâmica social ascendente para milhões de brasileiro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21"/>
                                        </p:tgtEl>
                                        <p:attrNameLst>
                                          <p:attrName>style.visibility</p:attrName>
                                        </p:attrNameLst>
                                      </p:cBhvr>
                                      <p:to>
                                        <p:strVal val="visible"/>
                                      </p:to>
                                    </p:set>
                                    <p:animEffect filter="box(in)" transition="in">
                                      <p:cBhvr additive="repl">
                                        <p:cTn id="328" dur="500"/>
                                        <p:tgtEl>
                                          <p:spTgt spid="22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33" dur="500"/>
                                        <p:tgtEl>
                                          <p:spTgt spid="222">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338"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ítulo 1" descr=""/>
          <p:cNvPicPr/>
          <p:nvPr/>
        </p:nvPicPr>
        <p:blipFill>
          <a:blip r:embed="rId1"/>
          <a:stretch/>
        </p:blipFill>
        <p:spPr>
          <a:xfrm>
            <a:off x="493560" y="281160"/>
            <a:ext cx="8150400" cy="1876320"/>
          </a:xfrm>
          <a:prstGeom prst="rect">
            <a:avLst/>
          </a:prstGeom>
          <a:ln w="0">
            <a:noFill/>
          </a:ln>
        </p:spPr>
      </p:pic>
      <p:sp>
        <p:nvSpPr>
          <p:cNvPr id="224"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A eleição de Lula alimentou a esperança de superação definitiva do “complexo de viralata” e a construção de outro modelo de desenvolvimento e de sociedade. Passados sete anos desse feito, é possível, a grosso modo, afirmar que a política externa do Governo Federal dialoga com a tradição diplomática brasileira: a interrupção da ALCA; o arquivamento do acordo que daria aos Estados Unidos a base de Alcântara; a presença altiva nos principais fóruns internacionais; a diversificação do comercio exterior e a posterior diminuição da dependência com os EU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Nesse contexto, a situação de Honduras é o símbolo recente dessa posição altiva e ousada. A postura firme do Brasil, exigindo que a ONU e a OEA se manifestassem contra as ameaças de invasão da representação diplomática, levou o chefe do Estado-Maior das Forças Armadas de Honduras a se eximir de responsabilidades pelo golpe, cujo desfecho seja imprevisível.</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23"/>
                                        </p:tgtEl>
                                        <p:attrNameLst>
                                          <p:attrName>style.visibility</p:attrName>
                                        </p:attrNameLst>
                                      </p:cBhvr>
                                      <p:to>
                                        <p:strVal val="visible"/>
                                      </p:to>
                                    </p:set>
                                    <p:animEffect filter="box(in)" transition="in">
                                      <p:cBhvr additive="repl">
                                        <p:cTn id="345" dur="500"/>
                                        <p:tgtEl>
                                          <p:spTgt spid="22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350" dur="500"/>
                                        <p:tgtEl>
                                          <p:spTgt spid="224">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355"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ítulo 1" descr=""/>
          <p:cNvPicPr/>
          <p:nvPr/>
        </p:nvPicPr>
        <p:blipFill>
          <a:blip r:embed="rId1"/>
          <a:stretch/>
        </p:blipFill>
        <p:spPr>
          <a:xfrm>
            <a:off x="493560" y="281160"/>
            <a:ext cx="8150400" cy="1876320"/>
          </a:xfrm>
          <a:prstGeom prst="rect">
            <a:avLst/>
          </a:prstGeom>
          <a:ln w="0">
            <a:noFill/>
          </a:ln>
        </p:spPr>
      </p:pic>
      <p:sp>
        <p:nvSpPr>
          <p:cNvPr id="22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No plano interno, o governo Lula mostrou certo descompasso com a altivez e ousadia do Itamaraty. Manteve-se aspectos da política econômica herdada, altas taxas de juros, superávit primário e forte apoio financeiro a agricultura de escala. Apesar de uma política econômica conservadora, conseguiu imprimir inovadoras políticas sociais, valorização consistente do salário mínimo e a recuperação da capacidade de gestão do Estado, mediante reestruturação de carreiras do serviço público e contratação via concursos públicos de milhares de servidore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10. A escolha do Rio de Janeiro para sediar as Olimpíadas de 2016, a Copa do Mundo de Futebol de 2014, a descoberta de Petróleo no Pré-sal dão ao país condições de forjar uma sinergia social, favorecem o planejamento estatal na consecução do empreendimento e desafia as forças sociais a garantir o controle social. E as eleições de 2010 serão um espaço de debate de projetos nacionais que afirmem a brasilidade e a superação definitiva do “complexo de viralat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25"/>
                                        </p:tgtEl>
                                        <p:attrNameLst>
                                          <p:attrName>style.visibility</p:attrName>
                                        </p:attrNameLst>
                                      </p:cBhvr>
                                      <p:to>
                                        <p:strVal val="visible"/>
                                      </p:to>
                                    </p:set>
                                    <p:animEffect filter="box(in)" transition="in">
                                      <p:cBhvr additive="repl">
                                        <p:cTn id="362" dur="500"/>
                                        <p:tgtEl>
                                          <p:spTgt spid="22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67" dur="500"/>
                                        <p:tgtEl>
                                          <p:spTgt spid="22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26">
                                            <p:txEl>
                                              <p:pRg st="1" end="1"/>
                                            </p:txEl>
                                          </p:spTgt>
                                        </p:tgtEl>
                                        <p:attrNameLst>
                                          <p:attrName>style.visibility</p:attrName>
                                        </p:attrNameLst>
                                      </p:cBhvr>
                                      <p:to>
                                        <p:strVal val="visible"/>
                                      </p:to>
                                    </p:set>
                                    <p:animEffect filter="box(in)" transition="in">
                                      <p:cBhvr additive="repl">
                                        <p:cTn id="372" dur="5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ítulo 1" descr=""/>
          <p:cNvPicPr/>
          <p:nvPr/>
        </p:nvPicPr>
        <p:blipFill>
          <a:blip r:embed="rId1"/>
          <a:stretch/>
        </p:blipFill>
        <p:spPr>
          <a:xfrm>
            <a:off x="493560" y="281160"/>
            <a:ext cx="8150400" cy="1876320"/>
          </a:xfrm>
          <a:prstGeom prst="rect">
            <a:avLst/>
          </a:prstGeom>
          <a:ln w="0">
            <a:noFill/>
          </a:ln>
        </p:spPr>
      </p:pic>
      <p:sp>
        <p:nvSpPr>
          <p:cNvPr id="22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Embaixada brasileira em Pretória, África do Sul, fez a proposta ao Itamaraty para que o governo brasileiro doe uma imagem de Nossa Senhora Aparecida à Igreja </a:t>
            </a:r>
            <a:r>
              <a:rPr b="0" lang="pt-BR" sz="2000" spc="-1" strike="noStrike">
                <a:solidFill>
                  <a:srgbClr val="ffffff"/>
                </a:solidFill>
                <a:latin typeface="Constantia"/>
              </a:rPr>
              <a:t>Regina Mundi</a:t>
            </a:r>
            <a:r>
              <a:rPr b="0" i="1" lang="pt-BR" sz="2000" spc="-1" strike="noStrike">
                <a:solidFill>
                  <a:srgbClr val="ffffff"/>
                </a:solidFill>
                <a:latin typeface="Constantia"/>
              </a:rPr>
              <a:t>, de Soweto, que abrigou e protegeu aquelas pessoas que lutaram contra o regime do “</a:t>
            </a:r>
            <a:r>
              <a:rPr b="0" lang="pt-BR" sz="2000" spc="-1" strike="noStrike">
                <a:solidFill>
                  <a:srgbClr val="ffffff"/>
                </a:solidFill>
                <a:latin typeface="Constantia"/>
              </a:rPr>
              <a:t>apartheid</a:t>
            </a:r>
            <a:r>
              <a:rPr b="0" i="1" lang="pt-BR" sz="2000" spc="-1" strike="noStrike">
                <a:solidFill>
                  <a:srgbClr val="ffffff"/>
                </a:solidFill>
                <a:latin typeface="Constantia"/>
              </a:rPr>
              <a:t>”, e se tornou um símbolo da luta pela liberdade e pelos Direitos Humanos naquele país africano.</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ualmente, a Igreja é local de peregrinação religiosa e social, tendo sido preservado o altar, que foi rompido pelas balas do regime racista. Cerca de cinco mil pessoas freqüentam esta Igreja mensalmente, entre sul-africanos e estrangeiro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Propostas acerca de como e quando seria esta doação ainda estão sendo feitas e discutidas. Segundo um dos diplomatas que impulsionam este projeto, “seria um presente muito simbólico, capaz de demonstrar as raízes comuns das nossas lutas, nem sempre conhecid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7"/>
                                        </p:tgtEl>
                                        <p:attrNameLst>
                                          <p:attrName>style.visibility</p:attrName>
                                        </p:attrNameLst>
                                      </p:cBhvr>
                                      <p:to>
                                        <p:strVal val="visible"/>
                                      </p:to>
                                    </p:set>
                                    <p:animEffect filter="box(in)" transition="in">
                                      <p:cBhvr additive="repl">
                                        <p:cTn id="379" dur="500"/>
                                        <p:tgtEl>
                                          <p:spTgt spid="227"/>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384" dur="500"/>
                                        <p:tgtEl>
                                          <p:spTgt spid="22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389" dur="500"/>
                                        <p:tgtEl>
                                          <p:spTgt spid="22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394" dur="500"/>
                                        <p:tgtEl>
                                          <p:spTgt spid="228">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228">
                                            <p:txEl>
                                              <p:pRg st="3" end="3"/>
                                            </p:txEl>
                                          </p:spTgt>
                                        </p:tgtEl>
                                        <p:attrNameLst>
                                          <p:attrName>style.visibility</p:attrName>
                                        </p:attrNameLst>
                                      </p:cBhvr>
                                      <p:to>
                                        <p:strVal val="visible"/>
                                      </p:to>
                                    </p:set>
                                    <p:animEffect filter="box(in)" transition="in">
                                      <p:cBhvr additive="repl">
                                        <p:cTn id="399"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ítulo 1" descr=""/>
          <p:cNvPicPr/>
          <p:nvPr/>
        </p:nvPicPr>
        <p:blipFill>
          <a:blip r:embed="rId1"/>
          <a:stretch/>
        </p:blipFill>
        <p:spPr>
          <a:xfrm>
            <a:off x="493560" y="281160"/>
            <a:ext cx="8339400" cy="1876320"/>
          </a:xfrm>
          <a:prstGeom prst="rect">
            <a:avLst/>
          </a:prstGeom>
          <a:ln w="0">
            <a:noFill/>
          </a:ln>
        </p:spPr>
      </p:pic>
      <p:sp>
        <p:nvSpPr>
          <p:cNvPr id="23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urante as últimas semanas, a sociedade brasileira viveu a expectativa com relação ao governo brasileiro assinar a atualização dos índices de produtividade do campo. Tal atualização permitiria a identificação de áreas ociosas e disponibilizá-las para a criação de novos assentamentos de famílias sem-terra, dando seqüência à Reforma Agrária em nosso paí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No entanto, deputados ruralistas e a grande mídia se insurgiram contra esta revisão dos índices, embora seja uma obrigação constitucional e a atualização planejada tenha como referencial a média de produtividade do campo brasileiro nos anos 90.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nquanto esta expectativa prosseguia, imagens fortes foram exibidas nos tele-jornais, de agricultores do MST ocupando uma fazenda no interior de São Paulo e destruindo pés de laranja. As imagens eram da polícia paulista, feitas de helicóptero, uma semana antes da sua veiculação espetacular na televisão, em horário nobre.</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29"/>
                                        </p:tgtEl>
                                        <p:attrNameLst>
                                          <p:attrName>style.visibility</p:attrName>
                                        </p:attrNameLst>
                                      </p:cBhvr>
                                      <p:to>
                                        <p:strVal val="visible"/>
                                      </p:to>
                                    </p:set>
                                    <p:animEffect filter="box(in)" transition="in">
                                      <p:cBhvr additive="repl">
                                        <p:cTn id="406" dur="500"/>
                                        <p:tgtEl>
                                          <p:spTgt spid="22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411" dur="500"/>
                                        <p:tgtEl>
                                          <p:spTgt spid="23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416" dur="500"/>
                                        <p:tgtEl>
                                          <p:spTgt spid="23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42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ítulo 1" descr=""/>
          <p:cNvPicPr/>
          <p:nvPr/>
        </p:nvPicPr>
        <p:blipFill>
          <a:blip r:embed="rId1"/>
          <a:stretch/>
        </p:blipFill>
        <p:spPr>
          <a:xfrm>
            <a:off x="493560" y="281160"/>
            <a:ext cx="8339400" cy="1876320"/>
          </a:xfrm>
          <a:prstGeom prst="rect">
            <a:avLst/>
          </a:prstGeom>
          <a:ln w="0">
            <a:noFill/>
          </a:ln>
        </p:spPr>
      </p:pic>
      <p:sp>
        <p:nvSpPr>
          <p:cNvPr id="23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Segundo o MST, a ação realizada tinha por objetivo denunciar que aquela fazenda, explorada pela multinacional do suco de laranja, Cutrale, era na verdade invasão de terras públicas, onde estavam plantados ilegalmente cerca de um milhão de pés de laranja. O movimento negou que havia destruído qualquer máquina agrícola, conforme apresentado também na televisão.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O fato é que a super-exploração na mídia daquelas imagens de destruição de parte de uma grande plantação de laranja viabilizou que os ruralistas se reaglutinassem, voltassem a exigir a criação de uma Comissão Parlamentar Mista de Inquérito, para investigar o MST, que há pouco tempo não haviam conseguido aprovar, e colocaram o movimento social numa situação de defensiva.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Com esta situação, de ofensiva ruralista e de constrangimento do MST, devido a um gesto de suas bases evidentemente impensado e condenado por muitos, a atualização dos índices de produtividade permanece paralisada por parte do governo federal.</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231"/>
                                        </p:tgtEl>
                                        <p:attrNameLst>
                                          <p:attrName>style.visibility</p:attrName>
                                        </p:attrNameLst>
                                      </p:cBhvr>
                                      <p:to>
                                        <p:strVal val="visible"/>
                                      </p:to>
                                    </p:set>
                                    <p:animEffect filter="box(in)" transition="in">
                                      <p:cBhvr additive="repl">
                                        <p:cTn id="428" dur="500"/>
                                        <p:tgtEl>
                                          <p:spTgt spid="23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433" dur="500"/>
                                        <p:tgtEl>
                                          <p:spTgt spid="232">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438" dur="500"/>
                                        <p:tgtEl>
                                          <p:spTgt spid="232">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443"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ítulo 1" descr=""/>
          <p:cNvPicPr/>
          <p:nvPr/>
        </p:nvPicPr>
        <p:blipFill>
          <a:blip r:embed="rId1"/>
          <a:stretch/>
        </p:blipFill>
        <p:spPr>
          <a:xfrm>
            <a:off x="493560" y="281160"/>
            <a:ext cx="8339400" cy="1876320"/>
          </a:xfrm>
          <a:prstGeom prst="rect">
            <a:avLst/>
          </a:prstGeom>
          <a:ln w="0">
            <a:noFill/>
          </a:ln>
        </p:spPr>
      </p:pic>
      <p:sp>
        <p:nvSpPr>
          <p:cNvPr id="198" name="PlaceHolder 1"/>
          <p:cNvSpPr>
            <a:spLocks noGrp="1"/>
          </p:cNvSpPr>
          <p:nvPr>
            <p:ph type="subTitle"/>
          </p:nvPr>
        </p:nvSpPr>
        <p:spPr>
          <a:xfrm>
            <a:off x="571320" y="2285640"/>
            <a:ext cx="7854840" cy="442908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hegemonia neoliberal se reduz e se fragmenta quase em toda a parte.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Alemanha reelege os democratas cristãos e Ângela Merkel. Os socialistas perdem terreno para movimentos mais à esquerda.</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m Portugal, os socialistas se mantêm no poder. Um ponto que desgastou eleitoralmente a candidata de centro-direita foi sua resistência ao trem de grande velocidade unindo Porto e Madri. O que pode ser lido como oposição a colaborar com a Espanha socialista, mas teve entretons isolacionistas.</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Na Grécia, os socialistas voltam ao poder por causa de suspeitas e acusações de corrupção no governo conservador, mas, sobretudo, pela esperança de que sejam mais eficazes em debelar as conseqüências negativas do credo neoliberal que trouxe a crise. </a:t>
            </a:r>
            <a:r>
              <a:rPr b="1" i="1" lang="pt-BR" sz="2000" spc="-1" strike="noStrike">
                <a:solidFill>
                  <a:srgbClr val="ffffff"/>
                </a:solidFill>
                <a:latin typeface="Constantia"/>
              </a:rPr>
              <a:t>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É sugestivo como as vitórias socialistas se dão mais no sul da Europa, menos rico</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97"/>
                                        </p:tgtEl>
                                        <p:attrNameLst>
                                          <p:attrName>style.visibility</p:attrName>
                                        </p:attrNameLst>
                                      </p:cBhvr>
                                      <p:to>
                                        <p:strVal val="visible"/>
                                      </p:to>
                                    </p:set>
                                    <p:animEffect filter="box(in)" transition="in">
                                      <p:cBhvr additive="repl">
                                        <p:cTn id="34" dur="500"/>
                                        <p:tgtEl>
                                          <p:spTgt spid="1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39" dur="500"/>
                                        <p:tgtEl>
                                          <p:spTgt spid="1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44" dur="500"/>
                                        <p:tgtEl>
                                          <p:spTgt spid="19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98">
                                            <p:txEl>
                                              <p:pRg st="2" end="2"/>
                                            </p:txEl>
                                          </p:spTgt>
                                        </p:tgtEl>
                                        <p:attrNameLst>
                                          <p:attrName>style.visibility</p:attrName>
                                        </p:attrNameLst>
                                      </p:cBhvr>
                                      <p:to>
                                        <p:strVal val="visible"/>
                                      </p:to>
                                    </p:set>
                                    <p:animEffect filter="box(in)" transition="in">
                                      <p:cBhvr additive="repl">
                                        <p:cTn id="49" dur="500"/>
                                        <p:tgtEl>
                                          <p:spTgt spid="19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98">
                                            <p:txEl>
                                              <p:pRg st="3" end="3"/>
                                            </p:txEl>
                                          </p:spTgt>
                                        </p:tgtEl>
                                        <p:attrNameLst>
                                          <p:attrName>style.visibility</p:attrName>
                                        </p:attrNameLst>
                                      </p:cBhvr>
                                      <p:to>
                                        <p:strVal val="visible"/>
                                      </p:to>
                                    </p:set>
                                    <p:animEffect filter="box(in)" transition="in">
                                      <p:cBhvr additive="repl">
                                        <p:cTn id="54" dur="500"/>
                                        <p:tgtEl>
                                          <p:spTgt spid="19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98">
                                            <p:txEl>
                                              <p:pRg st="4" end="4"/>
                                            </p:txEl>
                                          </p:spTgt>
                                        </p:tgtEl>
                                        <p:attrNameLst>
                                          <p:attrName>style.visibility</p:attrName>
                                        </p:attrNameLst>
                                      </p:cBhvr>
                                      <p:to>
                                        <p:strVal val="visible"/>
                                      </p:to>
                                    </p:set>
                                    <p:animEffect filter="box(in)" transition="in">
                                      <p:cBhvr additive="repl">
                                        <p:cTn id="59"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ítulo 1" descr=""/>
          <p:cNvPicPr/>
          <p:nvPr/>
        </p:nvPicPr>
        <p:blipFill>
          <a:blip r:embed="rId1"/>
          <a:stretch/>
        </p:blipFill>
        <p:spPr>
          <a:xfrm>
            <a:off x="493560" y="281160"/>
            <a:ext cx="8339400" cy="1876320"/>
          </a:xfrm>
          <a:prstGeom prst="rect">
            <a:avLst/>
          </a:prstGeom>
          <a:ln w="0">
            <a:noFill/>
          </a:ln>
        </p:spPr>
      </p:pic>
      <p:sp>
        <p:nvSpPr>
          <p:cNvPr id="234"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Pelos cálculos do Incra, apenas 50 mil dos 5,17 milhões de estabelecimentos rurais estariam sujeitos à desapropriação por insuficiência de produtividade.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Na busca pela democratização efetiva da propriedade da terra no Brasil, os movimentos sociais, articulados no Fórum Nacional pela Reforma Agrária e pela Justiça no Campo, vêm organizando, a partir de uma proposta da Comissão Pastoral da Terra, uma “Campanha pelo limite da propriedade”, que visa debater com a sociedade a escandalosa concentração fundiária no nosso país e propor que sejam colocados limites para as propriedades rurai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Como parte desta Campanha existe a proposta da realização de um Plebiscito Nacional, no dia 7 de Setembro de 2010, que escute a sociedade brasileira acerca da necessidade de se democratizar o campo brasileiro, proposta assumida no texto-base da Campanha da Fraternidade Ecumênica de 2010, com o tema “Economia e Vida”.</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33"/>
                                        </p:tgtEl>
                                        <p:attrNameLst>
                                          <p:attrName>style.visibility</p:attrName>
                                        </p:attrNameLst>
                                      </p:cBhvr>
                                      <p:to>
                                        <p:strVal val="visible"/>
                                      </p:to>
                                    </p:set>
                                    <p:animEffect filter="box(in)" transition="in">
                                      <p:cBhvr additive="repl">
                                        <p:cTn id="450" dur="500"/>
                                        <p:tgtEl>
                                          <p:spTgt spid="23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455" dur="500"/>
                                        <p:tgtEl>
                                          <p:spTgt spid="234">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460" dur="500"/>
                                        <p:tgtEl>
                                          <p:spTgt spid="234">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465"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ítulo 1" descr=""/>
          <p:cNvPicPr/>
          <p:nvPr/>
        </p:nvPicPr>
        <p:blipFill>
          <a:blip r:embed="rId1"/>
          <a:stretch/>
        </p:blipFill>
        <p:spPr>
          <a:xfrm>
            <a:off x="493560" y="281160"/>
            <a:ext cx="8339400" cy="1876320"/>
          </a:xfrm>
          <a:prstGeom prst="rect">
            <a:avLst/>
          </a:prstGeom>
          <a:ln w="0">
            <a:noFill/>
          </a:ln>
        </p:spPr>
      </p:pic>
      <p:sp>
        <p:nvSpPr>
          <p:cNvPr id="236"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presidente Luiz Inácio Lula da Silva empreendeu, entre os dias 21 e 23 de outubro, uma viagem de vistoria às obras da “transposição do rio São Francisco”, ou à chamada “interligação de bacias”.</a:t>
            </a:r>
            <a:endParaRPr b="0" lang="en-US" sz="2000" spc="-1" strike="noStrike">
              <a:solidFill>
                <a:srgbClr val="ffffff"/>
              </a:solidFill>
              <a:latin typeface="Constantia"/>
            </a:endParaRPr>
          </a:p>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ta viagem ocorreu poucos dias depois do dia 4 de outubro, Dia de São Francisco, quando na região, principalmente na Diocese de Barra, de Dom Luis Flávio Cappio, ocorreram muitas atividades religiosas e populares em homenagem ao santo, mobilizações de conscientização e em defesa das comunidades ribeirinhas. Ocorreram, inclusive, retomadas de territórios quilombolas e protestos contra empresas, como a Votorantim Metais, que prejudicam o rio.</a:t>
            </a:r>
            <a:endParaRPr b="0" lang="en-US" sz="2000" spc="-1" strike="noStrike">
              <a:solidFill>
                <a:srgbClr val="ffffff"/>
              </a:solidFill>
              <a:latin typeface="Constantia"/>
            </a:endParaRPr>
          </a:p>
          <a:p>
            <a:pPr marL="514440" indent="-514440" algn="just">
              <a:lnSpc>
                <a:spcPct val="90000"/>
              </a:lnSpc>
              <a:spcBef>
                <a:spcPts val="499"/>
              </a:spcBef>
              <a:spcAft>
                <a:spcPts val="601"/>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O presidente visitou a região e constatou que, embora as obras de transposição estejam em ritmo normal, as obras de revitalização do rio estão ocorrendo de forma muito tímida, insuficiente e lenta. </a:t>
            </a:r>
            <a:endParaRPr b="0" lang="en-US" sz="2000" spc="-1" strike="noStrike">
              <a:solidFill>
                <a:srgbClr val="ffffff"/>
              </a:solidFill>
              <a:latin typeface="Constantia"/>
            </a:endParaRPr>
          </a:p>
          <a:p>
            <a:pPr marL="514440" indent="-514440"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235"/>
                                        </p:tgtEl>
                                        <p:attrNameLst>
                                          <p:attrName>style.visibility</p:attrName>
                                        </p:attrNameLst>
                                      </p:cBhvr>
                                      <p:to>
                                        <p:strVal val="visible"/>
                                      </p:to>
                                    </p:set>
                                    <p:animEffect filter="box(in)" transition="in">
                                      <p:cBhvr additive="repl">
                                        <p:cTn id="472" dur="500"/>
                                        <p:tgtEl>
                                          <p:spTgt spid="23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477" dur="500"/>
                                        <p:tgtEl>
                                          <p:spTgt spid="23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482" dur="500"/>
                                        <p:tgtEl>
                                          <p:spTgt spid="236">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6">
                                            <p:txEl>
                                              <p:pRg st="2" end="2"/>
                                            </p:txEl>
                                          </p:spTgt>
                                        </p:tgtEl>
                                        <p:attrNameLst>
                                          <p:attrName>style.visibility</p:attrName>
                                        </p:attrNameLst>
                                      </p:cBhvr>
                                      <p:to>
                                        <p:strVal val="visible"/>
                                      </p:to>
                                    </p:set>
                                    <p:animEffect filter="box(in)" transition="in">
                                      <p:cBhvr additive="repl">
                                        <p:cTn id="48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ítulo 1" descr=""/>
          <p:cNvPicPr/>
          <p:nvPr/>
        </p:nvPicPr>
        <p:blipFill>
          <a:blip r:embed="rId1"/>
          <a:stretch/>
        </p:blipFill>
        <p:spPr>
          <a:xfrm>
            <a:off x="493560" y="281160"/>
            <a:ext cx="8089920" cy="993600"/>
          </a:xfrm>
          <a:prstGeom prst="rect">
            <a:avLst/>
          </a:prstGeom>
          <a:ln w="0">
            <a:noFill/>
          </a:ln>
        </p:spPr>
      </p:pic>
      <p:sp>
        <p:nvSpPr>
          <p:cNvPr id="238" name="PlaceHolder 1"/>
          <p:cNvSpPr>
            <a:spLocks noGrp="1"/>
          </p:cNvSpPr>
          <p:nvPr>
            <p:ph type="subTitle"/>
          </p:nvPr>
        </p:nvSpPr>
        <p:spPr>
          <a:xfrm>
            <a:off x="571320" y="1928520"/>
            <a:ext cx="7854840" cy="450036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Destaca-se a pesquisa realizada entre os deputados sobre a eleição presidencial de 2010, revelando indecisão de favorito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tramitação do PL 518/09 fruto da Campanha Ficha Limpa, liderada pela CNBB juntamente com o MCCE, que segue para votação em plenário na Câmara.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rápida aprovação pelo Senado do Acordo Brasil-Santa Sé que inaugura um novo marco jurídico nas relações entre Igreja Católica e Estado brasileiro.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 frustração pela não aprovação ainda da PEC da Alimentação, com a esperança que o seja até a realização da Cúpula Mundial pela Alimentação, que será em Roma, em meados de novembro.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37"/>
                                        </p:tgtEl>
                                        <p:attrNameLst>
                                          <p:attrName>style.visibility</p:attrName>
                                        </p:attrNameLst>
                                      </p:cBhvr>
                                      <p:to>
                                        <p:strVal val="visible"/>
                                      </p:to>
                                    </p:set>
                                    <p:animEffect filter="box(in)" transition="in">
                                      <p:cBhvr additive="repl">
                                        <p:cTn id="494" dur="500"/>
                                        <p:tgtEl>
                                          <p:spTgt spid="23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499" dur="500"/>
                                        <p:tgtEl>
                                          <p:spTgt spid="238">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04" dur="500"/>
                                        <p:tgtEl>
                                          <p:spTgt spid="238">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09" dur="500"/>
                                        <p:tgtEl>
                                          <p:spTgt spid="238">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38">
                                            <p:txEl>
                                              <p:pRg st="6" end="6"/>
                                            </p:txEl>
                                          </p:spTgt>
                                        </p:tgtEl>
                                        <p:attrNameLst>
                                          <p:attrName>style.visibility</p:attrName>
                                        </p:attrNameLst>
                                      </p:cBhvr>
                                      <p:to>
                                        <p:strVal val="visible"/>
                                      </p:to>
                                    </p:set>
                                    <p:animEffect filter="box(in)" transition="in">
                                      <p:cBhvr additive="repl">
                                        <p:cTn id="514"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ítulo 1" descr=""/>
          <p:cNvPicPr/>
          <p:nvPr/>
        </p:nvPicPr>
        <p:blipFill>
          <a:blip r:embed="rId1"/>
          <a:stretch/>
        </p:blipFill>
        <p:spPr>
          <a:xfrm>
            <a:off x="493560" y="281160"/>
            <a:ext cx="8089920" cy="993600"/>
          </a:xfrm>
          <a:prstGeom prst="rect">
            <a:avLst/>
          </a:prstGeom>
          <a:ln w="0">
            <a:noFill/>
          </a:ln>
        </p:spPr>
      </p:pic>
      <p:sp>
        <p:nvSpPr>
          <p:cNvPr id="240" name="PlaceHolder 1"/>
          <p:cNvSpPr>
            <a:spLocks noGrp="1"/>
          </p:cNvSpPr>
          <p:nvPr>
            <p:ph type="subTitle"/>
          </p:nvPr>
        </p:nvSpPr>
        <p:spPr>
          <a:xfrm>
            <a:off x="571320" y="1643040"/>
            <a:ext cx="7854840" cy="521496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Os trabalhos da CPI da Dívida Pública que recoloca o tema das dívidas (externa e interna) na agenda política brasileira, revelando que 50% do orçamento anual é destinado ao pagamento das dívidas, sem a realização da auditoria consagrada nas disposições transitórias da atual Constituição Federal de 1988.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O risco da instalação da CPI sobre o MST, como forma de enfrentar o Governo Federal que quer rever os índices de produtividade para efeito de Reforma Agrária.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	</a:t>
            </a:r>
            <a:r>
              <a:rPr b="0" i="1" lang="pt-BR" sz="2000" spc="-1" strike="noStrike">
                <a:solidFill>
                  <a:srgbClr val="ffffff"/>
                </a:solidFill>
                <a:latin typeface="Constantia"/>
              </a:rPr>
              <a:t>Concluindo-se com outros dois perigo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a da descriminalização da Maconha e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da liberação dos bingos e caça-níqueis no paí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39"/>
                                        </p:tgtEl>
                                        <p:attrNameLst>
                                          <p:attrName>style.visibility</p:attrName>
                                        </p:attrNameLst>
                                      </p:cBhvr>
                                      <p:to>
                                        <p:strVal val="visible"/>
                                      </p:to>
                                    </p:set>
                                    <p:animEffect filter="box(in)" transition="in">
                                      <p:cBhvr additive="repl">
                                        <p:cTn id="521" dur="500"/>
                                        <p:tgtEl>
                                          <p:spTgt spid="23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526" dur="500"/>
                                        <p:tgtEl>
                                          <p:spTgt spid="240">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531" dur="500"/>
                                        <p:tgtEl>
                                          <p:spTgt spid="240">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0">
                                            <p:txEl>
                                              <p:pRg st="4" end="4"/>
                                            </p:txEl>
                                          </p:spTgt>
                                        </p:tgtEl>
                                        <p:attrNameLst>
                                          <p:attrName>style.visibility</p:attrName>
                                        </p:attrNameLst>
                                      </p:cBhvr>
                                      <p:to>
                                        <p:strVal val="visible"/>
                                      </p:to>
                                    </p:set>
                                    <p:animEffect filter="box(in)" transition="in">
                                      <p:cBhvr additive="repl">
                                        <p:cTn id="536" dur="500"/>
                                        <p:tgtEl>
                                          <p:spTgt spid="240">
                                            <p:txEl>
                                              <p:pRg st="4" end="4"/>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40">
                                            <p:txEl>
                                              <p:pRg st="6" end="6"/>
                                            </p:txEl>
                                          </p:spTgt>
                                        </p:tgtEl>
                                        <p:attrNameLst>
                                          <p:attrName>style.visibility</p:attrName>
                                        </p:attrNameLst>
                                      </p:cBhvr>
                                      <p:to>
                                        <p:strVal val="visible"/>
                                      </p:to>
                                    </p:set>
                                    <p:animEffect filter="box(in)" transition="in">
                                      <p:cBhvr additive="repl">
                                        <p:cTn id="541" dur="500"/>
                                        <p:tgtEl>
                                          <p:spTgt spid="240">
                                            <p:txEl>
                                              <p:pRg st="6" end="6"/>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40">
                                            <p:txEl>
                                              <p:pRg st="8" end="8"/>
                                            </p:txEl>
                                          </p:spTgt>
                                        </p:tgtEl>
                                        <p:attrNameLst>
                                          <p:attrName>style.visibility</p:attrName>
                                        </p:attrNameLst>
                                      </p:cBhvr>
                                      <p:to>
                                        <p:strVal val="visible"/>
                                      </p:to>
                                    </p:set>
                                    <p:animEffect filter="box(in)" transition="in">
                                      <p:cBhvr additive="repl">
                                        <p:cTn id="546" dur="5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ítulo 1" descr=""/>
          <p:cNvPicPr/>
          <p:nvPr/>
        </p:nvPicPr>
        <p:blipFill>
          <a:blip r:embed="rId1"/>
          <a:stretch/>
        </p:blipFill>
        <p:spPr>
          <a:xfrm>
            <a:off x="493560" y="281160"/>
            <a:ext cx="8339400" cy="1876320"/>
          </a:xfrm>
          <a:prstGeom prst="rect">
            <a:avLst/>
          </a:prstGeom>
          <a:ln w="0">
            <a:noFill/>
          </a:ln>
        </p:spPr>
      </p:pic>
      <p:sp>
        <p:nvSpPr>
          <p:cNvPr id="200" name="PlaceHolder 1"/>
          <p:cNvSpPr>
            <a:spLocks noGrp="1"/>
          </p:cNvSpPr>
          <p:nvPr>
            <p:ph type="subTitle"/>
          </p:nvPr>
        </p:nvSpPr>
        <p:spPr>
          <a:xfrm>
            <a:off x="571320" y="2428920"/>
            <a:ext cx="7854840" cy="457200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O Comitê justificou a concessão do prêmio pelos esforços do atual presidente americano para fortalecer a cooperação entre os povos, destacando os acenos conciliatórios a países com contencioso com os EUA, como o chamado ao diálogo ao Iran, a revisão das relações com a Russia, abertura à Cuba e um primeiro contato com a Venezuela; o recomeço das relações entre os EUA e o mundo muçulmano e o fim da desconfiança mútua e a retomada das negociações de paz como prioridade.</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Obama reconheceu também a responsabilidade moral dos EUA em Israel-Palestina, para liderar os esforços por um mundo sem armas nucleares e se comprometeu a estipular metas ambiciosas de desarmamento em revisão do acordo com a Russia; defendeu também o papel da ONU e de outras instituições na resolução dos problemas do mundo, integrando, inclusive, os EUA ao Conselho de Direitos Humanos da ONU e lançou um plano de combate ao aquecimento global e de estímulo às energias renováveis.</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a:t>
            </a: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99"/>
                                        </p:tgtEl>
                                        <p:attrNameLst>
                                          <p:attrName>style.visibility</p:attrName>
                                        </p:attrNameLst>
                                      </p:cBhvr>
                                      <p:to>
                                        <p:strVal val="visible"/>
                                      </p:to>
                                    </p:set>
                                    <p:animEffect filter="box(in)" transition="in">
                                      <p:cBhvr additive="repl">
                                        <p:cTn id="66" dur="500"/>
                                        <p:tgtEl>
                                          <p:spTgt spid="1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200">
                                            <p:txEl>
                                              <p:pRg st="1" end="1"/>
                                            </p:txEl>
                                          </p:spTgt>
                                        </p:tgtEl>
                                        <p:attrNameLst>
                                          <p:attrName>style.visibility</p:attrName>
                                        </p:attrNameLst>
                                      </p:cBhvr>
                                      <p:to>
                                        <p:strVal val="visible"/>
                                      </p:to>
                                    </p:set>
                                    <p:animEffect filter="box(in)" transition="in">
                                      <p:cBhvr additive="repl">
                                        <p:cTn id="71" dur="500"/>
                                        <p:tgtEl>
                                          <p:spTgt spid="20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00">
                                            <p:txEl>
                                              <p:pRg st="3" end="3"/>
                                            </p:txEl>
                                          </p:spTgt>
                                        </p:tgtEl>
                                        <p:attrNameLst>
                                          <p:attrName>style.visibility</p:attrName>
                                        </p:attrNameLst>
                                      </p:cBhvr>
                                      <p:to>
                                        <p:strVal val="visible"/>
                                      </p:to>
                                    </p:set>
                                    <p:animEffect filter="box(in)" transition="in">
                                      <p:cBhvr additive="repl">
                                        <p:cTn id="76" dur="500"/>
                                        <p:tgtEl>
                                          <p:spTgt spid="2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00">
                                            <p:txEl>
                                              <p:pRg st="5" end="5"/>
                                            </p:txEl>
                                          </p:spTgt>
                                        </p:tgtEl>
                                        <p:attrNameLst>
                                          <p:attrName>style.visibility</p:attrName>
                                        </p:attrNameLst>
                                      </p:cBhvr>
                                      <p:to>
                                        <p:strVal val="visible"/>
                                      </p:to>
                                    </p:set>
                                    <p:animEffect filter="box(in)" transition="in">
                                      <p:cBhvr additive="repl">
                                        <p:cTn id="81" dur="5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ítulo 1" descr=""/>
          <p:cNvPicPr/>
          <p:nvPr/>
        </p:nvPicPr>
        <p:blipFill>
          <a:blip r:embed="rId1"/>
          <a:stretch/>
        </p:blipFill>
        <p:spPr>
          <a:xfrm>
            <a:off x="493560" y="281160"/>
            <a:ext cx="8339400" cy="1876320"/>
          </a:xfrm>
          <a:prstGeom prst="rect">
            <a:avLst/>
          </a:prstGeom>
          <a:ln w="0">
            <a:noFill/>
          </a:ln>
        </p:spPr>
      </p:pic>
      <p:sp>
        <p:nvSpPr>
          <p:cNvPr id="202" name="PlaceHolder 1"/>
          <p:cNvSpPr>
            <a:spLocks noGrp="1"/>
          </p:cNvSpPr>
          <p:nvPr>
            <p:ph type="subTitle"/>
          </p:nvPr>
        </p:nvSpPr>
        <p:spPr>
          <a:xfrm>
            <a:off x="571320" y="2428920"/>
            <a:ext cx="7854840" cy="428616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3. Os comentários destacam surpresa por essa atribuição a uma pessoa que até agora, mais que realizar, pregou essa nova visão americana da diplomacia para a paz mundial, da desnuclerização do multilateralismo e das mudanças climáticas. O próprio Obama se declarou surpreendido e aceitou o prêmio como um convite a ação na direção por ele indicada.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4. Mas o Comitê norueguês não teve receio de afirmar que novas possibilidades foram abertas para as nações do mundo: a máquina da guerra, como solução dos problemas das relações entre os povos, está sendo desmontada; o clima de desconfiança está sendo superado, e a esperança da paz entre as nações reaparece no horizonte da humanidade.</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5. Este prêmio possui um evidente caráter político. Apoiar Obama no momento é apoiá-lo, entre outras coisas, contra o aparelho de Estado dos EUA. Que revela a inércia sociológica de toda burocracia. As sucessivas administrações sob a guerra fria moldaram o aparelho de Estado para responder a ela: afirmar o poder militar, econômico e político dos EUA como objetivo número um da política – e o 11 de setembro reforçou isto.</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01"/>
                                        </p:tgtEl>
                                        <p:attrNameLst>
                                          <p:attrName>style.visibility</p:attrName>
                                        </p:attrNameLst>
                                      </p:cBhvr>
                                      <p:to>
                                        <p:strVal val="visible"/>
                                      </p:to>
                                    </p:set>
                                    <p:animEffect filter="box(in)"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93" dur="500"/>
                                        <p:tgtEl>
                                          <p:spTgt spid="20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98" dur="500"/>
                                        <p:tgtEl>
                                          <p:spTgt spid="202">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02">
                                            <p:txEl>
                                              <p:pRg st="2" end="2"/>
                                            </p:txEl>
                                          </p:spTgt>
                                        </p:tgtEl>
                                        <p:attrNameLst>
                                          <p:attrName>style.visibility</p:attrName>
                                        </p:attrNameLst>
                                      </p:cBhvr>
                                      <p:to>
                                        <p:strVal val="visible"/>
                                      </p:to>
                                    </p:set>
                                    <p:animEffect filter="box(in)" transition="in">
                                      <p:cBhvr additive="repl">
                                        <p:cTn id="103"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ítulo 1" descr=""/>
          <p:cNvPicPr/>
          <p:nvPr/>
        </p:nvPicPr>
        <p:blipFill>
          <a:blip r:embed="rId1"/>
          <a:stretch/>
        </p:blipFill>
        <p:spPr>
          <a:xfrm>
            <a:off x="493560" y="281160"/>
            <a:ext cx="8339400" cy="1876320"/>
          </a:xfrm>
          <a:prstGeom prst="rect">
            <a:avLst/>
          </a:prstGeom>
          <a:ln w="0">
            <a:noFill/>
          </a:ln>
        </p:spPr>
      </p:pic>
      <p:sp>
        <p:nvSpPr>
          <p:cNvPr id="204" name="PlaceHolder 1"/>
          <p:cNvSpPr>
            <a:spLocks noGrp="1"/>
          </p:cNvSpPr>
          <p:nvPr>
            <p:ph type="subTitle"/>
          </p:nvPr>
        </p:nvSpPr>
        <p:spPr>
          <a:xfrm>
            <a:off x="571320" y="2428920"/>
            <a:ext cx="7854840" cy="4286160"/>
          </a:xfrm>
          <a:prstGeom prst="rect">
            <a:avLst/>
          </a:prstGeom>
          <a:noFill/>
          <a:ln w="0">
            <a:noFill/>
          </a:ln>
        </p:spPr>
        <p:txBody>
          <a:bodyPr lIns="0" rIns="18360" anchor="t">
            <a:noAutofit/>
          </a:bodyPr>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6. Problemas novos, na América Latina, como o de Honduras, não tem visto a aplicação imediata por parte dos EUA dos princípios pregados pelo seu presidente. Opositores implacáveis também Obama encontra no mundo, como o presidente do Iran ou da Coreia, e as atitudes intransigentes do Primeiro-Ministro israelense quanto aos caminhos da paz no Oriente Médio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7. Opositores muito fortes existem também nos EUA, não somente no Partido Republicano, muito atuante na maquina do poder daquele país, mas também no mundo religioso evangélico e católico, outrora em sintonia com posições do presidente George W. Bush. </a:t>
            </a:r>
            <a:endParaRPr b="0" lang="en-US" sz="1800" spc="-1" strike="noStrike">
              <a:solidFill>
                <a:srgbClr val="ffffff"/>
              </a:solidFill>
              <a:latin typeface="Constantia"/>
            </a:endParaRPr>
          </a:p>
          <a:p>
            <a:pPr marL="514440" indent="-5144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nstantia"/>
              </a:rPr>
              <a:t>8. Enquanto a nova visão americana da paz mundial encontra boa receptividade no Vaticano, bispos católicos dos EUA, que lideram as campanhas anti-aborto se opõem ao novo projeto de lei sobre saúde pública. Este projeto de lei, ao fortalecer o financiamento para a saúde pública, inclui nesta a possibilidade do aborto.</a:t>
            </a:r>
            <a:endParaRPr b="0" lang="en-US" sz="1800" spc="-1" strike="noStrike">
              <a:solidFill>
                <a:srgbClr val="ffffff"/>
              </a:solidFill>
              <a:latin typeface="Constantia"/>
            </a:endParaRPr>
          </a:p>
          <a:p>
            <a:pPr marL="514440" indent="-514440" algn="just">
              <a:lnSpc>
                <a:spcPct val="9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03"/>
                                        </p:tgtEl>
                                        <p:attrNameLst>
                                          <p:attrName>style.visibility</p:attrName>
                                        </p:attrNameLst>
                                      </p:cBhvr>
                                      <p:to>
                                        <p:strVal val="visible"/>
                                      </p:to>
                                    </p:set>
                                    <p:animEffect filter="box(in)" transition="in">
                                      <p:cBhvr additive="repl">
                                        <p:cTn id="110" dur="500"/>
                                        <p:tgtEl>
                                          <p:spTgt spid="20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15" dur="500"/>
                                        <p:tgtEl>
                                          <p:spTgt spid="20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120" dur="500"/>
                                        <p:tgtEl>
                                          <p:spTgt spid="20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204">
                                            <p:txEl>
                                              <p:pRg st="2" end="2"/>
                                            </p:txEl>
                                          </p:spTgt>
                                        </p:tgtEl>
                                        <p:attrNameLst>
                                          <p:attrName>style.visibility</p:attrName>
                                        </p:attrNameLst>
                                      </p:cBhvr>
                                      <p:to>
                                        <p:strVal val="visible"/>
                                      </p:to>
                                    </p:set>
                                    <p:animEffect filter="box(in)" transition="in">
                                      <p:cBhvr additive="repl">
                                        <p:cTn id="125"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ítulo 1" descr=""/>
          <p:cNvPicPr/>
          <p:nvPr/>
        </p:nvPicPr>
        <p:blipFill>
          <a:blip r:embed="rId1"/>
          <a:stretch/>
        </p:blipFill>
        <p:spPr>
          <a:xfrm>
            <a:off x="493560" y="281160"/>
            <a:ext cx="8339400" cy="1876320"/>
          </a:xfrm>
          <a:prstGeom prst="rect">
            <a:avLst/>
          </a:prstGeom>
          <a:ln w="0">
            <a:noFill/>
          </a:ln>
        </p:spPr>
      </p:pic>
      <p:sp>
        <p:nvSpPr>
          <p:cNvPr id="206" name="PlaceHolder 1"/>
          <p:cNvSpPr>
            <a:spLocks noGrp="1"/>
          </p:cNvSpPr>
          <p:nvPr>
            <p:ph type="subTitle"/>
          </p:nvPr>
        </p:nvSpPr>
        <p:spPr>
          <a:xfrm>
            <a:off x="571320" y="2142720"/>
            <a:ext cx="7854840" cy="471492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Berlusconi está na berlinda com suas festas à Império Romano. Sua trajetória mostra como a mídia pode fazer e desfazer na democracia massificada. Mas há algo de sério e real. Não é caso único no gênero.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Há um ministro francês envolvido em acusações de pedofilia (homossexual) depois de ter defendido Roman Polanski que décadas atrás abusou sexualmente de uma menina que dopara. Os casos que se multiplicam na mídia, são mais de comportamento sexual repreensível, às vezes envolvendo corrupção no uso de recursos públicos, como Berlusconi.</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Mas surgem também casos centrados no abuso de poder e de recursos públicos, como de um político espanhol pago por um empresário para contratarem a implementação de eventos partidários. Ou o caso polonês do chefe da agência anticorrupção, demitido por usar o cargo seletivamente para destruir adversários pessoais dentro do próprio governo</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05"/>
                                        </p:tgtEl>
                                        <p:attrNameLst>
                                          <p:attrName>style.visibility</p:attrName>
                                        </p:attrNameLst>
                                      </p:cBhvr>
                                      <p:to>
                                        <p:strVal val="visible"/>
                                      </p:to>
                                    </p:set>
                                    <p:animEffect filter="box(in)" transition="in">
                                      <p:cBhvr additive="repl">
                                        <p:cTn id="132" dur="500"/>
                                        <p:tgtEl>
                                          <p:spTgt spid="20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137" dur="500"/>
                                        <p:tgtEl>
                                          <p:spTgt spid="20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206">
                                            <p:txEl>
                                              <p:pRg st="1" end="1"/>
                                            </p:txEl>
                                          </p:spTgt>
                                        </p:tgtEl>
                                        <p:attrNameLst>
                                          <p:attrName>style.visibility</p:attrName>
                                        </p:attrNameLst>
                                      </p:cBhvr>
                                      <p:to>
                                        <p:strVal val="visible"/>
                                      </p:to>
                                    </p:set>
                                    <p:animEffect filter="box(in)" transition="in">
                                      <p:cBhvr additive="repl">
                                        <p:cTn id="142" dur="500"/>
                                        <p:tgtEl>
                                          <p:spTgt spid="20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06">
                                            <p:txEl>
                                              <p:pRg st="2" end="2"/>
                                            </p:txEl>
                                          </p:spTgt>
                                        </p:tgtEl>
                                        <p:attrNameLst>
                                          <p:attrName>style.visibility</p:attrName>
                                        </p:attrNameLst>
                                      </p:cBhvr>
                                      <p:to>
                                        <p:strVal val="visible"/>
                                      </p:to>
                                    </p:set>
                                    <p:animEffect filter="box(in)" transition="in">
                                      <p:cBhvr additive="repl">
                                        <p:cTn id="147"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ítulo 1" descr=""/>
          <p:cNvPicPr/>
          <p:nvPr/>
        </p:nvPicPr>
        <p:blipFill>
          <a:blip r:embed="rId1"/>
          <a:stretch/>
        </p:blipFill>
        <p:spPr>
          <a:xfrm>
            <a:off x="493560" y="281160"/>
            <a:ext cx="8339400" cy="1876320"/>
          </a:xfrm>
          <a:prstGeom prst="rect">
            <a:avLst/>
          </a:prstGeom>
          <a:ln w="0">
            <a:noFill/>
          </a:ln>
        </p:spPr>
      </p:pic>
      <p:sp>
        <p:nvSpPr>
          <p:cNvPr id="208"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s atenções do mundo se voltam para as diversas rodadas de negociações em direção à 15ª Conferência do Clima das Nações Unidas em dezembro próximo, na cidade de Copenhague, que deverá definir o que acontece depois de 2012, quando se encerra o prazo de validade dos atuais compromissos com a redução dos gases de efeito estufa firmados por meio do Protocolo de Kyoto.</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Países que não têm metas de redução, mas que são grandes poluidores (como China, Índia e Brasil) estão sendo pressionados a assumir metas. </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Estes, por sua vez, argumentam que quem polui há mais tempo (= países desenvolvidos) devem não só ter metas mais agressivas como também ajudar às nações em desenvolvimento a alcançarem suas metas por meio da transferência de tecnologia e pelo aporte de recursos dirigidos a novos mecanismos financeiros, como o pagamento para se manter a floresta em pé (REDD - Redução de Emissões de Desmatamento e Degradação de Floresta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7"/>
                                        </p:tgtEl>
                                        <p:attrNameLst>
                                          <p:attrName>style.visibility</p:attrName>
                                        </p:attrNameLst>
                                      </p:cBhvr>
                                      <p:to>
                                        <p:strVal val="visible"/>
                                      </p:to>
                                    </p:set>
                                    <p:animEffect filter="box(in)" transition="in">
                                      <p:cBhvr additive="repl">
                                        <p:cTn id="154" dur="500"/>
                                        <p:tgtEl>
                                          <p:spTgt spid="20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159" dur="500"/>
                                        <p:tgtEl>
                                          <p:spTgt spid="20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8">
                                            <p:txEl>
                                              <p:pRg st="1" end="1"/>
                                            </p:txEl>
                                          </p:spTgt>
                                        </p:tgtEl>
                                        <p:attrNameLst>
                                          <p:attrName>style.visibility</p:attrName>
                                        </p:attrNameLst>
                                      </p:cBhvr>
                                      <p:to>
                                        <p:strVal val="visible"/>
                                      </p:to>
                                    </p:set>
                                    <p:animEffect filter="box(in)" transition="in">
                                      <p:cBhvr additive="repl">
                                        <p:cTn id="164" dur="500"/>
                                        <p:tgtEl>
                                          <p:spTgt spid="20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169" dur="500"/>
                                        <p:tgtEl>
                                          <p:spTgt spid="20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08">
                                            <p:txEl>
                                              <p:pRg st="3" end="3"/>
                                            </p:txEl>
                                          </p:spTgt>
                                        </p:tgtEl>
                                        <p:attrNameLst>
                                          <p:attrName>style.visibility</p:attrName>
                                        </p:attrNameLst>
                                      </p:cBhvr>
                                      <p:to>
                                        <p:strVal val="visible"/>
                                      </p:to>
                                    </p:set>
                                    <p:animEffect filter="box(in)" transition="in">
                                      <p:cBhvr additive="repl">
                                        <p:cTn id="174"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ítulo 1" descr=""/>
          <p:cNvPicPr/>
          <p:nvPr/>
        </p:nvPicPr>
        <p:blipFill>
          <a:blip r:embed="rId1"/>
          <a:stretch/>
        </p:blipFill>
        <p:spPr>
          <a:xfrm>
            <a:off x="493560" y="281160"/>
            <a:ext cx="8339400" cy="1876320"/>
          </a:xfrm>
          <a:prstGeom prst="rect">
            <a:avLst/>
          </a:prstGeom>
          <a:ln w="0">
            <a:noFill/>
          </a:ln>
        </p:spPr>
      </p:pic>
      <p:sp>
        <p:nvSpPr>
          <p:cNvPr id="210"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4. O objetivo do REDD é preservar as florestas naturais, porque são as florestas naturais que têm a maior concentração de carbono e, além do mais, são os maiores sustentos da biodiversidade e serviços ambientais.</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5. Um dos poucos documentos que resultaram nas negociações em Bankok, na semana passada, admite o REDD como preservação da “cobertura florestal”. Isto significa abrir a porteira para a especulação e dar acesso ao mecanismo pelos investidores em projetos de reflorestamento e plantios mono-culturais de árvores, que muitos insistem em confundir ou chamar de reflorestamento.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6. O documento não faz referência à conservação de florestas naturais, ponto que foi assinalado por Costa Rica, Venezuela, Índia, União Européia, Brasil e a nação de Tuvalu. A conservação de florestas naturais, não quer dizer que não se pode tocar nelas. Quer dizer que, se tocar na floresta natural tem que ser de forma sustentável.</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09"/>
                                        </p:tgtEl>
                                        <p:attrNameLst>
                                          <p:attrName>style.visibility</p:attrName>
                                        </p:attrNameLst>
                                      </p:cBhvr>
                                      <p:to>
                                        <p:strVal val="visible"/>
                                      </p:to>
                                    </p:set>
                                    <p:animEffect filter="box(in)" transition="in">
                                      <p:cBhvr additive="repl">
                                        <p:cTn id="181" dur="500"/>
                                        <p:tgtEl>
                                          <p:spTgt spid="20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186" dur="500"/>
                                        <p:tgtEl>
                                          <p:spTgt spid="21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0">
                                            <p:txEl>
                                              <p:pRg st="1" end="1"/>
                                            </p:txEl>
                                          </p:spTgt>
                                        </p:tgtEl>
                                        <p:attrNameLst>
                                          <p:attrName>style.visibility</p:attrName>
                                        </p:attrNameLst>
                                      </p:cBhvr>
                                      <p:to>
                                        <p:strVal val="visible"/>
                                      </p:to>
                                    </p:set>
                                    <p:animEffect filter="box(in)" transition="in">
                                      <p:cBhvr additive="repl">
                                        <p:cTn id="191" dur="500"/>
                                        <p:tgtEl>
                                          <p:spTgt spid="21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210">
                                            <p:txEl>
                                              <p:pRg st="2" end="2"/>
                                            </p:txEl>
                                          </p:spTgt>
                                        </p:tgtEl>
                                        <p:attrNameLst>
                                          <p:attrName>style.visibility</p:attrName>
                                        </p:attrNameLst>
                                      </p:cBhvr>
                                      <p:to>
                                        <p:strVal val="visible"/>
                                      </p:to>
                                    </p:set>
                                    <p:animEffect filter="box(in)" transition="in">
                                      <p:cBhvr additive="repl">
                                        <p:cTn id="196" dur="500"/>
                                        <p:tgtEl>
                                          <p:spTgt spid="210">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10">
                                            <p:txEl>
                                              <p:pRg st="3" end="3"/>
                                            </p:txEl>
                                          </p:spTgt>
                                        </p:tgtEl>
                                        <p:attrNameLst>
                                          <p:attrName>style.visibility</p:attrName>
                                        </p:attrNameLst>
                                      </p:cBhvr>
                                      <p:to>
                                        <p:strVal val="visible"/>
                                      </p:to>
                                    </p:set>
                                    <p:animEffect filter="box(in)" transition="in">
                                      <p:cBhvr additive="repl">
                                        <p:cTn id="201"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ítulo 1" descr=""/>
          <p:cNvPicPr/>
          <p:nvPr/>
        </p:nvPicPr>
        <p:blipFill>
          <a:blip r:embed="rId1"/>
          <a:stretch/>
        </p:blipFill>
        <p:spPr>
          <a:xfrm>
            <a:off x="493560" y="281160"/>
            <a:ext cx="8339400" cy="1876320"/>
          </a:xfrm>
          <a:prstGeom prst="rect">
            <a:avLst/>
          </a:prstGeom>
          <a:ln w="0">
            <a:noFill/>
          </a:ln>
        </p:spPr>
      </p:pic>
      <p:sp>
        <p:nvSpPr>
          <p:cNvPr id="212" name="PlaceHolder 1"/>
          <p:cNvSpPr>
            <a:spLocks noGrp="1"/>
          </p:cNvSpPr>
          <p:nvPr>
            <p:ph type="subTitle"/>
          </p:nvPr>
        </p:nvSpPr>
        <p:spPr>
          <a:xfrm>
            <a:off x="571320" y="2286000"/>
            <a:ext cx="7854840" cy="4572000"/>
          </a:xfrm>
          <a:prstGeom prst="rect">
            <a:avLst/>
          </a:prstGeom>
          <a:noFill/>
          <a:ln w="0">
            <a:noFill/>
          </a:ln>
        </p:spPr>
        <p:txBody>
          <a:bodyPr lIns="0" rIns="18360" anchor="t">
            <a:noAutofit/>
          </a:bodyPr>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7. Mitigação e transferência de recursos financeiros são os dois pontos que estão emperrando o processo das negociações. A Noruega será o primeiro país a assumir um compromisso coerente com a responsabilidade moral e científic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8. Os países desenvolvidos não estão dispostos a mostrar as suas cartas, ou seja, mostrar quanto de recursos irão disponibilizar. Conseqüentemente o nível de desconfiança por parte dos países em desenvolvimento cresce a cada dia. Isto é muito ruim para as negociações. O combate a mudanças de clima requer um contexto de cooperação entre nações. </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9. Diante do alerta dos cientistas sobre a urgência de medidas, parece que as nações em desenvolvimento se encontram imobilizadas, à espera dos resultados do debate internacional sobre a responsabilidade dos países industrializados e postergando suas opções de desenvolvimento, esperando obter recursos financeiros derivados do pagamento da “dívida ecológica”.</a:t>
            </a:r>
            <a:endParaRPr b="0" lang="en-US" sz="2000" spc="-1" strike="noStrike">
              <a:solidFill>
                <a:srgbClr val="ffffff"/>
              </a:solidFill>
              <a:latin typeface="Constantia"/>
            </a:endParaRPr>
          </a:p>
          <a:p>
            <a:pPr marL="514440" indent="-5144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ffff"/>
                </a:solidFill>
                <a:latin typeface="Constantia"/>
              </a:rPr>
              <a:t>.</a:t>
            </a:r>
            <a:endParaRPr b="0" lang="en-US" sz="2000" spc="-1" strike="noStrike">
              <a:solidFill>
                <a:srgbClr val="ffffff"/>
              </a:solidFill>
              <a:latin typeface="Constantia"/>
            </a:endParaRPr>
          </a:p>
          <a:p>
            <a:pPr marL="514440" indent="-51444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11"/>
                                        </p:tgtEl>
                                        <p:attrNameLst>
                                          <p:attrName>style.visibility</p:attrName>
                                        </p:attrNameLst>
                                      </p:cBhvr>
                                      <p:to>
                                        <p:strVal val="visible"/>
                                      </p:to>
                                    </p:set>
                                    <p:animEffect filter="box(in)" transition="in">
                                      <p:cBhvr additive="repl">
                                        <p:cTn id="208" dur="500"/>
                                        <p:tgtEl>
                                          <p:spTgt spid="21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213" dur="500"/>
                                        <p:tgtEl>
                                          <p:spTgt spid="21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212">
                                            <p:txEl>
                                              <p:pRg st="1" end="1"/>
                                            </p:txEl>
                                          </p:spTgt>
                                        </p:tgtEl>
                                        <p:attrNameLst>
                                          <p:attrName>style.visibility</p:attrName>
                                        </p:attrNameLst>
                                      </p:cBhvr>
                                      <p:to>
                                        <p:strVal val="visible"/>
                                      </p:to>
                                    </p:set>
                                    <p:animEffect filter="box(in)" transition="in">
                                      <p:cBhvr additive="repl">
                                        <p:cTn id="218" dur="500"/>
                                        <p:tgtEl>
                                          <p:spTgt spid="212">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12">
                                            <p:txEl>
                                              <p:pRg st="2" end="2"/>
                                            </p:txEl>
                                          </p:spTgt>
                                        </p:tgtEl>
                                        <p:attrNameLst>
                                          <p:attrName>style.visibility</p:attrName>
                                        </p:attrNameLst>
                                      </p:cBhvr>
                                      <p:to>
                                        <p:strVal val="visible"/>
                                      </p:to>
                                    </p:set>
                                    <p:animEffect filter="box(in)" transition="in">
                                      <p:cBhvr additive="repl">
                                        <p:cTn id="223" dur="500"/>
                                        <p:tgtEl>
                                          <p:spTgt spid="212">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12">
                                            <p:txEl>
                                              <p:pRg st="3" end="3"/>
                                            </p:txEl>
                                          </p:spTgt>
                                        </p:tgtEl>
                                        <p:attrNameLst>
                                          <p:attrName>style.visibility</p:attrName>
                                        </p:attrNameLst>
                                      </p:cBhvr>
                                      <p:to>
                                        <p:strVal val="visible"/>
                                      </p:to>
                                    </p:set>
                                    <p:animEffect filter="box(in)" transition="in">
                                      <p:cBhvr additive="repl">
                                        <p:cTn id="228"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4:31:10Z</dcterms:created>
  <dc:creator>SERVER</dc:creator>
  <dc:description/>
  <dc:language>en-US</dc:language>
  <cp:lastModifiedBy>SERVER</cp:lastModifiedBy>
  <dcterms:modified xsi:type="dcterms:W3CDTF">2009-10-20T05:35:22Z</dcterms:modified>
  <cp:revision>73</cp:revision>
  <dc:subject/>
  <dc:title>Slide 1</dc:title>
</cp:coreProperties>
</file>