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Titanic-Musica%20Celta%20-%20La%20Musica%20de%20los%20Dioses%20Titanic-0001.wav" ContentType="audio/x-wav"/>
  <Override PartName="/ppt/media/image1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6C6-7219-444B-B9F4-04D341AF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8DF-647B-4C32-8AAE-D5E48662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507-890A-4E5A-870E-A31D3E9B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E2C-72D8-4669-86FC-FA22354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15FE-6378-45C8-A57F-E119FE8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2348-921F-4FB5-B391-7AF509D1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6C93-B4BC-4656-BB19-34A7F2A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9AF7-DA27-4C89-9D40-57702CAB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4AE6-687E-4ACE-8383-22B727D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C620-58B5-46D9-97AC-2EF54FB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B388-E6C1-493A-90D2-541C6C1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1F3-BC1C-4A5B-B0AD-F735D8D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D212-AB84-45A6-8DC7-50C4EF78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5D5E-E31C-4BA6-AA0A-63E04CAE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4303-145E-4267-BF1C-5125C67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E41-0E6A-4273-9D29-A1D2423D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89EB-A9C9-48E8-AD47-7DB03501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0304-815E-4818-ADAC-01CA82E2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D512-2210-45E8-83D5-62DAE458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DEE5-27BF-483D-A313-4FFCE18A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7A89-436D-4C4A-9E64-7B8AD5D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6418-E7C6-4061-B0E1-ED4B8C3D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146-20CE-4817-82E0-3A54CBF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41E6-0388-4340-81F1-E62C325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DC06-4A09-4195-B75C-F7ECDD9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CB8E-DCF6-43E7-A125-FE9A103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CE0E-A3E8-4C0F-A6B5-05351F0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0284-68C1-486D-8416-3402C3A4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53D4-97E6-4E99-BDDF-36618408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93B5-DC6C-429C-94FE-7C6722E2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FED-F2A4-4D1C-9DA1-C2C651D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C50-8BB5-4B03-8BA0-44E79B71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F86-B9F4-4A46-B230-854CB05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FE8-07DA-4A4B-B2CB-9B62F4E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394-BD8F-4734-94E2-D343CB9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D4A-0051-422E-B9FD-979B62E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4DC-EA46-4E89-B617-325F3E9D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279-047E-4CEA-8547-0A00BD3B87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E945-9895-4615-B9B4-58F2E8CD03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itanic-Musica%20Celta%20-%20La%20Musica%20de%20los%20Dioses%20Titanic-0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Kristen ITC"/>
              </a:rPr>
              <a:t>Here’s some good old Chinese wisdom!</a:t>
            </a:r>
            <a:r>
              <a:rPr b="1" lang="en-US" sz="5400" spc="-1" strike="noStrike">
                <a:solidFill>
                  <a:srgbClr val="ffff66"/>
                </a:solidFill>
                <a:latin typeface="Copperplate Gothic Bold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Deco-B731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5240" y="503064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Kristen ITC"/>
              </a:rPr>
              <a:t>Do not cli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Kristen ITC"/>
              </a:rPr>
              <a:t>Put on the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2" name="Titanic-Musica%20Celta%20-%20La%20Musica%20de%20los%20Dioses%20Titanic-0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6560" y="4508280"/>
            <a:ext cx="8677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The old woman smiled, “Did you notice that there are flowers on your side of the path, but not on the other pot’s sid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0672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That’s because I have always known about your flaw, so I planted flower seeds on your side of the path, and every day while we walk back, you water them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292360" y="522000"/>
            <a:ext cx="3708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ce Mikit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For two years I have been able to pick these beautiful flowers to decorate the tabl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3715920"/>
            <a:ext cx="51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Without you being just the way you are, there would not be this beauty to grace the hou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ce Mikit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Each of us has our own unique fla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284148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ut it’s the cracks and flaws we each have that make our lives together so very interesting and rewar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3357360"/>
            <a:ext cx="446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You’ve just got to take each person for what they are and look for the good in th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426528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To all of my crackpot friend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have a great 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and remember to smell the flow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on your side of the p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7596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Bruce Mikita"/>
              </a:rPr>
              <a:t>  </a:t>
            </a:r>
            <a:r>
              <a:rPr b="0" lang="fr-FR" sz="3600" spc="-1" strike="noStrike">
                <a:solidFill>
                  <a:srgbClr val="ffe5ff"/>
                </a:solidFill>
                <a:latin typeface="Kristen ITC"/>
              </a:rPr>
              <a:t>Take the time to send this mess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e5ff"/>
                </a:solidFill>
                <a:latin typeface="Kristen ITC"/>
              </a:rPr>
              <a:t>to all your friends Who hav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e5ff"/>
                </a:solidFill>
                <a:latin typeface="Kristen ITC"/>
              </a:rPr>
              <a:t>crac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e5ff"/>
                </a:solidFill>
                <a:latin typeface="Kristen ITC"/>
              </a:rPr>
              <a:t>si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4437000"/>
            <a:ext cx="6121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8dc"/>
                </a:solidFill>
                <a:latin typeface="Kristen ITC"/>
                <a:ea typeface="Arial"/>
              </a:rPr>
              <a:t>And God knows how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8dc"/>
                </a:solidFill>
                <a:latin typeface="Kristen ITC"/>
                <a:ea typeface="Arial"/>
              </a:rPr>
              <a:t>we are!!!</a:t>
            </a:r>
            <a:r>
              <a:rPr b="1" lang="fr-FR" sz="4800" spc="-1" strike="noStrike">
                <a:solidFill>
                  <a:srgbClr val="ffff66"/>
                </a:solidFill>
                <a:latin typeface="Kristen ITC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ca1c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ca1c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ca1c"/>
                                      </p:to>
                                    </p:animClr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ca1c"/>
                                      </p:to>
                                    </p:animClr>
                                    <p:set>
                                      <p:cBhvr>
                                        <p:cTn id="100" dur="1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11280" y="981000"/>
            <a:ext cx="72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Kristen ITC"/>
              </a:rPr>
              <a:t>Photographer : M.F. Doddy Abdurachman</a:t>
            </a:r>
            <a:endParaRPr b="0" lang="en-US" sz="1800" spc="1" strike="noStrike">
              <a:ln w="324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Kristen ITC"/>
              <a:ea typeface="Kristen IT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7280" y="5661000"/>
            <a:ext cx="656280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Kristen ITC"/>
              </a:rPr>
              <a:t>PowerPoint : Benny A Setiawan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Kristen ITC"/>
              <a:ea typeface="Kristen ITC"/>
            </a:endParaRPr>
          </a:p>
        </p:txBody>
      </p:sp>
    </p:spTree>
  </p:cSld>
  <p:transition spd="slow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716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n elderly Chinese woman had two large pots, each hung on the ends of a pole, which she carried across her nec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450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One of the pots had a crack in it while the other pot was perfect and always delivered a full portion of wat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643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t the end of the long walk from the stream to the house, the cracked pot arrived only half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01440" y="4410000"/>
            <a:ext cx="8242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For a full two years this went on daily, with the woman bringing home only one and a half pots of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4508280"/>
            <a:ext cx="61214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ce Mikit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Of course, the     perfect pot was proud of its accomplishm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3933720"/>
            <a:ext cx="7561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ce Mikit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But the poor cracked pot was ashamed of its own imperfection, and miserable that it could only do half of what it had been made to 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292360" y="188640"/>
            <a:ext cx="3708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ce Mikit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fter 2 years of what it perceived to be bitter failure, it spoke to the woman one day by the str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579640" y="260280"/>
            <a:ext cx="341964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ce Mikit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I am ashamed of myself, because this crack in my side causes water to leak out all the way back to your house.”</a:t>
            </a:r>
            <a:r>
              <a:rPr b="0" lang="en-US" sz="3600" spc="-1" strike="noStrike">
                <a:solidFill>
                  <a:srgbClr val="ffffff"/>
                </a:solidFill>
                <a:latin typeface="Bruce Mikit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52:53Z</dcterms:created>
  <dc:creator>Comtesse Aline</dc:creator>
  <dc:description/>
  <dc:language>en-US</dc:language>
  <cp:lastModifiedBy>BENNY AGUNG SETIAWAN</cp:lastModifiedBy>
  <dcterms:modified xsi:type="dcterms:W3CDTF">2007-12-22T03:55:46Z</dcterms:modified>
  <cp:revision>51</cp:revision>
  <dc:subject/>
  <dc:title>La légende du pot fêlé</dc:title>
</cp:coreProperties>
</file>