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4F1-0BAB-46E5-A6ED-D8080BDC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A83-2A34-47F7-85D0-D4BCB9D9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A5C-9CAB-4A1E-AB8F-B98522EA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C827-9C0A-4043-857B-AE19B826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239DD-3612-46AC-A945-10456E64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DCE73-741D-4AAE-A068-A3E03365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E8782-BB13-430C-BDCF-350807C1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4CC20-6C29-40FA-8812-803120E6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EE251-779C-425C-8FB6-EE6D6D47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B8531-6ECC-480B-8707-C142C8B1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22AED-0B4F-4039-87DF-D5779803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C326-1865-4BCF-B192-90CE7A15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6F9B5-1D34-4DC1-9205-AD227258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7EE52-763D-4073-851E-D5A2AF81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E4C9A-E3F9-4582-A055-7A4CBE3C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6F5BF-58C5-4AF0-988E-371DDD89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E6148-83C5-4643-9587-6C5AB9E9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ED5-BB64-4E01-B842-A2B35B57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B6A-5925-4B68-A633-525B5AAF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5575-F3FA-4D15-9BB9-2BBD1647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6B22-F42F-49C9-8FF5-FD89C9C5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871-B133-4BCA-9D50-6F6AA4D4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8690-E782-4DD3-86D6-45D0753F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8DE4-6B06-47F1-92C1-EA23B319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B07E-9DEC-4F80-B125-08BD73B8F3F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42AF-816B-42D7-9348-ACD72EE6E15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ST DE PERSONALIDAD DEL DALAI LA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El Dalai Lama dijo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. Ordena los siguientes 5 animales de acuerdo a tu preferencia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ibr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bal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ipo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ája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 Escribe una palabra que describa cada uno de los siguientes elemento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Per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G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R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f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Piensa en alguien que también te conozca y sea importante para ti, y que puedas relacionar con los siguientes colores.</a:t>
            </a:r>
            <a:br>
              <a:rPr sz="28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Por favor, no repitas tu respuesta dos veces, nombra sólo una persona para cada color)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aril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j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n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. Finalmente, indica tu día favorito de la seman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¿Terminast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egúrate que tus respuestas sean lo que tú REALMENTE sie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Última oportunidad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 ya estás seguro, continú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ra las interpretaciones pero, antes de verlas, repite tu deseo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. Esto va a definir tus prioridades en la vida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ibrí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fica carre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ballo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fica orgull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iposa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fica amo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ro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fica famili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ájaro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fica diner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 Tu descripción implica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ro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 propia personalid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to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personalidad de tu pare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ta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personalidad de tus enemig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fé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ómo interpretas el sex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 propia vid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El Dalai Lama dijo.... (léelo y conocerás cómo eres. En verdad funciona, pero no hagas trampa)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 un test de personalidad muy interesa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 Esas personas so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arillo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guien que nunca olvidará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anja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guien a quién puedes considerar tu verdadero amigo/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jo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guien que realmente a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nco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 alma geme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de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a persona que recordarás por el resto de tu vid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. Tienes que enviar este mensaje a tantas personas como PUEDAS y tu deseo se hará realidad en el día que pusist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400536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 guardes este mensaj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mantra debe salir de tus manos en las próximas 96 hor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ndrás una sorpresa muy agradabl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o es verdad, aun a pesar de que no seas supersticio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VÍA ESTE E-MAIL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ÁNDALO AL MENOS A 5 PERSONAS Y TU VIDA MEJORARÁ AS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-4 personas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 vida mejorará levemen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-9 personas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 vida mejorará a tu gust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-14 personas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rás al menos 5 sorpresas en las próximas 3 seman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 a más personas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 vida mejorará drásticamente y todo lo que siempre has soñado tomará form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unque desde ahora, conociendo tus prioridades, todo cambiará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cha por lo que quie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azlo, son sólo 4 preguntas y las respuestas te sorprenderá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hagas trampa adelantándo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 Mente es como un paracaídas: trabaja mucho mejor cuando está abiert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divertido hacerlo, pero deberás seguir al pie de la letra las instruc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dvertencia: Contesta el cuestionario como se te va preguntando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ólo hay 4 pregunt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 ves todo el cuestionario antes de terminar, no obtendrás resultados honesto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 leyendo lentamente y haz cada ejercicio a concie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igue lápiz y papel para escribir tus respuesta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 necesitarás al fi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te es un cuestionario honesto, que te dirá mucho acerca de tu verdadero YO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S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ide un deseo antes de empezar el t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11:54:30Z</dcterms:created>
  <dc:creator>MRG7311</dc:creator>
  <dc:description/>
  <dc:language>en-US</dc:language>
  <cp:lastModifiedBy>ASG15</cp:lastModifiedBy>
  <dcterms:modified xsi:type="dcterms:W3CDTF">2003-08-12T08:06:48Z</dcterms:modified>
  <cp:revision>7</cp:revision>
  <dc:subject/>
  <dc:title>TEST DE PERSONALIDAD DEL DALAI LAMA</dc:title>
</cp:coreProperties>
</file>