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NEW1_01.WAV" ContentType="audio/x-wav"/>
  <Override PartName="/ppt/media/image17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F05C-9B52-4A25-BD56-2AD5E80C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F633-D150-41B0-A815-13D5F70B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D626-60C4-499B-95F3-1D71BE07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379B-6563-4707-9FAB-4D62DD69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B85C-A108-465C-9BD4-C46533D3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39A5-BDBE-44C9-B21F-AD294B3F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3CBA-1E62-4FB2-8468-F2B99E24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6F89-B8C2-45A9-BEAE-B1FC95C5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55AD-5A35-418A-9B7A-4D81A932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390E-A037-41C4-818F-35E667E1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1693-D4C4-429F-ABCB-90A90D16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CF1F-9455-44FB-9C1E-87CBE8EF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58DA-7967-4CFB-AD58-F62C174B55FD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NEW1_01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fundarse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1071720" y="571680"/>
            <a:ext cx="70102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000000"/>
                </a:solidFill>
                <a:latin typeface="Book Antiqua"/>
                <a:ea typeface="Arial"/>
              </a:rPr>
              <a:t>... y dijimos que estaba bien</a:t>
            </a:r>
            <a:r>
              <a:rPr b="0" lang="es-CR" sz="3200" spc="-1" strike="noStrike">
                <a:solidFill>
                  <a:srgbClr val="000000"/>
                </a:solidFill>
                <a:latin typeface="Book Antiqua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800080"/>
                </a:solidFill>
                <a:latin typeface="Monotype Corsiva"/>
                <a:ea typeface="Arial"/>
              </a:rPr>
              <a:t>conecta el sonid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4 Rectángulo"/>
          <p:cNvSpPr/>
          <p:nvPr/>
        </p:nvSpPr>
        <p:spPr>
          <a:xfrm>
            <a:off x="0" y="4357800"/>
            <a:ext cx="9144000" cy="2500200"/>
          </a:xfrm>
          <a:prstGeom prst="rect">
            <a:avLst/>
          </a:prstGeom>
          <a:solidFill>
            <a:srgbClr val="0d0d0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3" name="8 Grupo"/>
          <p:cNvGrpSpPr/>
          <p:nvPr/>
        </p:nvGrpSpPr>
        <p:grpSpPr>
          <a:xfrm>
            <a:off x="785520" y="4857480"/>
            <a:ext cx="831960" cy="1811160"/>
            <a:chOff x="785520" y="4857480"/>
            <a:chExt cx="831960" cy="1811160"/>
          </a:xfrm>
        </p:grpSpPr>
        <p:sp>
          <p:nvSpPr>
            <p:cNvPr id="44" name="6 Forma libre"/>
            <p:cNvSpPr/>
            <p:nvPr/>
          </p:nvSpPr>
          <p:spPr>
            <a:xfrm rot="10800000">
              <a:off x="785520" y="5143680"/>
              <a:ext cx="831960" cy="1524960"/>
            </a:xfrm>
            <a:prstGeom prst="pi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" name="7 Forma libre"/>
            <p:cNvSpPr/>
            <p:nvPr/>
          </p:nvSpPr>
          <p:spPr>
            <a:xfrm rot="10800000">
              <a:off x="1319400" y="4857480"/>
              <a:ext cx="155520" cy="1684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46" name="9 CuadroTexto"/>
          <p:cNvSpPr/>
          <p:nvPr/>
        </p:nvSpPr>
        <p:spPr>
          <a:xfrm>
            <a:off x="1714680" y="4857840"/>
            <a:ext cx="59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ffffff"/>
                </a:solidFill>
                <a:latin typeface="Book Antiqua"/>
              </a:rPr>
              <a:t>Está bien</a:t>
            </a:r>
            <a:endParaRPr b="0" lang="en-US" sz="9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7" name="10 Grupo"/>
          <p:cNvGrpSpPr/>
          <p:nvPr/>
        </p:nvGrpSpPr>
        <p:grpSpPr>
          <a:xfrm>
            <a:off x="7153200" y="4867200"/>
            <a:ext cx="831960" cy="1811520"/>
            <a:chOff x="7153200" y="4867200"/>
            <a:chExt cx="831960" cy="1811520"/>
          </a:xfrm>
        </p:grpSpPr>
        <p:sp>
          <p:nvSpPr>
            <p:cNvPr id="48" name="11 Forma libre"/>
            <p:cNvSpPr/>
            <p:nvPr/>
          </p:nvSpPr>
          <p:spPr>
            <a:xfrm>
              <a:off x="7153200" y="4867200"/>
              <a:ext cx="831960" cy="1525320"/>
            </a:xfrm>
            <a:prstGeom prst="pi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" name="12 Forma libre"/>
            <p:cNvSpPr/>
            <p:nvPr/>
          </p:nvSpPr>
          <p:spPr>
            <a:xfrm>
              <a:off x="7295760" y="6510240"/>
              <a:ext cx="155520" cy="1684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3786120" y="2357280"/>
            <a:ext cx="497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Book Antiqua"/>
                <a:ea typeface="Arial"/>
              </a:rPr>
              <a:t>Estuvimos de acuerdo con ellos y dijimos: no me importa lo que nadie -incluyendo el Presidente- haga en su vida privada mientras yo tenga un trabajo y la economía esté bien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786120" y="357120"/>
            <a:ext cx="504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Book Antiqua"/>
                <a:ea typeface="Arial"/>
              </a:rPr>
              <a:t>Luego algunos de nuestros principales funcionarios públicos dijeron que no importa lo que hacemos en privado mientras cumplamos con nuestro trabajo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4355640" y="5857920"/>
            <a:ext cx="4230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Y dijimos que estaba bien.</a:t>
            </a:r>
            <a:r>
              <a:rPr b="0" lang="es-C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3" name="Picture 2" descr="http://diezparalasdiez.files.wordpress.com/2008/04/bill-clinton.jpg"/>
          <p:cNvPicPr/>
          <p:nvPr/>
        </p:nvPicPr>
        <p:blipFill>
          <a:blip r:embed="rId1"/>
          <a:stretch/>
        </p:blipFill>
        <p:spPr>
          <a:xfrm>
            <a:off x="214200" y="357120"/>
            <a:ext cx="320544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786040" y="609480"/>
            <a:ext cx="605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Book Antiqua"/>
                <a:ea typeface="Arial"/>
              </a:rPr>
              <a:t>  </a:t>
            </a:r>
            <a:r>
              <a:rPr b="0" lang="es-CR" sz="2400" spc="-1" strike="noStrike">
                <a:solidFill>
                  <a:srgbClr val="000000"/>
                </a:solidFill>
                <a:latin typeface="Book Antiqua"/>
                <a:ea typeface="Arial"/>
              </a:rPr>
              <a:t>Luego alguien dijo vamos a imprimir revistas con fotografías de mujeres desnudas y decir que esto es una apreciación sana y realista de la belleza del cuerpo femenino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000680" y="4714920"/>
            <a:ext cx="47242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Y dijimos que estaba bien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231560" y="533412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Book Antiqua"/>
                <a:ea typeface="Arial"/>
              </a:rPr>
              <a:t>Ellos tienen derecho a su libertad de expresión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28760" y="3214800"/>
            <a:ext cx="83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Book Antiqua"/>
                <a:ea typeface="Arial"/>
              </a:rPr>
              <a:t>Y luego alguien más llevó más allá esa apreciación y publicó fotografías de niños desnudos, llevándola aún más allá cuando las colocó en Internet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000680" y="2571840"/>
            <a:ext cx="46544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Y dijimos que estaba bien.</a:t>
            </a:r>
            <a:r>
              <a:rPr b="0" lang="es-C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9" name="Picture 8" descr="http://www.eguillen.com/images/libro_leyendo/soho1.jpg"/>
          <p:cNvPicPr/>
          <p:nvPr/>
        </p:nvPicPr>
        <p:blipFill>
          <a:blip r:embed="rId1"/>
          <a:stretch/>
        </p:blipFill>
        <p:spPr>
          <a:xfrm>
            <a:off x="357120" y="214200"/>
            <a:ext cx="221472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5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2714760" y="4419720"/>
            <a:ext cx="61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Book Antiqua"/>
                <a:ea typeface="Arial"/>
              </a:rPr>
              <a:t>Y dijimos, no es más que diversión, no tiene efectos negativos, de todos modos nadie lo toma en serio, así que adelante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4427280" y="5857920"/>
            <a:ext cx="4230000" cy="4597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Y dijimos que estaba bien.</a:t>
            </a:r>
            <a:r>
              <a:rPr b="0" lang="es-C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2571840" y="357120"/>
            <a:ext cx="60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Book Antiqua"/>
                <a:ea typeface="Arial"/>
              </a:rPr>
              <a:t>Luego la industria de las diversiones dijo, hagamos shows por televisión y películas que promuevan lo profano, la violencia y el sexo ilícito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2643120" y="2759040"/>
            <a:ext cx="604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Book Antiqua"/>
                <a:ea typeface="Arial"/>
              </a:rPr>
              <a:t>Grabemos música que estimule las violaciones, las drogas, los suicidios y los temas satánicos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4355640" y="1928880"/>
            <a:ext cx="4230000" cy="4597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Y dijimos que estaba bien.</a:t>
            </a:r>
            <a:r>
              <a:rPr b="0" lang="es-C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4427280" y="3929040"/>
            <a:ext cx="4230000" cy="4597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Y dijimos que estaba bien.</a:t>
            </a:r>
            <a:r>
              <a:rPr b="0" lang="es-C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6" name="Picture 1029" descr="http://www.elclavo.com/wp-content/uploads/2009/10/el-capo.jpg"/>
          <p:cNvPicPr/>
          <p:nvPr/>
        </p:nvPicPr>
        <p:blipFill>
          <a:blip r:embed="rId1"/>
          <a:stretch/>
        </p:blipFill>
        <p:spPr>
          <a:xfrm>
            <a:off x="0" y="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31" descr="http://www.detodopando.com/Portadas/sin_tetas_no_hay_paraiso2.JPG"/>
          <p:cNvPicPr/>
          <p:nvPr/>
        </p:nvPicPr>
        <p:blipFill>
          <a:blip r:embed="rId2"/>
          <a:stretch/>
        </p:blipFill>
        <p:spPr>
          <a:xfrm>
            <a:off x="0" y="242892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33" descr="http://3.bp.blogspot.com/_Yq-lSDTYjYI/Ste873VmlLI/AAAAAAAABS8/TxWidd-jjcc/s320/Logo-de-la-Serie-Las-Mu%C3%B1ecas-de-la-Mafia.JPG"/>
          <p:cNvPicPr/>
          <p:nvPr/>
        </p:nvPicPr>
        <p:blipFill>
          <a:blip r:embed="rId3"/>
          <a:stretch/>
        </p:blipFill>
        <p:spPr>
          <a:xfrm>
            <a:off x="0" y="442908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5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80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57120" y="4500720"/>
            <a:ext cx="62150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Book Antiqua"/>
                <a:ea typeface="Arial"/>
              </a:rPr>
              <a:t> </a:t>
            </a:r>
            <a:r>
              <a:rPr b="0" lang="es-CR" sz="2000" spc="-1" strike="noStrike">
                <a:solidFill>
                  <a:srgbClr val="000000"/>
                </a:solidFill>
                <a:latin typeface="Book Antiqua"/>
                <a:ea typeface="Arial"/>
              </a:rPr>
              <a:t>¿por qué nuestros niños no tienen conciencia,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Book Antiqua"/>
                <a:ea typeface="Arial"/>
              </a:rPr>
              <a:t>por qué no saben distinguir entre el bien y el mal,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Book Antiqua"/>
                <a:ea typeface="Arial"/>
              </a:rPr>
              <a:t>y por qué no les preocupa matar a desconocidos, a sus compañeros de escuela, o a ellos mismos?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59040" y="3500280"/>
            <a:ext cx="6392520" cy="703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ff"/>
                </a:solidFill>
                <a:latin typeface="Book Antiqua"/>
                <a:ea typeface="Arial"/>
              </a:rPr>
              <a:t> </a:t>
            </a:r>
            <a:r>
              <a:rPr b="0" lang="es-CR" sz="4000" spc="-1" strike="noStrike">
                <a:solidFill>
                  <a:srgbClr val="ffffff"/>
                </a:solidFill>
                <a:latin typeface="Book Antiqua"/>
                <a:ea typeface="Arial"/>
              </a:rPr>
              <a:t>Ahora nos preguntamos: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1" name="Picture 2" descr="http://notlikeitmatters.files.wordpress.com/2009/09/delincuencia-juvenil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281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://img.hardgame2.net/noticias/Otras/videogames_violence.jpg"/>
          <p:cNvPicPr/>
          <p:nvPr/>
        </p:nvPicPr>
        <p:blipFill>
          <a:blip r:embed="rId2"/>
          <a:stretch/>
        </p:blipFill>
        <p:spPr>
          <a:xfrm>
            <a:off x="4245120" y="0"/>
            <a:ext cx="4898880" cy="3286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ttp://www.emol.com/fotos2006/2208_delincuencia.jpg"/>
          <p:cNvPicPr/>
          <p:nvPr/>
        </p:nvPicPr>
        <p:blipFill>
          <a:blip r:embed="rId3"/>
          <a:stretch/>
        </p:blipFill>
        <p:spPr>
          <a:xfrm>
            <a:off x="6429240" y="3500280"/>
            <a:ext cx="255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3643200" y="1428840"/>
            <a:ext cx="49672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Book Antiqua"/>
                <a:ea typeface="Arial"/>
              </a:rPr>
              <a:t>Todo tiene que ver con que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Book Antiqua"/>
                <a:ea typeface="Arial"/>
              </a:rPr>
              <a:t>“</a:t>
            </a:r>
            <a:r>
              <a:rPr b="1" lang="es-CR" sz="2400" spc="-1" strike="noStrike">
                <a:solidFill>
                  <a:srgbClr val="000000"/>
                </a:solidFill>
                <a:latin typeface="Book Antiqua"/>
                <a:ea typeface="Arial"/>
              </a:rPr>
              <a:t>LO QUE SEMBRAMOS ES LO QUE RECOGEMOS”.</a:t>
            </a:r>
            <a:r>
              <a:rPr b="0" lang="es-CR" sz="2400" spc="-1" strike="noStrike">
                <a:solidFill>
                  <a:srgbClr val="000000"/>
                </a:solidFill>
                <a:latin typeface="Book Antiqu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338640" y="357120"/>
            <a:ext cx="58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Book Antiqua"/>
                <a:ea typeface="Arial"/>
              </a:rPr>
              <a:t>Probablemente, si lo pensamos bien y despacio, encontraremos la respuesta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6" name="Picture 2" descr="http://www.rosaquintana.com.ar/wp-content/uploads/2009/03/semilla2-225x300.jpg"/>
          <p:cNvPicPr/>
          <p:nvPr/>
        </p:nvPicPr>
        <p:blipFill>
          <a:blip r:embed="rId1"/>
          <a:stretch/>
        </p:blipFill>
        <p:spPr>
          <a:xfrm>
            <a:off x="214200" y="285840"/>
            <a:ext cx="31068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4500720" y="221472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Book Antiqua"/>
                <a:ea typeface="Arial"/>
              </a:rPr>
              <a:t>Es curioso ver cómo creemos lo que dicen los periódicos, pero cuestionamos lo que dice la Biblia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4429080" y="142920"/>
            <a:ext cx="418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Book Antiqua"/>
                <a:ea typeface="Arial"/>
              </a:rPr>
              <a:t>Es curioso cómo la gente simplemente manda a Dios a la basura y luego se pregunta por qué el mundo está en proceso de destrucción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57120" y="4572000"/>
            <a:ext cx="814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Book Antiqua"/>
                <a:ea typeface="Arial"/>
              </a:rPr>
              <a:t>Es curioso cómo se mandan 'chistes' por la red y cunden como reguero de pólvora, pero cuando empiezas a mandar mensajes del Señor, la gente lo piensa dos veces antes de compartirlos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0" name="Picture 2" descr="http://elproyectomatriz.files.wordpress.com/2008/07/guatemala20basurero.jpg"/>
          <p:cNvPicPr/>
          <p:nvPr/>
        </p:nvPicPr>
        <p:blipFill>
          <a:blip r:embed="rId1"/>
          <a:stretch/>
        </p:blipFill>
        <p:spPr>
          <a:xfrm>
            <a:off x="0" y="0"/>
            <a:ext cx="4286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5214960" y="4286160"/>
            <a:ext cx="392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Book Antiqua"/>
                <a:ea typeface="Arial"/>
              </a:rPr>
              <a:t>... pero la conversación de Dios en público se suprime en las escuelas, en los espacios de trabajo y a veces hasta en el hogar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214200" y="214200"/>
            <a:ext cx="464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Book Antiqua"/>
                <a:ea typeface="Arial"/>
              </a:rPr>
              <a:t>Es curioso cómo hay artículos lujuriosos, crudos, vulgares y obscenos que circulan libremente por el </a:t>
            </a:r>
            <a:r>
              <a:rPr b="0" i="1" lang="es-CR" sz="2400" spc="-1" strike="noStrike">
                <a:solidFill>
                  <a:srgbClr val="000000"/>
                </a:solidFill>
                <a:latin typeface="Book Antiqua"/>
                <a:ea typeface="Arial"/>
              </a:rPr>
              <a:t>ciberespacio</a:t>
            </a:r>
            <a:r>
              <a:rPr b="0" lang="es-CR" sz="2400" spc="-1" strike="noStrike">
                <a:solidFill>
                  <a:srgbClr val="000000"/>
                </a:solidFill>
                <a:latin typeface="Book Antiqua"/>
                <a:ea typeface="Arial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3" name="Picture 11" descr="C:\Documents and Settings\ad\Escritorio\dios.jpg"/>
          <p:cNvPicPr/>
          <p:nvPr/>
        </p:nvPicPr>
        <p:blipFill>
          <a:blip r:embed="rId1"/>
          <a:stretch/>
        </p:blipFill>
        <p:spPr>
          <a:xfrm>
            <a:off x="0" y="3071880"/>
            <a:ext cx="5033880" cy="3786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http://www.servicomcancun.com/oscommerce/images/computadora%20enferma.jpg"/>
          <p:cNvPicPr/>
          <p:nvPr/>
        </p:nvPicPr>
        <p:blipFill>
          <a:blip r:embed="rId2"/>
          <a:stretch/>
        </p:blipFill>
        <p:spPr>
          <a:xfrm>
            <a:off x="5524560" y="142920"/>
            <a:ext cx="36194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28760" y="214200"/>
            <a:ext cx="8501040" cy="253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Book Antiqua"/>
                <a:ea typeface="Arial"/>
              </a:rPr>
              <a:t>Es curioso ver cómo, cuando envíes este mensaje, no se lo mandarás a mucha gente que está en tu lista de direcciones porque no estás seguro de sus creencias, o lo que pensarán </a:t>
            </a:r>
            <a:r>
              <a:rPr b="1" lang="es-CR" sz="3200" spc="-1" strike="noStrike">
                <a:solidFill>
                  <a:srgbClr val="ffffff"/>
                </a:solidFill>
                <a:latin typeface="Book Antiqua"/>
                <a:ea typeface="Arial"/>
              </a:rPr>
              <a:t>DE TI</a:t>
            </a:r>
            <a:r>
              <a:rPr b="0" lang="es-CR" sz="3200" spc="-1" strike="noStrike">
                <a:solidFill>
                  <a:srgbClr val="ffffff"/>
                </a:solidFill>
                <a:latin typeface="Book Antiqua"/>
                <a:ea typeface="Arial"/>
              </a:rPr>
              <a:t> por enviárselos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928880" y="46432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Book Antiqua"/>
                <a:ea typeface="Arial"/>
              </a:rPr>
              <a:t>Es curioso ver como nos preocupa más lo que piensan los demás de nosotros que lo que Dios piensa de nosotros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10 Rectángulo"/>
          <p:cNvSpPr/>
          <p:nvPr/>
        </p:nvSpPr>
        <p:spPr>
          <a:xfrm>
            <a:off x="357120" y="5500800"/>
            <a:ext cx="8501040" cy="1214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8800" y="4284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Book Antiqua"/>
                <a:ea typeface="Arial"/>
              </a:rPr>
              <a:t>Reenvíalo si crees que vale la pena. </a:t>
            </a:r>
            <a:br>
              <a:rPr sz="2800"/>
            </a:br>
            <a:r>
              <a:rPr b="0" lang="es-CR" sz="2800" spc="-1" strike="noStrike">
                <a:solidFill>
                  <a:srgbClr val="000000"/>
                </a:solidFill>
                <a:latin typeface="Book Antiqua"/>
                <a:ea typeface="Arial"/>
              </a:rPr>
              <a:t>Si no, descártalo... “nadie” sabrá que lo hicis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643040" y="2643120"/>
            <a:ext cx="556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Book Antiqua"/>
                <a:ea typeface="Arial"/>
              </a:rPr>
              <a:t>QUE DIOS TE BENDIG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975040" y="150012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5FB2-F0F5-43D8-8B58-EF56CB940778}" type="datetime2">
              <a:rPr b="1" lang="es-UY" sz="2400" spc="-1" strike="noStrike">
                <a:solidFill>
                  <a:srgbClr val="ff0066"/>
                </a:solidFill>
                <a:latin typeface="Arial Narrow"/>
              </a:rPr>
              <a:t>jueves, 30 de julio de 2026</a:t>
            </a:fld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639960" y="207180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346A-AF62-4C4B-A810-1C9D3309EADF}" type="datetime13">
              <a:rPr b="1" lang="es-UY" sz="2400" spc="-1" strike="noStrike">
                <a:solidFill>
                  <a:srgbClr val="ff0066"/>
                </a:solidFill>
                <a:latin typeface="Arial Narrow"/>
              </a:rPr>
              <a:t>03:00:15 p.m.</a:t>
            </a:fld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7 CuadroTexto"/>
          <p:cNvSpPr/>
          <p:nvPr/>
        </p:nvSpPr>
        <p:spPr>
          <a:xfrm>
            <a:off x="357120" y="4000680"/>
            <a:ext cx="8501040" cy="137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Alguien saco el tiempo para enviármelo, yo para arreglarlo y pasártelo, ahora espero que hagas lo que creas que esta bie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3" name="Picture 3" descr="C:\Documents and Settings\Usuario\Escritorio\LOGO.png"/>
          <p:cNvPicPr/>
          <p:nvPr/>
        </p:nvPicPr>
        <p:blipFill>
          <a:blip r:embed="rId1"/>
          <a:stretch/>
        </p:blipFill>
        <p:spPr>
          <a:xfrm>
            <a:off x="785880" y="5715000"/>
            <a:ext cx="2214360" cy="806400"/>
          </a:xfrm>
          <a:prstGeom prst="rect">
            <a:avLst/>
          </a:prstGeom>
          <a:ln w="0">
            <a:noFill/>
          </a:ln>
        </p:spPr>
      </p:pic>
      <p:sp>
        <p:nvSpPr>
          <p:cNvPr id="124" name="9 CuadroTexto"/>
          <p:cNvSpPr/>
          <p:nvPr/>
        </p:nvSpPr>
        <p:spPr>
          <a:xfrm>
            <a:off x="3143160" y="5715000"/>
            <a:ext cx="550080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Book Antiqua"/>
              </a:rPr>
              <a:t>Procesos de formación y capacitación empresarial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Book Antiqua"/>
              </a:rPr>
              <a:t>Énfasis en valores, motivación y responsabilidad social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Book Antiqua"/>
              </a:rPr>
              <a:t>CALI - COLOMBIA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www.fundarse.org</a:t>
            </a:r>
            <a:r>
              <a:rPr b="0" lang="es-ES_tradnl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60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42960" y="385776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Book Antiqua"/>
                <a:ea typeface="Arial"/>
              </a:rPr>
              <a:t>En contraste con las muchas perversidades y chistes que nos mandamos para reírnos un rato, esto es un poco diferente: Este chiste de hoy no se supone que es un chiste, no se supone que es chistoso, se supone que te va a poner a pensar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1" name="Picture 3" descr="C:\Documents and Settings\ad\Escritorio\tiempo para pens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905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1643040" y="214200"/>
            <a:ext cx="750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Book Antiqua"/>
                <a:ea typeface="Arial"/>
              </a:rPr>
              <a:t>Saquemos un tiempo para pensar, así como lo hacemos para tomar del pelo o simplemente para dejarlo pasar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3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5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d0d0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6 Rectángulo"/>
          <p:cNvSpPr/>
          <p:nvPr/>
        </p:nvSpPr>
        <p:spPr>
          <a:xfrm>
            <a:off x="214200" y="1357200"/>
            <a:ext cx="8715600" cy="43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5" name="Picture 4" descr="http://www.deseretnews.com/photos/4081186.jpg"/>
          <p:cNvPicPr/>
          <p:nvPr/>
        </p:nvPicPr>
        <p:blipFill>
          <a:blip r:embed="rId1"/>
          <a:stretch/>
        </p:blipFill>
        <p:spPr>
          <a:xfrm>
            <a:off x="285840" y="2214720"/>
            <a:ext cx="2646360" cy="32144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3143160" y="2209680"/>
            <a:ext cx="5543640" cy="29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Book Antiqua"/>
                <a:ea typeface="Arial"/>
              </a:rPr>
              <a:t>En la entrevista que le hicieron a la hija de Billy Graham en el Early Show, Jane Clayson le preguntó: “¿Cómo pudo Dios permitir que sucediera esto?“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Book Antiqua"/>
                <a:ea typeface="Arial"/>
              </a:rPr>
              <a:t> </a:t>
            </a:r>
            <a:r>
              <a:rPr b="0" lang="es-CR" sz="2000" spc="-1" strike="noStrike">
                <a:solidFill>
                  <a:srgbClr val="000000"/>
                </a:solidFill>
                <a:latin typeface="Book Antiqua"/>
                <a:ea typeface="Arial"/>
              </a:rPr>
              <a:t>(se refería a los ataques del 11 de septiembre)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" descr="C:\Documents and Settings\ad\Escritorio\triste.jpg"/>
          <p:cNvPicPr/>
          <p:nvPr/>
        </p:nvPicPr>
        <p:blipFill>
          <a:blip r:embed="rId1"/>
          <a:stretch/>
        </p:blipFill>
        <p:spPr>
          <a:xfrm>
            <a:off x="0" y="-237960"/>
            <a:ext cx="9144000" cy="70959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026"/>
          <p:cNvSpPr/>
          <p:nvPr/>
        </p:nvSpPr>
        <p:spPr>
          <a:xfrm>
            <a:off x="357120" y="2214720"/>
            <a:ext cx="41436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Dijo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“</a:t>
            </a:r>
            <a:r>
              <a:rPr b="0" lang="es-C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Al igual que nosotros, creo que Dios está profundamente triste por este suceso, pero durante años hemos estado diciéndole a Dios que se salga  de nuestras escuelas, que se salga de nuestro gobierno y que se salga de nuestras vidas ..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Rectangle 1028"/>
          <p:cNvSpPr/>
          <p:nvPr/>
        </p:nvSpPr>
        <p:spPr>
          <a:xfrm>
            <a:off x="357120" y="357120"/>
            <a:ext cx="645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Anne Graham dio una respuesta sumamente profunda y llena de sabiduría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6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5 Rectángulo"/>
          <p:cNvSpPr/>
          <p:nvPr/>
        </p:nvSpPr>
        <p:spPr>
          <a:xfrm>
            <a:off x="1143000" y="1857240"/>
            <a:ext cx="7358040" cy="242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447920" y="2209680"/>
            <a:ext cx="693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Book Antiqua"/>
                <a:ea typeface="Arial"/>
              </a:rPr>
              <a:t>... siendo el caballero que Él es, creo que se ha  retirado tranquilamente. ¿Cómo podemos esperar que Dios nos dé Su bendición y Su protección cuando le hemos exigido que nos deje estar solos?”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053" descr="http://i40.tinypic.com/2lctetj.jpg"/>
          <p:cNvPicPr/>
          <p:nvPr/>
        </p:nvPicPr>
        <p:blipFill>
          <a:blip r:embed="rId1"/>
          <a:stretch/>
        </p:blipFill>
        <p:spPr>
          <a:xfrm>
            <a:off x="214200" y="571680"/>
            <a:ext cx="285768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3286080" y="50004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Book Antiqua"/>
                <a:ea typeface="Arial"/>
              </a:rPr>
              <a:t>  </a:t>
            </a:r>
            <a:r>
              <a:rPr b="0" lang="es-CR" sz="2400" spc="-1" strike="noStrike">
                <a:solidFill>
                  <a:srgbClr val="000000"/>
                </a:solidFill>
                <a:latin typeface="Book Antiqua"/>
                <a:ea typeface="Arial"/>
              </a:rPr>
              <a:t>A la luz de ciertos sucesos recientes... ataques de terroristas, balaceras en las escuelas, etc.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357720" y="1785960"/>
            <a:ext cx="5091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Book Antiqua"/>
                <a:ea typeface="Arial"/>
              </a:rPr>
              <a:t>... creo que todo comenzó cuando Madeleine Murria O'Hare se quejó de que no quería que se rezara en nuestras escuelas, y dijimos que estaba bien.  Ella fue asesinada y hasta hace poco que se descubrió su cuerp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0040" y="4724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Book Antiqua"/>
                <a:ea typeface="Arial"/>
              </a:rPr>
              <a:t>Luego alguien dijo que mejor no se leyera la Biblia en las escuelas... la Biblia dice no matarás, no robarás, amarás a tu prójimo como a ti  mismo. Y dijimos que estaba bien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14200" y="142920"/>
            <a:ext cx="6215040" cy="28447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Book Antiqua"/>
                <a:ea typeface="Arial"/>
              </a:rPr>
              <a:t>Luego el Dr. Benjamín Spock dijo que no debíamos pegarle a nuestros hijos cuando se portan mal porque sus pequeñas personalidades se truncarían y podríamos lastimar su autoestima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Book Antiqua"/>
                <a:ea typeface="Arial"/>
              </a:rPr>
              <a:t>Dijimos que los expertos saben lo que están diciendo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643200" y="5500800"/>
            <a:ext cx="49294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El hijo del Dr. Spock se suicidó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643200" y="4000680"/>
            <a:ext cx="478656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Book Antiqua"/>
                <a:ea typeface="Arial"/>
              </a:rPr>
              <a:t>Y dijimos que estaba bien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9" name="Picture 8" descr="http://www.nndb.com/people/979/000084727/benjamin-spock-1-sized.jpg"/>
          <p:cNvPicPr/>
          <p:nvPr/>
        </p:nvPicPr>
        <p:blipFill>
          <a:blip r:embed="rId1"/>
          <a:stretch/>
        </p:blipFill>
        <p:spPr>
          <a:xfrm>
            <a:off x="6896160" y="142920"/>
            <a:ext cx="1923840" cy="2786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http://images.businessweek.com/ss/06/08/personalbest_timeline/image/dr_benjamin_spock.jpg"/>
          <p:cNvPicPr/>
          <p:nvPr/>
        </p:nvPicPr>
        <p:blipFill>
          <a:blip r:embed="rId2"/>
          <a:stretch/>
        </p:blipFill>
        <p:spPr>
          <a:xfrm>
            <a:off x="357120" y="3071880"/>
            <a:ext cx="25718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143160" y="571680"/>
            <a:ext cx="5643720" cy="155700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Book Antiqua"/>
                <a:ea typeface="Arial"/>
              </a:rPr>
              <a:t>Luego alguien dijo que los maestros y directores de los colegios no deberían disciplinar a nuestros hijos cuando se portan mal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03600" y="5943600"/>
            <a:ext cx="4230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Y dijimos que estaba bien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523880" y="2743200"/>
            <a:ext cx="6934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Book Antiqua"/>
                <a:ea typeface="Arial"/>
              </a:rPr>
              <a:t>Los administradores de las escuelas dijeron que más valía que ningún miembro de la facultad de las escuelas tocara a ningún estudiante que se porte mal porque no queremos publicidad negativa y por supuesto no queremos que nos vayan a demandar (hay una gran diferencia entre disciplinar, tocar, golpear, cachetear, humillar, patear, etc.)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4" name="Picture 6" descr="http://comps.fotosearch.com/comp/LIQ/LIQ115/escuela-profesor-sentado_~vl0013b005.jpg"/>
          <p:cNvPicPr/>
          <p:nvPr/>
        </p:nvPicPr>
        <p:blipFill>
          <a:blip r:embed="rId1"/>
          <a:stretch/>
        </p:blipFill>
        <p:spPr>
          <a:xfrm>
            <a:off x="0" y="0"/>
            <a:ext cx="28576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4641480" y="6143760"/>
            <a:ext cx="4230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Y dijimos que estaba bien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57120" y="3357720"/>
            <a:ext cx="842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Book Antiqua"/>
                <a:ea typeface="Arial"/>
              </a:rPr>
              <a:t>Luego uno de los consejeros del consejo de administración de las escuelas dijo: ya que los muchachos siempre van a ser muchachos y de todos modos lo van a hacer, démosle a nuestros hijos todos los condones que quieran para que puedan divertirse al máximo, y no tenemos que decirle a sus padres que se los dimos en la escuela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7" name="Picture 6" descr="C:\Documents and Settings\ad\Escritorio\quien dec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681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1643040" y="38088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Luego alguien dijo, dejemos que nuestras hijas aborten si quieren, y ni siquiera tienen que decirles a sus padre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4572000" y="20718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Y dijimos que estaba bien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16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9T23:02:49Z</dcterms:created>
  <dc:creator>Fangulo</dc:creator>
  <dc:description/>
  <dc:language>en-US</dc:language>
  <cp:lastModifiedBy>a</cp:lastModifiedBy>
  <dcterms:modified xsi:type="dcterms:W3CDTF">2009-12-06T17:01:10Z</dcterms:modified>
  <cp:revision>31</cp:revision>
  <dc:subject/>
  <dc:title>PowerPoint Presentation</dc:title>
</cp:coreProperties>
</file>