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1%20-%20A_I'm%20alive.wav" ContentType="audio/x-wav"/>
  <Override PartName="/ppt/media/image3.jpeg" ContentType="image/jpeg"/>
  <Override PartName="/ppt/media/image3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6EE-F0B8-41DF-A668-33121C63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96B-7522-4F9E-99DD-03ACD77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E7C-8C96-46C0-972C-3C065E68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7DC-D4AD-4395-B1F2-E5D00933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21-12F8-4E78-A105-78DF3F65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79B-EDBA-4071-9C17-79100863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B69-C7D3-4F2F-BC91-A38F870B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FB7-C238-4E19-9254-AD34A60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A87-2E06-4B11-9176-A1103CC9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8BF-3D42-47A9-BE19-D520D46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A35-FF81-4141-9124-6E1F914C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114-CFCA-4A84-BF26-7DD7FD8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D9DE-9499-4926-8A87-E3848907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%20-%20A_I&apos;m%20aliv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4343400" cy="32004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Me preguntab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952560"/>
            <a:ext cx="5410080" cy="36576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¿Qué decir sobre la amist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7880" y="3013200"/>
            <a:ext cx="5410440" cy="36576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Y entonces pensé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todos mis amig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02200" y="5781600"/>
            <a:ext cx="288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ff"/>
                </a:solidFill>
                <a:latin typeface="Arial"/>
              </a:rPr>
              <a:t>Please use the enter button to scroll through at your own 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1%20-%20A_I'm%20ali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1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3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34800" y="906480"/>
            <a:ext cx="8190000" cy="5951520"/>
            <a:chOff x="334800" y="906480"/>
            <a:chExt cx="8190000" cy="59515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7600" y="1046160"/>
              <a:ext cx="801720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34800" y="906480"/>
              <a:ext cx="598320" cy="595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5720" y="3477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nos mim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912960" y="1220760"/>
            <a:ext cx="7464240" cy="5329440"/>
            <a:chOff x="912960" y="1220760"/>
            <a:chExt cx="7464240" cy="532944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100160" y="1220760"/>
              <a:ext cx="6943680" cy="49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12960" y="5981760"/>
              <a:ext cx="7464240" cy="56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55600" y="476280"/>
            <a:ext cx="88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necesitan mim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85880" y="712800"/>
            <a:ext cx="7535880" cy="5651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origina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6640" y="915840"/>
            <a:ext cx="7469280" cy="5024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que necesitan cuida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822240" y="1752480"/>
            <a:ext cx="7464240" cy="4782960"/>
            <a:chOff x="822240" y="1752480"/>
            <a:chExt cx="7464240" cy="47829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894960" y="1752480"/>
              <a:ext cx="7172640" cy="44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2240" y="596736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39720" y="603360"/>
            <a:ext cx="850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on capaces de cargar con nosotros sea cual sea nuestro estado de ánim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65200" y="608040"/>
            <a:ext cx="8048520" cy="5881680"/>
            <a:chOff x="565200" y="608040"/>
            <a:chExt cx="8048520" cy="5881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793800" y="793800"/>
              <a:ext cx="7602480" cy="56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65200" y="608040"/>
              <a:ext cx="8048520" cy="56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22440" y="311040"/>
            <a:ext cx="85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iempre están atent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04760" y="1305000"/>
            <a:ext cx="6942240" cy="5207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os que sólo muestran una pequeña parte de lo que 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31840" y="1714680"/>
            <a:ext cx="508032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78040" y="476280"/>
            <a:ext cx="79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iempre consiguen lo que quier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41320" y="1330200"/>
            <a:ext cx="7464240" cy="4862520"/>
            <a:chOff x="841320" y="1330200"/>
            <a:chExt cx="7464240" cy="486252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133280" y="1330200"/>
              <a:ext cx="6734160" cy="44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41320" y="562464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insólito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39880" y="1494000"/>
            <a:ext cx="7464240" cy="5038200"/>
            <a:chOff x="839880" y="1494000"/>
            <a:chExt cx="7464240" cy="503820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000080" y="1494000"/>
              <a:ext cx="6997680" cy="46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39880" y="596412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arriesgado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89200" y="2139840"/>
            <a:ext cx="5676840" cy="4257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727200"/>
            <a:ext cx="4971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 pensé en las cualidades que los distinguen, en esa cosas que los hacen únicos y querib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0000" y="2065320"/>
            <a:ext cx="6118200" cy="4041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os que siempre están dispuestos a juntarse para picar algo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11560" y="1001880"/>
            <a:ext cx="4413240" cy="5440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9360" y="0"/>
            <a:ext cx="82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iempre tienen un anuncio o una novedad para cont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825480" y="1096920"/>
            <a:ext cx="7440480" cy="5491080"/>
            <a:chOff x="825480" y="1096920"/>
            <a:chExt cx="7440480" cy="54910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825480" y="1096920"/>
              <a:ext cx="7440480" cy="54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418040" y="1154160"/>
              <a:ext cx="561960" cy="480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4145400" y="3113640"/>
              <a:ext cx="1183320" cy="576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16000" y="347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griton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50840" y="1057320"/>
            <a:ext cx="7004160" cy="525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8240" y="0"/>
            <a:ext cx="837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nos invaden la casa en cualquier momen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2160" y="1333440"/>
            <a:ext cx="6850080" cy="5138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6440" y="237960"/>
            <a:ext cx="84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uno no se da cuenta pero…”están ahí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5400" y="950760"/>
            <a:ext cx="7372440" cy="5529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0840" y="291960"/>
            <a:ext cx="83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nos hacen tembl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1357200"/>
            <a:ext cx="6441840" cy="4135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04960" y="40176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organizad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0120" y="228600"/>
            <a:ext cx="7916760" cy="6383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 rot="10800000">
            <a:off x="748800" y="933480"/>
            <a:ext cx="78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Los “colgados” de siemp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71720" y="1335240"/>
            <a:ext cx="3398760" cy="418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protector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9428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1600" y="111600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lejan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30400" y="1574640"/>
            <a:ext cx="5081400" cy="5283360"/>
            <a:chOff x="2030400" y="1574640"/>
            <a:chExt cx="5081400" cy="5283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222280" y="1574640"/>
              <a:ext cx="4383000" cy="50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030400" y="6454440"/>
              <a:ext cx="5081400" cy="40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3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Están aquellos que siendo tan distintos nos entienden tan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33480" y="1255680"/>
            <a:ext cx="7129440" cy="4916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que no paran de trabajar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05080" y="2273400"/>
            <a:ext cx="4383000" cy="3917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os que tienen delirio de grandez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33760" y="1738440"/>
            <a:ext cx="3876480" cy="3379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47628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iempre están enredados en alg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4880" y="1395360"/>
            <a:ext cx="7772400" cy="476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4680" y="0"/>
            <a:ext cx="88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on capaces de hacer cualquier cosa por evitarnos un mal momen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839880" y="479520"/>
            <a:ext cx="7537320" cy="6191280"/>
            <a:chOff x="839880" y="479520"/>
            <a:chExt cx="7537320" cy="6191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063880" y="1609560"/>
              <a:ext cx="5014800" cy="36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39880" y="125424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2960" y="5153040"/>
              <a:ext cx="7464240" cy="56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4960" y="479520"/>
              <a:ext cx="434880" cy="619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05600" y="479520"/>
              <a:ext cx="434880" cy="619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Y los que necesitan protecció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825480" y="1050840"/>
            <a:ext cx="7464240" cy="4284360"/>
            <a:chOff x="825480" y="1050840"/>
            <a:chExt cx="7464240" cy="42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71600" y="1465200"/>
              <a:ext cx="4572000" cy="38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25480" y="105084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jugueton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6480" y="679320"/>
            <a:ext cx="732960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8240" y="25560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sorprendent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14680" y="18162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que caen en el momento equivocad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0600" y="1574640"/>
            <a:ext cx="4762800" cy="3333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os que se cuelan en los pase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55640" y="1295280"/>
            <a:ext cx="5832720" cy="4243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12640" y="347760"/>
            <a:ext cx="86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nos hacen reir a cualquier preci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43280" y="988920"/>
            <a:ext cx="4151160" cy="5535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os que nos  ayudan en momentos difíci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09640" y="1228680"/>
            <a:ext cx="5769000" cy="4327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19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on tan tiernos que “te los comerías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5680" y="1247760"/>
            <a:ext cx="6595920" cy="4946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despista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47840" y="1550880"/>
            <a:ext cx="6380280" cy="4827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que, prácticamente, son parte de uno mism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04760" y="1060560"/>
            <a:ext cx="7094520" cy="5321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1040" y="0"/>
            <a:ext cx="88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Los que siempre nos están esperan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84280" y="1112760"/>
            <a:ext cx="6175440" cy="4632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0280" y="291960"/>
            <a:ext cx="8375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A todos y cada uno de ellos…     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14480" y="587520"/>
            <a:ext cx="5313240" cy="5681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 todos mis ami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41480" y="1238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 to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33480" y="700200"/>
            <a:ext cx="7275600" cy="5456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 todo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596960" y="666720"/>
            <a:ext cx="7547040" cy="6191280"/>
            <a:chOff x="1596960" y="666720"/>
            <a:chExt cx="7547040" cy="61912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596960" y="1001520"/>
              <a:ext cx="7359840" cy="55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505560" y="666720"/>
              <a:ext cx="2638440" cy="619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ero a todosssssss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4560" y="609480"/>
            <a:ext cx="5067000" cy="624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59080" y="786960"/>
            <a:ext cx="44085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66ff"/>
                </a:solidFill>
                <a:latin typeface="Arial"/>
              </a:rPr>
              <a:t>Gracias por transitar juntos  el camino de l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0440" y="1890720"/>
            <a:ext cx="4564080" cy="3046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que a veces, nos ponen verd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14240" y="2082960"/>
            <a:ext cx="7677360" cy="3763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Gracias por estar atentos siempre a lo que necesi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00160" y="1649520"/>
            <a:ext cx="5181840" cy="4511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Gracias por quererme así como soy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1200" y="1212120"/>
            <a:ext cx="625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luminando cada mo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7960" y="2701800"/>
            <a:ext cx="8128080" cy="2768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742200" y="6157080"/>
            <a:ext cx="16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</a:rPr>
              <a:t>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Haciendo mi vida más simp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68720" y="1327320"/>
            <a:ext cx="2806560" cy="4203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fia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84200" y="1297080"/>
            <a:ext cx="6373800" cy="4262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intele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4880" y="528480"/>
            <a:ext cx="7734240" cy="5801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os que nos cubren de paz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2200" y="1569960"/>
            <a:ext cx="378000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8120" y="347760"/>
            <a:ext cx="8377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Los que nunca se </a:t>
            </a:r>
            <a:r>
              <a:rPr b="0" lang="es-AR" sz="2800" spc="-1" strike="noStrike">
                <a:solidFill>
                  <a:srgbClr val="ffffff"/>
                </a:solidFill>
                <a:latin typeface="Arial Rounded MT Bold"/>
              </a:rPr>
              <a:t>ani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m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07:01:49Z</dcterms:created>
  <dc:creator>Tracy Prillwitz</dc:creator>
  <dc:description/>
  <dc:language>en-US</dc:language>
  <cp:lastModifiedBy>.</cp:lastModifiedBy>
  <dcterms:modified xsi:type="dcterms:W3CDTF">2007-07-22T12:11:18Z</dcterms:modified>
  <cp:revision>8</cp:revision>
  <dc:subject/>
  <dc:title>Slide 1</dc:title>
</cp:coreProperties>
</file>