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oanManuelSerratAquellasPequenasCosas.wav" ContentType="audio/x-wav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67E-2576-4827-A41D-F974CE2F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84D-0B24-472E-B0C7-A8A230C8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671-B21E-437E-A953-CA000BC1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C9D-B564-42DF-9C6D-63A3E4EA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74D7-C4F5-4316-810A-B6A670C5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646-55CD-462D-AB50-BFB1258C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B9A-7950-40FF-A624-47FF6CF1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034-88EE-4449-BB4A-E3EF30F3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7AF-8B40-461C-ADD3-72C6B106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31E-24A6-4354-9119-C3774092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0D8A-17CD-43ED-9A64-BB57047E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AE0B-17B4-4115-8122-73A215A7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0D1B-CB48-47F2-9265-D121853DB0D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oanManuelSerratAquellasPequenasCosa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br>
              <a:rPr sz="6000"/>
            </a:br>
            <a:r>
              <a:rPr b="1" i="1" lang="en-US" sz="60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personas que te quieren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y personas q te quiere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y personas q te ama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y personas q te odia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hay personas q te extraña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1" name="JoanManuelSerratAquellasPequenasCosa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03280" y="442080"/>
            <a:ext cx="696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y personas q ríen conti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y personas q lloran por 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y personas q solo piensan en tu v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hay hasta personas q pierden la vida por t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gpostal18" descr=""/>
          <p:cNvPicPr/>
          <p:nvPr/>
        </p:nvPicPr>
        <p:blipFill>
          <a:blip r:embed="rId1"/>
          <a:stretch/>
        </p:blipFill>
        <p:spPr>
          <a:xfrm>
            <a:off x="2906640" y="2421000"/>
            <a:ext cx="339408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90520" y="-510840"/>
            <a:ext cx="703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unque tu no te des cuent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empre habrá un amigo q te quier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aunque tu no lo ve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empre habrá alguien q te entiend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ostal_notexto_03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4824360" cy="362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70320" y="5403600"/>
            <a:ext cx="20664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50680" y="455760"/>
            <a:ext cx="5644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e quienes son tus amig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q te quieren de ver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q ríen y lloran conti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q no te hacen sentir m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esas personas q te quie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u también las tienes q quer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 q son de esas amista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q nunca se van a per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o lo único q di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q te valoro en rea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-648720"/>
            <a:ext cx="8675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 por lo q usas o por lo q tien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 no por q te quiero de verdad.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y personas que nunca dej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 pensar en ti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que les importas demasiado¡¡¡¡¡¡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ostal_notexto_01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4860720" cy="3500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91440" y="4722480"/>
            <a:ext cx="349704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nda esto a 10 o 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migo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 a la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te lo mando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56520" y="259200"/>
            <a:ext cx="759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ff"/>
                </a:solidFill>
                <a:latin typeface="Comic Sans MS"/>
                <a:ea typeface="Times New Roman"/>
              </a:rPr>
              <a:t>y cuando te lo regres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ff"/>
                </a:solidFill>
                <a:latin typeface="Comic Sans MS"/>
                <a:ea typeface="Times New Roman"/>
              </a:rPr>
              <a:t>vas a ver quien si te quiere y quien no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gpostal17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16720" cy="4251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76360" y="5559120"/>
            <a:ext cx="13365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Y NO TE OLVIDES REENVIARMELO AS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ABRE SI cuento contigo 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22:29:28Z</dcterms:created>
  <dc:creator>Emilio</dc:creator>
  <dc:description/>
  <dc:language>en-US</dc:language>
  <cp:lastModifiedBy>Emilio</cp:lastModifiedBy>
  <dcterms:modified xsi:type="dcterms:W3CDTF">2007-03-21T23:15:15Z</dcterms:modified>
  <cp:revision>3</cp:revision>
  <dc:subject/>
  <dc:title>   personas que te quieren  hay personas q te quieren  hay personas q te aman  hay personas q te odian  y hay personas q te extrañan     </dc:title>
</cp:coreProperties>
</file>