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ia1.wav" ContentType="audio/x-wav"/>
  <Override PartName="/ppt/media/image3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C1B-9104-4866-ADD9-762D3399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DF6-F544-4DC2-AB2B-AD32024D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E3F-3D2C-4236-9853-A15BC827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822-A4C9-4F99-925E-E396C52E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CCA-7E17-410E-848F-0C160E53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47A-BF53-48D3-985B-EEC2B0FE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E46-BD71-4B2C-8787-F07B0084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E3D-36C0-402F-B644-986C5898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BF9-7708-4F96-BACF-96E58153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2C0-4D86-43ED-B8D4-D54FDBC3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A61-611B-4418-86C9-ED4248F1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385-186E-40C9-A627-D191357D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CCDD-64C7-4D28-816B-817A14DCE9B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ia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2590920"/>
            <a:ext cx="8991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cc99"/>
                </a:solidFill>
                <a:latin typeface="Comic Sans MS"/>
              </a:rPr>
              <a:t>LA MUJER ES LE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cc99"/>
                </a:solidFill>
                <a:latin typeface="Comic Sans MS"/>
              </a:rPr>
              <a:t>HASTA LA MUER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zoom dir="out"/>
    <p:sndAc>
      <p:stSnd>
        <p:snd r:embed="rId1" name="Ria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228600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Comic Sans MS"/>
              </a:rPr>
              <a:t>Había un tipo que trabajó como un burro toda su vida, para acumular fortuna. </a:t>
            </a:r>
            <a:br>
              <a:rPr sz="3600"/>
            </a:br>
            <a:r>
              <a:rPr b="0" lang="es-ES" sz="3600" spc="-1" strike="noStrike">
                <a:solidFill>
                  <a:srgbClr val="cc0000"/>
                </a:solidFill>
                <a:latin typeface="Comic Sans MS"/>
              </a:rPr>
              <a:t>Un día le dijo a su esposa: El día que me muera, quiero que me entierres </a:t>
            </a:r>
            <a:br>
              <a:rPr sz="3600"/>
            </a:br>
            <a:r>
              <a:rPr b="0" lang="es-ES" sz="3600" spc="-1" strike="noStrike">
                <a:solidFill>
                  <a:srgbClr val="cc0000"/>
                </a:solidFill>
                <a:latin typeface="Comic Sans MS"/>
              </a:rPr>
              <a:t>con todo mi dinero. ¿Me lo prometes?</a:t>
            </a: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2920" y="228600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Al tiempo el tipo murió, y después de la ceremonia, antes de bajar el ataúd a la fosa, la esposa dijo: Un momento, falta </a:t>
            </a: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                       al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1143000"/>
            <a:ext cx="8991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pperplate Gothic Bold"/>
              </a:rPr>
              <a:t>Tomó una cajita que traía en la mano, abrió el ataúd, y la puso adentro.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opperplate Gothic Bold"/>
              </a:rPr>
              <a:t>Su mejor amiga, le dijo: No creo que hayas sido tan bruta, de haber cumplido la promesa....!!!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2920" y="1143000"/>
            <a:ext cx="8991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pperplate Gothic Light"/>
              </a:rPr>
              <a:t>La leal esposa contestó: yo soy cristi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opperplate Gothic Light"/>
              </a:rPr>
              <a:t>y no podía romper la prom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pperplate Gothic Light"/>
              </a:rPr>
              <a:t>a su última voluntad 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pperplate Gothic Light"/>
              </a:rPr>
              <a:t>¿¿¿O sea que pusiste toda la plata ahí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pperplate Gothic Light"/>
              </a:rPr>
              <a:t>Claro que sí... Cogí todo el dinero, lo conté, lo deposité en mi cuenta y le giré un cheque por la cantidad exacta</a:t>
            </a:r>
            <a:r>
              <a:rPr b="0" lang="es-ES" sz="24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68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68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5086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pperplate Gothic Light"/>
              </a:rPr>
              <a:t>.....Si el hijuep ...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Copperplate Gothic Light"/>
              </a:rPr>
              <a:t>lo puede cambiar allá, que se la gaste.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pperplate Gothic Light"/>
              </a:rPr>
              <a:t>SINO SIGO GASTANDOLO YO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30T15:48:39Z</dcterms:created>
  <dc:creator/>
  <dc:description/>
  <dc:language>en-US</dc:language>
  <cp:lastModifiedBy>Leidy Bellon</cp:lastModifiedBy>
  <dcterms:modified xsi:type="dcterms:W3CDTF">2007-03-25T19:54:01Z</dcterms:modified>
  <cp:revision>7</cp:revision>
  <dc:subject/>
  <dc:title>Ei dian otsikkoa</dc:title>
</cp:coreProperties>
</file>