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Theme_From_Gandhi__zk.wav" ContentType="audio/x-wav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82B2-7770-430E-B0C8-8D0DBE3B3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560D-37FE-46A0-B7C7-37FDB650A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17FD-D326-4ED2-A52B-F0A6918BB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C1E6-3280-417F-A123-3D28731CE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2DF4-59CA-4830-838B-909D48C8D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482D-F4DB-4122-93D9-25B563D57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F154-E418-40CC-AC50-5ADA4B417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434A-60B5-4121-82E4-892116F26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AE93-AF24-4A2E-820D-C4D21CB33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72B3-1228-40B2-A81B-2EAFDFE4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B57F-2F72-4482-863F-C068473B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9A50-65BF-4450-AB54-F76073C7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5EC0-033C-48A1-A6ED-6EEC776CF34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iapositivas.com/" TargetMode="External"/><Relationship Id="rId2" Type="http://schemas.openxmlformats.org/officeDocument/2006/relationships/image" Target="../media/image1.png"/><Relationship Id="rId3" Type="http://schemas.openxmlformats.org/officeDocument/2006/relationships/audio" Target="../media/Theme_From_Gandhi__zk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diapositivas.com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diapositivas.com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diapositivas.com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diapositivas.com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diapositivas.com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99ff"/>
                </a:solidFill>
                <a:latin typeface="Lucida Console"/>
              </a:rPr>
              <a:t>TEST JAPONÉ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Lucida Console"/>
              </a:rPr>
              <a:t>El siguiente test es simple y fác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Lucida Console"/>
              </a:rPr>
              <a:t>Son seis </a:t>
            </a:r>
            <a:r>
              <a:rPr b="0" lang="pt-BR" sz="2800" spc="-1" strike="noStrike">
                <a:solidFill>
                  <a:srgbClr val="ff3300"/>
                </a:solidFill>
                <a:latin typeface="Lucida Console"/>
              </a:rPr>
              <a:t>preguntas</a:t>
            </a:r>
            <a:r>
              <a:rPr b="0" lang="pt-BR" sz="2800" spc="-1" strike="noStrike">
                <a:solidFill>
                  <a:srgbClr val="ffffff"/>
                </a:solidFill>
                <a:latin typeface="Lucida Consol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Lucida Console"/>
              </a:rPr>
              <a:t>A cada pregunta, de un click encima de la </a:t>
            </a:r>
            <a:r>
              <a:rPr b="0" lang="pt-BR" sz="2800" spc="-1" strike="noStrike">
                <a:solidFill>
                  <a:srgbClr val="ffff66"/>
                </a:solidFill>
                <a:latin typeface="Lucida Console"/>
              </a:rPr>
              <a:t>respuesta</a:t>
            </a:r>
            <a:r>
              <a:rPr b="0" lang="pt-BR" sz="2800" spc="-1" strike="noStrike">
                <a:solidFill>
                  <a:srgbClr val="ffffff"/>
                </a:solidFill>
                <a:latin typeface="Lucida Console"/>
              </a:rPr>
              <a:t> escogida. Al final, tendrá el result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Lucida Console"/>
              </a:rPr>
              <a:t>Acuérdese de las respuestas marc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99ff"/>
                </a:solidFill>
                <a:latin typeface="Arial"/>
              </a:rPr>
              <a:t>Resultado – el pais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2060640"/>
            <a:ext cx="9144000" cy="42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1- </a:t>
            </a:r>
            <a:r>
              <a:rPr b="1" lang="pt-BR" sz="1400" spc="-1" strike="noStrike">
                <a:solidFill>
                  <a:srgbClr val="ff3300"/>
                </a:solidFill>
                <a:latin typeface="Lucida Console"/>
              </a:rPr>
              <a:t>Una planicie cubierta de nieve</a:t>
            </a:r>
            <a:r>
              <a:rPr b="1" lang="pt-BR" sz="1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Muestra gran sensibilidad, permitiendo la comprensión de situaciones complejas. Confía en su intui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2- </a:t>
            </a:r>
            <a:r>
              <a:rPr b="1" lang="pt-BR" sz="1400" spc="-1" strike="noStrike">
                <a:solidFill>
                  <a:srgbClr val="ff3300"/>
                </a:solidFill>
                <a:latin typeface="Lucida Console"/>
              </a:rPr>
              <a:t>Una playa con mar azul</a:t>
            </a:r>
            <a:r>
              <a:rPr b="1" lang="pt-BR" sz="1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Muestra que usted tiene el don para las relaciones humanas, ayudando a las personas a aproximarse. Su presencia es inestimabl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3- </a:t>
            </a:r>
            <a:r>
              <a:rPr b="1" lang="pt-BR" sz="1400" spc="-1" strike="noStrike">
                <a:solidFill>
                  <a:srgbClr val="ff3300"/>
                </a:solidFill>
                <a:latin typeface="Lucida Console"/>
              </a:rPr>
              <a:t>Una montaña verde</a:t>
            </a:r>
            <a:r>
              <a:rPr b="1" lang="pt-BR" sz="1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Muestra que su talento es el de la comunicación. Usted tiene el don de ayudar a las personas a encontrar aquello que les faltab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4- </a:t>
            </a:r>
            <a:r>
              <a:rPr b="1" lang="pt-BR" sz="1400" spc="-1" strike="noStrike">
                <a:solidFill>
                  <a:srgbClr val="ff3300"/>
                </a:solidFill>
                <a:latin typeface="Lucida Console"/>
              </a:rPr>
              <a:t>Un campo de flores amarillas</a:t>
            </a:r>
            <a:r>
              <a:rPr b="1" lang="pt-BR" sz="1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Muestra que usted es muy creativo. Si estuviera en armonía, nada lo conseguirá perturb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4698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Lucida Console"/>
              </a:rPr>
              <a:t>Revela sus talentos.</a:t>
            </a: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99ff"/>
                </a:solidFill>
                <a:latin typeface="Arial"/>
              </a:rPr>
              <a:t>Resultado – la lluv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91440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1- </a:t>
            </a:r>
            <a:r>
              <a:rPr b="1" lang="pt-BR" sz="1400" spc="-1" strike="noStrike">
                <a:solidFill>
                  <a:srgbClr val="ff3300"/>
                </a:solidFill>
                <a:latin typeface="Lucida Console"/>
              </a:rPr>
              <a:t>Encuentra un abrigo para protegerse y espera la lluvia pasar</a:t>
            </a:r>
            <a:r>
              <a:rPr b="1" lang="pt-BR" sz="1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Muestra que usted escucha a otro pacientemente para después explicars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2- </a:t>
            </a:r>
            <a:r>
              <a:rPr b="1" lang="pt-BR" sz="1400" spc="-1" strike="noStrike">
                <a:solidFill>
                  <a:srgbClr val="ff3300"/>
                </a:solidFill>
                <a:latin typeface="Lucida Console"/>
              </a:rPr>
              <a:t>Corre hasta su destino lo más deprisa posible</a:t>
            </a:r>
            <a:r>
              <a:rPr b="1" lang="pt-BR" sz="1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Muestra que para usted lo que importa es el resultado final. Está seguro de sí y si fuera preciso muestra lo que piensa sin pestañea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3- </a:t>
            </a:r>
            <a:r>
              <a:rPr b="1" lang="pt-BR" sz="1400" spc="-1" strike="noStrike">
                <a:solidFill>
                  <a:srgbClr val="ff3300"/>
                </a:solidFill>
                <a:latin typeface="Lucida Console"/>
              </a:rPr>
              <a:t>Procura un vehículo o para y compra un chubasquero</a:t>
            </a:r>
            <a:r>
              <a:rPr b="1" lang="pt-BR" sz="1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Poco amante de conflictos usted intenta calmar al otro, mas a veces sería mejor que usted se enfrentase a la tempesta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4- </a:t>
            </a:r>
            <a:r>
              <a:rPr b="1" lang="pt-BR" sz="1400" spc="-1" strike="noStrike">
                <a:solidFill>
                  <a:srgbClr val="ff3300"/>
                </a:solidFill>
                <a:latin typeface="Lucida Console"/>
              </a:rPr>
              <a:t>Usted siempre tiene un chubasquero a mano y ahora lo usa</a:t>
            </a:r>
            <a:r>
              <a:rPr b="1" lang="pt-BR" sz="1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Muestra que usted siempre tiene una respuesta en la punta de la lengua dando la impresión de  poca sincerida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14520"/>
            <a:ext cx="9144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Lucida Console"/>
              </a:rPr>
              <a:t>Revela como usted pone a prueba su fortaleza.</a:t>
            </a: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99ff"/>
                </a:solidFill>
                <a:latin typeface="Arial"/>
              </a:rPr>
              <a:t>Resultado - la forma del al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2349360"/>
            <a:ext cx="9144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1- </a:t>
            </a:r>
            <a:r>
              <a:rPr b="1" lang="pt-BR" sz="1400" spc="-1" strike="noStrike">
                <a:solidFill>
                  <a:srgbClr val="ff3300"/>
                </a:solidFill>
                <a:latin typeface="Lucida Console"/>
              </a:rPr>
              <a:t>Tiene tamaño y forma iguales a su cuerpo</a:t>
            </a:r>
            <a:r>
              <a:rPr b="1" lang="pt-BR" sz="1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Muestra que usted posee una gran autoestim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2- </a:t>
            </a:r>
            <a:r>
              <a:rPr b="1" lang="pt-BR" sz="1400" spc="-1" strike="noStrike">
                <a:solidFill>
                  <a:srgbClr val="ff3300"/>
                </a:solidFill>
                <a:latin typeface="Lucida Console"/>
              </a:rPr>
              <a:t>Tiene forma humana, pero su tamaño aumenta</a:t>
            </a:r>
            <a:r>
              <a:rPr b="1" lang="pt-BR" sz="1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Muestra un poco de insatisfación que, si es controlada,  puede impulsarlo a usted a buscar mejores resultad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3-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ff3300"/>
                </a:solidFill>
                <a:latin typeface="Lucida Console"/>
              </a:rPr>
              <a:t>Tiene forma humana, pero disminuyó, como una hada</a:t>
            </a:r>
            <a:r>
              <a:rPr b="1" lang="pt-BR" sz="1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Muestra que usted aún duda de sí mismo sin saber de cierto en que ha falla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4- </a:t>
            </a:r>
            <a:r>
              <a:rPr b="1" lang="pt-BR" sz="1400" spc="-1" strike="noStrike">
                <a:solidFill>
                  <a:srgbClr val="ff3300"/>
                </a:solidFill>
                <a:latin typeface="Lucida Console"/>
              </a:rPr>
              <a:t>No tiene forma definida, es como un foco de luz</a:t>
            </a:r>
            <a:r>
              <a:rPr b="1" lang="pt-BR" sz="1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Muestra que usted no se compara con nadie y no está nada preocupado por es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4698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Lucida Console"/>
              </a:rPr>
              <a:t>Revela la imagen que usted tiene de si.</a:t>
            </a: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99ff"/>
                </a:solidFill>
                <a:latin typeface="Arial"/>
              </a:rPr>
              <a:t>Resultado – el relleno del dul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1- </a:t>
            </a:r>
            <a:r>
              <a:rPr b="1" lang="pt-BR" sz="1400" spc="-1" strike="noStrike">
                <a:solidFill>
                  <a:srgbClr val="ff3300"/>
                </a:solidFill>
                <a:latin typeface="Lucida Console"/>
              </a:rPr>
              <a:t>Vuelve a la pastelería y pide otra bomba</a:t>
            </a:r>
            <a:r>
              <a:rPr b="1" lang="pt-BR" sz="1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Usted raramente se sorprende con circunstancias imprevisibles aunque emite siempre sus opinion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2- </a:t>
            </a:r>
            <a:r>
              <a:rPr b="1" lang="pt-BR" sz="1400" spc="-1" strike="noStrike">
                <a:solidFill>
                  <a:srgbClr val="ff3300"/>
                </a:solidFill>
                <a:latin typeface="Lucida Console"/>
              </a:rPr>
              <a:t>Come la bomba mismo sin el relleno</a:t>
            </a:r>
            <a:r>
              <a:rPr b="1" lang="pt-BR" sz="1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Las sorpresas no lo perturban. Siempre paciente , se adapta  con facilida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3- </a:t>
            </a:r>
            <a:r>
              <a:rPr b="1" lang="pt-BR" sz="1400" spc="-1" strike="noStrike">
                <a:solidFill>
                  <a:srgbClr val="ff3300"/>
                </a:solidFill>
                <a:latin typeface="Lucida Console"/>
              </a:rPr>
              <a:t>Olvida y come otra cosa</a:t>
            </a:r>
            <a:r>
              <a:rPr b="1" lang="pt-BR" sz="1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Revela liderazgo natural y capacidad para tomar decisiones rápidas. La Indecisión no forma parte de su vocabulari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4- </a:t>
            </a:r>
            <a:r>
              <a:rPr b="1" lang="pt-BR" sz="1400" spc="-1" strike="noStrike">
                <a:solidFill>
                  <a:srgbClr val="ff3300"/>
                </a:solidFill>
                <a:latin typeface="Lucida Console"/>
              </a:rPr>
              <a:t>Coloca una mermelada para disfrazar</a:t>
            </a:r>
            <a:r>
              <a:rPr b="1" lang="pt-BR" sz="1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Mostrando buen sentido, usted consigue crear nuevas oportunidades donde otros solo ven problemas. Ocurra lo que ocurra todos saben que pueden contar con ust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9840" y="614520"/>
            <a:ext cx="90741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Lucida Console"/>
              </a:rPr>
              <a:t>Revela como usted reacciona delante de imprevistos y sorpresas desagradables.</a:t>
            </a: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99ff"/>
                </a:solidFill>
                <a:latin typeface="Arial"/>
              </a:rPr>
              <a:t>Resultado – el cafec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1- </a:t>
            </a:r>
            <a:r>
              <a:rPr b="1" lang="pt-BR" sz="1400" spc="-1" strike="noStrike">
                <a:solidFill>
                  <a:srgbClr val="ff3300"/>
                </a:solidFill>
                <a:latin typeface="Lucida Console"/>
              </a:rPr>
              <a:t>Continúa mirando la carta e imaginando el chocolate caliente</a:t>
            </a:r>
            <a:r>
              <a:rPr b="1" lang="pt-BR" sz="1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Muestra que usted no sabe conformarse y continúa fantaseando encima de sus propios dese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2- </a:t>
            </a:r>
            <a:r>
              <a:rPr b="1" lang="pt-BR" sz="1400" spc="-1" strike="noStrike">
                <a:solidFill>
                  <a:srgbClr val="ff3300"/>
                </a:solidFill>
                <a:latin typeface="Lucida Console"/>
              </a:rPr>
              <a:t>Echa una mirada para ver si el camarero va a volver</a:t>
            </a:r>
            <a:r>
              <a:rPr b="1" lang="pt-BR" sz="1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Más preocupado  con lo que los demás pudieran decir usted se siente infeliz y ni piensa en luch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3- </a:t>
            </a:r>
            <a:r>
              <a:rPr b="1" lang="pt-BR" sz="1400" spc="-1" strike="noStrike">
                <a:solidFill>
                  <a:srgbClr val="ff3300"/>
                </a:solidFill>
                <a:latin typeface="Lucida Console"/>
              </a:rPr>
              <a:t>LLama nuevamente al camarero y cambia su pedido</a:t>
            </a:r>
            <a:r>
              <a:rPr b="1" lang="pt-BR" sz="1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Usted no es del tipo que se sumerge en un  luto romántico y hará de todo para que la tristeza desaparezca buscando nuevas oportunidad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4- </a:t>
            </a:r>
            <a:r>
              <a:rPr b="1" lang="pt-BR" sz="1400" spc="-1" strike="noStrike">
                <a:solidFill>
                  <a:srgbClr val="ff3300"/>
                </a:solidFill>
                <a:latin typeface="Lucida Console"/>
              </a:rPr>
              <a:t>Desiste del chocolate y toma su café</a:t>
            </a:r>
            <a:r>
              <a:rPr b="1" lang="pt-BR" sz="1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Una buena noche de sueño hará que usted se recupere . O usted es muy optimista o ese amor no significaba nad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614520"/>
            <a:ext cx="9144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Lucida Console"/>
              </a:rPr>
              <a:t>Revela como usted reaccionaría al final de una relación.</a:t>
            </a: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99ff"/>
                </a:solidFill>
                <a:latin typeface="Arial"/>
              </a:rPr>
              <a:t>La lata de bas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342864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Lucida Console"/>
              </a:rPr>
              <a:t>1- Nada, la lata está vac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Lucida Console"/>
              </a:rPr>
              <a:t>2- Un montón de basura que se esparce por la ca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Lucida Console"/>
              </a:rPr>
              <a:t>3- Mondas de patatas, huesos de pollo y restos de com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Lucida Console"/>
              </a:rPr>
              <a:t>4- Un saco de plástico apretado y bien cer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052640"/>
            <a:ext cx="91440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3300"/>
                </a:solidFill>
                <a:latin typeface="Lucida Console"/>
              </a:rPr>
              <a:t>Usted camina distraído por la calle, tropieza en una lata de basura y la tira.  Que hay dentro de ella ?</a:t>
            </a: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99ff"/>
                </a:solidFill>
                <a:latin typeface="Arial"/>
              </a:rPr>
              <a:t>El pais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3429000"/>
            <a:ext cx="9144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Lucida Console"/>
              </a:rPr>
              <a:t>1- Una planicie cubierta de nie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Lucida Console"/>
              </a:rPr>
              <a:t>2- Una playa con mar azu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Lucida Console"/>
              </a:rPr>
              <a:t>3- Una montaña ve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Lucida Console"/>
              </a:rPr>
              <a:t>4- Un campo de flores amarill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693800"/>
            <a:ext cx="9144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3300"/>
                </a:solidFill>
                <a:latin typeface="Lucida Console"/>
              </a:rPr>
              <a:t>Imagine un paisaje. Cual le parece el más tranquilo ?</a:t>
            </a: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99ff"/>
                </a:solidFill>
                <a:latin typeface="Arial"/>
              </a:rPr>
              <a:t>La lluv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342864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Lucida Console"/>
              </a:rPr>
              <a:t>1- Encuentra un abrigo para protegerse y espera la lluvia pas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Lucida Console"/>
              </a:rPr>
              <a:t>2- Corre hasta su destino lo más deprisa posi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Lucida Console"/>
              </a:rPr>
              <a:t>3- Procura un vehículo o para y compra un chubasqu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Lucida Console"/>
              </a:rPr>
              <a:t>4- Usted siempre tiene un chubasquero a mano y ahora lo u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11120"/>
            <a:ext cx="91440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3300"/>
                </a:solidFill>
                <a:latin typeface="Lucida Console"/>
              </a:rPr>
              <a:t>Usted va andando por la calle cuando, de repente, cae una lluvia fuerte. Su destino está a cinco minutos de allí.</a:t>
            </a: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3300"/>
                </a:solidFill>
                <a:latin typeface="Lucida Console"/>
              </a:rPr>
              <a:t>Que hace usted? </a:t>
            </a: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pic>
        <p:nvPicPr>
          <p:cNvPr id="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99ff"/>
                </a:solidFill>
                <a:latin typeface="Arial"/>
              </a:rPr>
              <a:t>La  forma del al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342864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Lucida Console"/>
              </a:rPr>
              <a:t>1- Tiene tamaño y forma iguales a su cuerp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Lucida Console"/>
              </a:rPr>
              <a:t>2- Tiene forma humana, pero su tamaño aumen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Lucida Console"/>
              </a:rPr>
              <a:t>3- Tiene forma humana, pero disminuyó, como una ha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Lucida Console"/>
              </a:rPr>
              <a:t>4- No tiene forma definida, es como un foco de lu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052640"/>
            <a:ext cx="91440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3300"/>
                </a:solidFill>
                <a:latin typeface="Lucida Console"/>
              </a:rPr>
              <a:t>Imagine que después de la muerte, su alma sobrevive. Que forma tomaría al liberarse de su cuerpo ?</a:t>
            </a: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pic>
        <p:nvPicPr>
          <p:cNvPr id="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99ff"/>
                </a:solidFill>
                <a:latin typeface="Arial"/>
              </a:rPr>
              <a:t>El relleno del dul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342864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Lucida Console"/>
              </a:rPr>
              <a:t>1- Vuelve a la pastelería y pide otra bom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Lucida Console"/>
              </a:rPr>
              <a:t>2- Come la bomba mismo sin el rell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Lucida Console"/>
              </a:rPr>
              <a:t>3- Olvida y come otra c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Lucida Console"/>
              </a:rPr>
              <a:t>4- Coloca una mermelada para disfraz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11120"/>
            <a:ext cx="91440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3300"/>
                </a:solidFill>
                <a:latin typeface="Lucida Console"/>
              </a:rPr>
              <a:t>Usted va a una pastelería y compra una deliciosa bomba. Cuando vuelve a casa, percibe que el dulce está sin la crema. Que hace usted?</a:t>
            </a: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pic>
        <p:nvPicPr>
          <p:cNvPr id="6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99ff"/>
                </a:solidFill>
                <a:latin typeface="Arial"/>
              </a:rPr>
              <a:t>El cafeci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342864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Lucida Console"/>
              </a:rPr>
              <a:t>1- Continúa mirando la carta e imaginando el chocolate ca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Lucida Console"/>
              </a:rPr>
              <a:t>2- Echa una mirada para ver si el camarero va a vol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Lucida Console"/>
              </a:rPr>
              <a:t>3- LLama nuevamente al camarero y cambia su ped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Lucida Console"/>
              </a:rPr>
              <a:t>4- Desiste del chocolate y toma su caf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411120"/>
            <a:ext cx="91440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3300"/>
                </a:solidFill>
                <a:latin typeface="Lucida Console"/>
              </a:rPr>
              <a:t>Usted está en una cafetería, mira la carta y pide un café. Cuando el camarero se da la vuelta, siente ganas de tomar un chocolate caliente. Que hace usted ?</a:t>
            </a: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265104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600" spc="-1" strike="noStrike">
                <a:solidFill>
                  <a:srgbClr val="ffffff"/>
                </a:solidFill>
                <a:latin typeface="Lucida Console"/>
              </a:rPr>
              <a:t>RESULTADOS</a:t>
            </a:r>
            <a:endParaRPr b="0" lang="en-US" sz="9600" spc="-1" strike="noStrike">
              <a:solidFill>
                <a:srgbClr val="000000"/>
              </a:solidFill>
              <a:latin typeface="Lucida Console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99ff"/>
                </a:solidFill>
                <a:latin typeface="Arial"/>
              </a:rPr>
              <a:t>Resultado - la lata de bas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2492280"/>
            <a:ext cx="9144000" cy="39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1- </a:t>
            </a:r>
            <a:r>
              <a:rPr b="1" lang="pt-BR" sz="1400" spc="-1" strike="noStrike">
                <a:solidFill>
                  <a:srgbClr val="ff3300"/>
                </a:solidFill>
                <a:latin typeface="Lucida Console"/>
              </a:rPr>
              <a:t>Nada, la lata está vacía</a:t>
            </a:r>
            <a:r>
              <a:rPr b="1" lang="pt-BR" sz="1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Muestra que usted  tiende a vivir sin miedos. La honestidad natural  es lo que le da encan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2- </a:t>
            </a:r>
            <a:r>
              <a:rPr b="1" lang="pt-BR" sz="1400" spc="-1" strike="noStrike">
                <a:solidFill>
                  <a:srgbClr val="ff3300"/>
                </a:solidFill>
                <a:latin typeface="Lucida Console"/>
              </a:rPr>
              <a:t>Un montón de basura que se esparce por la calle</a:t>
            </a:r>
            <a:r>
              <a:rPr b="1" lang="pt-BR" sz="1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Muestra que usted tiene guardado sus sentimiento y no dice lo que realmente piens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3- </a:t>
            </a:r>
            <a:r>
              <a:rPr b="1" lang="pt-BR" sz="1400" spc="-1" strike="noStrike">
                <a:solidFill>
                  <a:srgbClr val="ff3300"/>
                </a:solidFill>
                <a:latin typeface="Lucida Console"/>
              </a:rPr>
              <a:t>Mondas de patatas, huesos de pollo y restos de comida</a:t>
            </a:r>
            <a:r>
              <a:rPr b="1" lang="pt-BR" sz="1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Muestra que tal vez usted se está reprimiendo. Relájese y  salga con sus amig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4- </a:t>
            </a:r>
            <a:r>
              <a:rPr b="1" lang="pt-BR" sz="1400" spc="-1" strike="noStrike">
                <a:solidFill>
                  <a:srgbClr val="ff3300"/>
                </a:solidFill>
                <a:latin typeface="Lucida Console"/>
              </a:rPr>
              <a:t>Un saco de plástico apretado y bien cerrado</a:t>
            </a:r>
            <a:r>
              <a:rPr b="1" lang="pt-BR" sz="1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Esta respuesta muestra que usted detesta mostrar sus sentimientos. Tal vez fuese mejor dejar entrar el aire un poc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14520"/>
            <a:ext cx="9144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Lucida Console"/>
              </a:rPr>
              <a:t>Revela si usted tiene miedo de exponerse delante de otros</a:t>
            </a: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6T18:03:31Z</dcterms:created>
  <dc:creator/>
  <dc:description/>
  <dc:language>en-US</dc:language>
  <cp:lastModifiedBy>OEM</cp:lastModifiedBy>
  <dcterms:modified xsi:type="dcterms:W3CDTF">2007-05-23T16:01:23Z</dcterms:modified>
  <cp:revision>32</cp:revision>
  <dc:subject/>
  <dc:title>A lata de lixo</dc:title>
</cp:coreProperties>
</file>