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20E-6406-4A0B-B292-07FEF807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A92-CFDD-4BF4-BFB7-065E2C6A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087-D611-45B8-9613-3B4E4FFB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BBF-DAA4-482E-8CB1-90C26905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D3E2-2A89-4751-B36D-5FF0B177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88C-0EC8-433C-A73F-16941471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6E12-65C5-4FD4-B313-EE27669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C590-3E1F-41E3-80A6-A74317D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67B1-61D6-44F3-8005-ECE544B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18BF-AD57-457D-ABC9-7FA03489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407-BF4C-45C9-B259-9C08679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1FC-B731-4E9B-8CAB-6B4E077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35EC-1CC6-48A5-B459-44AD91EA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A97-DE7C-475C-BD5B-D545BB4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4BCE-D377-4074-BB76-84B0BEC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B326-7F79-427B-B0B6-59116B4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1B6E-523C-4170-B1A5-3B604C70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5D6-0FE9-4E09-BA3F-0F8D4F5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D3C-F296-4362-A3B4-399E1692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44A-0589-4914-9553-5244221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E08-6654-4327-B981-50F5F5C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012-761A-481F-9F87-66BCAC3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795-B8F4-45E1-8CF0-C189EAB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622-18A4-413C-B840-8B969B3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D878-42E3-43F1-986E-8476CADD1F6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6545-175C-4A13-B205-1E433D9CD83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00040" y="185688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NTES DE LEER ESTE MENSAJE, PROMETE QUE LO ENVIARAS A OTRAS PERSONA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¿LO PROMETES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0004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ando Camila llegó a su casa, abrazó a sus padres y de inmediato fue a su habitación recordando el cofre de Raúl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2 Marcador de contenido"/>
          <p:cNvSpPr/>
          <p:nvPr/>
        </p:nvSpPr>
        <p:spPr>
          <a:xfrm>
            <a:off x="642960" y="19288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ando abrió el cofre, un lágrima rodó sobre su mejilla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2 Marcador de contenido"/>
          <p:cNvSpPr/>
          <p:nvPr/>
        </p:nvSpPr>
        <p:spPr>
          <a:xfrm>
            <a:off x="642960" y="28576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n el cofre había una “flor negra” toda marchita…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C:\Documents and Settings\Administrador\Mis documentos\Mis imágenes\1154881038_f.jpg"/>
          <p:cNvPicPr/>
          <p:nvPr/>
        </p:nvPicPr>
        <p:blipFill>
          <a:blip r:embed="rId2"/>
          <a:stretch/>
        </p:blipFill>
        <p:spPr>
          <a:xfrm>
            <a:off x="2786040" y="3571920"/>
            <a:ext cx="2805120" cy="26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960" y="2000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Al lado de la flor había una nota que decí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2 Marcador de contenido"/>
          <p:cNvSpPr/>
          <p:nvPr/>
        </p:nvSpPr>
        <p:spPr>
          <a:xfrm>
            <a:off x="1071720" y="3143160"/>
            <a:ext cx="70722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i="1" lang="es-ES" sz="3200" spc="-1" strike="noStrike">
                <a:solidFill>
                  <a:srgbClr val="ffffff"/>
                </a:solidFill>
                <a:latin typeface="Constantia"/>
              </a:rPr>
              <a:t>BIENVENIDA AL MUNDO DEL </a:t>
            </a:r>
            <a:r>
              <a:rPr b="1" i="1" lang="es-ES" sz="3200" spc="-1" strike="noStrike">
                <a:solidFill>
                  <a:srgbClr val="ffffff"/>
                </a:solidFill>
                <a:latin typeface="Constantia"/>
              </a:rPr>
              <a:t>SIDA</a:t>
            </a:r>
            <a:r>
              <a:rPr b="0" i="1" lang="es-ES" sz="32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7855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IDATE MUCHO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res especial para tu familia y para mi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500040" y="2857680"/>
            <a:ext cx="82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Sorprendido!!!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Tu decides si lo envías a otra personas o te lo guardas para t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2 Marcador de contenido"/>
          <p:cNvSpPr/>
          <p:nvPr/>
        </p:nvSpPr>
        <p:spPr>
          <a:xfrm>
            <a:off x="642960" y="471492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2 Marcador de contenido"/>
          <p:cNvSpPr/>
          <p:nvPr/>
        </p:nvSpPr>
        <p:spPr>
          <a:xfrm>
            <a:off x="4643280" y="5643720"/>
            <a:ext cx="4143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Cuida a tus hijos también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642960" y="4572000"/>
            <a:ext cx="5072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Ten cuidado, fíjate y mira si conoces bien a esa persona, según tu especial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Había una ves una niña llamada Camila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Picture 2" descr="C:\Documents and Settings\Administrador\Mis documentos\Mis imágenes\271074089_cdeff26276.jpg"/>
          <p:cNvPicPr/>
          <p:nvPr/>
        </p:nvPicPr>
        <p:blipFill>
          <a:blip r:embed="rId2"/>
          <a:stretch/>
        </p:blipFill>
        <p:spPr>
          <a:xfrm>
            <a:off x="2714760" y="928800"/>
            <a:ext cx="3179520" cy="4684680"/>
          </a:xfrm>
          <a:prstGeom prst="rect">
            <a:avLst/>
          </a:prstGeom>
          <a:ln w="0">
            <a:noFill/>
          </a:ln>
        </p:spPr>
      </p:pic>
      <p:sp>
        <p:nvSpPr>
          <p:cNvPr id="98" name="2 Marcador de contenido"/>
          <p:cNvSpPr/>
          <p:nvPr/>
        </p:nvSpPr>
        <p:spPr>
          <a:xfrm>
            <a:off x="914400" y="5786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lla tenia 14 años, esperaba con ansias sus 15 año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5712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…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l cual sus padres la enviarían a un crucero, de quinceañera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Picture 2" descr="C:\Documents and Settings\Administrador\Mis documentos\Mis imágenes\Rusia_crucero_Lev_Tolstoy.jpg"/>
          <p:cNvPicPr/>
          <p:nvPr/>
        </p:nvPicPr>
        <p:blipFill>
          <a:blip r:embed="rId2"/>
          <a:stretch/>
        </p:blipFill>
        <p:spPr>
          <a:xfrm>
            <a:off x="1000080" y="1214280"/>
            <a:ext cx="5929200" cy="3880080"/>
          </a:xfrm>
          <a:prstGeom prst="rect">
            <a:avLst/>
          </a:prstGeom>
          <a:ln w="0">
            <a:noFill/>
          </a:ln>
        </p:spPr>
      </p:pic>
      <p:sp>
        <p:nvSpPr>
          <p:cNvPr id="101" name="2 Marcador de contenido"/>
          <p:cNvSpPr/>
          <p:nvPr/>
        </p:nvSpPr>
        <p:spPr>
          <a:xfrm>
            <a:off x="428760" y="442908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571680" y="521496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lego el día del crucero, y ella muy emocionada se despidió de sus padres y entro al crucer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Ya instalada fue a dar un paseo por el crucero, cuando se encontró al chico más lindo que sus ojos habían visto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2" descr="C:\Documents and Settings\Administrador\Mis documentos\Mis imágenes\Tadzio3.jpg"/>
          <p:cNvPicPr/>
          <p:nvPr/>
        </p:nvPicPr>
        <p:blipFill>
          <a:blip r:embed="rId2"/>
          <a:stretch/>
        </p:blipFill>
        <p:spPr>
          <a:xfrm>
            <a:off x="2500200" y="1357200"/>
            <a:ext cx="3643560" cy="336564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571680" y="4857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-El le pregunto: Como te llam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-Respondió: Cam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-El le dijo: Mucho gusto, Camila, yo me llamo Raú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0004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Al final del día Camila fue a su habitación para descansar para el otro dí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ando despertó y se levantó vio que debajo de su puerta, había una rosa azul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7" name="Picture 2" descr="C:\Documents and Settings\Administrador\Mis documentos\Mis imágenes\rosa-azul.jpg"/>
          <p:cNvPicPr/>
          <p:nvPr/>
        </p:nvPicPr>
        <p:blipFill>
          <a:blip r:embed="rId2"/>
          <a:stretch/>
        </p:blipFill>
        <p:spPr>
          <a:xfrm>
            <a:off x="2571840" y="2214720"/>
            <a:ext cx="4357440" cy="3268440"/>
          </a:xfrm>
          <a:prstGeom prst="rect">
            <a:avLst/>
          </a:prstGeom>
          <a:ln w="0">
            <a:noFill/>
          </a:ln>
        </p:spPr>
      </p:pic>
      <p:sp>
        <p:nvSpPr>
          <p:cNvPr id="108" name="2 Marcador de contenido"/>
          <p:cNvSpPr/>
          <p:nvPr/>
        </p:nvSpPr>
        <p:spPr>
          <a:xfrm>
            <a:off x="571680" y="478620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2 Marcador de contenido"/>
          <p:cNvSpPr/>
          <p:nvPr/>
        </p:nvSpPr>
        <p:spPr>
          <a:xfrm>
            <a:off x="357120" y="557208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Y una nota que decía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Constantia"/>
              </a:rPr>
              <a:t>Para la niña más linda que mis ojos han visto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Constantia"/>
              </a:rPr>
              <a:t>De Raú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500040" y="264312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lla muy extrañada pero emocionada empezó a saltar de alegría en su hab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 Marcador de contenido"/>
          <p:cNvSpPr/>
          <p:nvPr/>
        </p:nvSpPr>
        <p:spPr>
          <a:xfrm>
            <a:off x="500040" y="271476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500040" y="4143240"/>
            <a:ext cx="8229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ando Camila bajo al Gran Salón, allí estaba Raúl, pasaron todo el día juntos hasta la noche, y Raúl acompaño a Camila a su habitación, se despidieron con un beso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0004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Así pasaron 6 días, cada vez que Camila despertaba encontraba una rosa azul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5" name="Picture 2" descr="C:\Documents and Settings\Administrador\Mis documentos\Mis imágenes\rosa-azul.jpg"/>
          <p:cNvPicPr/>
          <p:nvPr/>
        </p:nvPicPr>
        <p:blipFill>
          <a:blip r:embed="rId2"/>
          <a:stretch/>
        </p:blipFill>
        <p:spPr>
          <a:xfrm>
            <a:off x="4071960" y="1500120"/>
            <a:ext cx="3881520" cy="2911680"/>
          </a:xfrm>
          <a:prstGeom prst="rect">
            <a:avLst/>
          </a:prstGeom>
          <a:ln w="0">
            <a:noFill/>
          </a:ln>
        </p:spPr>
      </p:pic>
      <p:sp>
        <p:nvSpPr>
          <p:cNvPr id="116" name="2 Marcador de contenido"/>
          <p:cNvSpPr/>
          <p:nvPr/>
        </p:nvSpPr>
        <p:spPr>
          <a:xfrm>
            <a:off x="357120" y="4643280"/>
            <a:ext cx="822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Hasta que llego el ultimo día del crucero, Camila estaba muy emocionada porque iba a bailar el vals con Raúl, el cual nunca más lo iba a volver a ver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ando todo terminó, Raúl y Camila subieron a la habitac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2 Marcador de contenido"/>
          <p:cNvSpPr/>
          <p:nvPr/>
        </p:nvSpPr>
        <p:spPr>
          <a:xfrm>
            <a:off x="642960" y="16430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Y Camila segura de su amor por Raúl se entrego a él, en cuerpo y alma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642960" y="30718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e regaló lo mas importante en su vid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2 Marcador de contenido"/>
          <p:cNvSpPr/>
          <p:nvPr/>
        </p:nvSpPr>
        <p:spPr>
          <a:xfrm>
            <a:off x="914400" y="4214880"/>
            <a:ext cx="3157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SU VIRGINIDA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876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Al otro día Camila despertó y no encontró a Raúl, pero había un cofre de plata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3" descr="C:\Documents and Settings\Administrador\Mis documentos\Mis imágenes\imaplat4.jpg"/>
          <p:cNvPicPr/>
          <p:nvPr/>
        </p:nvPicPr>
        <p:blipFill>
          <a:blip r:embed="rId2"/>
          <a:stretch/>
        </p:blipFill>
        <p:spPr>
          <a:xfrm>
            <a:off x="5357880" y="1285920"/>
            <a:ext cx="2790720" cy="2649600"/>
          </a:xfrm>
          <a:prstGeom prst="rect">
            <a:avLst/>
          </a:prstGeom>
          <a:ln w="0">
            <a:noFill/>
          </a:ln>
        </p:spPr>
      </p:pic>
      <p:sp>
        <p:nvSpPr>
          <p:cNvPr id="123" name="2 Marcador de contenido"/>
          <p:cNvSpPr/>
          <p:nvPr/>
        </p:nvSpPr>
        <p:spPr>
          <a:xfrm>
            <a:off x="285840" y="42148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on unas flores azules talladas, y una nota que decí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28760" y="4929120"/>
            <a:ext cx="87152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Constantia"/>
              </a:rPr>
              <a:t>La pasé muy bien anoche, por favor abre este cofre cuando estés en tu cas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Constantia"/>
              </a:rPr>
              <a:t>Raú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26:19Z</dcterms:created>
  <dc:creator>usuario</dc:creator>
  <dc:description/>
  <dc:language>en-US</dc:language>
  <cp:lastModifiedBy>contralor</cp:lastModifiedBy>
  <dcterms:modified xsi:type="dcterms:W3CDTF">2008-04-02T20:06:52Z</dcterms:modified>
  <cp:revision>14</cp:revision>
  <dc:subject/>
  <dc:title>Antes de leer este mensaje promete que lo enviaras a las personas que lo NECESITEN</dc:title>
</cp:coreProperties>
</file>