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5DC-7095-4E59-97B0-17602152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6B1-81ED-419B-9CC4-506C078E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1AA-CDC6-44AD-A26C-2CDBA72D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68C-DB33-4D71-BEC9-1EF6C2DC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8AE2F-B782-4E0E-BD43-A31D11DE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FAFA6-1008-44DD-8B24-F9235644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EBB40-8F4B-4FCB-8DD6-21EFBE7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22A1F-1C77-4F32-A4ED-9F20F764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64766-726C-4AFD-B7EE-C071AC73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A19D5-147F-49B1-A609-F9D7F140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1841B-1565-4765-B511-78B50E36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D7C-C1A7-4B74-ABCA-3F5B20F7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4CCF6-9FCD-48FF-94CE-F4FE3978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718CB-B180-4658-B8B9-8B8B8BFD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BBBBB-A4CB-4B52-99B0-9D3E1F9C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545F2-68CC-4332-8D59-C1086130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EF57B-8AE6-4459-B668-CE15BF91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FF2-7586-4AFE-B139-24CDA73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310-DA7A-4E64-A457-EADD80C3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08B-D498-435E-A5B6-6DCB8AD6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38F-E955-4117-AF2E-FB454F64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086-7512-4D03-A88B-9CB3FBE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802-A20B-49EC-B495-5E88E679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CB8-3BC3-4C37-95C7-FD3234ED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9D7C-B531-48BB-A4E8-5F566BAD87E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7AC-31EC-4E7C-85EE-3351643E18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ST DE PERSONALIDAD DEL DALAI L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l Dalai Lama dij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Ordena los siguientes 5 animales de acuerdo a tu preferenci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ibr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a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p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ja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Escribe una palabra que describa cada uno de los siguientes elemento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e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G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f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Piensa en alguien que también te conozca y sea importante para ti, y que puedas relacionar con los siguientes colores.</a:t>
            </a: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Por favor, no repitas tu respuesta dos veces, nombra sólo una persona para cada color)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ri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j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n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 Finalmente, indica tu día favorito de la seman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¿Terminast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egúrate que tus respuestas sean lo que tú REALMENTE si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Última oportunida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ya estás seguro, continú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ra las interpretaciones pero, antes de verlas, repite tu dese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Esto va a definir tus prioridades en la vid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ibrí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carre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all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orgul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posa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am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r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famil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jar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dine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 Tu descripción implic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r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propia personal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t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ersonalidad de tu pare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ta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ersonalidad de tus enemig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fé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ómo interpretas el sex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propia vi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El Dalai Lama dijo.... (léelo y conocerás cómo eres. En verdad funciona, pero no hagas trampa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un test de personalidad muy interes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Esas personas s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rill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uien que nunca olvidar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anja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uien a quién puedes considerar tu verdadero amigo/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j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uien que realmente a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nc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alma gem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 persona que recordarás por el resto de tu vi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 Tienes que enviar este mensaje a tantas personas como PUEDAS y tu deseo se hará realidad en el día que pusist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 guardes este mensaj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antra debe salir de tus manos en las próximas 96 hor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ndrás una sorpresa muy agradabl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o es verdad, aun a pesar de que no seas superstici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VÍA ESTE E-MAIL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NDALO AL MENOS A 5 PERSONAS Y TU VIDA MEJORARÁ AS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-4 persona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vida mejorará leveme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9 persona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vida mejorará a tu gus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-14 persona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rás al menos 5 sorpresas en las próximas 3 sema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a más persona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vida mejorará drásticamente y todo lo que siempre has soñado tomará form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nque desde ahora, conociendo tus prioridades, todo cambiará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cha por lo que quie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zlo, son sólo 4 preguntas y las respuestas te sorprenderá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hagas trampa adelantándo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Mente es como un paracaídas: trabaja mucho mejor cuando está abiert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divertido hacerlo, pero deberás seguir al pie de la letra las instru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dvertencia: Contesta el cuestionario como se te va preguntand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ólo hay 4 pregun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 ves todo el cuestionario antes de terminar, no obtendrás resultados honesto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 leyendo lentamente y haz cada ejercicio a conc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igue lápiz y papel para escribir tus respuesta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 necesitarás al fi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e es un cuestionario honesto, que te dirá mucho acerca de tu verdadero Y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S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ide un deseo antes de empezar el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1:54:30Z</dcterms:created>
  <dc:creator>MRG7311</dc:creator>
  <dc:description/>
  <dc:language>en-US</dc:language>
  <cp:lastModifiedBy>ASG15</cp:lastModifiedBy>
  <dcterms:modified xsi:type="dcterms:W3CDTF">2003-08-12T08:06:48Z</dcterms:modified>
  <cp:revision>7</cp:revision>
  <dc:subject/>
  <dc:title>TEST DE PERSONALIDAD DEL DALAI LAMA</dc:title>
</cp:coreProperties>
</file>