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315200"/>
  <p:notesSz cx="9450388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367-0672-4B1F-A1ED-4986829B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49440"/>
            <a:ext cx="8550000" cy="121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4056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422-F924-456D-96A4-86349633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49440"/>
            <a:ext cx="8550000" cy="121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236-42EE-4942-98B9-88C2AEC9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49440"/>
            <a:ext cx="8550000" cy="121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1124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405680"/>
            <a:ext cx="275292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AF8-A9BD-4408-B909-E7D2B405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49440"/>
            <a:ext cx="8550000" cy="121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FDA-74D6-4A8C-B40B-907CADFC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49440"/>
            <a:ext cx="8550000" cy="121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8F0-7463-4CB4-BEE5-4BB4A226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49440"/>
            <a:ext cx="8550000" cy="121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45C-7B9E-40B4-B514-3D849970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49440"/>
            <a:ext cx="8550000" cy="121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3F3-931D-48D2-9AC0-A37D9505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49440"/>
            <a:ext cx="8550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5B1-CAC6-4A24-928F-E5C7754E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49440"/>
            <a:ext cx="8550000" cy="121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1E7-A621-4A42-934A-9EDD28E6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49440"/>
            <a:ext cx="8550000" cy="121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4389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4056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0EC-30F2-46DE-B668-9AD48C94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49440"/>
            <a:ext cx="8550000" cy="121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204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405680"/>
            <a:ext cx="8550000" cy="209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EC1-A161-4BB9-88C8-283A7B73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49440"/>
            <a:ext cx="8550000" cy="121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112480"/>
            <a:ext cx="8550000" cy="4389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-3664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720" indent="-3045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680" indent="-243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07480" indent="-244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5640" indent="-244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195640" indent="-244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195640" indent="-244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6665760"/>
            <a:ext cx="2095200" cy="486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5760"/>
            <a:ext cx="3184560" cy="486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6665760"/>
            <a:ext cx="2095200" cy="486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7D63-82A3-4AB7-9473-A4D48B018CA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imsemerad@cs.co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80880" y="533520"/>
            <a:ext cx="4267440" cy="64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uring this Holiday S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y Family be your corne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ealthy food and healthy f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earning for stronger fellow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 expectations, but wishful thin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ope, Love, and harmo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re are always difficult mo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eing hopeful for a brighter 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ou have 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ankful for what you have right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mitment to offer forg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 start a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e centered in Love and H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am  hopeful you will enjoy a wonderful holiday season with the family and friends that you have around you, and appreciate them, and they appreciate yo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im Semer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5 Nakomi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ke Orion, Michigan  483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imsemerad@c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8-467-1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815 Woodlawn Gable Drive, Apt 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exandria, VaA  202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19000" y="22320"/>
            <a:ext cx="39052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est Wishes for Happy Holid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029200" y="380880"/>
            <a:ext cx="5029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70000"/>
              </a:lnSpc>
              <a:spcBef>
                <a:spcPts val="314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appy Holiday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5464080"/>
            <a:ext cx="46893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Old English Text MT"/>
                <a:ea typeface="Arial Unicode MS"/>
              </a:rPr>
              <a:t>DADS of Michigan P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hank you for the wonderful 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2"/>
          <p:cNvSpPr/>
          <p:nvPr/>
        </p:nvSpPr>
        <p:spPr>
          <a:xfrm>
            <a:off x="0" y="77616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8" descr="Dads MI PAC Logo 2002"/>
          <p:cNvPicPr/>
          <p:nvPr/>
        </p:nvPicPr>
        <p:blipFill>
          <a:blip r:embed="rId2"/>
          <a:stretch/>
        </p:blipFill>
        <p:spPr>
          <a:xfrm>
            <a:off x="3733920" y="6248520"/>
            <a:ext cx="990360" cy="54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6" descr="j0408889"/>
          <p:cNvPicPr/>
          <p:nvPr/>
        </p:nvPicPr>
        <p:blipFill>
          <a:blip r:embed="rId3"/>
          <a:stretch/>
        </p:blipFill>
        <p:spPr>
          <a:xfrm>
            <a:off x="5486400" y="1066680"/>
            <a:ext cx="4206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7:52:50Z</dcterms:created>
  <dc:creator>Johnny Wolfe</dc:creator>
  <dc:description/>
  <dc:language>en-US</dc:language>
  <cp:lastModifiedBy>jms43rad</cp:lastModifiedBy>
  <cp:lastPrinted>2000-06-19T14:51:45Z</cp:lastPrinted>
  <dcterms:modified xsi:type="dcterms:W3CDTF">2009-12-15T04:05:58Z</dcterms:modified>
  <cp:revision>83</cp:revision>
  <dc:subject/>
  <dc:title>No Slide Title</dc:title>
</cp:coreProperties>
</file>