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5C0-1351-4737-83BF-9CE2D80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EDB-9327-447E-A34D-060C415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041-C720-44F1-979A-F042BCED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BEE-5452-4511-BCA1-228E113F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0DB-9362-424D-8C3C-F60F24FF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ECE-0F8C-4AEF-AB93-26546C9E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56D-863A-4B25-86D5-44B85A0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425-45CF-4C05-8E34-730CC45F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52D-AC79-4139-B59A-6ED08A1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17E-4EAF-4BDF-B2E1-EC02421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082-1AA0-4E29-AE64-41CCC9E3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DB1-496D-4BD9-99A4-39AEEBE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E5F-7BC0-4EEA-8D6B-4C30DE86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532720" cy="612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805360"/>
            <a:ext cx="2102040" cy="63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7628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Ser pai é ser companhei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indo no ninho familiar a grandeza dos filh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alicerçar valores que edificam a socie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Ser pai é ser jardinei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tando raízes de virtudes com mãos delicad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que o lar seja sementeira de luz e de ver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Ser pai é ser herói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egendo o espaço sagrado de seu templo-famí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ltivando no coração dos filhos o germe da harmo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Ser pai é ser fonte de vi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augurando nossa história com gestos de am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novando perenemente a herança da cri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Ser pai é ser poe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lamando com carinho os versos de sua vivê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cultivar e enobrecer os projetos de nossa exist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877000"/>
            <a:ext cx="56894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Fonte</a:t>
            </a:r>
            <a:r>
              <a:rPr b="1" lang="en-US" sz="900" spc="-1" strike="noStrike">
                <a:solidFill>
                  <a:srgbClr val="333399"/>
                </a:solidFill>
                <a:latin typeface="Calibri"/>
              </a:rPr>
              <a:t>: www.portaldafamilia.org.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ma homenagem do CRB 12/ES aos Pais Bibliotecários Capixabas. 8/08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6:34:53Z</dcterms:created>
  <dc:creator>c0028373</dc:creator>
  <dc:description/>
  <dc:language>en-US</dc:language>
  <cp:lastModifiedBy>c0028373</cp:lastModifiedBy>
  <dcterms:modified xsi:type="dcterms:W3CDTF">2009-08-04T13:58:38Z</dcterms:modified>
  <cp:revision>2</cp:revision>
  <dc:subject/>
  <dc:title>Slide 1</dc:title>
</cp:coreProperties>
</file>