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97B-9894-423B-8E9D-93E68DAF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30B-79EE-4928-AA71-4FEADF71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61A-8CBD-49DC-9E7A-62A902EE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284-B029-4E93-874C-F585F43F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4D5-FE94-4510-BB61-4B32EE1E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E9E-EB94-4BF7-BFD2-0F2BF652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80C-7F3D-4032-9422-563B33D8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FBE-49E9-4044-9B4C-370BE4B4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B1D-35BD-4611-A42B-62CE45E1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8C4-2C83-4AA6-AB12-D9398475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D4B-65EF-4069-AB8D-A9927EE1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94C-8FAD-4474-8332-18E52FD6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1166-BBE8-4FF9-A267-05939CCDB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533520" y="838080"/>
          <a:ext cx="79246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7924680" cy="487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33520" y="838080"/>
            <a:ext cx="7924680" cy="4876920"/>
          </a:xfrm>
          <a:prstGeom prst="rect">
            <a:avLst/>
          </a:prstGeom>
          <a:noFill/>
          <a:ln w="316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Impact"/>
              </a:rPr>
              <a:t>Click mouse to begin. Click again to skelp the evil penguin as far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8:01:59Z</dcterms:created>
  <dc:creator>chris</dc:creator>
  <dc:description/>
  <dc:language>en-US</dc:language>
  <cp:lastModifiedBy>chris</cp:lastModifiedBy>
  <dcterms:modified xsi:type="dcterms:W3CDTF">2005-11-24T08:10:29Z</dcterms:modified>
  <cp:revision>3</cp:revision>
  <dc:subject/>
  <dc:title>PowerPoint Presentation</dc:title>
</cp:coreProperties>
</file>