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Nocturne%20Improvision.wav" ContentType="audio/x-wav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F72-B628-427C-B243-5DEFE9CB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FCA-38BC-481B-A50E-C88C2750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3EE-ACF3-4069-817F-97FD50C5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362-1B90-446F-B323-832EE131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40C3-0DBD-4514-96D0-9C2BA457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CA5-637C-4B87-9532-A0D2230E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CE9E-40C8-4F63-8787-987E6C03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CE8-F281-4AFE-A0AB-DAB6372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C96B-93EF-4995-9CA0-56B8D96C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36C-6383-4A57-B7E0-5D67FC9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BE5-498C-4CDF-8877-9D59C0EC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740-9580-43E9-B966-7BDB2E0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D73-D3CC-4706-A5F2-A1A978B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BC98-FAF4-4281-B585-373DB3A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1D6-4331-4A37-818A-4013769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642-FD9E-4C4E-8F5D-6E840168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F7C3-2148-4500-9FA6-1091F0BA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045-F1B2-466E-ACBC-2EF963E4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912-0A0E-484E-9A50-FBEA3FA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D7E-0C5B-4572-967C-C4148820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A23-FB5B-4BCA-8050-54471EC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A36-3ED2-4960-993C-F0B229C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BFA-658F-418E-B0F9-23783A8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EB5-BF4D-4919-8DD2-CB86D3D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7235-A01B-459E-B85D-69B5B9E8B162}" type="slidenum">
              <a:rPr b="0" lang="en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00FB-DC2A-41A6-B0AD-0451446FA638}" type="slidenum">
              <a:rPr b="0" lang="en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octurne%20Improvisio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4360" y="2205000"/>
            <a:ext cx="7632720" cy="38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ELAH TERPILIH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BEST EMAIL                    tahun ini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age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35640" y="476280"/>
            <a:ext cx="352908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AJARAN MENGANGGU HIDUPMU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476280"/>
            <a:ext cx="352872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AJARAN MENGANGGU HIDUPMU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724280"/>
            <a:ext cx="3276720" cy="206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RE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GAIM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age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76720" y="333360"/>
            <a:ext cx="3816360" cy="206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DAK SU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AN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HA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0" y="4770360"/>
            <a:ext cx="2987640" cy="206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P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P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MBUNU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image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4083120"/>
            <a:ext cx="4572000" cy="28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ANG T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L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RAWAT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5303880"/>
            <a:ext cx="450072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REKA TIDAK PUNYA ORANG TUA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age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4724280"/>
            <a:ext cx="3529080" cy="206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OS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NG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5661000"/>
            <a:ext cx="44276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 PILIHAN MEREKA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image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4427640" cy="15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ESAL PUNYA ADIDAS DAN BUKAN NIK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88800"/>
            <a:ext cx="3816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ENAL ME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I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mage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03640" y="6480"/>
            <a:ext cx="4140360" cy="28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at tid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ur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mpuk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292640"/>
            <a:ext cx="352908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 BERHARAP TIDAK PERNAH BANGUN …?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Banyak hal dalam hidup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yang menawan mata,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etapi hanya sedikit yang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menawan hati …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95280" y="90792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Masihkah perlu-kah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Mengeluh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90792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Lihatlah sekeliling …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Ucap syukur untuk semua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erubahan dalam hidup ini 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95280" y="1773360"/>
            <a:ext cx="82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Kita beruntung, karena punya lebih banyak dari yang kita butuhkan untuk berpuas-puas …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Mari jangan memuaskan lingkaran konsumerisme dan imortalitas dari masyarakat ‘canggih dan modern’ yang melupakan 2/3 dari saudara/saudari kita ….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image001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54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826920" y="5877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 tidak suka cita hatimu, coba lihat mer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95280" y="836640"/>
            <a:ext cx="8280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Kirim presentasi ini, tanpa paksaan atau harapan menerima nasib baik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Jangan hanya menyimpannya … kirimlah …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Jangan biarkan file ini  teronggok percuma 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95280" y="90792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Kurangi Mengeluh ..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Dan belajarlah memberi lebih banyak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-mail ini                                   perlu di-distribusi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uk selamanya ..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image002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113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611280" y="59500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 rendah gajimu, bagaimana anak perempuan ini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mage003"/>
          <p:cNvPicPr/>
          <p:nvPr/>
        </p:nvPicPr>
        <p:blipFill>
          <a:blip r:embed="rId1"/>
          <a:stretch/>
        </p:blipFill>
        <p:spPr>
          <a:xfrm>
            <a:off x="1619280" y="453960"/>
            <a:ext cx="6048360" cy="5210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9640" y="5877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 kamu tidak banyak berteman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image004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11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95280" y="602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 ingin menyerah, perhatikan pria ini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mage005"/>
          <p:cNvPicPr/>
          <p:nvPr/>
        </p:nvPicPr>
        <p:blipFill>
          <a:blip r:embed="rId1"/>
          <a:stretch/>
        </p:blipFill>
        <p:spPr>
          <a:xfrm>
            <a:off x="971640" y="836640"/>
            <a:ext cx="7127640" cy="4824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539640" y="5805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 menderita hatimu, apakah deritamu sebesar dia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age006"/>
          <p:cNvPicPr/>
          <p:nvPr/>
        </p:nvPicPr>
        <p:blipFill>
          <a:blip r:embed="rId1"/>
          <a:stretch/>
        </p:blipFill>
        <p:spPr>
          <a:xfrm>
            <a:off x="900000" y="836640"/>
            <a:ext cx="7128000" cy="4813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539640" y="587700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 jalanan tidak bikin senang hatimu, bagaimana mereka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image007"/>
          <p:cNvPicPr/>
          <p:nvPr/>
        </p:nvPicPr>
        <p:blipFill>
          <a:blip r:embed="rId1"/>
          <a:stretch/>
        </p:blipFill>
        <p:spPr>
          <a:xfrm>
            <a:off x="2268360" y="692280"/>
            <a:ext cx="4295880" cy="482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684360" y="5877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 sekelilingmu tidak adil, lalu bagaimana nenek in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Nikmatilah hidup ini                                             apa adanya, dan bagaimanapu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asih banyak yang lebih buruk                dan itu meringankan beban kita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8:49Z</dcterms:created>
  <dc:creator/>
  <dc:description/>
  <dc:language>en-US</dc:language>
  <cp:lastModifiedBy>Indosat</cp:lastModifiedBy>
  <dcterms:modified xsi:type="dcterms:W3CDTF">2010-12-09T10:43:44Z</dcterms:modified>
  <cp:revision>24</cp:revision>
  <dc:subject/>
  <dc:title>Slide 1</dc:title>
</cp:coreProperties>
</file>